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0B0-1BBA-4917-9F2E-02B167C5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FC5-15DE-45D5-B00D-757066C9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8F5-A595-4173-8F22-CFE5B121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BCB-9E69-4C85-A4C8-B2C85D2D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4F91-1941-4260-8781-BCB0487A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823E-23BF-42AD-9D38-B9AF01C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5FBA-C2F1-426F-A34A-B1931679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F850-4117-44B8-A539-9ED095EB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0544-A0CF-4A20-8514-0900F394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17D7-507E-4DCF-B970-F33D021B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79E-79FD-48DA-97D7-6E686F0B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4EF-9C3B-4846-8E38-661E420F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94C-EE99-45D9-8A55-7902FE69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EAC3-2AF3-4C50-BA86-F2D9E63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0927-8AD4-422F-9347-570AED4C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A4D0-FE78-4F9E-B2DF-285911E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4B19-1C4E-4426-95C1-C2EC7EFD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DD5-5303-4BA5-9F98-FA9C5A24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805-2280-4091-91E5-54818CC1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BF-E33D-40BB-8E69-C81D0D48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B00-B26B-4B8A-8ED5-EA61BD10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6E5-C5D4-4AF6-8DE9-D064ACF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A10-41EE-48CE-B3E3-CF3CAC26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505-1293-47C7-9DA1-F7A46F3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155B-5CB3-4BA6-B706-947EE41021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D248-793E-40B8-89CD-43BB0918F98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Znaky dělitelnosti 4, 6 a 8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šes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65454, 5610, 5432, 24781, 450, 6080, 4646, 711507, 2360, 546, 33282, 90979, 9008, 12, 40360, 56535, 6700, 674321, 786090, 764735, 1555, 67643, 228, 9898, 8, 234, 445, 60090, 453000, 765, 43906, 4994, 5652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šes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545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2478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080, 4646, 711507, 2360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4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328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0979, 900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0360, 56535, 6700, 67432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735, 1555, 67643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2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898, 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3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45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3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5, 43906, 499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5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9640" y="1123920"/>
            <a:ext cx="78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čtyř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65454, 5610, 5432, 24781, 450, 6080, 4646, 711507, 2360, 546, 33282, 90979, 9008, 12, 40360, 56535, 6700, 674321, 786090, 764735, 1555, 67643, 228, 9898, 8, 234, 445, 60090, 453000, 765, 43906, 4994, 5652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9640" y="1123920"/>
            <a:ext cx="78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čtyř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88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67345, 34345, 65454, 5610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24781, 450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8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11507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6, 33282, 90979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00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0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5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7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21, 786090, 764735, 1555, 67643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2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898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234, 445, 60090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53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5, 43906, 4994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5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090, 7895, 11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9640" y="1123920"/>
            <a:ext cx="78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os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65454, 5610, 5432, 24781, 450, 6080, 4646, 711507, 2360, 546, 33282, 90979, 9008, 12, 40360, 56535, 6700, 674321, 786090, 764735, 1555, 67643, 228, 9898, 8, 234, 445, 60090, 453000, 765, 43906, 4994, 5652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9640" y="1123920"/>
            <a:ext cx="78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os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88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43, 12567, 67345, 34345, 65454, 5610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24781, 450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08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646, 711507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2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6, 33282, 90979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900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12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03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6535, 6700, 674321, 786090, 764735, 1555, 67643, 228, 9898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234, 445, 60090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3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5, 43906, 4994, 5652, 7090, 7895, 11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43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9640" y="907920"/>
            <a:ext cx="799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) Doplňte vynechanou číslici tak, aby vzniklo číslo, které je dělitelné šesti. Je-li více možností, zapište jen jed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96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96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0_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9_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96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0_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34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96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295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396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30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2908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2908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2908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3_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42908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_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2908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21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2908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2908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40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000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4000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4000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92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4000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34000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29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4000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2294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294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294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3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294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294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2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294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294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9640" y="907920"/>
            <a:ext cx="799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.) Doplňte vynechanou číslici tak, aby vzniklo číslo, které je dělitelné čtyřmi. Je-li více možností, zapište jen jed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96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0_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95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96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07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34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96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295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96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0_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2908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2908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32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2908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3_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2908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2908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21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908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2908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40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4000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4000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34000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95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000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0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4000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3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4000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29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000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294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2294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294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3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2294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294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21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294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294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4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907920"/>
            <a:ext cx="799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.) Doplňte vynechanou číslici tak, aby vzniklo číslo, které je dělitelné osmi. Je-li více možností, zapište jen jed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6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1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0_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96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95_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07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349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295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0_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2908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_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2908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312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908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3_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42908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2908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21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2908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2908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0_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4000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4000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1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34000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4000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34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34000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29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34000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294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294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3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294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3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2294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2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294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94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9640" y="404640"/>
            <a:ext cx="820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závěr tedy ještě shrňme všechny známé znaky dělitel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360" y="92088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Znak dělitelnosti číslem 2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4360" y="270504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nak dělitelnosti číslem 5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531324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nak dělitelnosti číslem 10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349800" y="1150920"/>
            <a:ext cx="5473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0, 2, 4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48000" y="2833560"/>
            <a:ext cx="554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48000" y="5443560"/>
            <a:ext cx="554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168444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nak dělitelnosti číslem 3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1800360"/>
            <a:ext cx="554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řirozené číslo je dělitelné třemi, když jeho ciferný součet je dělitelný tře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470520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Znak dělitelnosti číslem 9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33600" y="4821120"/>
            <a:ext cx="554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devíti, když jeho ciferný součet je dělitelný deví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332280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Znak dělitelnosti číslem 6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33600" y="3568680"/>
            <a:ext cx="5545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šesti, když je dělitelné dvěma (sudé) a zároveň třemi (jeho ciferný součet je dělitelný tře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69960" y="22003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Znak dělitelnosti číslem 4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33600" y="2316240"/>
            <a:ext cx="554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čtyřmi, když jeho poslední dvojčíslí je dělitelné čtyř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9960" y="416088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Znak dělitelnosti číslem 8: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319560" y="4276800"/>
            <a:ext cx="554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řirozené číslo je dělitelné osmi, když jeho poslední trojčíslí je dělitelné os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6560" y="54936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opakujme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987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í-li číslo x  číslo y beze zbytku, říkáme, že "číslo x je dělitelem čísla y", nebo že "číslo y je dělitelné číslem x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70828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příklad 9 je dělitelem 72, nebo 3 je dělitelem 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42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mi často potřebujete rychle poznat, čím je nějaké dané číslo dělitel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14828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zkoušet jedno číslo za druhým a dělit a dělit a dě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9880" y="486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by ale nebylo zrovna rychlé, a tak si velmi často bereme na pomoc tzv.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naky dělitelnosti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587920"/>
            <a:ext cx="832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ďme se na ně podí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Čemu říkáme znaky dělitel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404640"/>
            <a:ext cx="820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Které znaky dělitelnosti už známe a co říkaj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76500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77336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78136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25748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6368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159000"/>
            <a:ext cx="84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589720"/>
            <a:ext cx="547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dnes přidáme ještě dal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57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064040"/>
            <a:ext cx="8208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řirozené číslo je dělitelné třemi, když jeho ciferný součet je dělitelný tře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459252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9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08464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řirozené číslo je dělitelné devíti, když jeho ciferný součet je dělitelný deví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700280"/>
            <a:ext cx="849636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čtyřmi (číslem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225108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4016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092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9884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9920" y="1758960"/>
            <a:ext cx="1508400" cy="1581840"/>
            <a:chOff x="619920" y="1758960"/>
            <a:chExt cx="1508400" cy="1581840"/>
          </a:xfrm>
        </p:grpSpPr>
        <p:sp>
          <p:nvSpPr>
            <p:cNvPr id="115" name=""/>
            <p:cNvSpPr/>
            <p:nvPr/>
          </p:nvSpPr>
          <p:spPr>
            <a:xfrm rot="19005600">
              <a:off x="85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54840" y="1760400"/>
            <a:ext cx="1508400" cy="1581840"/>
            <a:chOff x="1554840" y="1760400"/>
            <a:chExt cx="1508400" cy="1581840"/>
          </a:xfrm>
        </p:grpSpPr>
        <p:sp>
          <p:nvSpPr>
            <p:cNvPr id="118" name=""/>
            <p:cNvSpPr/>
            <p:nvPr/>
          </p:nvSpPr>
          <p:spPr>
            <a:xfrm rot="19005600">
              <a:off x="178704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092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91560" y="1760400"/>
            <a:ext cx="1508400" cy="1581840"/>
            <a:chOff x="2491560" y="1760400"/>
            <a:chExt cx="1508400" cy="1581840"/>
          </a:xfrm>
        </p:grpSpPr>
        <p:sp>
          <p:nvSpPr>
            <p:cNvPr id="121" name=""/>
            <p:cNvSpPr/>
            <p:nvPr/>
          </p:nvSpPr>
          <p:spPr>
            <a:xfrm rot="19005600">
              <a:off x="272376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8764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26480" y="1762200"/>
            <a:ext cx="1508400" cy="1581840"/>
            <a:chOff x="3426480" y="1762200"/>
            <a:chExt cx="1508400" cy="1581840"/>
          </a:xfrm>
        </p:grpSpPr>
        <p:sp>
          <p:nvSpPr>
            <p:cNvPr id="124" name=""/>
            <p:cNvSpPr/>
            <p:nvPr/>
          </p:nvSpPr>
          <p:spPr>
            <a:xfrm rot="19005600">
              <a:off x="365868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256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65360" y="1760400"/>
            <a:ext cx="1508040" cy="1581480"/>
            <a:chOff x="4365360" y="1760400"/>
            <a:chExt cx="1508040" cy="1581480"/>
          </a:xfrm>
        </p:grpSpPr>
        <p:sp>
          <p:nvSpPr>
            <p:cNvPr id="127" name=""/>
            <p:cNvSpPr/>
            <p:nvPr/>
          </p:nvSpPr>
          <p:spPr>
            <a:xfrm rot="19005600">
              <a:off x="4597560" y="204048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61080" y="176040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99920" y="1762200"/>
            <a:ext cx="1508400" cy="1581840"/>
            <a:chOff x="5299920" y="1762200"/>
            <a:chExt cx="1508400" cy="1581840"/>
          </a:xfrm>
        </p:grpSpPr>
        <p:sp>
          <p:nvSpPr>
            <p:cNvPr id="130" name=""/>
            <p:cNvSpPr/>
            <p:nvPr/>
          </p:nvSpPr>
          <p:spPr>
            <a:xfrm rot="19005600">
              <a:off x="553212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600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37000" y="1757520"/>
            <a:ext cx="1508040" cy="1581480"/>
            <a:chOff x="6237000" y="1757520"/>
            <a:chExt cx="1508040" cy="1581480"/>
          </a:xfrm>
        </p:grpSpPr>
        <p:sp>
          <p:nvSpPr>
            <p:cNvPr id="133" name=""/>
            <p:cNvSpPr/>
            <p:nvPr/>
          </p:nvSpPr>
          <p:spPr>
            <a:xfrm rot="19005600">
              <a:off x="646920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3272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171560" y="1758960"/>
            <a:ext cx="1508400" cy="1581840"/>
            <a:chOff x="7171560" y="1758960"/>
            <a:chExt cx="1508400" cy="1581840"/>
          </a:xfrm>
        </p:grpSpPr>
        <p:sp>
          <p:nvSpPr>
            <p:cNvPr id="136" name=""/>
            <p:cNvSpPr/>
            <p:nvPr/>
          </p:nvSpPr>
          <p:spPr>
            <a:xfrm rot="19005600">
              <a:off x="740376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6764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30712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8488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9280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22510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4. To znamená čísla, která jsou dělitelná čtyř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3720" y="4508640"/>
            <a:ext cx="8541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idíte něco zajímavého? Dobře se na čísla i předcházející násobky podíve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15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2080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7012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708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291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6408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3104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2312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73160" y="5084640"/>
            <a:ext cx="7891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čtyřmi, když jeho poslední dvojčíslí je dělitelné čtyř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068640"/>
            <a:ext cx="410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eď pár čísel, která jsou dělitelná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068640"/>
            <a:ext cx="4354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pár čísel, která nejsou dělitelná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2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932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708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2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0" y="3932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7080" y="365616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51200" y="43210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10040" y="4033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59000" y="3889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4076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2720" y="40179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83200" y="439416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85680" y="4105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76440" y="4249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98760" y="4033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76440" y="3889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795920"/>
            <a:ext cx="854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znáte, kdy je číslo dělitelné čtyřmi? Pokud ne, klikněte, a pomohu v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50920" y="2854440"/>
            <a:ext cx="40320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čtyřmi (číslem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2652840"/>
            <a:ext cx="374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6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6 :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35200" y="16416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210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82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93760" y="2205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32360" y="2610000"/>
            <a:ext cx="403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8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2620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2855880"/>
            <a:ext cx="41760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93960" y="1914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8 :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356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22840" y="16416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09000" y="10540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62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81760" y="2205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2620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834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1914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5532480"/>
            <a:ext cx="40320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5330880"/>
            <a:ext cx="38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0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37036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0 :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35200" y="42926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210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08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93760" y="48816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30064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2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čtyř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52974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0360" y="5546880"/>
            <a:ext cx="41760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9576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22400" y="45910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37036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2 : 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2840" y="42926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9000" y="370512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6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48816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52974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34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96000" y="45910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317016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56 : 4 =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79640" y="586260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60 : 4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24000" y="338616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170160"/>
            <a:ext cx="13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58 : 4 =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12000" y="338616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607860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5862600"/>
            <a:ext cx="1368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62 : 4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6078600"/>
            <a:ext cx="1368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1700280"/>
            <a:ext cx="849636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šesti (číslem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225108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9884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092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9884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9920" y="1758960"/>
            <a:ext cx="1508400" cy="1581840"/>
            <a:chOff x="619920" y="1758960"/>
            <a:chExt cx="1508400" cy="1581840"/>
          </a:xfrm>
        </p:grpSpPr>
        <p:sp>
          <p:nvSpPr>
            <p:cNvPr id="245" name=""/>
            <p:cNvSpPr/>
            <p:nvPr/>
          </p:nvSpPr>
          <p:spPr>
            <a:xfrm rot="19005600">
              <a:off x="85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1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554840" y="1760400"/>
            <a:ext cx="1508400" cy="1581840"/>
            <a:chOff x="1554840" y="1760400"/>
            <a:chExt cx="1508400" cy="1581840"/>
          </a:xfrm>
        </p:grpSpPr>
        <p:sp>
          <p:nvSpPr>
            <p:cNvPr id="248" name=""/>
            <p:cNvSpPr/>
            <p:nvPr/>
          </p:nvSpPr>
          <p:spPr>
            <a:xfrm rot="19005600">
              <a:off x="178704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092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491560" y="1760400"/>
            <a:ext cx="1508400" cy="1581840"/>
            <a:chOff x="2491560" y="1760400"/>
            <a:chExt cx="1508400" cy="1581840"/>
          </a:xfrm>
        </p:grpSpPr>
        <p:sp>
          <p:nvSpPr>
            <p:cNvPr id="251" name=""/>
            <p:cNvSpPr/>
            <p:nvPr/>
          </p:nvSpPr>
          <p:spPr>
            <a:xfrm rot="19005600">
              <a:off x="272376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8764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426480" y="1762200"/>
            <a:ext cx="1508400" cy="1581840"/>
            <a:chOff x="3426480" y="1762200"/>
            <a:chExt cx="1508400" cy="1581840"/>
          </a:xfrm>
        </p:grpSpPr>
        <p:sp>
          <p:nvSpPr>
            <p:cNvPr id="254" name=""/>
            <p:cNvSpPr/>
            <p:nvPr/>
          </p:nvSpPr>
          <p:spPr>
            <a:xfrm rot="19005600">
              <a:off x="365868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2256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365360" y="1760400"/>
            <a:ext cx="1508040" cy="1581480"/>
            <a:chOff x="4365360" y="1760400"/>
            <a:chExt cx="1508040" cy="1581480"/>
          </a:xfrm>
        </p:grpSpPr>
        <p:sp>
          <p:nvSpPr>
            <p:cNvPr id="257" name=""/>
            <p:cNvSpPr/>
            <p:nvPr/>
          </p:nvSpPr>
          <p:spPr>
            <a:xfrm rot="19005600">
              <a:off x="4597560" y="204048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61080" y="176040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299920" y="1762200"/>
            <a:ext cx="1508400" cy="1581840"/>
            <a:chOff x="5299920" y="1762200"/>
            <a:chExt cx="1508400" cy="1581840"/>
          </a:xfrm>
        </p:grpSpPr>
        <p:sp>
          <p:nvSpPr>
            <p:cNvPr id="260" name=""/>
            <p:cNvSpPr/>
            <p:nvPr/>
          </p:nvSpPr>
          <p:spPr>
            <a:xfrm rot="19005600">
              <a:off x="553212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9600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237000" y="1757520"/>
            <a:ext cx="1508040" cy="1581480"/>
            <a:chOff x="6237000" y="1757520"/>
            <a:chExt cx="1508040" cy="1581480"/>
          </a:xfrm>
        </p:grpSpPr>
        <p:sp>
          <p:nvSpPr>
            <p:cNvPr id="263" name=""/>
            <p:cNvSpPr/>
            <p:nvPr/>
          </p:nvSpPr>
          <p:spPr>
            <a:xfrm rot="19005600">
              <a:off x="646920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272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171560" y="1758960"/>
            <a:ext cx="1508400" cy="1581840"/>
            <a:chOff x="7171560" y="1758960"/>
            <a:chExt cx="1508400" cy="1581840"/>
          </a:xfrm>
        </p:grpSpPr>
        <p:sp>
          <p:nvSpPr>
            <p:cNvPr id="266" name=""/>
            <p:cNvSpPr/>
            <p:nvPr/>
          </p:nvSpPr>
          <p:spPr>
            <a:xfrm rot="19005600">
              <a:off x="740376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764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0712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8488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280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28000" y="22510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6. To znamená čísla, která jsou dělitelná še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73160" y="5099040"/>
            <a:ext cx="7891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šesti, když je dělitelné dvěma (sudé) a zároveň třemi (jeho ciferný součet je dělitelný tře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3068640"/>
            <a:ext cx="62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o mají společného všechny uvedené násobky še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4653000"/>
            <a:ext cx="435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o to dohromady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0920" y="306864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sou to sudá čís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342900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co víme o sudých číslech z hlediska znaků děliteln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88280" y="3429000"/>
            <a:ext cx="25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sou dělitelná dvě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932280"/>
            <a:ext cx="8497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o ještě mají všechny uvedené násobky šesti společného? A opět to vyplývá ze znaků dělitelnosti, které už zná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4365720"/>
            <a:ext cx="67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ejich ciferný součet je násobkem tří, tedy dělitelný tře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šesti (číslem 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2724120"/>
            <a:ext cx="3745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4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š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47640" y="1557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4 :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7640" y="1843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35200" y="214632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1557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21000" y="15588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08200" y="15588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36800" y="2452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932360" y="268128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7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š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67040" y="28684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35640" y="1557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7 :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35640" y="1843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22840" y="214632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1557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09000" y="155880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96200" y="15588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6000" y="2421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26240" y="2836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5127480"/>
            <a:ext cx="3816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20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š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47640" y="39164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20 :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47640" y="4202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35200" y="45054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32000" y="3916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21000" y="39178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22600" y="39178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22400" y="4808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509760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24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š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52640" y="52243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39164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24 : 6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5640" y="4202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22840" y="45054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20000" y="3916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09000" y="39178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6200" y="39178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10400" y="47959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40280" y="5211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6000" y="3241800"/>
            <a:ext cx="3311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Sudé … 7+1+4=12 … 12:3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16000" y="5673600"/>
            <a:ext cx="3384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Sudé … 7+2+0=9 … 9:3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3241800"/>
            <a:ext cx="352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Liché … 7+1+7=15 … 15:3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03640" y="5659560"/>
            <a:ext cx="324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Sudé … 7+2+4=13 … 13:3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08720" y="5877000"/>
            <a:ext cx="36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3429000"/>
            <a:ext cx="86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7080" y="3429000"/>
            <a:ext cx="86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96360" y="3429000"/>
            <a:ext cx="863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60360" y="5864400"/>
            <a:ext cx="8636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48000" y="5877000"/>
            <a:ext cx="86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33960" y="5848200"/>
            <a:ext cx="86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Webdings"/>
                <a:ea typeface="Webdings"/>
              </a:rPr>
              <a:t>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5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500"/>
                            </p:stCondLst>
                            <p:childTnLst>
                              <p:par>
                                <p:cTn id="9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700280"/>
            <a:ext cx="849636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osmi (číslem 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225108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1928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884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9092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9884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19920" y="1758960"/>
            <a:ext cx="1508400" cy="1581840"/>
            <a:chOff x="619920" y="1758960"/>
            <a:chExt cx="1508400" cy="1581840"/>
          </a:xfrm>
        </p:grpSpPr>
        <p:sp>
          <p:nvSpPr>
            <p:cNvPr id="337" name=""/>
            <p:cNvSpPr/>
            <p:nvPr/>
          </p:nvSpPr>
          <p:spPr>
            <a:xfrm rot="19005600">
              <a:off x="85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1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554840" y="1760400"/>
            <a:ext cx="1508400" cy="1581840"/>
            <a:chOff x="1554840" y="1760400"/>
            <a:chExt cx="1508400" cy="1581840"/>
          </a:xfrm>
        </p:grpSpPr>
        <p:sp>
          <p:nvSpPr>
            <p:cNvPr id="340" name=""/>
            <p:cNvSpPr/>
            <p:nvPr/>
          </p:nvSpPr>
          <p:spPr>
            <a:xfrm rot="19005600">
              <a:off x="178704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5092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91560" y="1760400"/>
            <a:ext cx="1508400" cy="1581840"/>
            <a:chOff x="2491560" y="1760400"/>
            <a:chExt cx="1508400" cy="1581840"/>
          </a:xfrm>
        </p:grpSpPr>
        <p:sp>
          <p:nvSpPr>
            <p:cNvPr id="343" name=""/>
            <p:cNvSpPr/>
            <p:nvPr/>
          </p:nvSpPr>
          <p:spPr>
            <a:xfrm rot="19005600">
              <a:off x="272376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8764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426480" y="1762200"/>
            <a:ext cx="1508400" cy="1581840"/>
            <a:chOff x="3426480" y="1762200"/>
            <a:chExt cx="1508400" cy="1581840"/>
          </a:xfrm>
        </p:grpSpPr>
        <p:sp>
          <p:nvSpPr>
            <p:cNvPr id="346" name=""/>
            <p:cNvSpPr/>
            <p:nvPr/>
          </p:nvSpPr>
          <p:spPr>
            <a:xfrm rot="19005600">
              <a:off x="365868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256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365360" y="1760400"/>
            <a:ext cx="1508040" cy="1581480"/>
            <a:chOff x="4365360" y="1760400"/>
            <a:chExt cx="1508040" cy="1581480"/>
          </a:xfrm>
        </p:grpSpPr>
        <p:sp>
          <p:nvSpPr>
            <p:cNvPr id="349" name=""/>
            <p:cNvSpPr/>
            <p:nvPr/>
          </p:nvSpPr>
          <p:spPr>
            <a:xfrm rot="19005600">
              <a:off x="4597560" y="204048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61080" y="176040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299920" y="1762200"/>
            <a:ext cx="1508400" cy="1581840"/>
            <a:chOff x="5299920" y="1762200"/>
            <a:chExt cx="1508400" cy="1581840"/>
          </a:xfrm>
        </p:grpSpPr>
        <p:sp>
          <p:nvSpPr>
            <p:cNvPr id="352" name=""/>
            <p:cNvSpPr/>
            <p:nvPr/>
          </p:nvSpPr>
          <p:spPr>
            <a:xfrm rot="19005600">
              <a:off x="553212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600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237000" y="1757520"/>
            <a:ext cx="1508040" cy="1581480"/>
            <a:chOff x="6237000" y="1757520"/>
            <a:chExt cx="1508040" cy="1581480"/>
          </a:xfrm>
        </p:grpSpPr>
        <p:sp>
          <p:nvSpPr>
            <p:cNvPr id="355" name=""/>
            <p:cNvSpPr/>
            <p:nvPr/>
          </p:nvSpPr>
          <p:spPr>
            <a:xfrm rot="19005600">
              <a:off x="646920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3272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171560" y="1758960"/>
            <a:ext cx="1508400" cy="1581840"/>
            <a:chOff x="7171560" y="1758960"/>
            <a:chExt cx="1508400" cy="1581840"/>
          </a:xfrm>
        </p:grpSpPr>
        <p:sp>
          <p:nvSpPr>
            <p:cNvPr id="358" name=""/>
            <p:cNvSpPr/>
            <p:nvPr/>
          </p:nvSpPr>
          <p:spPr>
            <a:xfrm rot="19005600">
              <a:off x="740376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6764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30712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8488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9280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28000" y="22510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8. To znamená čísla, která jsou dělitelná os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3720" y="4581360"/>
            <a:ext cx="8541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tady už je to zase složitější a aby bylo vše ještě jasnější a názornější, museli bychom řadu násobků protáhnout až do stovek, ale třeba pomůže, když napovím podobnost s jiným již známým znakem dělite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715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2080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2880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3708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291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6408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3104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32312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73160" y="5445000"/>
            <a:ext cx="789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osmi, když jeho poslední trojčíslí je dělitelné os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068640"/>
            <a:ext cx="410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eď pár čísel, která jsou dělitelná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16360" y="3068640"/>
            <a:ext cx="4354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pár čísel, která nejsou dělitelná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3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8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7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7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932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0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3708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1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2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5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5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96360" y="400536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365616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78040" y="4321080"/>
            <a:ext cx="32364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87640" y="4033800"/>
            <a:ext cx="32400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87640" y="3889440"/>
            <a:ext cx="32400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80000" y="407664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423280" y="407664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048920" y="4394160"/>
            <a:ext cx="297000" cy="5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55720" y="4105440"/>
            <a:ext cx="32364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76440" y="4249800"/>
            <a:ext cx="32400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40000" y="4033800"/>
            <a:ext cx="324000" cy="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76440" y="3889440"/>
            <a:ext cx="323640" cy="1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908000" y="2449440"/>
            <a:ext cx="54612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4762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osmi (číslem 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2247840"/>
            <a:ext cx="3745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2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47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2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636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1200" y="1641600"/>
            <a:ext cx="820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210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82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52800" y="194616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2360" y="220500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8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82680" y="23623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6000" y="2451240"/>
            <a:ext cx="56196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35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8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6372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6000" y="16416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20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09000" y="10540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962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81760" y="1916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12000" y="23320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8000" y="5086440"/>
            <a:ext cx="546120" cy="358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4884840"/>
            <a:ext cx="38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0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47640" y="370368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0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3520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08000" y="42926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2000" y="370368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210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8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93760" y="458136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85460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2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os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4000" y="49975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96000" y="5100480"/>
            <a:ext cx="561960" cy="3589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35640" y="37036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2 : 8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2284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67560" y="4292640"/>
            <a:ext cx="820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00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09000" y="370512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96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38920" y="45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69160" y="50115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79640" y="2808360"/>
            <a:ext cx="1871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52 : 8 = 19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72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79640" y="5516640"/>
            <a:ext cx="187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60 : 8 = 20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00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2736720"/>
            <a:ext cx="1944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58 : 8 = 19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78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40360" y="5589720"/>
            <a:ext cx="1944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162 : 8 = 20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02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0-29T09:08:21Z</dcterms:modified>
  <cp:revision>167</cp:revision>
  <dc:subject/>
  <dc:title>Znaky dělitelnosti 3</dc:title>
</cp:coreProperties>
</file>