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1835-2F22-4A69-8ACF-B0A97580E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173D-54D7-4212-819E-A2A321C5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D307-1B10-4E7E-B8F1-DF007D7F3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562B-9D6C-4E36-8B4D-D825E616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A8EE-7583-47F8-86C2-C87F21259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A277-C3EC-4113-A469-46F2DEBA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C258-84FF-48A1-87EB-1F32F8C3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66E2-E731-47E1-893F-DD69E2DF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013C-818E-4256-AFD4-EC4405CF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C2F7-F0DC-43C4-A228-419623B5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3B2B-4F86-41D4-8583-39811257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B718-07F5-49BB-90EF-2FAAE13F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F296-BBAE-40D8-B56C-8211673A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0A22-8D7E-4664-A681-F7248472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4893-E7F7-43E8-91CA-99E8A34F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6511-C383-4C38-9A4C-389EB73C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5B63-C060-46FD-BC04-26D59D44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5E1E-8CF3-4ED8-81D4-8FB3BFAA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725F-B60B-4950-A6B7-74BFAE7A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06DD-8216-425D-B790-95BB8F04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AEFA-AC4A-4463-8D36-45E6D2B9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18DC-1B00-47C4-921F-EB051B63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A8A4-4651-4099-95AF-C3D3B2FB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5C92-E379-41D6-9F99-BD3DB896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5A48-86F9-480E-89E7-2CFDFBFFA7A5}" type="slidenum"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21AB-EC29-4D6D-8840-36F255909813}" type="slidenum"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Dělitelnost přirozených čísel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860640"/>
            <a:ext cx="80773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Znaky dělitelnosti 3 a 9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2565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38040" y="404640"/>
            <a:ext cx="31687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9640" y="1123920"/>
            <a:ext cx="748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.) Podtrhni zeleně všechna čísla dělitelná třem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11280" y="1628640"/>
            <a:ext cx="7848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675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1287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47098, 6880, 6743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12567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67345, 34345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65454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561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5432, 24781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45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6080, 4646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711507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2360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546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33282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90979, 9008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12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40360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56535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6700, 674321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78609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764735, 1555, 67643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228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9898, 8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234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445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6009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45300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765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43906, 4994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5652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7090, 7895,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111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5432, 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38040" y="404640"/>
            <a:ext cx="31687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39640" y="1123920"/>
            <a:ext cx="748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.) Podtrhni červeně všechna čísla dělitelná devít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1280" y="1628640"/>
            <a:ext cx="7848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675, 1287, 47098, 6880, 6743, 11567, 67345, 34345, 65554, 5610, 5432, 24781, 450, 6080, 4646, 711567, 3060, 576, 42282, 90999, 9018, 12, 40360, 56535, 6700, 674321, 786096, 764735, 3555, 67643, 128, 9898, 9, 234, 945, 50090, 453060, 765, 43906, 4994, 5652, 7090, 7695, 111, 5432, 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38040" y="404640"/>
            <a:ext cx="31687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39640" y="1123920"/>
            <a:ext cx="748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.) Podtrhni červeně všechna čísla dělitelná devít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1280" y="1628640"/>
            <a:ext cx="7848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675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1287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47098, 6880, 6743, 11567, 67345, 34345, 65554, 5610, 5432, 24781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45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6080, 4646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711567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306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576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42282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90999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9018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12, 40360, 56535, 6700, 674321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786096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764735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3555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67643, 128, 9898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9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234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945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50090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45306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765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43906, 4994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5652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7090,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7695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111, 5432, 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38040" y="404640"/>
            <a:ext cx="31687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39640" y="1123920"/>
            <a:ext cx="748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3.) Podtrhni žlutě všechna čísla dělitelná zároveň třemi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i devít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11280" y="1628640"/>
            <a:ext cx="7848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675, 1287, 47098, 6880, 6743, 12567, 67345, 34345, 65454, 5610, 5432, 24781, 450, 6080, 4646, 711507, 2360, 546, 33282, 90979, 9008, 12, 40360, 56535, 6700, 674321, 786090, 764735, 1555, 67643, 228, 9898, 8, 234, 445, 60090, 453000, 765, 43906, 4994, 5652, 7090, 7895, 111, 5432, 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38040" y="404640"/>
            <a:ext cx="31687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39640" y="1123920"/>
            <a:ext cx="748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3.) Podtrhni žlutě všechna čísla dělitelná zároveň třemi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i devít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11280" y="1628640"/>
            <a:ext cx="7848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675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1287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47098, 6880, 6743, 12567, 67345, 34345, 65454, 5610, 5432, 24781,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45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6080, 4646, 711507, 2360, 546,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33282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90979, 9008, 12, 40360, 56535, 6700, 674321, 786090, 764735, 1555, 67643, 228, 9898, 8,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234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445, 60090, 453000,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765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43906, 4994, </a:t>
            </a:r>
            <a:r>
              <a:rPr b="1" lang="en-US" sz="3200" spc="-1" strike="noStrike">
                <a:solidFill>
                  <a:srgbClr val="ffff00"/>
                </a:solidFill>
                <a:latin typeface="Trebuchet MS"/>
              </a:rPr>
              <a:t>5652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, 7090, 7895, 111, 5432, 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38040" y="404640"/>
            <a:ext cx="31687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9640" y="907920"/>
            <a:ext cx="799308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4.) Doplňte vynechanou číslici tak, aby vzniklo číslo, které je dělitelné třemi. Je-li více možností, zapište jen jed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39640" y="213372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34_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9640" y="270828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60_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39640" y="328464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9_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39640" y="386064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20_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9640" y="443700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434_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9640" y="501336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3295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558972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_309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429080" y="213372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56_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29080" y="270828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_45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429080" y="328464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33_7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429080" y="386064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6_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429080" y="443700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121_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429080" y="501336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45_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29080" y="558972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5640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0000" y="213372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34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340000" y="270828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602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340000" y="328464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92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340000" y="386064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202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340000" y="443700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434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340000" y="501336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329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340000" y="558972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2309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9440" y="213372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56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229440" y="270828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145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229440" y="328464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3327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229440" y="386064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60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229440" y="443700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121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229440" y="501336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45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9440" y="558972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564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38040" y="404640"/>
            <a:ext cx="31687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9640" y="907920"/>
            <a:ext cx="799308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5.) Doplňte vynechanou číslici tak, aby vzniklo číslo, které je dělitelné devíti. Je-li více možností, zapište jen jed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39640" y="213372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34_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39640" y="270828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60_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9640" y="328464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9_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39640" y="386064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20_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39640" y="443700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434_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39640" y="501336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3295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39640" y="558972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_309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429080" y="213372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56_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429080" y="270828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_45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429080" y="328464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33_7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429080" y="386064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6_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429080" y="443700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121_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429080" y="501336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45_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429080" y="558972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5640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340000" y="213372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343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340000" y="270828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605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340000" y="328464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95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40000" y="386064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205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340000" y="443700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4346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340000" y="501336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3295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40000" y="558972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8309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29440" y="213372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56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229440" y="270828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445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229440" y="328464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3387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229440" y="386064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63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229440" y="443700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12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229440" y="501336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45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229440" y="5589720"/>
            <a:ext cx="187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564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539640" y="476280"/>
            <a:ext cx="8209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Shrňme si na závěr všechny již známé znaky děliteln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26920" y="1484280"/>
            <a:ext cx="820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Znak dělitelnosti číslem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2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: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26920" y="2536920"/>
            <a:ext cx="8209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Znak dělitelnosti číslem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5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: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26920" y="3330720"/>
            <a:ext cx="8209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Znak dělitelnosti číslem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10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: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26920" y="1916280"/>
            <a:ext cx="8209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Přirozené číslo je dělitelné dvěma, když má na místě jednotek sudou číslici. To znamená některou z číslic 0, 2, 4, 6, 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26920" y="2852640"/>
            <a:ext cx="820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Přirozené číslo je dělitelné pěti, když má na místě jednotek číslici 0 nebo 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26920" y="3664080"/>
            <a:ext cx="8209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Přirozené číslo je dělitelné deseti, když má na místě jednotek číslici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116000" y="5875200"/>
            <a:ext cx="77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A ještě pořád to není vše. Takže další zase příšt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26920" y="4165560"/>
            <a:ext cx="820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Znak dělitelnosti číslem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3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: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26920" y="5013360"/>
            <a:ext cx="8209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Znak dělitelnosti číslem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9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: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26920" y="4481640"/>
            <a:ext cx="8209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Přirozené číslo je dělitelné třemi, když jeho ciferný součet je dělitelný třem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5300640"/>
            <a:ext cx="820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Přirozené číslo je dělitelné devíti, když jeho ciferný součet je dělitelný deví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0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500"/>
                            </p:stCondLst>
                            <p:childTnLst>
                              <p:par>
                                <p:cTn id="1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66560" y="54936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Zopakujme s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1987560"/>
            <a:ext cx="8323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Dělí-li číslo x  číslo y beze zbytku, říkáme, že "číslo x je dělitelem čísla y", nebo že "číslo y je dělitelné číslem x“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2708280"/>
            <a:ext cx="8323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apříklad 7 je dělitelem 49 nebo 4 je dělitelem 8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3429000"/>
            <a:ext cx="8323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elmi často potřebujete rychle poznat, čím je nějaké dané číslo děliteln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4148280"/>
            <a:ext cx="8323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Můžeme zkoušet jedno číslo za druhým a dělit a dělit a děl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9880" y="4869000"/>
            <a:ext cx="8323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To by ale nebylo zrovna rychlé, a tak si velmi často bereme na pomoc tzv.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znaky dělitelnosti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5587920"/>
            <a:ext cx="8323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ojďme se na ně podív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105264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Čemu říkáme znaky dělitelnost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11280" y="765000"/>
            <a:ext cx="82087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Které znaky dělitelnosti už známe a co říkaj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1841400"/>
            <a:ext cx="820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Znak dělitelnosti číslem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2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: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994120"/>
            <a:ext cx="8209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Znak dělitelnosti číslem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5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: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4218120"/>
            <a:ext cx="8209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Znak dělitelnosti číslem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10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: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2419200"/>
            <a:ext cx="820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Přirozené číslo je dělitelné dvěma, když má na místě jednotek sudou číslici. To znamená některou z číslic 0, 2, 4, 6, 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3570120"/>
            <a:ext cx="820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Přirozené číslo je dělitelné pěti, když má na místě jednotek číslici 0 nebo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4795920"/>
            <a:ext cx="8209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Přirozené číslo je dělitelné deseti, když má na místě jednotek číslici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70200" y="5443560"/>
            <a:ext cx="52228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dnes přidáme další d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8360" y="1700280"/>
            <a:ext cx="8496360" cy="11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Dělitelnost třemi (číslem 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2251080"/>
            <a:ext cx="1873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19280" y="2251080"/>
            <a:ext cx="187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8840" y="2251080"/>
            <a:ext cx="187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0920" y="2251080"/>
            <a:ext cx="187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98840" y="2251080"/>
            <a:ext cx="13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19920" y="1758960"/>
            <a:ext cx="1508400" cy="1581840"/>
            <a:chOff x="619920" y="1758960"/>
            <a:chExt cx="1508400" cy="1581840"/>
          </a:xfrm>
        </p:grpSpPr>
        <p:sp>
          <p:nvSpPr>
            <p:cNvPr id="111" name=""/>
            <p:cNvSpPr/>
            <p:nvPr/>
          </p:nvSpPr>
          <p:spPr>
            <a:xfrm rot="19005600">
              <a:off x="852120" y="203904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16000" y="175896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554840" y="1760400"/>
            <a:ext cx="1508400" cy="1581840"/>
            <a:chOff x="1554840" y="1760400"/>
            <a:chExt cx="1508400" cy="1581840"/>
          </a:xfrm>
        </p:grpSpPr>
        <p:sp>
          <p:nvSpPr>
            <p:cNvPr id="114" name=""/>
            <p:cNvSpPr/>
            <p:nvPr/>
          </p:nvSpPr>
          <p:spPr>
            <a:xfrm rot="19005600">
              <a:off x="1787040" y="204048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50920" y="176040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491560" y="1760400"/>
            <a:ext cx="1508400" cy="1581840"/>
            <a:chOff x="2491560" y="1760400"/>
            <a:chExt cx="1508400" cy="1581840"/>
          </a:xfrm>
        </p:grpSpPr>
        <p:sp>
          <p:nvSpPr>
            <p:cNvPr id="117" name=""/>
            <p:cNvSpPr/>
            <p:nvPr/>
          </p:nvSpPr>
          <p:spPr>
            <a:xfrm rot="19005600">
              <a:off x="2723760" y="204048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87640" y="176040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426480" y="1762200"/>
            <a:ext cx="1508400" cy="1581840"/>
            <a:chOff x="3426480" y="1762200"/>
            <a:chExt cx="1508400" cy="1581840"/>
          </a:xfrm>
        </p:grpSpPr>
        <p:sp>
          <p:nvSpPr>
            <p:cNvPr id="120" name=""/>
            <p:cNvSpPr/>
            <p:nvPr/>
          </p:nvSpPr>
          <p:spPr>
            <a:xfrm rot="19005600">
              <a:off x="3658680" y="204228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22560" y="176220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65360" y="1760400"/>
            <a:ext cx="1508040" cy="1581480"/>
            <a:chOff x="4365360" y="1760400"/>
            <a:chExt cx="1508040" cy="1581480"/>
          </a:xfrm>
        </p:grpSpPr>
        <p:sp>
          <p:nvSpPr>
            <p:cNvPr id="123" name=""/>
            <p:cNvSpPr/>
            <p:nvPr/>
          </p:nvSpPr>
          <p:spPr>
            <a:xfrm rot="19005600">
              <a:off x="4597560" y="2040480"/>
              <a:ext cx="104328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1080" y="1760400"/>
              <a:ext cx="57600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299920" y="1762200"/>
            <a:ext cx="1508400" cy="1581840"/>
            <a:chOff x="5299920" y="1762200"/>
            <a:chExt cx="1508400" cy="1581840"/>
          </a:xfrm>
        </p:grpSpPr>
        <p:sp>
          <p:nvSpPr>
            <p:cNvPr id="126" name=""/>
            <p:cNvSpPr/>
            <p:nvPr/>
          </p:nvSpPr>
          <p:spPr>
            <a:xfrm rot="19005600">
              <a:off x="5532120" y="204228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96000" y="176220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237000" y="1757520"/>
            <a:ext cx="1508040" cy="1581480"/>
            <a:chOff x="6237000" y="1757520"/>
            <a:chExt cx="1508040" cy="1581480"/>
          </a:xfrm>
        </p:grpSpPr>
        <p:sp>
          <p:nvSpPr>
            <p:cNvPr id="129" name=""/>
            <p:cNvSpPr/>
            <p:nvPr/>
          </p:nvSpPr>
          <p:spPr>
            <a:xfrm rot="19005600">
              <a:off x="6469200" y="2037600"/>
              <a:ext cx="104328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32720" y="1757520"/>
              <a:ext cx="57600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171560" y="1758960"/>
            <a:ext cx="1508400" cy="1581840"/>
            <a:chOff x="7171560" y="1758960"/>
            <a:chExt cx="1508400" cy="1581840"/>
          </a:xfrm>
        </p:grpSpPr>
        <p:sp>
          <p:nvSpPr>
            <p:cNvPr id="132" name=""/>
            <p:cNvSpPr/>
            <p:nvPr/>
          </p:nvSpPr>
          <p:spPr>
            <a:xfrm rot="19005600">
              <a:off x="7403760" y="203904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67640" y="175896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5307120" y="2251080"/>
            <a:ext cx="13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84880" y="2251080"/>
            <a:ext cx="13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92800" y="2251080"/>
            <a:ext cx="13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028000" y="2251080"/>
            <a:ext cx="9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9880" y="1195560"/>
            <a:ext cx="8323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Vypíšeme si násobky čísla 3. To znamená čísla, která jsou dělitelná třem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3720" y="4508640"/>
            <a:ext cx="8541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Vidíte něco zajímavého? Dobře se na čísla i předcházející násobky podívej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71560" y="263988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92360" y="2639880"/>
            <a:ext cx="2156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55720" y="263988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37080" y="2639880"/>
            <a:ext cx="2156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29160" y="263988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64080" y="263988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31040" y="263988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23120" y="263988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73160" y="5229360"/>
            <a:ext cx="78915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Přirozené číslo je dělitelné třemi, když jeho ciferný součet je dělitelný tře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3068640"/>
            <a:ext cx="4103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A teď pár čísel, která jsou dělitelná tře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16360" y="3068640"/>
            <a:ext cx="43545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A pár čísel, která nejsou dělitelná tře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378792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3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32000" y="357192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99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19280" y="4003560"/>
            <a:ext cx="64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2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79640" y="3714840"/>
            <a:ext cx="8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68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3571920"/>
            <a:ext cx="8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3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59280" y="3932280"/>
            <a:ext cx="86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346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95560" y="3714840"/>
            <a:ext cx="8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91280" y="378792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2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0200" y="357192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7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27640" y="40035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34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59640" y="3714840"/>
            <a:ext cx="8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342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451640" y="3571920"/>
            <a:ext cx="8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6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812000" y="3932280"/>
            <a:ext cx="8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4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17080" y="3656160"/>
            <a:ext cx="86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06480" y="432108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10040" y="403380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59000" y="388944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95640" y="407664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6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532720" y="401796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9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83200" y="4394160"/>
            <a:ext cx="2156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55720" y="410544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76440" y="424980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97160" y="403380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76440" y="388944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12000" y="4869000"/>
            <a:ext cx="295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omohu vá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4869000"/>
            <a:ext cx="56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řijdete na to, kdy je číslo dělitelné třem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Dělitelnost třemi (číslem 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2652840"/>
            <a:ext cx="3888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Číslo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7156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 není dělitelné tře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47640" y="105264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156 : 3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47640" y="133812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35200" y="1641600"/>
            <a:ext cx="820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32000" y="105264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21000" y="10540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93760" y="220500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32360" y="2610000"/>
            <a:ext cx="40323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Číslo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7158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 je dělitelné tře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24000" y="26208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95760" y="106668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93960" y="1914480"/>
            <a:ext cx="820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35640" y="105264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158 : 3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35640" y="133812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22840" y="1641600"/>
            <a:ext cx="820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20000" y="105264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09000" y="1054080"/>
            <a:ext cx="57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396200" y="10540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81760" y="220500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12000" y="26208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83400" y="106668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96000" y="1914480"/>
            <a:ext cx="820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42920" y="5330880"/>
            <a:ext cx="38163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Číslo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7160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 není dělitelné tře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47640" y="370368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160 : 3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47640" y="398952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35200" y="4292640"/>
            <a:ext cx="820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32000" y="37036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321000" y="370512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08200" y="370512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93760" y="488160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32360" y="5300640"/>
            <a:ext cx="403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Číslo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7161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 je dělitelné tře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24000" y="52974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695760" y="37036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22400" y="4591080"/>
            <a:ext cx="820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35640" y="370368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161 : 3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35640" y="398952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622840" y="4292640"/>
            <a:ext cx="820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020000" y="37036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09000" y="3705120"/>
            <a:ext cx="57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96200" y="370512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81760" y="488160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12000" y="52974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83400" y="37036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796000" y="4591080"/>
            <a:ext cx="820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26920" y="3170160"/>
            <a:ext cx="4176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7+1+5+6=19 … 19 není násobkem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00000" y="5862600"/>
            <a:ext cx="4032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7+1+6+0=14 … 14 není násobkem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0920" y="3170160"/>
            <a:ext cx="3817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7+1+5+8=21 … 21 je násobkem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76720" y="5862600"/>
            <a:ext cx="3888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7+1+6+1=15 … 15 je násobkem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08200" y="106668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68360" y="1700280"/>
            <a:ext cx="8496360" cy="11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Dělitelnost devíti (číslem 9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26920" y="2251080"/>
            <a:ext cx="1873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19280" y="2251080"/>
            <a:ext cx="187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98840" y="2251080"/>
            <a:ext cx="187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90920" y="2251080"/>
            <a:ext cx="187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398840" y="2251080"/>
            <a:ext cx="13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19920" y="1758960"/>
            <a:ext cx="1508400" cy="1581840"/>
            <a:chOff x="619920" y="1758960"/>
            <a:chExt cx="1508400" cy="1581840"/>
          </a:xfrm>
        </p:grpSpPr>
        <p:sp>
          <p:nvSpPr>
            <p:cNvPr id="234" name=""/>
            <p:cNvSpPr/>
            <p:nvPr/>
          </p:nvSpPr>
          <p:spPr>
            <a:xfrm rot="19005600">
              <a:off x="852120" y="203904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16000" y="175896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554840" y="1760400"/>
            <a:ext cx="1508400" cy="1581840"/>
            <a:chOff x="1554840" y="1760400"/>
            <a:chExt cx="1508400" cy="1581840"/>
          </a:xfrm>
        </p:grpSpPr>
        <p:sp>
          <p:nvSpPr>
            <p:cNvPr id="237" name=""/>
            <p:cNvSpPr/>
            <p:nvPr/>
          </p:nvSpPr>
          <p:spPr>
            <a:xfrm rot="19005600">
              <a:off x="1787040" y="204048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50920" y="176040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491560" y="1760400"/>
            <a:ext cx="1508400" cy="1581840"/>
            <a:chOff x="2491560" y="1760400"/>
            <a:chExt cx="1508400" cy="1581840"/>
          </a:xfrm>
        </p:grpSpPr>
        <p:sp>
          <p:nvSpPr>
            <p:cNvPr id="240" name=""/>
            <p:cNvSpPr/>
            <p:nvPr/>
          </p:nvSpPr>
          <p:spPr>
            <a:xfrm rot="19005600">
              <a:off x="2723760" y="204048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87640" y="176040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426480" y="1762200"/>
            <a:ext cx="1508400" cy="1581840"/>
            <a:chOff x="3426480" y="1762200"/>
            <a:chExt cx="1508400" cy="1581840"/>
          </a:xfrm>
        </p:grpSpPr>
        <p:sp>
          <p:nvSpPr>
            <p:cNvPr id="243" name=""/>
            <p:cNvSpPr/>
            <p:nvPr/>
          </p:nvSpPr>
          <p:spPr>
            <a:xfrm rot="19005600">
              <a:off x="3658680" y="204228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22560" y="176220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365360" y="1760400"/>
            <a:ext cx="1508040" cy="1581480"/>
            <a:chOff x="4365360" y="1760400"/>
            <a:chExt cx="1508040" cy="1581480"/>
          </a:xfrm>
        </p:grpSpPr>
        <p:sp>
          <p:nvSpPr>
            <p:cNvPr id="246" name=""/>
            <p:cNvSpPr/>
            <p:nvPr/>
          </p:nvSpPr>
          <p:spPr>
            <a:xfrm rot="19005600">
              <a:off x="4597560" y="2040480"/>
              <a:ext cx="104328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861080" y="1760400"/>
              <a:ext cx="57600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5299920" y="1762200"/>
            <a:ext cx="1508400" cy="1581840"/>
            <a:chOff x="5299920" y="1762200"/>
            <a:chExt cx="1508400" cy="1581840"/>
          </a:xfrm>
        </p:grpSpPr>
        <p:sp>
          <p:nvSpPr>
            <p:cNvPr id="249" name=""/>
            <p:cNvSpPr/>
            <p:nvPr/>
          </p:nvSpPr>
          <p:spPr>
            <a:xfrm rot="19005600">
              <a:off x="5532120" y="204228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96000" y="176220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237000" y="1757520"/>
            <a:ext cx="1508040" cy="1581480"/>
            <a:chOff x="6237000" y="1757520"/>
            <a:chExt cx="1508040" cy="1581480"/>
          </a:xfrm>
        </p:grpSpPr>
        <p:sp>
          <p:nvSpPr>
            <p:cNvPr id="252" name=""/>
            <p:cNvSpPr/>
            <p:nvPr/>
          </p:nvSpPr>
          <p:spPr>
            <a:xfrm rot="19005600">
              <a:off x="6469200" y="2037600"/>
              <a:ext cx="104328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32720" y="1757520"/>
              <a:ext cx="57600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7171560" y="1758960"/>
            <a:ext cx="1508400" cy="1581840"/>
            <a:chOff x="7171560" y="1758960"/>
            <a:chExt cx="1508400" cy="1581840"/>
          </a:xfrm>
        </p:grpSpPr>
        <p:sp>
          <p:nvSpPr>
            <p:cNvPr id="255" name=""/>
            <p:cNvSpPr/>
            <p:nvPr/>
          </p:nvSpPr>
          <p:spPr>
            <a:xfrm rot="19005600">
              <a:off x="7403760" y="2039040"/>
              <a:ext cx="1044000" cy="109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67640" y="1758960"/>
              <a:ext cx="5763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00"/>
                  </a:solidFill>
                  <a:latin typeface="Trebuchet MS"/>
                </a:rPr>
                <a:t>+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5307120" y="2251080"/>
            <a:ext cx="13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284880" y="2251080"/>
            <a:ext cx="13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192800" y="2251080"/>
            <a:ext cx="13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028000" y="2251080"/>
            <a:ext cx="9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9880" y="1195560"/>
            <a:ext cx="8323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Vypíšeme si násobky čísla 9. To znamená čísla, která jsou dělitelná deví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3720" y="4581360"/>
            <a:ext cx="8541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Vidíte i nyní něco zajímavého? </a:t>
            </a:r>
            <a:br>
              <a:rPr sz="1800"/>
            </a:b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Dobře se opět na čísla i předcházející násobky podívej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71560" y="263988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63640" y="263988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98920" y="2639880"/>
            <a:ext cx="2156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637080" y="2639880"/>
            <a:ext cx="2156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73160" y="5229360"/>
            <a:ext cx="78915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Přirozené číslo je dělitelné devíti, když jeho ciferný součet je dělitelný deví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5280" y="3068640"/>
            <a:ext cx="4103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A teď pár čísel, která jsou dělitelná deví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16360" y="3068640"/>
            <a:ext cx="43545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A pár čísel, která nejsou dělitelná deví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06560" y="4003560"/>
            <a:ext cx="649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2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29080" y="3571920"/>
            <a:ext cx="86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9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421080" y="3860640"/>
            <a:ext cx="8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39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91280" y="378792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2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10200" y="357192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7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227640" y="40035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3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59640" y="3714840"/>
            <a:ext cx="8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362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451640" y="3571920"/>
            <a:ext cx="8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62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812000" y="3932280"/>
            <a:ext cx="8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40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317080" y="3656160"/>
            <a:ext cx="86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91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093760" y="432108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65520" y="417996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71720" y="388944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16000" y="371628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9292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532720" y="401796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9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476360" y="4033800"/>
            <a:ext cx="21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23720" y="5013360"/>
            <a:ext cx="8541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Dobrá. Pomohu vám znov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300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400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00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3000"/>
                            </p:stCondLst>
                            <p:childTnLst>
                              <p:par>
                                <p:cTn id="7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4000"/>
                            </p:stCondLst>
                            <p:childTnLst>
                              <p:par>
                                <p:cTn id="7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0"/>
                            </p:stCondLst>
                            <p:childTnLst>
                              <p:par>
                                <p:cTn id="7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6000"/>
                            </p:stCondLst>
                            <p:childTnLst>
                              <p:par>
                                <p:cTn id="7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000"/>
                            </p:stCondLst>
                            <p:childTnLst>
                              <p:par>
                                <p:cTn id="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500"/>
                            </p:stCondLst>
                            <p:childTnLst>
                              <p:par>
                                <p:cTn id="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Dělitelnost devíti (číslem 9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00000" y="2637000"/>
            <a:ext cx="3888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Číslo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7156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 není dělitelné deví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47640" y="141300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156 : 9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749600" y="1698480"/>
            <a:ext cx="57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8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893960" y="2001960"/>
            <a:ext cx="820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132000" y="141300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321000" y="141444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093760" y="23050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932360" y="2593800"/>
            <a:ext cx="403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Číslo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7155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 je dělitelné deví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124000" y="272088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535200" y="142704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35640" y="141300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155 : 9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637240" y="169848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8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810400" y="2001960"/>
            <a:ext cx="820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020000" y="141300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09000" y="1414440"/>
            <a:ext cx="57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396200" y="141444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10200" y="227664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40440" y="269244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98560" y="5216400"/>
            <a:ext cx="38163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Číslo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3896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 není dělitelné deví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547640" y="387684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896 : 9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720800" y="416232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908000" y="4465800"/>
            <a:ext cx="820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32000" y="387684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21000" y="38782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508200" y="38782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93760" y="478296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932360" y="5186520"/>
            <a:ext cx="40323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Číslo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3897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 je dělitelné deví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124000" y="519912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435640" y="387684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897 : 9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608800" y="4162320"/>
            <a:ext cx="57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67560" y="4465800"/>
            <a:ext cx="820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020000" y="387684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209000" y="3878280"/>
            <a:ext cx="57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396200" y="38782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952960" y="475452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983200" y="517032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26920" y="3154320"/>
            <a:ext cx="4176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7+1+5+6=19 … 19 není násobkem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55640" y="5748480"/>
            <a:ext cx="4032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3+8+9+6=26 … 26 není násobkem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930920" y="3154320"/>
            <a:ext cx="3817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7+1+5+5=18 … 18 je násobkem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932360" y="5748480"/>
            <a:ext cx="3887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3+8+9+7=27 … 27 je násobkem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11280" y="765000"/>
            <a:ext cx="82087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Shrňme si tedy další dva znaky dělitelnosti přirozených čís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26920" y="2460600"/>
            <a:ext cx="820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Znak dělitelnosti číslem 3: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26920" y="3859200"/>
            <a:ext cx="820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Znak dělitelnosti číslem 9: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26920" y="3038400"/>
            <a:ext cx="820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Přirozené číslo je dělitelné třemi, když jeho ciferný součet je dělitelný třem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26920" y="4435560"/>
            <a:ext cx="8209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Přirozené číslo je dělitelné devíti, když jeho ciferný součet je dělitelný deví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0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500"/>
                            </p:stCondLst>
                            <p:childTnLst>
                              <p:par>
                                <p:cTn id="10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38040" y="404640"/>
            <a:ext cx="31687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9640" y="1123920"/>
            <a:ext cx="748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.) Podtrhni zeleně všechna čísla dělitelná třem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11280" y="1628640"/>
            <a:ext cx="7848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675, 1287, 47098, 6880, 6743, 12567, 67345, 34345, 65454, 5610, 5432, 24781, 450, 6080, 4646, 711507, 2360, 546, 33282, 90979, 9008, 12, 40360, 56535, 6700, 674321, 786090, 764735, 1555, 67643, 228, 9898, 8, 234, 445, 60090, 453000, 765, 43906, 4994, 5652, 7090, 7895, 111, 5432, 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8-10-13T13:15:38Z</dcterms:modified>
  <cp:revision>162</cp:revision>
  <dc:subject/>
  <dc:title>Znaky dělitelnosti 2</dc:title>
</cp:coreProperties>
</file>