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BD2-DA49-40FF-90AE-B1F6F11D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605-31D5-4CC5-8ACD-2C6EF520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597-5264-4DE6-9C3F-3E1C079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FA6-3E08-4743-8AAC-29232F50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C053-B4D1-4870-B772-B694990C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BFF3-A922-4584-8D62-D2FE1EAE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3935-590F-41CA-88CB-1154B5B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D476-2279-40B1-B87B-88195441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20C2-9946-48A6-BE81-EFF65BB8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27E2-1CF2-4060-8A69-F5E6BB4D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77A1-19F5-4638-8058-391E411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752-B718-48D3-91A7-7110016F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E5D0-B9BE-4290-9399-C05C0330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D295-17BA-4720-8C25-984D6070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7B36-08F2-4041-8423-786BB58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131E-6C89-4533-98EE-A8C31D69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08A-867F-474C-97C5-A04F3508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681-D98B-4390-82C1-70222B5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EFE-709C-43E0-A956-257ED8B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6F0-DB67-46E0-9A31-2402DCB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904-4F6E-44C8-90EF-0EF177E6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111-DA86-4AA0-929A-F0B4475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C44-8252-4905-B90A-02986E9A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C9F-5580-42C1-BD31-E39A1CA7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8567-5230-4EE3-A8A1-675C16F2B0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1F3C-E154-4F60-8E72-FCCCF4014DA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Znaky dělitelnosti 10, 5 a 2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dvě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6800, 6743, 12567, 67345, 34345, 65554, 5610, 5432, 34781, 450, 6000, 4646, 786547, 23460, 5646, 43282, 90979, 9008, 12, 45360, 56535, 6743, 674321, 786090, 76435, 15555, 67643, 12678, 9898, 8, 234, 4545, 50090, 45329, 765, 43976, 4994, 5653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dvě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709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8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67345, 34345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555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3478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64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86547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34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4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328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0979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00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5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5, 6743, 67432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35, 15555, 67643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67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89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3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45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329, 765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397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99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895, 11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dese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6800, 6743, 12567, 67345, 34345, 65554, 5610, 5432, 34781, 450, 6000, 4646, 786547, 23460, 5646, 43282, 90979, 9008, 12, 45360, 56535, 6743, 674321, 786090, 76435, 15555, 67643, 12678, 9898, 8, 234, 4545, 50090, 45329, 765, 43976, 4994, 5653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dese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8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67345, 34345, 65554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3478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86547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234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46, 43282, 90979, 9008, 12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5, 6743, 67432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35, 15555, 67643, 12678, 9898, 8, 234, 4545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329, 765, 43976, 4994, 5653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7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) A na závěr podtrhni žlutě ještě všechna čísla dělitelná jak dvěma, tak pěti i dese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6800, 6743, 12567, 67345, 34345, 65554, 5610, 5432, 34781, 450, 6000, 4646, 786547, 23460, 5646, 43282, 90979, 9008, 12, 45360, 56535, 6743, 674321, 786090, 76435, 15555, 67643, 12678, 9898, 8, 234, 4545, 50090, 45329, 765, 43976, 4994, 5653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8440" y="1081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) A na závěr podtrhni žlutě ještě všechna čísla dělitelná jak dvěma, tak pěti i dese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8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67345, 34345, 65554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3478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86547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234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46, 43282, 90979, 9008, 12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5, 6743, 67432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35, 15555, 67643, 12678, 9898, 8, 234, 4545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329, 765, 43976, 4994, 5653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7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11280" y="54936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Ještě jednou první trojice znaků dělitelnosti přirozených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17715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31701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6920" y="45799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6920" y="23493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37465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51577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35280" y="5732640"/>
            <a:ext cx="518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příště se naučíme další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Čemu říkáme znaky dělitel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628640"/>
            <a:ext cx="832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í-li číslo x číslo y beze zbytku, říkáme, ž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íslo x je dělitelem čísla 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nebo ž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íslo y je dělitelné číslem 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549520"/>
            <a:ext cx="842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příklad číslo 8 je dělitelem čísla 56 (číslo 56 je dělitelné číslem 8) nebo číslo 4 je dělitelem čísla 84 (číslo 84 je dělitelné číslem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42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mi často potřebujete rychle poznat, čím je nějaké dané číslo dělitel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14828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zkoušet jedno číslo za druhým a dělit a dělit a dě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9880" y="486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by ale nebylo zrovna rychlé, a tak si velmi často bereme na pomoc tzv.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naky dělitelnosti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587920"/>
            <a:ext cx="832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ďme se je nauč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5935680"/>
            <a:ext cx="21564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484280"/>
            <a:ext cx="8496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deseti (číslem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247840"/>
            <a:ext cx="187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420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7652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98840" y="22478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9920" y="1755720"/>
            <a:ext cx="1508400" cy="1581840"/>
            <a:chOff x="619920" y="1755720"/>
            <a:chExt cx="1508400" cy="1581840"/>
          </a:xfrm>
        </p:grpSpPr>
        <p:sp>
          <p:nvSpPr>
            <p:cNvPr id="103" name=""/>
            <p:cNvSpPr/>
            <p:nvPr/>
          </p:nvSpPr>
          <p:spPr>
            <a:xfrm rot="19005600">
              <a:off x="852120" y="2035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6000" y="1755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554840" y="1757520"/>
            <a:ext cx="1508400" cy="1581840"/>
            <a:chOff x="1554840" y="1757520"/>
            <a:chExt cx="1508400" cy="1581840"/>
          </a:xfrm>
        </p:grpSpPr>
        <p:sp>
          <p:nvSpPr>
            <p:cNvPr id="106" name=""/>
            <p:cNvSpPr/>
            <p:nvPr/>
          </p:nvSpPr>
          <p:spPr>
            <a:xfrm rot="19005600">
              <a:off x="1787040" y="2037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0920" y="1757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491560" y="1757520"/>
            <a:ext cx="1508400" cy="1581840"/>
            <a:chOff x="2491560" y="1757520"/>
            <a:chExt cx="1508400" cy="1581840"/>
          </a:xfrm>
        </p:grpSpPr>
        <p:sp>
          <p:nvSpPr>
            <p:cNvPr id="109" name=""/>
            <p:cNvSpPr/>
            <p:nvPr/>
          </p:nvSpPr>
          <p:spPr>
            <a:xfrm rot="19005600">
              <a:off x="2723760" y="2037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7640" y="1757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426480" y="1758960"/>
            <a:ext cx="1508400" cy="1581840"/>
            <a:chOff x="3426480" y="1758960"/>
            <a:chExt cx="1508400" cy="1581840"/>
          </a:xfrm>
        </p:grpSpPr>
        <p:sp>
          <p:nvSpPr>
            <p:cNvPr id="112" name=""/>
            <p:cNvSpPr/>
            <p:nvPr/>
          </p:nvSpPr>
          <p:spPr>
            <a:xfrm rot="19005600">
              <a:off x="365868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2256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65360" y="1757520"/>
            <a:ext cx="1508040" cy="1581480"/>
            <a:chOff x="4365360" y="1757520"/>
            <a:chExt cx="1508040" cy="1581480"/>
          </a:xfrm>
        </p:grpSpPr>
        <p:sp>
          <p:nvSpPr>
            <p:cNvPr id="115" name=""/>
            <p:cNvSpPr/>
            <p:nvPr/>
          </p:nvSpPr>
          <p:spPr>
            <a:xfrm rot="19005600">
              <a:off x="459756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6108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299920" y="1758960"/>
            <a:ext cx="1508400" cy="1581840"/>
            <a:chOff x="5299920" y="1758960"/>
            <a:chExt cx="1508400" cy="1581840"/>
          </a:xfrm>
        </p:grpSpPr>
        <p:sp>
          <p:nvSpPr>
            <p:cNvPr id="118" name=""/>
            <p:cNvSpPr/>
            <p:nvPr/>
          </p:nvSpPr>
          <p:spPr>
            <a:xfrm rot="19005600">
              <a:off x="553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237000" y="1754280"/>
            <a:ext cx="1508040" cy="1581480"/>
            <a:chOff x="6237000" y="1754280"/>
            <a:chExt cx="1508040" cy="1581480"/>
          </a:xfrm>
        </p:grpSpPr>
        <p:sp>
          <p:nvSpPr>
            <p:cNvPr id="121" name=""/>
            <p:cNvSpPr/>
            <p:nvPr/>
          </p:nvSpPr>
          <p:spPr>
            <a:xfrm rot="19005600">
              <a:off x="6469200" y="203436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2720" y="175428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71560" y="1755720"/>
            <a:ext cx="1508400" cy="1581840"/>
            <a:chOff x="7171560" y="1755720"/>
            <a:chExt cx="1508400" cy="1581840"/>
          </a:xfrm>
        </p:grpSpPr>
        <p:sp>
          <p:nvSpPr>
            <p:cNvPr id="124" name=""/>
            <p:cNvSpPr/>
            <p:nvPr/>
          </p:nvSpPr>
          <p:spPr>
            <a:xfrm rot="19005600">
              <a:off x="7403760" y="2035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67640" y="1755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07120" y="22478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84880" y="22478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92800" y="22478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28000" y="224784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9880" y="103824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10. To znamená čísla, která jsou dělitelná dese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3720" y="2995560"/>
            <a:ext cx="782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o zajímavého (pro všechna čísla podobného) vidí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5734080"/>
            <a:ext cx="3600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0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dese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263700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020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9252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1484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2276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0232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0880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3720" y="3645000"/>
            <a:ext cx="839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0 : 1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20800" y="46512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954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43657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49520" y="4367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7080" y="436716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79720" y="52452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43671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4 : 1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81520" y="4653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9080" y="49561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21600" y="4367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0600" y="436896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7800" y="43689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0440" y="5246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568944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4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dese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09960" y="566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5661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41960" y="5935680"/>
            <a:ext cx="21600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38480" y="5935680"/>
            <a:ext cx="21564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484280"/>
            <a:ext cx="8496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pěti (číslem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2247840"/>
            <a:ext cx="187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420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76520" y="2247840"/>
            <a:ext cx="18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98840" y="22478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9920" y="1755720"/>
            <a:ext cx="1508400" cy="1581840"/>
            <a:chOff x="619920" y="1755720"/>
            <a:chExt cx="1508400" cy="1581840"/>
          </a:xfrm>
        </p:grpSpPr>
        <p:sp>
          <p:nvSpPr>
            <p:cNvPr id="169" name=""/>
            <p:cNvSpPr/>
            <p:nvPr/>
          </p:nvSpPr>
          <p:spPr>
            <a:xfrm rot="19005600">
              <a:off x="852120" y="2035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6000" y="1755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554840" y="1757520"/>
            <a:ext cx="1508400" cy="1581840"/>
            <a:chOff x="1554840" y="1757520"/>
            <a:chExt cx="1508400" cy="1581840"/>
          </a:xfrm>
        </p:grpSpPr>
        <p:sp>
          <p:nvSpPr>
            <p:cNvPr id="172" name=""/>
            <p:cNvSpPr/>
            <p:nvPr/>
          </p:nvSpPr>
          <p:spPr>
            <a:xfrm rot="19005600">
              <a:off x="1787040" y="2037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50920" y="1757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491560" y="1757520"/>
            <a:ext cx="1508400" cy="1581840"/>
            <a:chOff x="2491560" y="1757520"/>
            <a:chExt cx="1508400" cy="1581840"/>
          </a:xfrm>
        </p:grpSpPr>
        <p:sp>
          <p:nvSpPr>
            <p:cNvPr id="175" name=""/>
            <p:cNvSpPr/>
            <p:nvPr/>
          </p:nvSpPr>
          <p:spPr>
            <a:xfrm rot="19005600">
              <a:off x="2723760" y="2037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7640" y="1757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426480" y="1758960"/>
            <a:ext cx="1508400" cy="1581840"/>
            <a:chOff x="3426480" y="1758960"/>
            <a:chExt cx="1508400" cy="1581840"/>
          </a:xfrm>
        </p:grpSpPr>
        <p:sp>
          <p:nvSpPr>
            <p:cNvPr id="178" name=""/>
            <p:cNvSpPr/>
            <p:nvPr/>
          </p:nvSpPr>
          <p:spPr>
            <a:xfrm rot="19005600">
              <a:off x="365868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256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5360" y="1757520"/>
            <a:ext cx="1508040" cy="1581480"/>
            <a:chOff x="4365360" y="1757520"/>
            <a:chExt cx="1508040" cy="1581480"/>
          </a:xfrm>
        </p:grpSpPr>
        <p:sp>
          <p:nvSpPr>
            <p:cNvPr id="181" name=""/>
            <p:cNvSpPr/>
            <p:nvPr/>
          </p:nvSpPr>
          <p:spPr>
            <a:xfrm rot="19005600">
              <a:off x="459756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6108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99920" y="1758960"/>
            <a:ext cx="1508400" cy="1581840"/>
            <a:chOff x="5299920" y="1758960"/>
            <a:chExt cx="1508400" cy="1581840"/>
          </a:xfrm>
        </p:grpSpPr>
        <p:sp>
          <p:nvSpPr>
            <p:cNvPr id="184" name=""/>
            <p:cNvSpPr/>
            <p:nvPr/>
          </p:nvSpPr>
          <p:spPr>
            <a:xfrm rot="19005600">
              <a:off x="553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37000" y="1754280"/>
            <a:ext cx="1508040" cy="1581480"/>
            <a:chOff x="6237000" y="1754280"/>
            <a:chExt cx="1508040" cy="1581480"/>
          </a:xfrm>
        </p:grpSpPr>
        <p:sp>
          <p:nvSpPr>
            <p:cNvPr id="187" name=""/>
            <p:cNvSpPr/>
            <p:nvPr/>
          </p:nvSpPr>
          <p:spPr>
            <a:xfrm rot="19005600">
              <a:off x="6469200" y="203436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32720" y="175428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71560" y="1755720"/>
            <a:ext cx="1508400" cy="1581840"/>
            <a:chOff x="7171560" y="1755720"/>
            <a:chExt cx="1508400" cy="1581840"/>
          </a:xfrm>
        </p:grpSpPr>
        <p:sp>
          <p:nvSpPr>
            <p:cNvPr id="190" name=""/>
            <p:cNvSpPr/>
            <p:nvPr/>
          </p:nvSpPr>
          <p:spPr>
            <a:xfrm rot="19005600">
              <a:off x="7403760" y="2035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7640" y="1755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07120" y="22478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84880" y="224784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92800" y="2247840"/>
            <a:ext cx="136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224784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9880" y="103824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5. To znamená čísla, která jsou dělitelná pě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3720" y="2995560"/>
            <a:ext cx="782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o zajímavého (pro všechna čísla podobného) vidíme ny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5734080"/>
            <a:ext cx="3600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5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pě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263700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020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9252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1484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2276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0232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08800" y="26370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3720" y="3645000"/>
            <a:ext cx="839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5 : 5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6512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35200" y="49546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4365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21000" y="4367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8200" y="4367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3760" y="5245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68944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8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pě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566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1960" y="5935680"/>
            <a:ext cx="21600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95760" y="4365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35200" y="49546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8 : 5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35640" y="46512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22840" y="49546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20000" y="4365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436716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6200" y="4367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1760" y="5245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566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83400" y="4365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22840" y="49546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1641600"/>
            <a:ext cx="8496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dvěma (číslem 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219240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219240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8840" y="219240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48160" y="219240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98840" y="219240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9920" y="1700280"/>
            <a:ext cx="1508400" cy="1581840"/>
            <a:chOff x="619920" y="1700280"/>
            <a:chExt cx="1508400" cy="1581840"/>
          </a:xfrm>
        </p:grpSpPr>
        <p:sp>
          <p:nvSpPr>
            <p:cNvPr id="238" name=""/>
            <p:cNvSpPr/>
            <p:nvPr/>
          </p:nvSpPr>
          <p:spPr>
            <a:xfrm rot="19005600">
              <a:off x="852120" y="198036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6000" y="170028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554840" y="1701720"/>
            <a:ext cx="1508400" cy="1581840"/>
            <a:chOff x="1554840" y="1701720"/>
            <a:chExt cx="1508400" cy="1581840"/>
          </a:xfrm>
        </p:grpSpPr>
        <p:sp>
          <p:nvSpPr>
            <p:cNvPr id="241" name=""/>
            <p:cNvSpPr/>
            <p:nvPr/>
          </p:nvSpPr>
          <p:spPr>
            <a:xfrm rot="19005600">
              <a:off x="1787040" y="1981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50920" y="1701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91560" y="1701720"/>
            <a:ext cx="1508400" cy="1581840"/>
            <a:chOff x="2491560" y="1701720"/>
            <a:chExt cx="1508400" cy="1581840"/>
          </a:xfrm>
        </p:grpSpPr>
        <p:sp>
          <p:nvSpPr>
            <p:cNvPr id="244" name=""/>
            <p:cNvSpPr/>
            <p:nvPr/>
          </p:nvSpPr>
          <p:spPr>
            <a:xfrm rot="19005600">
              <a:off x="2723760" y="1981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7640" y="1701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426480" y="1703520"/>
            <a:ext cx="1508400" cy="1581840"/>
            <a:chOff x="3426480" y="1703520"/>
            <a:chExt cx="1508400" cy="1581840"/>
          </a:xfrm>
        </p:grpSpPr>
        <p:sp>
          <p:nvSpPr>
            <p:cNvPr id="247" name=""/>
            <p:cNvSpPr/>
            <p:nvPr/>
          </p:nvSpPr>
          <p:spPr>
            <a:xfrm rot="19005600">
              <a:off x="3658680" y="1983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22560" y="1703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365360" y="1701720"/>
            <a:ext cx="1508040" cy="1581480"/>
            <a:chOff x="4365360" y="1701720"/>
            <a:chExt cx="1508040" cy="1581480"/>
          </a:xfrm>
        </p:grpSpPr>
        <p:sp>
          <p:nvSpPr>
            <p:cNvPr id="250" name=""/>
            <p:cNvSpPr/>
            <p:nvPr/>
          </p:nvSpPr>
          <p:spPr>
            <a:xfrm rot="19005600">
              <a:off x="4597560" y="19818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61080" y="17017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299920" y="1703520"/>
            <a:ext cx="1508400" cy="1581840"/>
            <a:chOff x="5299920" y="1703520"/>
            <a:chExt cx="1508400" cy="1581840"/>
          </a:xfrm>
        </p:grpSpPr>
        <p:sp>
          <p:nvSpPr>
            <p:cNvPr id="253" name=""/>
            <p:cNvSpPr/>
            <p:nvPr/>
          </p:nvSpPr>
          <p:spPr>
            <a:xfrm rot="19005600">
              <a:off x="5532120" y="19836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6000" y="17035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237000" y="1698480"/>
            <a:ext cx="1508040" cy="1581480"/>
            <a:chOff x="6237000" y="1698480"/>
            <a:chExt cx="1508040" cy="1581480"/>
          </a:xfrm>
        </p:grpSpPr>
        <p:sp>
          <p:nvSpPr>
            <p:cNvPr id="256" name=""/>
            <p:cNvSpPr/>
            <p:nvPr/>
          </p:nvSpPr>
          <p:spPr>
            <a:xfrm rot="19005600">
              <a:off x="6469200" y="197856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32720" y="169848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171560" y="1700280"/>
            <a:ext cx="1508400" cy="1581840"/>
            <a:chOff x="7171560" y="1700280"/>
            <a:chExt cx="1508400" cy="1581840"/>
          </a:xfrm>
        </p:grpSpPr>
        <p:sp>
          <p:nvSpPr>
            <p:cNvPr id="259" name=""/>
            <p:cNvSpPr/>
            <p:nvPr/>
          </p:nvSpPr>
          <p:spPr>
            <a:xfrm rot="19005600">
              <a:off x="7403760" y="198036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67640" y="170028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307120" y="21924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84880" y="219240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92800" y="219240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28000" y="219240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2. To znamená čísla, která jsou dělitelná dvě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" y="4219560"/>
            <a:ext cx="782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co zajímavého (pro všechna čísla podobného) vidíme te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7156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2080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5572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21240" y="258120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1484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2276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0232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08800" y="25812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73160" y="4797360"/>
            <a:ext cx="7891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1520" y="342756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342756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4200" y="342756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76520" y="342756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98840" y="342756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9920" y="2935440"/>
            <a:ext cx="1508400" cy="1581840"/>
            <a:chOff x="619920" y="2935440"/>
            <a:chExt cx="1508400" cy="1581840"/>
          </a:xfrm>
        </p:grpSpPr>
        <p:sp>
          <p:nvSpPr>
            <p:cNvPr id="282" name=""/>
            <p:cNvSpPr/>
            <p:nvPr/>
          </p:nvSpPr>
          <p:spPr>
            <a:xfrm rot="19005600">
              <a:off x="852120" y="321552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6000" y="293544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554840" y="2936880"/>
            <a:ext cx="1508400" cy="1581840"/>
            <a:chOff x="1554840" y="2936880"/>
            <a:chExt cx="1508400" cy="1581840"/>
          </a:xfrm>
        </p:grpSpPr>
        <p:sp>
          <p:nvSpPr>
            <p:cNvPr id="285" name=""/>
            <p:cNvSpPr/>
            <p:nvPr/>
          </p:nvSpPr>
          <p:spPr>
            <a:xfrm rot="19005600">
              <a:off x="1787040" y="321696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0920" y="293688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91560" y="2936880"/>
            <a:ext cx="1508400" cy="1581840"/>
            <a:chOff x="2491560" y="2936880"/>
            <a:chExt cx="1508400" cy="1581840"/>
          </a:xfrm>
        </p:grpSpPr>
        <p:sp>
          <p:nvSpPr>
            <p:cNvPr id="288" name=""/>
            <p:cNvSpPr/>
            <p:nvPr/>
          </p:nvSpPr>
          <p:spPr>
            <a:xfrm rot="19005600">
              <a:off x="2723760" y="321696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87640" y="293688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26480" y="2938320"/>
            <a:ext cx="1508400" cy="1581840"/>
            <a:chOff x="3426480" y="2938320"/>
            <a:chExt cx="1508400" cy="1581840"/>
          </a:xfrm>
        </p:grpSpPr>
        <p:sp>
          <p:nvSpPr>
            <p:cNvPr id="291" name=""/>
            <p:cNvSpPr/>
            <p:nvPr/>
          </p:nvSpPr>
          <p:spPr>
            <a:xfrm rot="19005600">
              <a:off x="3658680" y="32184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2560" y="29383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365360" y="2936880"/>
            <a:ext cx="1508040" cy="1581480"/>
            <a:chOff x="4365360" y="2936880"/>
            <a:chExt cx="1508040" cy="1581480"/>
          </a:xfrm>
        </p:grpSpPr>
        <p:sp>
          <p:nvSpPr>
            <p:cNvPr id="294" name=""/>
            <p:cNvSpPr/>
            <p:nvPr/>
          </p:nvSpPr>
          <p:spPr>
            <a:xfrm rot="19005600">
              <a:off x="4597560" y="321696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61080" y="293688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299920" y="2938320"/>
            <a:ext cx="1508400" cy="1581840"/>
            <a:chOff x="5299920" y="2938320"/>
            <a:chExt cx="1508400" cy="1581840"/>
          </a:xfrm>
        </p:grpSpPr>
        <p:sp>
          <p:nvSpPr>
            <p:cNvPr id="297" name=""/>
            <p:cNvSpPr/>
            <p:nvPr/>
          </p:nvSpPr>
          <p:spPr>
            <a:xfrm rot="19005600">
              <a:off x="5532120" y="32184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0" y="29383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237000" y="2933640"/>
            <a:ext cx="1508040" cy="1581480"/>
            <a:chOff x="6237000" y="2933640"/>
            <a:chExt cx="1508040" cy="1581480"/>
          </a:xfrm>
        </p:grpSpPr>
        <p:sp>
          <p:nvSpPr>
            <p:cNvPr id="300" name=""/>
            <p:cNvSpPr/>
            <p:nvPr/>
          </p:nvSpPr>
          <p:spPr>
            <a:xfrm rot="19005600">
              <a:off x="6469200" y="321372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32720" y="293364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71560" y="2935440"/>
            <a:ext cx="1508400" cy="1581840"/>
            <a:chOff x="7171560" y="2935440"/>
            <a:chExt cx="1508400" cy="1581840"/>
          </a:xfrm>
        </p:grpSpPr>
        <p:sp>
          <p:nvSpPr>
            <p:cNvPr id="303" name=""/>
            <p:cNvSpPr/>
            <p:nvPr/>
          </p:nvSpPr>
          <p:spPr>
            <a:xfrm rot="19005600">
              <a:off x="7403760" y="321552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7640" y="293544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07120" y="342756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84880" y="342756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92800" y="342756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8000" y="3427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7156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5280" y="381636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020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9252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2276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0232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08800" y="38163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44000" y="256392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38480" y="3286080"/>
            <a:ext cx="21564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dvěma (číslem 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3084480"/>
            <a:ext cx="374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4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dvě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47640" y="1484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4 : 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47640" y="1770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35200" y="20732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32000" y="1484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21000" y="1486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8200" y="1486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93760" y="2637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32360" y="304164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5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dvě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24000" y="3052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41960" y="3287880"/>
            <a:ext cx="21600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95760" y="1484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93960" y="2346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35640" y="1484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5 : 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5640" y="1770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22840" y="20732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20000" y="1484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09000" y="14860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96200" y="1486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81760" y="2637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2000" y="3052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83400" y="1484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2346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38480" y="5807160"/>
            <a:ext cx="21564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42920" y="5605560"/>
            <a:ext cx="38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6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dvě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47640" y="3978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6 : 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426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35200" y="456732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3978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21000" y="39798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8200" y="39798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93760" y="5156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2360" y="557532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537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dvě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4000" y="5572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41960" y="5821200"/>
            <a:ext cx="21600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5760" y="3978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22400" y="486576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35640" y="3978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37 : 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426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22840" y="456732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3978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09000" y="39798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6200" y="39798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981760" y="5156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5572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583400" y="3978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486576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11280" y="54936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ňme si tedy první trojici znaků dělitelnosti přirozených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17715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26920" y="31701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6920" y="45799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23493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37465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51577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pě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45, 4587, 47098, 6800, 6743, 12567, 67345, 34345, 65554, 5610, 5432, 34781, 450, 6000, 4646, 786547, 23460, 5646, 43282, 90979, 9008, 12, 45360, 56535, 6743, 674321, 786090, 76435, 15555, 67643, 12678, 9898, 8, 234, 4545, 50090, 45329, 765, 43976, 4994, 5653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pě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87, 4709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8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73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43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555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3478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86547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34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46, 43282, 90979, 9008, 12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53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67432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643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555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643, 12678, 9898, 8, 23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329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6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3976, 4994, 5653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9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87, 4709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8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73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43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555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3478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86547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34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46, 43282, 90979, 9008, 12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53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67432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643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555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643, 12678, 9898, 8, 23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5329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6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3976, 4994, 5653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9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02T10:30:18Z</dcterms:modified>
  <cp:revision>161</cp:revision>
  <dc:subject/>
  <dc:title>Znaky dělitelnosti 1</dc:title>
</cp:coreProperties>
</file>