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wmf" ContentType="image/x-wm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585-2164-404F-9F39-07C7B0A2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146-C4D0-47D0-BD1E-50552CA5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C52-4496-42EE-83D1-B583412D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9DF-54BC-4F6D-B33C-D2215D28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EE1-A441-48D1-B941-3F0AEAFB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E8A-B328-417B-A5B9-5C64BD6F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36F-0E5C-4B45-845D-BDEDEC0E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DDC-BCFE-4369-AB03-D4147113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0C1-FBE3-42C8-8D1B-3C397B5A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632-1F18-468C-BF16-7574F6A4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547-B579-42FB-B416-6C7FE033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D20-0B89-4279-BA8C-8F95237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7A7E-55B5-4C0E-B9CC-C94684A3B3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B42D-8A44-48D5-B689-004E0CC61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ační vál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Síť, povrch, obj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Dostupné z Metodického portálu www.rvp.cz, ISSN: 1802-4785, financovaného z ESF </a:t>
            </a:r>
            <a:br>
              <a:rPr sz="1400"/>
            </a:b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a státního rozpo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tu ČR. Provozováno Výzkumným ústavem pedagogickým v 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- obj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484280"/>
            <a:ext cx="8002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počítej průměr válce, jehož výška j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= 2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ob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= 1,57 m</a:t>
            </a:r>
            <a:r>
              <a:rPr b="0" i="1" lang="en-US" sz="2400" spc="-1" strike="noStrike" baseline="24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2276640"/>
            <a:ext cx="18716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= 2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= 1,57 m</a:t>
            </a:r>
            <a:r>
              <a:rPr b="0" lang="en-US" sz="2200" spc="-1" strike="noStrike" baseline="24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 = ?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3500280"/>
            <a:ext cx="266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= S</a:t>
            </a:r>
            <a:r>
              <a:rPr b="0" lang="cs-CZ" sz="22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.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2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,57 = 3,14 . r</a:t>
            </a:r>
            <a:r>
              <a:rPr b="0" lang="cs-CZ" sz="22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.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,57 = 6,28 . r</a:t>
            </a:r>
            <a:r>
              <a:rPr b="0" lang="cs-CZ" sz="22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2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= 1,57 : 6,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2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= 0,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r = 0,5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349360"/>
            <a:ext cx="12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3141720"/>
            <a:ext cx="93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= 2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32360" y="2492280"/>
            <a:ext cx="1296720" cy="1655640"/>
            <a:chOff x="4932360" y="2492280"/>
            <a:chExt cx="1296720" cy="1655640"/>
          </a:xfrm>
        </p:grpSpPr>
        <p:sp>
          <p:nvSpPr>
            <p:cNvPr id="183" name=""/>
            <p:cNvSpPr/>
            <p:nvPr/>
          </p:nvSpPr>
          <p:spPr>
            <a:xfrm>
              <a:off x="4932360" y="3732480"/>
              <a:ext cx="1296720" cy="41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32360" y="2492280"/>
              <a:ext cx="1295280" cy="16556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2360" y="2492280"/>
              <a:ext cx="1296720" cy="41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32360" y="2697120"/>
              <a:ext cx="12967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1440" y="2712960"/>
              <a:ext cx="0" cy="125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360" y="3947400"/>
              <a:ext cx="1296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932360" y="2699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64000" y="2205000"/>
            <a:ext cx="36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616572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ůměr válce je asi 1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4508640"/>
            <a:ext cx="151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= 2 . 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= 2 . 0,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 = 1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Zástupný symbol pro text 2"/>
              <p:cNvSpPr txBox="1"/>
              <p:nvPr/>
            </p:nvSpPr>
            <p:spPr>
              <a:xfrm>
                <a:off x="1979640" y="5877000"/>
                <a:ext cx="1224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1584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- obj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1295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700280"/>
            <a:ext cx="8136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počítej výšku válce, jehož poloměr j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25 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ob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= 100 dm</a:t>
            </a:r>
            <a:r>
              <a:rPr b="0" i="1" lang="en-US" sz="2400" spc="-1" strike="noStrike" baseline="24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2565360"/>
            <a:ext cx="1871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 = 2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= 100 dm</a:t>
            </a:r>
            <a:r>
              <a:rPr b="0" lang="en-US" sz="2200" spc="-1" strike="noStrike" baseline="24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 = ?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3716280"/>
            <a:ext cx="3816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= S</a:t>
            </a:r>
            <a:r>
              <a:rPr b="0" lang="cs-CZ" sz="22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.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2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00 000 = 3,14 . 25</a:t>
            </a:r>
            <a:r>
              <a:rPr b="0" lang="cs-CZ" sz="22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.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00 000 = 3,14 . 625 .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00 000 = 1 962,5 . 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= 100 000 : 1 962,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r>
              <a:rPr b="0" lang="cs-CZ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= 50,95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5653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6093000"/>
            <a:ext cx="388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ška válce je asi 51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3068640"/>
            <a:ext cx="9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148360" y="2637000"/>
            <a:ext cx="1296720" cy="1152360"/>
            <a:chOff x="5148360" y="2637000"/>
            <a:chExt cx="1296720" cy="1152360"/>
          </a:xfrm>
        </p:grpSpPr>
        <p:sp>
          <p:nvSpPr>
            <p:cNvPr id="204" name=""/>
            <p:cNvSpPr/>
            <p:nvPr/>
          </p:nvSpPr>
          <p:spPr>
            <a:xfrm>
              <a:off x="5148360" y="3500640"/>
              <a:ext cx="129672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48360" y="2637000"/>
              <a:ext cx="1295640" cy="11523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48360" y="2637000"/>
              <a:ext cx="129672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48360" y="2780280"/>
              <a:ext cx="1296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6360" y="2790360"/>
              <a:ext cx="720" cy="87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48360" y="3650400"/>
              <a:ext cx="1296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148360" y="2780280"/>
              <a:ext cx="64728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003640" y="2349360"/>
            <a:ext cx="144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= 25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557360"/>
            <a:ext cx="813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ypočítejte povrch a objem válce, jestliže plat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r = 2 dm, v =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r = 3,5 cm, v = 0,0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781360"/>
            <a:ext cx="813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ypočítejte výšku válce, jestliže plat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r = 20 mm, V = 1,5 dm</a:t>
            </a:r>
            <a:r>
              <a:rPr b="0" lang="en-US" sz="2400" spc="-1" strike="noStrike" baseline="16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r = 50 dm, V = 15 m</a:t>
            </a:r>
            <a:r>
              <a:rPr b="0" lang="en-US" sz="2400" spc="-1" strike="noStrike" baseline="16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3933720"/>
            <a:ext cx="813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ypočítejte poloměr podstavy válce, jestliže plat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v = 7,8 cm, V = 250 cm</a:t>
            </a:r>
            <a:r>
              <a:rPr b="0" lang="en-US" sz="2400" spc="-1" strike="noStrike" baseline="16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v = 0,25 m, V = 5,72 m</a:t>
            </a:r>
            <a:r>
              <a:rPr b="0" lang="en-US" sz="2400" spc="-1" strike="noStrike" baseline="16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157720"/>
            <a:ext cx="813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ypočítejte výšku válce, jestliže plat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r = 3 cm, S = 1,9 dm</a:t>
            </a:r>
            <a:r>
              <a:rPr b="0" lang="en-US" sz="2400" spc="-1" strike="noStrike" baseline="16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r = 16 mm, S = 20 cm</a:t>
            </a:r>
            <a:r>
              <a:rPr b="0" lang="en-US" sz="2400" spc="-1" strike="noStrike" baseline="16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– příklady z prax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Zástupný symbol pro text 2" descr=""/>
          <p:cNvPicPr/>
          <p:nvPr/>
        </p:nvPicPr>
        <p:blipFill>
          <a:blip r:embed="rId1"/>
          <a:stretch/>
        </p:blipFill>
        <p:spPr>
          <a:xfrm>
            <a:off x="1547640" y="4724280"/>
            <a:ext cx="3168720" cy="1811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1557360"/>
            <a:ext cx="611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álec na válcování asfaltu má průmě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 cm a výšku 1,2 m. Kolik čtvere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ů cesty zválcuje, jestliže se oto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acetkrá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93372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sterna má tvar válce s průměrem 2 m a objem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hl. Vypočítej délku cisterny a povrch cister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Zástupný symbol pro text 2" descr=""/>
          <p:cNvPicPr/>
          <p:nvPr/>
        </p:nvPicPr>
        <p:blipFill>
          <a:blip r:embed="rId2"/>
          <a:stretch/>
        </p:blipFill>
        <p:spPr>
          <a:xfrm>
            <a:off x="6300720" y="1341360"/>
            <a:ext cx="22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– příklady z prax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Zástupný symbol pro text 2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057400" cy="2660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8360" y="1557360"/>
            <a:ext cx="6551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udna má tvar válce s průměrem 1,2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 povrchu k hladině vody je hloubka 4 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loubka vody je 3,5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Kolik metrů krychlových zeminy mus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kopat při hloubení stud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Kolik hektolitrů vody je ve stud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4365720"/>
            <a:ext cx="604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kapový žlab má tvar poloviny plá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álce s průměrem 12 cm. Cel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lka žlabu okolo domu je 36 m. Ko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ů čtverečních plechu se spotřebu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hotovení okapového žlab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 okraje a odpad se počítá 15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Zástupný symbol pro text 2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1846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veďte příklady předmětů ze svého okol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 i ve škole, které mají tvar vál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Zástupný symbol pro text 2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2552400" cy="3743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5229360"/>
            <a:ext cx="1798560" cy="1280880"/>
          </a:xfrm>
          <a:prstGeom prst="rect">
            <a:avLst/>
          </a:prstGeom>
          <a:ln w="0">
            <a:noFill/>
          </a:ln>
        </p:spPr>
      </p:pic>
      <p:pic>
        <p:nvPicPr>
          <p:cNvPr id="48" name="Zástupný symbol pro text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940360" y="2637000"/>
            <a:ext cx="792360" cy="136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380360" y="4292640"/>
            <a:ext cx="1334880" cy="181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508720" y="4653000"/>
            <a:ext cx="1581120" cy="191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403280" y="3284640"/>
            <a:ext cx="2163960" cy="1797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7236000" y="1341360"/>
            <a:ext cx="1591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20872800">
            <a:off x="2484000" y="3781440"/>
            <a:ext cx="1484280" cy="2386080"/>
          </a:xfrm>
          <a:prstGeom prst="parallelogram">
            <a:avLst>
              <a:gd name="adj" fmla="val 3433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3645000"/>
            <a:ext cx="1152720" cy="24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5670720"/>
            <a:ext cx="2305080" cy="809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268280"/>
            <a:ext cx="806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ěl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znikne otáčením obdélníku okolo přímky, která obsahuje jednu jeho st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3241800"/>
            <a:ext cx="2303280" cy="3240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2736720"/>
            <a:ext cx="0" cy="4149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78440" y="3170160"/>
            <a:ext cx="1441440" cy="358920"/>
          </a:xfrm>
          <a:prstGeom prst="borderCallout2">
            <a:avLst>
              <a:gd name="adj1" fmla="val 18750"/>
              <a:gd name="adj2" fmla="val -8333"/>
              <a:gd name="adj3" fmla="val 31856"/>
              <a:gd name="adj4" fmla="val -77532"/>
              <a:gd name="adj5" fmla="val -75222"/>
              <a:gd name="adj6" fmla="val -151652"/>
            </a:avLst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a otáč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47640" y="4633920"/>
            <a:ext cx="2305080" cy="80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2205000"/>
            <a:ext cx="2303640" cy="3240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2205000"/>
            <a:ext cx="2305080" cy="809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1700280"/>
            <a:ext cx="0" cy="4149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26082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7080" y="26082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0547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4560" y="2608200"/>
            <a:ext cx="0" cy="24480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56000" y="3429000"/>
            <a:ext cx="433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1547640" y="5054760"/>
            <a:ext cx="23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2720" y="4653000"/>
            <a:ext cx="433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547640" y="2608200"/>
            <a:ext cx="11512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2720" y="2205000"/>
            <a:ext cx="433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076640"/>
            <a:ext cx="28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 – výška vál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3573360"/>
            <a:ext cx="331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 – poloměr pod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19640" y="3068640"/>
            <a:ext cx="32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 – průměr pod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5516640"/>
            <a:ext cx="1866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47875"/>
              <a:gd name="adj5" fmla="val -77972"/>
              <a:gd name="adj6" fmla="val -93453"/>
            </a:avLst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ní pod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1844640"/>
            <a:ext cx="1866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52379"/>
              <a:gd name="adj5" fmla="val 164319"/>
              <a:gd name="adj6" fmla="val -102550"/>
            </a:avLst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í pod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3840" y="3789360"/>
            <a:ext cx="86652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49083"/>
              <a:gd name="adj5" fmla="val 100439"/>
              <a:gd name="adj6" fmla="val 191027"/>
            </a:avLst>
          </a:prstGeom>
          <a:noFill/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áš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- sí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268280"/>
            <a:ext cx="302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črtni síť vál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429000"/>
            <a:ext cx="3851280" cy="151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2276640"/>
            <a:ext cx="1225800" cy="1150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4941720"/>
            <a:ext cx="1225800" cy="115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2349360"/>
            <a:ext cx="338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 kruhy = 2 podstav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délník = pláš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3860640"/>
            <a:ext cx="338292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měry obdélní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vod kruhu –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ška válce -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2492280"/>
            <a:ext cx="3240000" cy="73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66920" y="2708280"/>
            <a:ext cx="3313080" cy="244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211640" y="314172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9640" y="4653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55160" y="2792880"/>
            <a:ext cx="120600" cy="119160"/>
            <a:chOff x="1955160" y="2792880"/>
            <a:chExt cx="120600" cy="119160"/>
          </a:xfrm>
        </p:grpSpPr>
        <p:sp>
          <p:nvSpPr>
            <p:cNvPr id="94" name=""/>
            <p:cNvSpPr/>
            <p:nvPr/>
          </p:nvSpPr>
          <p:spPr>
            <a:xfrm>
              <a:off x="1955160" y="2812680"/>
              <a:ext cx="1206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974960" y="2792880"/>
              <a:ext cx="792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55160" y="5480280"/>
            <a:ext cx="120600" cy="119160"/>
            <a:chOff x="1955160" y="5480280"/>
            <a:chExt cx="120600" cy="119160"/>
          </a:xfrm>
        </p:grpSpPr>
        <p:sp>
          <p:nvSpPr>
            <p:cNvPr id="97" name=""/>
            <p:cNvSpPr/>
            <p:nvPr/>
          </p:nvSpPr>
          <p:spPr>
            <a:xfrm>
              <a:off x="1955160" y="5500080"/>
              <a:ext cx="1206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974960" y="5480280"/>
              <a:ext cx="792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14560" y="5537160"/>
            <a:ext cx="61128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22936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4292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1640" y="34290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494172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429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5973800">
            <a:off x="71280" y="4004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94200" y="5805360"/>
            <a:ext cx="6049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Úk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strojte síť válce, který má poloměr podstavy 3 cm a výšku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- pov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6551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obsah sítě vál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krát obsah podstavy + obsah pláš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924280"/>
            <a:ext cx="316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znač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– obsah pod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 baseline="-16000">
                <a:solidFill>
                  <a:srgbClr val="000000"/>
                </a:solidFill>
                <a:latin typeface="Arial"/>
              </a:rPr>
              <a:t>p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obsah plá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  – povrch vál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869000"/>
            <a:ext cx="2808360" cy="16556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= 2.S</a:t>
            </a:r>
            <a:r>
              <a:rPr b="0" lang="cs-CZ" sz="28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cs-CZ" sz="2800" spc="-1" strike="noStrike" baseline="-16000">
                <a:solidFill>
                  <a:srgbClr val="000000"/>
                </a:solidFill>
                <a:latin typeface="Arial"/>
              </a:rPr>
              <a:t>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= 2.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8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.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99"/>
                </a:solidFill>
                <a:latin typeface="Arial"/>
              </a:rPr>
              <a:t>S = 2</a:t>
            </a:r>
            <a:r>
              <a:rPr b="1" lang="cs-CZ" sz="2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cs-CZ" sz="2800" spc="-1" strike="noStrike">
                <a:solidFill>
                  <a:srgbClr val="000099"/>
                </a:solidFill>
                <a:latin typeface="Arial"/>
              </a:rPr>
              <a:t>r(r</a:t>
            </a:r>
            <a:r>
              <a:rPr b="1" lang="cs-CZ" sz="28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cs-CZ" sz="2800" spc="-1" strike="noStrike">
                <a:solidFill>
                  <a:srgbClr val="000099"/>
                </a:solidFill>
                <a:latin typeface="Arial"/>
              </a:rPr>
              <a:t>+ 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37162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95280" y="3321000"/>
            <a:ext cx="1441800" cy="1081080"/>
            <a:chOff x="3995280" y="3321000"/>
            <a:chExt cx="1441800" cy="1081080"/>
          </a:xfrm>
        </p:grpSpPr>
        <p:sp>
          <p:nvSpPr>
            <p:cNvPr id="113" name=""/>
            <p:cNvSpPr/>
            <p:nvPr/>
          </p:nvSpPr>
          <p:spPr>
            <a:xfrm>
              <a:off x="3995640" y="4131360"/>
              <a:ext cx="144144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95640" y="3321000"/>
              <a:ext cx="1440360" cy="10810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5640" y="3321000"/>
              <a:ext cx="1441440" cy="27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95640" y="3455280"/>
              <a:ext cx="1441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16000" y="3465000"/>
              <a:ext cx="1080" cy="8168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5640" y="4271760"/>
              <a:ext cx="1441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995280" y="3455280"/>
              <a:ext cx="719640" cy="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211640" y="299736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3429000"/>
            <a:ext cx="251964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40720" y="2563920"/>
            <a:ext cx="934920" cy="863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12000" y="4290840"/>
            <a:ext cx="935280" cy="863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3716280"/>
            <a:ext cx="57456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cs-CZ" sz="1800" spc="-1" strike="noStrike" baseline="-16000">
                <a:solidFill>
                  <a:srgbClr val="000000"/>
                </a:solidFill>
                <a:latin typeface="Arial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6720" y="2779560"/>
            <a:ext cx="43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cs-CZ" sz="18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99280" y="4508640"/>
            <a:ext cx="4320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cs-CZ" sz="18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- pov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1295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700280"/>
            <a:ext cx="8002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počítej povrch válce, který má poloměr pod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 = 4 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výšk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= 7 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2637000"/>
            <a:ext cx="1871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 = ? cm</a:t>
            </a:r>
            <a:r>
              <a:rPr b="0" lang="en-US" sz="2400" spc="-1" strike="noStrike" u="sng" baseline="24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4005360"/>
            <a:ext cx="352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= 2.S</a:t>
            </a:r>
            <a:r>
              <a:rPr b="0" lang="cs-CZ" sz="24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+ S</a:t>
            </a:r>
            <a:r>
              <a:rPr b="0" lang="cs-CZ" sz="2400" spc="-1" strike="noStrike" baseline="-16000">
                <a:solidFill>
                  <a:srgbClr val="000000"/>
                </a:solidFill>
                <a:latin typeface="Arial"/>
              </a:rPr>
              <a:t>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= 2.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= 2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(r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= 2 . 3,14 . 4 . (4 +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= 25,12 .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 = 276,32 cm</a:t>
            </a:r>
            <a:r>
              <a:rPr b="1" lang="cs-CZ" sz="2400" spc="-1" strike="noStrike" u="sng" baseline="24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70828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3068640"/>
            <a:ext cx="9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= 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48360" y="2637000"/>
            <a:ext cx="1296720" cy="1152360"/>
            <a:chOff x="5148360" y="2637000"/>
            <a:chExt cx="1296720" cy="1152360"/>
          </a:xfrm>
        </p:grpSpPr>
        <p:sp>
          <p:nvSpPr>
            <p:cNvPr id="135" name=""/>
            <p:cNvSpPr/>
            <p:nvPr/>
          </p:nvSpPr>
          <p:spPr>
            <a:xfrm>
              <a:off x="5148360" y="3500640"/>
              <a:ext cx="129672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48360" y="2637000"/>
              <a:ext cx="1295640" cy="11523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48360" y="2637000"/>
              <a:ext cx="129672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48360" y="2780280"/>
              <a:ext cx="1296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6360" y="2790360"/>
              <a:ext cx="720" cy="87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650400"/>
              <a:ext cx="1296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148360" y="2780280"/>
              <a:ext cx="64728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003640" y="234936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= 4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616572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rch válce je asi 276 cm</a:t>
            </a:r>
            <a:r>
              <a:rPr b="0" lang="en-US" sz="24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- obj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57452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vzpomeňte si na objem hrano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obsah podstavy „krát“ výš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924280"/>
            <a:ext cx="3095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znač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– obsah pod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  – objem vál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4581360"/>
            <a:ext cx="1871640" cy="15843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= S</a:t>
            </a:r>
            <a:r>
              <a:rPr b="0" lang="cs-CZ" sz="28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8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99"/>
                </a:solidFill>
                <a:latin typeface="Arial"/>
              </a:rPr>
              <a:t>V = </a:t>
            </a:r>
            <a:r>
              <a:rPr b="1" lang="cs-CZ" sz="2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cs-CZ" sz="2800" spc="-1" strike="noStrike">
                <a:solidFill>
                  <a:srgbClr val="000099"/>
                </a:solidFill>
                <a:latin typeface="Arial"/>
              </a:rPr>
              <a:t>r</a:t>
            </a:r>
            <a:r>
              <a:rPr b="1" lang="cs-CZ" sz="2800" spc="-1" strike="noStrike" baseline="24000">
                <a:solidFill>
                  <a:srgbClr val="000099"/>
                </a:solidFill>
                <a:latin typeface="Arial"/>
              </a:rPr>
              <a:t>2</a:t>
            </a:r>
            <a:r>
              <a:rPr b="1" lang="cs-CZ" sz="2800" spc="-1" strike="noStrike">
                <a:solidFill>
                  <a:srgbClr val="0000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443700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35280" y="3068640"/>
            <a:ext cx="2089440" cy="2736720"/>
            <a:chOff x="5435280" y="3068640"/>
            <a:chExt cx="2089440" cy="2736720"/>
          </a:xfrm>
        </p:grpSpPr>
        <p:sp>
          <p:nvSpPr>
            <p:cNvPr id="150" name=""/>
            <p:cNvSpPr/>
            <p:nvPr/>
          </p:nvSpPr>
          <p:spPr>
            <a:xfrm>
              <a:off x="5435640" y="5119920"/>
              <a:ext cx="2089080" cy="683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35640" y="3068640"/>
              <a:ext cx="2087280" cy="27367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35640" y="3068640"/>
              <a:ext cx="2089080" cy="68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35640" y="3408840"/>
              <a:ext cx="20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80000" y="3433320"/>
              <a:ext cx="1440" cy="2067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5640" y="5475240"/>
              <a:ext cx="2089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435280" y="3408840"/>
              <a:ext cx="1042920" cy="14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867280" y="3068640"/>
            <a:ext cx="36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515772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1" lang="cs-CZ" sz="1800" spc="-1" strike="noStrike" baseline="-16000">
                <a:solidFill>
                  <a:srgbClr val="0000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ec - obj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1295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700280"/>
            <a:ext cx="8002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počítej objem válce, který má poloměr pod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 = 4 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výšk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= 7 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637000"/>
            <a:ext cx="1871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4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 = ? cm</a:t>
            </a:r>
            <a:r>
              <a:rPr b="0" lang="en-US" sz="2400" spc="-1" strike="noStrike" u="sng" baseline="24000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4005360"/>
            <a:ext cx="352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= S</a:t>
            </a:r>
            <a:r>
              <a:rPr b="0" lang="cs-CZ" sz="2400" spc="-1" strike="noStrike" baseline="-16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.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=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.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= 3,14 . 4</a:t>
            </a:r>
            <a:r>
              <a:rPr b="0" lang="cs-CZ" sz="2400" spc="-1" strike="noStrike" baseline="24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= 3,14 . 16 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 = 351,68 cm</a:t>
            </a:r>
            <a:r>
              <a:rPr b="1" lang="cs-CZ" sz="2400" spc="-1" strike="noStrike" u="sng" baseline="24000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70828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3068640"/>
            <a:ext cx="9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= 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148360" y="2637000"/>
            <a:ext cx="1296720" cy="1152360"/>
            <a:chOff x="5148360" y="2637000"/>
            <a:chExt cx="1296720" cy="1152360"/>
          </a:xfrm>
        </p:grpSpPr>
        <p:sp>
          <p:nvSpPr>
            <p:cNvPr id="167" name=""/>
            <p:cNvSpPr/>
            <p:nvPr/>
          </p:nvSpPr>
          <p:spPr>
            <a:xfrm>
              <a:off x="5148360" y="3500640"/>
              <a:ext cx="129672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8360" y="2637000"/>
              <a:ext cx="1295640" cy="11523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8360" y="2637000"/>
              <a:ext cx="129672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8360" y="2780280"/>
              <a:ext cx="1296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96360" y="2790360"/>
              <a:ext cx="720" cy="87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48360" y="3650400"/>
              <a:ext cx="1296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148360" y="2780280"/>
              <a:ext cx="647280" cy="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003640" y="234936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= 4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616572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m válce je asi 352 cm</a:t>
            </a:r>
            <a:r>
              <a:rPr b="0" lang="en-US" sz="2400" spc="-1" strike="noStrike" baseline="24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4:56:59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11-21T12:40:20Z</dcterms:modified>
  <cp:revision>64</cp:revision>
  <dc:subject/>
  <dc:title>Válec</dc:title>
</cp:coreProperties>
</file>