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878-4AE0-4C21-B341-2BE63D4E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029-D9FA-4665-9480-AEE6875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1E6-C6EA-410A-AB2D-E1974571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FC5-C649-4F55-8425-90200FEA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9CD-03A1-42B8-97CB-6ABEA41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E8C-493E-4D3E-8AE0-7C6F6A0D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9ED-4438-463F-8E13-BCF9A09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D4B-359D-4469-A57C-4B8FE645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C30-A4B6-4F42-8AD5-2BC0524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59D-84E5-406F-9FB8-D5F06BE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C1B-B1AD-4B8E-AA48-08EECE4A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2AB-25F7-4762-8671-A501E42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B26-6EFE-45AA-A7E8-903032330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C59-AA30-4655-A7ED-7A9F3B658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zsletohrad.cz/vyuka/matematika/matematika6/vnitrniuhly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ojúhel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Vnitřní a vnější úhly v trojúhelní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oruj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čet dvou vnitřních úhlů se rovná vnějšímu úhlu u zbývajícího vrcho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γ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β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i většímu vnitřnímu úhlu leží větší str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ové odka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zsletohrad.cz/vyuka/matematika/matematika6/vnitrniuhly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170080"/>
            <a:ext cx="4321440" cy="1835280"/>
          </a:xfrm>
          <a:prstGeom prst="triangle">
            <a:avLst>
              <a:gd name="adj" fmla="val 3986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ější úh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005360"/>
            <a:ext cx="62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96720" y="1701360"/>
            <a:ext cx="2664000" cy="281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2720" y="1773360"/>
            <a:ext cx="381456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350208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3573360"/>
            <a:ext cx="431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2278080"/>
            <a:ext cx="43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3080" y="170028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93228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2360" y="4005360"/>
            <a:ext cx="432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7129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úhly vedlejší k vnitřním úhlům trojúhelní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084720" y="1916280"/>
            <a:ext cx="230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třní úh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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2924280"/>
            <a:ext cx="25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ější úhl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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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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´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6000">
                <a:solidFill>
                  <a:srgbClr val="000000"/>
                </a:solidFill>
                <a:latin typeface="Arial"/>
              </a:rPr>
              <a:t>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1454200">
            <a:off x="102240" y="3089880"/>
            <a:ext cx="1765080" cy="18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70" y="2905"/>
                </a:moveTo>
                <a:arcTo wR="10800" hR="10800" stAng="-2818257" swAng="2963988"/>
                <a:lnTo>
                  <a:pt x="10800" y="10800"/>
                </a:lnTo>
                <a:close/>
              </a:path>
              <a:path fill="none" w="21600" h="21600">
                <a:moveTo>
                  <a:pt x="18170" y="2905"/>
                </a:moveTo>
                <a:arcTo wR="10800" hR="10800" stAng="-2818257" swAng="29639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3843200">
            <a:off x="4071240" y="3042360"/>
            <a:ext cx="1759680" cy="18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20" y="2115"/>
                </a:moveTo>
                <a:arcTo wR="10800" hR="10800" stAng="-3211747" swAng="2772537"/>
                <a:lnTo>
                  <a:pt x="10800" y="10800"/>
                </a:lnTo>
                <a:close/>
              </a:path>
              <a:path fill="none" w="21600" h="21600">
                <a:moveTo>
                  <a:pt x="17220" y="2115"/>
                </a:moveTo>
                <a:arcTo wR="10800" hR="10800" stAng="-3211747" swAng="277253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7387800">
            <a:off x="1767600" y="996840"/>
            <a:ext cx="1764360" cy="181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96" y="515"/>
                </a:moveTo>
                <a:arcTo wR="10800" hR="10800" stAng="-4333897" swAng="4333897"/>
                <a:lnTo>
                  <a:pt x="10800" y="10800"/>
                </a:lnTo>
                <a:close/>
              </a:path>
              <a:path fill="none" w="21600" h="21600">
                <a:moveTo>
                  <a:pt x="14096" y="515"/>
                </a:moveTo>
                <a:arcTo wR="10800" hR="10800" stAng="-4333897" swAng="433389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2400" y="35481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0280" y="39798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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4400" y="400536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94960" y="198900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1360" y="357336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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16640" y="1989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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508640"/>
            <a:ext cx="727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ější úhl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ři každém vrcholu jsou shodné (vrcholové úh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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1480" y="5229360"/>
            <a:ext cx="8642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čet vnitřního a vnějšího úhlu při každém vrcholu je 180° (vedlejší úh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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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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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950080"/>
            <a:ext cx="8642160" cy="691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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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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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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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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        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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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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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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</a:t>
            </a:r>
            <a:r>
              <a:rPr b="1" lang="en-US" sz="1800" spc="-1" strike="noStrike" baseline="6000">
                <a:solidFill>
                  <a:srgbClr val="000099"/>
                </a:solidFill>
                <a:latin typeface="Arial"/>
              </a:rPr>
              <a:t>´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3878600">
            <a:off x="1806480" y="4496400"/>
            <a:ext cx="15577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" y="10044"/>
                </a:moveTo>
                <a:arcTo wR="10800" hR="10800" stAng="-10559006" swAng="7257820"/>
                <a:lnTo>
                  <a:pt x="10800" y="10800"/>
                </a:lnTo>
                <a:close/>
              </a:path>
              <a:path fill="none" w="21600" h="21600">
                <a:moveTo>
                  <a:pt x="27" y="10044"/>
                </a:moveTo>
                <a:arcTo wR="10800" hR="10800" stAng="-10559006" swAng="725782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51840" y="4747680"/>
            <a:ext cx="1353960" cy="137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662" y="386"/>
                </a:moveTo>
                <a:arcTo wR="10800" hR="10800" stAng="-4478049" swAng="4193178"/>
                <a:lnTo>
                  <a:pt x="10800" y="10800"/>
                </a:lnTo>
                <a:close/>
              </a:path>
              <a:path fill="none" w="21600" h="21600">
                <a:moveTo>
                  <a:pt x="13662" y="386"/>
                </a:moveTo>
                <a:arcTo wR="10800" hR="10800" stAng="-4478049" swAng="419317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ější úhly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 trojúhelníku ABC je velikost vnitřního úhl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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likost vnějšího úhl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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očítejte velikosti příslušného vnitřního a vnějšího úhlu. Načrtni 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42100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5280" y="2492280"/>
            <a:ext cx="122400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3068640"/>
            <a:ext cx="244764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73720"/>
            <a:ext cx="34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4724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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9640" y="4941720"/>
            <a:ext cx="431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997360"/>
            <a:ext cx="432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530064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37372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360" y="4869000"/>
            <a:ext cx="1026720" cy="108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" y="10136"/>
                </a:moveTo>
                <a:arcTo wR="10800" hR="10800" stAng="-10588513" swAng="5906898"/>
                <a:lnTo>
                  <a:pt x="10800" y="10800"/>
                </a:lnTo>
                <a:close/>
              </a:path>
              <a:path fill="none" w="21600" h="21600">
                <a:moveTo>
                  <a:pt x="20" y="10136"/>
                </a:moveTo>
                <a:arcTo wR="10800" hR="10800" stAng="-10588513" swAng="59068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3320" y="494172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32000" y="6093000"/>
            <a:ext cx="136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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3878600">
            <a:off x="1901160" y="4656240"/>
            <a:ext cx="1353240" cy="13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47" y="2211"/>
                </a:moveTo>
                <a:arcTo wR="10800" hR="10800" stAng="-3161086" swAng="2876215"/>
                <a:lnTo>
                  <a:pt x="10800" y="10800"/>
                </a:lnTo>
                <a:close/>
              </a:path>
              <a:path fill="none" w="21600" h="21600">
                <a:moveTo>
                  <a:pt x="17347" y="2211"/>
                </a:moveTo>
                <a:arcTo wR="10800" hR="10800" stAng="-3161086" swAng="28762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458136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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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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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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2920" y="4581360"/>
            <a:ext cx="122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ý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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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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4581360"/>
            <a:ext cx="122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kouš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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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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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6370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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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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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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2637000"/>
            <a:ext cx="122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ý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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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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3440" y="263700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kouš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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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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3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3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3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3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3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3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3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ější úhly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strojte úhe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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Sestrojte k němu vedlejší a vrcholový úhel. Určete jejich velikost a) výpočtem, b) měření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133720"/>
            <a:ext cx="835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Narýsujte libovolný tupoúhlý trojúhelník ABC s tupým vnitřním úhle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měřte velikost vnitřního úhl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likost vnějších úhlů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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´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ýsledek kontrolujte výpoč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141720"/>
            <a:ext cx="835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Vypočítejte velikosti vnějších úhlů trojúhelníku ABC, jestliže znáte velikosti jeho vnitřních úhlů. Nakreslete si obrá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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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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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353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Vypočítejte velikosti vnitřních úhlů trojúhelníku ABC, jestliže znáte velikosti jeho vnějších úhlů. Nakreslete si obrá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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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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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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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5877000"/>
            <a:ext cx="8353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Může být v některém trojúhelníku velikost vnitřního úhlu rovna velikosti vnějšího úhlu při stejném vrcholu? Jestliže ano, sestrojte aspoň jeden takový trojúhelní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Zástupný symbol pro text 2" descr=""/>
          <p:cNvPicPr/>
          <p:nvPr/>
        </p:nvPicPr>
        <p:blipFill>
          <a:blip r:embed="rId1"/>
          <a:stretch/>
        </p:blipFill>
        <p:spPr>
          <a:xfrm>
            <a:off x="503280" y="3435480"/>
            <a:ext cx="3593880" cy="3517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itřní úh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1366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7308720" y="90792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44000" y="306864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3139920"/>
            <a:ext cx="2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02000" y="2762640"/>
            <a:ext cx="126036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61" y="2378"/>
                </a:moveTo>
                <a:arcTo wR="10800" hR="10800" stAng="-3074388" swAng="3074388"/>
                <a:lnTo>
                  <a:pt x="10800" y="10800"/>
                </a:lnTo>
                <a:close/>
              </a:path>
              <a:path fill="none" w="21600" h="21600">
                <a:moveTo>
                  <a:pt x="17561" y="2378"/>
                </a:moveTo>
                <a:arcTo wR="10800" hR="10800" stAng="-3074388" swAng="307438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2924280"/>
            <a:ext cx="2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0000" y="1268280"/>
            <a:ext cx="2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40720" y="2997360"/>
            <a:ext cx="2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5961200">
            <a:off x="7550640" y="2862360"/>
            <a:ext cx="1261080" cy="114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3" y="187"/>
                </a:moveTo>
                <a:arcTo wR="10800" hR="10800" stAng="-4758655" swAng="3769015"/>
                <a:lnTo>
                  <a:pt x="10800" y="10800"/>
                </a:lnTo>
                <a:close/>
              </a:path>
              <a:path fill="none" w="21600" h="21600">
                <a:moveTo>
                  <a:pt x="12803" y="187"/>
                </a:moveTo>
                <a:arcTo wR="10800" hR="10800" stAng="-4758655" swAng="37690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7731600">
            <a:off x="6641280" y="480600"/>
            <a:ext cx="12603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08" y="1394"/>
                </a:moveTo>
                <a:arcTo wR="10800" hR="10800" stAng="-3633752" swAng="3633752"/>
                <a:lnTo>
                  <a:pt x="10800" y="10800"/>
                </a:lnTo>
                <a:close/>
              </a:path>
              <a:path fill="none" w="21600" h="21600">
                <a:moveTo>
                  <a:pt x="16108" y="1394"/>
                </a:moveTo>
                <a:arcTo wR="10800" hR="10800" stAng="-3633752" swAng="363375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628640"/>
            <a:ext cx="460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trojte libovolný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istěte součet vnitřních úhlů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rojúhelníku AB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1197000"/>
            <a:ext cx="3456000" cy="2160720"/>
          </a:xfrm>
          <a:prstGeom prst="triangle">
            <a:avLst>
              <a:gd name="adj" fmla="val 715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229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15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40000" y="3715920"/>
            <a:ext cx="1727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4797360"/>
            <a:ext cx="2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763280" y="3428640"/>
            <a:ext cx="57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4579920"/>
            <a:ext cx="28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797360"/>
            <a:ext cx="2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 rot="4797600">
            <a:off x="1477440" y="4291560"/>
            <a:ext cx="1729440" cy="172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88228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88228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254240" y="4148640"/>
            <a:ext cx="86796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72919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72919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 rot="4762800">
            <a:off x="2155680" y="3876120"/>
            <a:ext cx="867600" cy="114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60669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60669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 rot="8200800">
            <a:off x="2859480" y="4543200"/>
            <a:ext cx="86292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20698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2069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71628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364500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ěření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39337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1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66,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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= 72,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80,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589720"/>
            <a:ext cx="115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vě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5516640"/>
            <a:ext cx="7705800" cy="1224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čet velikostí všech vnitřních úhlů v každém trojúhelníku je rove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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3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3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itřní úh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309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 – ověření, důka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3789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2920" y="566100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732640"/>
            <a:ext cx="2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4880" y="5350320"/>
            <a:ext cx="12596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61" y="2378"/>
                </a:moveTo>
                <a:arcTo wR="10800" hR="10800" stAng="-3074388" swAng="3244703"/>
                <a:lnTo>
                  <a:pt x="10800" y="10800"/>
                </a:lnTo>
                <a:close/>
              </a:path>
              <a:path fill="none" w="21600" h="21600">
                <a:moveTo>
                  <a:pt x="17561" y="2378"/>
                </a:moveTo>
                <a:arcTo wR="10800" hR="10800" stAng="-3074388" swAng="324470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5516640"/>
            <a:ext cx="28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860640"/>
            <a:ext cx="28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5589720"/>
            <a:ext cx="2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5961200">
            <a:off x="3594960" y="5456160"/>
            <a:ext cx="1261080" cy="114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3" y="187"/>
                </a:moveTo>
                <a:arcTo wR="10800" hR="10800" stAng="-4758655" swAng="3902653"/>
                <a:lnTo>
                  <a:pt x="10800" y="10800"/>
                </a:lnTo>
                <a:close/>
              </a:path>
              <a:path fill="none" w="21600" h="21600">
                <a:moveTo>
                  <a:pt x="12803" y="187"/>
                </a:moveTo>
                <a:arcTo wR="10800" hR="10800" stAng="-4758655" swAng="3902653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7731600">
            <a:off x="2662920" y="3085920"/>
            <a:ext cx="1259640" cy="11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08" y="1394"/>
                </a:moveTo>
                <a:arcTo wR="10800" hR="10800" stAng="-3633752" swAng="3633752"/>
                <a:lnTo>
                  <a:pt x="10800" y="10800"/>
                </a:lnTo>
                <a:close/>
              </a:path>
              <a:path fill="none" w="21600" h="21600">
                <a:moveTo>
                  <a:pt x="16108" y="1394"/>
                </a:moveTo>
                <a:arcTo wR="10800" hR="10800" stAng="-3633752" swAng="3633752"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628640"/>
            <a:ext cx="482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estrojte libovolný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yznačte jeho vnitřní úhl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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dem C veďte rovnoběžku p se stranou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trany AC a BC prodlužte za bo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789360"/>
            <a:ext cx="3456000" cy="2160720"/>
          </a:xfrm>
          <a:prstGeom prst="triangle">
            <a:avLst>
              <a:gd name="adj" fmla="val 715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789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26920" y="3068640"/>
            <a:ext cx="331488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16000" y="2923920"/>
            <a:ext cx="136836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05480" y="3211920"/>
            <a:ext cx="12596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561" y="2378"/>
                </a:moveTo>
                <a:arcTo wR="10800" hR="10800" stAng="-3074388" swAng="3074388"/>
                <a:lnTo>
                  <a:pt x="10800" y="10800"/>
                </a:lnTo>
                <a:close/>
              </a:path>
              <a:path fill="none" w="21600" h="21600">
                <a:moveTo>
                  <a:pt x="17561" y="2378"/>
                </a:moveTo>
                <a:arcTo wR="10800" hR="10800" stAng="-3074388" swAng="3074388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64000" y="3429000"/>
            <a:ext cx="647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 baseline="50000">
                <a:solidFill>
                  <a:srgbClr val="000000"/>
                </a:solidFill>
                <a:latin typeface="Arial"/>
              </a:rPr>
              <a:t>´´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3429000"/>
            <a:ext cx="5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200" spc="-1" strike="noStrike" baseline="50000">
                <a:solidFill>
                  <a:srgbClr val="000000"/>
                </a:solidFill>
                <a:latin typeface="Arial"/>
              </a:rPr>
              <a:t>´´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5961200">
            <a:off x="2621880" y="3287160"/>
            <a:ext cx="1261080" cy="114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03" y="187"/>
                </a:moveTo>
                <a:arcTo wR="10800" hR="10800" stAng="-4758655" swAng="3862390"/>
                <a:lnTo>
                  <a:pt x="10800" y="10800"/>
                </a:lnTo>
                <a:close/>
              </a:path>
              <a:path fill="none" w="21600" h="21600">
                <a:moveTo>
                  <a:pt x="12803" y="187"/>
                </a:moveTo>
                <a:arcTo wR="10800" hR="10800" stAng="-4758655" swAng="3862390"/>
              </a:path>
            </a:pathLst>
          </a:cu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510000">
            <a:off x="2689200" y="3355200"/>
            <a:ext cx="1260360" cy="11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108" y="1394"/>
                </a:moveTo>
                <a:arcTo wR="10800" hR="10800" stAng="-3633752" swAng="3633752"/>
                <a:lnTo>
                  <a:pt x="10800" y="10800"/>
                </a:lnTo>
                <a:close/>
              </a:path>
              <a:path fill="none" w="21600" h="21600">
                <a:moveTo>
                  <a:pt x="16108" y="1394"/>
                </a:moveTo>
                <a:arcTo wR="10800" hR="10800" stAng="-3633752" swAng="3633752"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997360"/>
            <a:ext cx="5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200" spc="-1" strike="noStrike" baseline="50000">
                <a:solidFill>
                  <a:srgbClr val="000000"/>
                </a:solidFill>
                <a:latin typeface="Arial"/>
              </a:rPr>
              <a:t>´´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003280" y="3716280"/>
            <a:ext cx="146160" cy="144360"/>
            <a:chOff x="5003280" y="3716280"/>
            <a:chExt cx="146160" cy="144360"/>
          </a:xfrm>
        </p:grpSpPr>
        <p:sp>
          <p:nvSpPr>
            <p:cNvPr id="152" name=""/>
            <p:cNvSpPr/>
            <p:nvPr/>
          </p:nvSpPr>
          <p:spPr>
            <a:xfrm flipH="1">
              <a:off x="5003280" y="371628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076360" y="371628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31640" y="5877000"/>
            <a:ext cx="146160" cy="144360"/>
            <a:chOff x="3131640" y="5877000"/>
            <a:chExt cx="146160" cy="144360"/>
          </a:xfrm>
        </p:grpSpPr>
        <p:sp>
          <p:nvSpPr>
            <p:cNvPr id="155" name=""/>
            <p:cNvSpPr/>
            <p:nvPr/>
          </p:nvSpPr>
          <p:spPr>
            <a:xfrm flipH="1">
              <a:off x="3131640" y="587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204720" y="587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148360" y="342900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2708280"/>
            <a:ext cx="22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ojice úhlů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5157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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21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lasné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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´´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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´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 také platí, 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950080"/>
            <a:ext cx="1800000" cy="6426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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645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cholové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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4005360"/>
            <a:ext cx="29527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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479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 rot="5260800">
            <a:off x="2738520" y="2894760"/>
            <a:ext cx="1312920" cy="16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6054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60549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3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3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5520" y="4764240"/>
            <a:ext cx="1353600" cy="1374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91" y="452"/>
                </a:moveTo>
                <a:arcTo wR="10800" hR="10800" stAng="-4402119" swAng="4021672"/>
                <a:lnTo>
                  <a:pt x="10800" y="10800"/>
                </a:lnTo>
                <a:close/>
              </a:path>
              <a:path fill="none" w="21600" h="21600">
                <a:moveTo>
                  <a:pt x="13891" y="452"/>
                </a:moveTo>
                <a:arcTo wR="10800" hR="10800" stAng="-4402119" swAng="4021672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3878600">
            <a:off x="1899000" y="4661280"/>
            <a:ext cx="1353960" cy="137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67" y="2226"/>
                </a:moveTo>
                <a:arcTo wR="10800" hR="10800" stAng="-3152876" swAng="2981793"/>
                <a:lnTo>
                  <a:pt x="10800" y="10800"/>
                </a:lnTo>
                <a:close/>
              </a:path>
              <a:path fill="none" w="21600" h="21600">
                <a:moveTo>
                  <a:pt x="17367" y="2226"/>
                </a:moveTo>
                <a:arcTo wR="10800" hR="10800" stAng="-3152876" swAng="298179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itřní úhly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 trojúhelníku ABC jsou dány velikosti dvou vnitřních úhlů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1800" spc="-1" strike="noStrike" baseline="6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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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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počítejte velikost třetího vnitřního úhl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2205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Řeš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5280" y="2492280"/>
            <a:ext cx="122400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068640"/>
            <a:ext cx="244764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373720"/>
            <a:ext cx="34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494172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4941720"/>
            <a:ext cx="431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997360"/>
            <a:ext cx="4320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530064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373720"/>
            <a:ext cx="43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78936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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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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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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360" y="278136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ko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°40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°30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7°50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8°120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637000"/>
            <a:ext cx="172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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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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6414000">
            <a:off x="554760" y="2981160"/>
            <a:ext cx="1352520" cy="13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85" y="2318"/>
                </a:moveTo>
                <a:arcTo wR="10800" hR="10800" stAng="-3105396" swAng="3383880"/>
                <a:lnTo>
                  <a:pt x="10800" y="10800"/>
                </a:lnTo>
                <a:close/>
              </a:path>
              <a:path fill="none" w="21600" h="21600">
                <a:moveTo>
                  <a:pt x="17485" y="2318"/>
                </a:moveTo>
                <a:arcTo wR="10800" hR="10800" stAng="-3105396" swAng="338388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386064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602136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ikost vnitřního úhl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87°50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9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3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3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3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3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3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3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3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3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3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itřní úhly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Zjistěte, zda může mít trojúhelník tyto velikosti dvou vnitřních úhlů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39°16´, 86°45´               b) 84°30´, 95°30´        c) 95°16´, 95°16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276640"/>
            <a:ext cx="835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ři z uvedených čtyř úhlů jsou vnitřními úhly trojúhelníku. Určete úhel, který nemůže být vnitřním úhlem tohoto trojúhelní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 70°17´               49°38´                      58°45´                   60°5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  38°30´               75°15´                      54°15´                   66°15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102°40´               45°40´                      41°40´                   35°40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076640"/>
            <a:ext cx="8353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V trojúhelníku ABC jsou dány velikosti dvou vnitřních úhlů. Vypočítejte velikost třetího vnitřního úhlu. Rozhodněte, zda je to trojúhelník pravoúhlý, ostroúhlý, nebo tupoúhlý. Trojúhelník si načrtně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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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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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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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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5877000"/>
            <a:ext cx="83534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Jeden vnitřní úhel trojúhelníku je pravý. Co můžete říci o součtu zbývajících vnitřních úhlů? Načrtněte si obráz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3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3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3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nitřní úhly - 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. Vypočítejte velikosti všech zbývajících úhlů označených na obrázku. Velikosti napište podle vzoru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|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2601000"/>
            <a:ext cx="6769440" cy="4011120"/>
            <a:chOff x="1187280" y="2601000"/>
            <a:chExt cx="6769440" cy="4011120"/>
          </a:xfrm>
        </p:grpSpPr>
        <p:sp>
          <p:nvSpPr>
            <p:cNvPr id="194" name=""/>
            <p:cNvSpPr/>
            <p:nvPr/>
          </p:nvSpPr>
          <p:spPr>
            <a:xfrm>
              <a:off x="1619280" y="6021360"/>
              <a:ext cx="58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619280" y="3141360"/>
              <a:ext cx="115236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71640" y="3141720"/>
              <a:ext cx="360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72360" y="3645000"/>
              <a:ext cx="1079280" cy="23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18920" y="3645000"/>
              <a:ext cx="4753080" cy="23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71640" y="3141720"/>
              <a:ext cx="468000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49200">
              <a:off x="1365840" y="5251680"/>
              <a:ext cx="1009080" cy="86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7" y="390"/>
                  </a:moveTo>
                  <a:arcTo wR="10800" hR="10800" stAng="-4473081" swAng="4712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7" y="390"/>
                  </a:moveTo>
                  <a:arcTo wR="10800" hR="10800" stAng="-4473081" swAng="471266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8623200">
              <a:off x="4393080" y="3826800"/>
              <a:ext cx="101088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667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667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9578000">
              <a:off x="4229640" y="4109400"/>
              <a:ext cx="100872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3931400">
              <a:off x="4105440" y="4039920"/>
              <a:ext cx="1009800" cy="86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14" y="24"/>
                  </a:moveTo>
                  <a:arcTo wR="10800" hR="10800" stAng="-5172673" swAng="5172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14" y="24"/>
                  </a:moveTo>
                  <a:arcTo wR="10800" hR="10800" stAng="-5172673" swAng="51726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9835200">
              <a:off x="5870520" y="3296880"/>
              <a:ext cx="100836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22" y="165"/>
                  </a:moveTo>
                  <a:arcTo wR="10800" hR="10800" stAng="-6000932" swAng="6000932"/>
                  <a:lnTo>
                    <a:pt x="10800" y="10800"/>
                  </a:lnTo>
                  <a:close/>
                </a:path>
                <a:path fill="none" w="21600" h="21600">
                  <a:moveTo>
                    <a:pt x="8922" y="165"/>
                  </a:moveTo>
                  <a:arcTo wR="10800" hR="10800" stAng="-6000932" swAng="600093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4213800">
              <a:off x="2844720" y="2788200"/>
              <a:ext cx="1008000" cy="86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93" y="1122"/>
                  </a:moveTo>
                  <a:arcTo wR="10800" hR="10800" stAng="-3819161" swAng="31691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93" y="1122"/>
                  </a:moveTo>
                  <a:arcTo wR="10800" hR="10800" stAng="-3819161" swAng="316915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4414400">
              <a:off x="6375600" y="5526360"/>
              <a:ext cx="1009080" cy="86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16" y="588"/>
                  </a:moveTo>
                  <a:arcTo wR="10800" hR="10800" stAng="-4260041" swAng="42600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16" y="588"/>
                  </a:moveTo>
                  <a:arcTo wR="10800" hR="10800" stAng="-4260041" swAng="426004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43280" y="4797360"/>
              <a:ext cx="432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11280" y="2781360"/>
              <a:ext cx="432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72360" y="3284640"/>
              <a:ext cx="431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7280" y="5950080"/>
              <a:ext cx="43200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4720" y="5950080"/>
              <a:ext cx="43200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27280" y="3357720"/>
              <a:ext cx="6494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5640" y="5661000"/>
              <a:ext cx="6490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3640" y="4221000"/>
              <a:ext cx="6494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8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59640" y="5229360"/>
              <a:ext cx="6490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2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4000" y="3573360"/>
              <a:ext cx="6494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7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7:18:20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9-19T21:48:06Z</dcterms:modified>
  <cp:revision>36</cp:revision>
  <dc:subject/>
  <dc:title>Úhly trojúhelníku</dc:title>
</cp:coreProperties>
</file>