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E6D-DED3-43B8-9342-CF5CC8FE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626-C079-4FEA-A584-EE33A17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DDE-C077-4617-A2C5-51A578B3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F4D-D1C3-4C1C-B244-03C3D99F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3CA8-892E-4E90-8866-4473B7F7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4FD1-F066-4E13-996D-B16517D7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8409-1261-4564-810E-FF1A0AD7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D937-FDE2-4D5D-930C-5A9A8C9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A33C-611B-4C57-BD36-89D9992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557B-FB1F-44C8-8C61-126AE2A2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45E3-0548-42CE-B546-A438C20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67F-C66A-49AB-A08E-7E199518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32E-B4B5-4425-9293-8557CB3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1470-6535-4FB0-856E-19F1625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D08-7EB4-4A4E-9843-3789F00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D4DE-EDDF-4B06-93A4-37560E39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F44A-B895-46A6-95AA-60E2ECE0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414-C2FF-4B86-955F-DDF7560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1BE-F939-4545-94F2-EA0A200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4B1-96B0-4299-936B-F25165F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48B-5BB8-4D41-BFC8-4BE02CF8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0D6-C3E9-4E13-928C-2A017E3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707-882C-442D-8079-B7A63DD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ADF-FE21-4755-A5A5-6A8155E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B87-00C8-4089-9AE8-0C78537F38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03CF-C226-4282-89DC-DD331FEFF3C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lter-fendt.de/m14cz/dreieck_cz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atematika.webz.cz/ostatni/trojuhelnik/seminarka.swf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Vlastnosti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Těžnice trojúhelník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42920" y="1844640"/>
            <a:ext cx="691380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lastnost těžnic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55640" y="105264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ěžiště dělí těžnice v poměru 2:1 tak, že delší úsek těžnice leží vždy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 vrcholu. To znamená, že úsek těžnice od vrcholu do těžiště tvoří vždy 2/3 celkové délky těžnice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75000">
            <a:off x="5592240" y="2408400"/>
            <a:ext cx="320760" cy="2376360"/>
          </a:xfrm>
          <a:custGeom>
            <a:avLst/>
            <a:gdLst>
              <a:gd name="textAreaLeft" fmla="*/ 0 w 320760"/>
              <a:gd name="textAreaRight" fmla="*/ 115920 w 3207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33577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575000">
            <a:off x="4774680" y="4611240"/>
            <a:ext cx="320760" cy="118116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1160"/>
              <a:gd name="textAreaBottom" fmla="*/ 11505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60880" y="49705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4279800">
            <a:off x="3354480" y="3695040"/>
            <a:ext cx="320760" cy="3313080"/>
          </a:xfrm>
          <a:custGeom>
            <a:avLst/>
            <a:gdLst>
              <a:gd name="textAreaLeft" fmla="*/ 0 w 320760"/>
              <a:gd name="textAreaRight" fmla="*/ 115920 w 3207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62400" y="527220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4252800">
            <a:off x="5724360" y="3690720"/>
            <a:ext cx="230040" cy="1611360"/>
          </a:xfrm>
          <a:custGeom>
            <a:avLst/>
            <a:gdLst>
              <a:gd name="textAreaLeft" fmla="*/ 0 w 230040"/>
              <a:gd name="textAreaRight" fmla="*/ 83160 w 23004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24640" y="439416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7000800">
            <a:off x="5752080" y="4176000"/>
            <a:ext cx="320400" cy="2303280"/>
          </a:xfrm>
          <a:custGeom>
            <a:avLst/>
            <a:gdLst>
              <a:gd name="textAreaLeft" fmla="*/ 0 w 320400"/>
              <a:gd name="textAreaRight" fmla="*/ 115560 w 3204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2862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7002600">
            <a:off x="4209840" y="3905280"/>
            <a:ext cx="320760" cy="118080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0800"/>
              <a:gd name="textAreaBottom" fmla="*/ 1150200 h 11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81600" y="44816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ěžnice trojúhelníku ABC, je-li a = 6 cm, b = 3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7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981000"/>
            <a:ext cx="849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ěžnice trojúhelníku ABC, je-li b = 6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5°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55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ěžnice trojúhelníku ABC, jestliže a = 65 m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75°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7082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ěžnice trojúhelníku je vzdálenost vrcholu trojúhelníku od středu protilehlé strany (úsečka spojující vrchol trojúhelníku se středem protilehlé stran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63760" y="4653000"/>
            <a:ext cx="73562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To znamená: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Těžnice trojúhelníku 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 strany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s vrchol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těžnice 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 strany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s vrchol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těžnice 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 strany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s vrchol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Název souboru: j0398159.wmf&#13;Klíčová slova: akademikové, děti, dívky ...&#13;Velikost souboru: 20 kB"/>
          <p:cNvPicPr/>
          <p:nvPr/>
        </p:nvPicPr>
        <p:blipFill>
          <a:blip r:embed="rId2"/>
          <a:stretch/>
        </p:blipFill>
        <p:spPr>
          <a:xfrm>
            <a:off x="6775560" y="447840"/>
            <a:ext cx="204444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Na závěr: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170028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2567160"/>
            <a:ext cx="8005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ber z nabídky možností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těžnice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pohybuj kterýmkoliv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vrcholů trojúhelníku. Vyzkoušej a odpověz na následující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táz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02840" y="1944720"/>
            <a:ext cx="35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(http://www.walter-fendt.de/m14cz/dreieck_cz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3429000"/>
            <a:ext cx="7143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chází se těžiště vždy uvnitř trojúhelníku?</a:t>
            </a: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19280" y="4222800"/>
            <a:ext cx="7143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é pravidlo platí pro těžnice a těžiště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 rovnoramenného a rovnostranného trojúhelní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5086440"/>
            <a:ext cx="7143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.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kus se odpovědět na otázku, kde se nachází těžiště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, čtverce, kosočtverce, obdélníku a dalších geometrických tva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3284640"/>
            <a:ext cx="691380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iště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765000"/>
            <a:ext cx="7245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jem těžiště patří spíše do fyziky, kde se zjišťuje jeho poloha experimentálně. Těleso podpíráme v různých místech a snažíme se najít takovou polohu na podpěře, v níž zůstane těleso v kli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2840" y="2809800"/>
            <a:ext cx="7893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ěžiště je vlastně rovnovážný bod tělesa, hmotný střed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8000" y="3357720"/>
            <a:ext cx="5257800" cy="2786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64000" y="6021360"/>
            <a:ext cx="28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Obrázek: http://mfweb.wz.cz/fyzika/48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8800" y="1773360"/>
            <a:ext cx="7245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 desek se těžiště určuje olovnicí, kterou zavěsíme spolu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 deskou v jednom bodě. Po uklidnění prochází olovnicí přímka, které říkáme těžnice. V průsečíku těžnic leží těžiště (viz obráz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57320" y="2421000"/>
            <a:ext cx="691344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iště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1052640"/>
            <a:ext cx="7245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dybychom místo nepravidelné desky použili trojúhelník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zavěšovali jej jako na předcházejícím obrázku v jeho vrcholech, nalezli bychom experimentálně i těžnice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rojúhelníku a v jejich průsečíku těžiště trojúheln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79640" y="2751120"/>
            <a:ext cx="1900080" cy="838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6753000">
            <a:off x="1784160" y="4255920"/>
            <a:ext cx="2593800" cy="1511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92560" y="2765520"/>
            <a:ext cx="2030400" cy="109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87560" y="3573360"/>
            <a:ext cx="1800" cy="2011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80080" y="3849120"/>
            <a:ext cx="2595240" cy="1513080"/>
            <a:chOff x="4780080" y="3849120"/>
            <a:chExt cx="2595240" cy="1513080"/>
          </a:xfrm>
        </p:grpSpPr>
        <p:sp>
          <p:nvSpPr>
            <p:cNvPr id="101" name=""/>
            <p:cNvSpPr/>
            <p:nvPr/>
          </p:nvSpPr>
          <p:spPr>
            <a:xfrm rot="2400">
              <a:off x="4780440" y="3849840"/>
              <a:ext cx="2594160" cy="1511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23280" y="4563720"/>
              <a:ext cx="1857600" cy="771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070680" y="38466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5213520"/>
            <a:ext cx="3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1880" y="47671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0800" y="45655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141720"/>
            <a:ext cx="6913800" cy="320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nice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927000" y="10526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 matematice samozřejmě nehledáme těžnice a následně těžiště experimentálně, ale přesně je při konstrukcích rýsujem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61460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ycházíme při tom ze znalosti těžnice trojúhelníku, na což byste možná pomocí obrázků na předcházejícím snímku již i sami dokázali odpovědě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406600"/>
            <a:ext cx="7893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Těžnice trojúhelníku je úsečka spojující vrchol trojúhelníku se středem jeho protilehlé stran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16000" y="3189240"/>
            <a:ext cx="5077080" cy="307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016000" y="3189240"/>
            <a:ext cx="5077080" cy="307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016000" y="3189240"/>
            <a:ext cx="5077080" cy="30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4560" y="2421000"/>
            <a:ext cx="691344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nice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90792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- vzdálenost středu strany a protějšího (příslušného) vrch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28800" y="129708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- úsečka, jejímiž krajními body jsou vrchol trojúhelníku a střed protější st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7000" y="184464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otože trojúhelník má tři vrcholy a k nim příslušné (protější) tři strany, má, jak bylo vidět i na předcházejícím snímku, tři těž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1509840" y="2541600"/>
            <a:ext cx="615780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4560" y="1989000"/>
            <a:ext cx="691344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nice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6206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Body S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S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S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sou středy stran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8800" y="83664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ěžnice se protínají v jednom bodě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zv.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těžišti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800" y="1197000"/>
            <a:ext cx="821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ěžnice označujeme obvykle malým písmenem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s indexem názvu strany, ke které příslušná těžnice patř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28800" y="162864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lovem těžnice označujeme v trojúhelníku jak úsečku, tak její dé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1614600" y="2058840"/>
            <a:ext cx="598176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onstrukce těžnice trojúhelníku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"/>
          <p:cNvSpPr/>
          <p:nvPr/>
        </p:nvSpPr>
        <p:spPr>
          <a:xfrm>
            <a:off x="927000" y="111600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ákladem konstrukce těžnice trojúhelníku je sestrojení středu strany trojúhelníku a její spojení s protějším vrcho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27000" y="1498680"/>
            <a:ext cx="7893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 sestrojení středu strany nám pomůže znalost rýsování osy úsečky.</a:t>
            </a:r>
            <a:br>
              <a:rPr sz="18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likněte na obrázek a na otevřené stránce vyberte nabídku těžnice. Poté pozorně pozorujte, jak postupovat při rýsování těžnic trojúhelníku.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2421000"/>
            <a:ext cx="52959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76440" y="6064200"/>
            <a:ext cx="45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"/>
              </a:rPr>
              <a:t>http://www.matematika.webz.cz/ostatni/trojuhelnik/seminarka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42920" y="1916280"/>
            <a:ext cx="6913800" cy="44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nice v trojúhelníku ostroúhlé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119700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 sestrojení těžnice vede z pohledu konstrukčního, jak již bylo řečeno, nalezení středu strany a jeho spojení s protějším vrcho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6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"/>
          <a:stretch/>
        </p:blipFill>
        <p:spPr>
          <a:xfrm>
            <a:off x="1542960" y="2058840"/>
            <a:ext cx="598176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42920" y="20890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ěžnice v trojúhelníku tupoúhlé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927000" y="1125360"/>
            <a:ext cx="7893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 rozdíl od výšek leží všechny těžnice a tudíž i těžiště vždy uvnitř trojúhelníku. Přesvědčíme se o tom tentokrát na trojúhelníku tupoúhlé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4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5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7"/>
          <a:stretch/>
        </p:blipFill>
        <p:spPr>
          <a:xfrm>
            <a:off x="1969920" y="2157480"/>
            <a:ext cx="5123160" cy="41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05T11:22:13Z</dcterms:modified>
  <cp:revision>156</cp:revision>
  <dc:subject/>
  <dc:title>Těžnice trojúhelníku</dc:title>
</cp:coreProperties>
</file>