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F84-D679-4241-B7A4-ABD0899C4F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ný doprovodný komentář uči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2FC-C1A0-4CD2-B9CC-E84A1866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B69-2B9C-46D1-A6A3-DAED3FC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B8C-8432-4283-9289-BC6CB04C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F88-1EBF-469F-9F07-60405343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247-A218-4008-B8F9-69612CC3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A39-4843-4586-BE30-50E8A6F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FB9-3869-468C-8C08-40300D3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646-8BE0-49E7-8836-3ED8DB59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CE9-4BD1-46AA-B768-BD5009B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74B-BBD9-4A00-88B2-3BB1488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328-D4B9-4524-BD6B-B167A655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7EA-613C-41CF-9F74-00E0CE6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ED20-B547-4E76-9B05-84995E6C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8989"/>
                </a:solidFill>
                <a:latin typeface="Arial"/>
              </a:rPr>
              <a:t>Tan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abulka důležitých hodnot funkce tan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280" y="3068640"/>
          <a:ext cx="8424720" cy="1782720"/>
        </p:xfrm>
        <a:graphic>
          <a:graphicData uri="http://schemas.openxmlformats.org/drawingml/2006/table">
            <a:tbl>
              <a:tblPr/>
              <a:tblGrid>
                <a:gridCol w="1152360"/>
                <a:gridCol w="1440000"/>
                <a:gridCol w="1440000"/>
                <a:gridCol w="1439640"/>
                <a:gridCol w="1368720"/>
                <a:gridCol w="1584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efinov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635280" y="3933720"/>
                <a:ext cx="5349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6183360" y="4083120"/>
                <a:ext cx="525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278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ete hodno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0" i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jestliž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si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cos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4149720"/>
            <a:ext cx="8209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ypočítejte obvod pravidelného šestiúhelníku opsaného kružnici s poloměrem r = 4 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8101080" y="170028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8101080" y="429264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268360" y="2133720"/>
            <a:ext cx="5139000" cy="865080"/>
            <a:chOff x="2268360" y="2133720"/>
            <a:chExt cx="5139000" cy="86508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77080" y="2133720"/>
                  <a:ext cx="5302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"/>
                <p:cNvSpPr txBox="1"/>
                <p:nvPr/>
              </p:nvSpPr>
              <p:spPr>
                <a:xfrm>
                  <a:off x="2268360" y="2133720"/>
                  <a:ext cx="5302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 jakým úhlem stoupá schodiště, jestliže každý schod je 30 cm široký a 12 cm vysok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101080" y="263700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17435" y="10800"/>
                </a:moveTo>
                <a:lnTo>
                  <a:pt x="6930" y="17806"/>
                </a:lnTo>
                <a:lnTo>
                  <a:pt x="6930" y="3794"/>
                </a:lnTo>
                <a:close/>
              </a:path>
              <a:path fill="darken" w="27873" h="21600">
                <a:moveTo>
                  <a:pt x="19281" y="3794"/>
                </a:moveTo>
                <a:lnTo>
                  <a:pt x="19281" y="17806"/>
                </a:lnTo>
                <a:lnTo>
                  <a:pt x="20943" y="17806"/>
                </a:lnTo>
                <a:lnTo>
                  <a:pt x="209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3618000"/>
            <a:ext cx="835164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Vrchol hory, která je od nás vzdálena 2 500 m, vidíme ve výškovém úhlu 17°30´. Výška pozorovacího místa nad mořem je 480 m. Vypočítejte výšku vrcholu hory nad terén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0108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17386" y="10800"/>
                </a:moveTo>
                <a:lnTo>
                  <a:pt x="6880" y="17806"/>
                </a:lnTo>
                <a:lnTo>
                  <a:pt x="6880" y="3794"/>
                </a:lnTo>
                <a:close/>
              </a:path>
              <a:path fill="darken" w="27774" h="21600">
                <a:moveTo>
                  <a:pt x="19231" y="3794"/>
                </a:moveTo>
                <a:lnTo>
                  <a:pt x="19231" y="17806"/>
                </a:lnTo>
                <a:lnTo>
                  <a:pt x="20893" y="17806"/>
                </a:lnTo>
                <a:lnTo>
                  <a:pt x="2089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36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 jakým úhlem dopadají sluneční paprsky na povrch země, jestliže člověk (vysoký 185 cm), který stojí vzpřímeně, má stín dlouhý 10 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4000" y="242100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44000" y="4149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5157720"/>
            <a:ext cx="83516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. Železnice má stoupání 8,5 %. Jaký je výškový rozdíl míst na trati vzdálených od seb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 400 m? Pod jakým úhlem trať stoup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44000" y="609300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17435" y="10800"/>
                </a:moveTo>
                <a:lnTo>
                  <a:pt x="6930" y="17806"/>
                </a:lnTo>
                <a:lnTo>
                  <a:pt x="6930" y="3794"/>
                </a:lnTo>
                <a:close/>
              </a:path>
              <a:path fill="darken" w="27873" h="21600">
                <a:moveTo>
                  <a:pt x="19281" y="3794"/>
                </a:moveTo>
                <a:lnTo>
                  <a:pt x="19281" y="17806"/>
                </a:lnTo>
                <a:lnTo>
                  <a:pt x="20943" y="17806"/>
                </a:lnTo>
                <a:lnTo>
                  <a:pt x="209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4000" y="3284640"/>
            <a:ext cx="8351640" cy="1466640"/>
            <a:chOff x="324000" y="3284640"/>
            <a:chExt cx="8351640" cy="1466640"/>
          </a:xfrm>
        </p:grpSpPr>
        <p:sp>
          <p:nvSpPr>
            <p:cNvPr id="298" name=""/>
            <p:cNvSpPr/>
            <p:nvPr/>
          </p:nvSpPr>
          <p:spPr>
            <a:xfrm>
              <a:off x="324000" y="3284640"/>
              <a:ext cx="83516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6. Co znamenají vedle železniční trati značky s údajem         nebo        . Pod jakým úhlem trať stoupá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4427640" y="3789360"/>
                  <a:ext cx="5047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 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771640" y="3789360"/>
                  <a:ext cx="4222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627280" y="5497560"/>
                <a:ext cx="17287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8172360" y="1628640"/>
            <a:ext cx="720720" cy="505080"/>
          </a:xfrm>
          <a:custGeom>
            <a:avLst/>
            <a:gdLst>
              <a:gd name="textAreaLeft" fmla="*/ 32760 w 720720"/>
              <a:gd name="textAreaRight" fmla="*/ 688320 w 7207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0815" h="21600">
                <a:moveTo>
                  <a:pt x="0" y="0"/>
                </a:moveTo>
                <a:lnTo>
                  <a:pt x="30815" y="0"/>
                </a:lnTo>
                <a:lnTo>
                  <a:pt x="30815" y="21600"/>
                </a:lnTo>
                <a:lnTo>
                  <a:pt x="0" y="21600"/>
                </a:lnTo>
                <a:close/>
              </a:path>
              <a:path fill="lightenLess" w="30815" h="21600">
                <a:moveTo>
                  <a:pt x="0" y="0"/>
                </a:moveTo>
                <a:lnTo>
                  <a:pt x="30815" y="0"/>
                </a:lnTo>
                <a:lnTo>
                  <a:pt x="29415" y="1400"/>
                </a:lnTo>
                <a:lnTo>
                  <a:pt x="1400" y="1400"/>
                </a:lnTo>
                <a:close/>
              </a:path>
              <a:path fill="darken" w="30815" h="21600">
                <a:moveTo>
                  <a:pt x="30815" y="0"/>
                </a:moveTo>
                <a:lnTo>
                  <a:pt x="30815" y="21600"/>
                </a:lnTo>
                <a:lnTo>
                  <a:pt x="29415" y="20200"/>
                </a:lnTo>
                <a:lnTo>
                  <a:pt x="29415" y="1400"/>
                </a:lnTo>
                <a:close/>
              </a:path>
              <a:path fill="darkenLess" w="30815" h="21600">
                <a:moveTo>
                  <a:pt x="30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15" y="20200"/>
                </a:lnTo>
                <a:close/>
              </a:path>
              <a:path fill="lighten" w="30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15" h="21600">
                <a:moveTo>
                  <a:pt x="8401" y="10800"/>
                </a:moveTo>
                <a:lnTo>
                  <a:pt x="22414" y="3794"/>
                </a:lnTo>
                <a:lnTo>
                  <a:pt x="224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0" y="2060640"/>
            <a:ext cx="3816360" cy="2373120"/>
            <a:chOff x="0" y="2060640"/>
            <a:chExt cx="3816360" cy="2373120"/>
          </a:xfrm>
        </p:grpSpPr>
        <p:sp>
          <p:nvSpPr>
            <p:cNvPr id="305" name=""/>
            <p:cNvSpPr/>
            <p:nvPr/>
          </p:nvSpPr>
          <p:spPr>
            <a:xfrm>
              <a:off x="504720" y="249408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3320" y="357660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360" y="371808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232720" y="3357720"/>
              <a:ext cx="4316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7440" y="378936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4360" y="2060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7440" y="3933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76360" y="3429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84360" y="3933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00360" y="2637000"/>
              <a:ext cx="610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2925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50920" y="4626000"/>
            <a:ext cx="2519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7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25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5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600200"/>
            <a:ext cx="7427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) sin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) cos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55840" y="5011560"/>
            <a:ext cx="25560" cy="41400"/>
            <a:chOff x="2355840" y="5011560"/>
            <a:chExt cx="25560" cy="41400"/>
          </a:xfrm>
        </p:grpSpPr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2378880" y="5011560"/>
                  <a:ext cx="2520" cy="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355840" y="5011560"/>
                  <a:ext cx="2520" cy="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4643280" y="2060640"/>
            <a:ext cx="3816360" cy="2373120"/>
            <a:chOff x="4643280" y="2060640"/>
            <a:chExt cx="3816360" cy="2373120"/>
          </a:xfrm>
        </p:grpSpPr>
        <p:sp>
          <p:nvSpPr>
            <p:cNvPr id="322" name=""/>
            <p:cNvSpPr/>
            <p:nvPr/>
          </p:nvSpPr>
          <p:spPr>
            <a:xfrm>
              <a:off x="5148360" y="2494080"/>
              <a:ext cx="302400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36960" y="357660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371808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876360" y="3357720"/>
              <a:ext cx="4316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01080" y="378936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88000" y="206064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61080" y="393372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20000" y="342900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7640" y="3933720"/>
              <a:ext cx="720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3640" y="2637000"/>
              <a:ext cx="611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43280" y="2925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43280" y="4626000"/>
            <a:ext cx="2737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21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24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21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 = 11,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7167600" y="5483160"/>
                <a:ext cx="19764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,6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5" name=""/>
          <p:cNvGrpSpPr/>
          <p:nvPr/>
        </p:nvGrpSpPr>
        <p:grpSpPr>
          <a:xfrm>
            <a:off x="2268360" y="1413000"/>
            <a:ext cx="5139000" cy="865080"/>
            <a:chOff x="2268360" y="1413000"/>
            <a:chExt cx="5139000" cy="865080"/>
          </a:xfrm>
        </p:grpSpPr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6877080" y="1413000"/>
                  <a:ext cx="5302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2268360" y="1413000"/>
                  <a:ext cx="5302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172360" y="141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00720" y="1413000"/>
            <a:ext cx="38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 – rovnostran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avoúh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68360" y="2060640"/>
            <a:ext cx="3851280" cy="3894120"/>
            <a:chOff x="468360" y="2060640"/>
            <a:chExt cx="3851280" cy="3894120"/>
          </a:xfrm>
        </p:grpSpPr>
        <p:sp>
          <p:nvSpPr>
            <p:cNvPr id="342" name=""/>
            <p:cNvSpPr/>
            <p:nvPr/>
          </p:nvSpPr>
          <p:spPr>
            <a:xfrm>
              <a:off x="468360" y="2066760"/>
              <a:ext cx="3851280" cy="3313440"/>
            </a:xfrm>
            <a:prstGeom prst="hexagon">
              <a:avLst>
                <a:gd name="adj" fmla="val 29058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1240" y="2060640"/>
              <a:ext cx="3314880" cy="3321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38200" y="2066760"/>
              <a:ext cx="1909800" cy="331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441080" y="2062800"/>
              <a:ext cx="190332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8360" y="3722760"/>
              <a:ext cx="38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2920" y="552276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5640" y="314172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348000" y="552276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92200" y="3722760"/>
              <a:ext cx="0" cy="1657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11280" y="458136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35280" y="551664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16360" y="429264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03280" y="436572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40000" y="5445000"/>
              <a:ext cx="576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263880" indent="-2638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020000" y="2421000"/>
                <a:ext cx="1449360" cy="44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 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  60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g  60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62 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4284720" y="5084640"/>
            <a:ext cx="226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6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6 . 4,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= 27,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03640" y="2637000"/>
            <a:ext cx="936720" cy="1728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414972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4149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242100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43280" y="3357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64000" y="400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219640" y="4365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8000" y="4149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6720" y="425592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269040" y="1916280"/>
                <a:ext cx="188136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4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48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684360" y="4941720"/>
            <a:ext cx="78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diště stoupá pod úhlem 21°48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24000" y="1484280"/>
            <a:ext cx="5329080" cy="3170160"/>
            <a:chOff x="324000" y="1484280"/>
            <a:chExt cx="5329080" cy="3170160"/>
          </a:xfrm>
        </p:grpSpPr>
        <p:sp>
          <p:nvSpPr>
            <p:cNvPr id="372" name=""/>
            <p:cNvSpPr/>
            <p:nvPr/>
          </p:nvSpPr>
          <p:spPr>
            <a:xfrm flipH="1">
              <a:off x="324000" y="2781360"/>
              <a:ext cx="2665440" cy="12952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2920" y="4149720"/>
              <a:ext cx="14414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0 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87640" y="3213000"/>
              <a:ext cx="14414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 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16360" y="3645000"/>
              <a:ext cx="28512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87640" y="1484280"/>
              <a:ext cx="2665440" cy="12952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556000" y="3645000"/>
              <a:ext cx="862560" cy="8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71640" y="3860640"/>
              <a:ext cx="3672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0000" y="3645000"/>
              <a:ext cx="503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39640" y="5589720"/>
            <a:ext cx="6913800" cy="93636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Úkol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počítejte, pod jakým úhlem stoupá školní schodišt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867280" y="1557360"/>
                <a:ext cx="295272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00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g17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30´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0,315298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88 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5867280" y="4221000"/>
            <a:ext cx="2737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= 480 +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= 480 + 7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= 1 268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56536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6021360"/>
            <a:ext cx="518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ška hory je asi 1 268 m n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0" y="2133720"/>
            <a:ext cx="5652720" cy="2807640"/>
            <a:chOff x="0" y="2133720"/>
            <a:chExt cx="5652720" cy="2807640"/>
          </a:xfrm>
        </p:grpSpPr>
        <p:sp>
          <p:nvSpPr>
            <p:cNvPr id="388" name=""/>
            <p:cNvSpPr/>
            <p:nvPr/>
          </p:nvSpPr>
          <p:spPr>
            <a:xfrm rot="16200000">
              <a:off x="-377280" y="3662280"/>
              <a:ext cx="1079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/>
            </a:bodyPr>
            <a:p>
              <a:pPr marL="609480" indent="-60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Arial"/>
                </a:rPr>
                <a:t>480 m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0920" y="4508640"/>
              <a:ext cx="129564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5000"/>
            </a:bodyPr>
            <a:p>
              <a:pPr marL="518040" indent="-5180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0000"/>
                  </a:solidFill>
                  <a:latin typeface="Arial"/>
                </a:rPr>
                <a:t>2 500 m</a:t>
              </a: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95280" y="2133720"/>
              <a:ext cx="5257440" cy="2807640"/>
              <a:chOff x="395280" y="2133720"/>
              <a:chExt cx="5257440" cy="2807640"/>
            </a:xfrm>
          </p:grpSpPr>
          <p:sp>
            <p:nvSpPr>
              <p:cNvPr id="391" name=""/>
              <p:cNvSpPr/>
              <p:nvPr/>
            </p:nvSpPr>
            <p:spPr>
              <a:xfrm>
                <a:off x="395280" y="4379400"/>
                <a:ext cx="52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3560" y="3369240"/>
                <a:ext cx="824400" cy="10098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24840" y="2217600"/>
                <a:ext cx="1350720" cy="216144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995760" y="2133720"/>
                <a:ext cx="3605760" cy="123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5280" y="3369240"/>
                <a:ext cx="473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00200" y="2245320"/>
                <a:ext cx="0" cy="269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95760" y="3369240"/>
                <a:ext cx="0" cy="157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77760" y="4854960"/>
                <a:ext cx="334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3080" y="333936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9840" y="2807280"/>
                <a:ext cx="147600" cy="112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763640" y="3068640"/>
              <a:ext cx="1008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55000"/>
            </a:bodyPr>
            <a:p>
              <a:pPr marL="335160" indent="-3351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0000"/>
                  </a:solidFill>
                  <a:latin typeface="Arial"/>
                </a:rPr>
                <a:t>17°30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372360" y="2076480"/>
                <a:ext cx="207324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,8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85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29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684360" y="4941720"/>
            <a:ext cx="784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neční paprsky dopadají na zem pod úhlem 10°29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68360" y="4076640"/>
            <a:ext cx="14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-468000" y="2889360"/>
            <a:ext cx="14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rot="5400000">
            <a:off x="2555640" y="548640"/>
            <a:ext cx="1800360" cy="5112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rot="5627400">
            <a:off x="453600" y="3486600"/>
            <a:ext cx="86364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47" y="42"/>
                </a:moveTo>
                <a:arcTo wR="10800" hR="10800" stAng="-5703585" swAng="5703585"/>
                <a:lnTo>
                  <a:pt x="10800" y="10800"/>
                </a:lnTo>
                <a:close/>
              </a:path>
              <a:path fill="none" w="21600" h="21600">
                <a:moveTo>
                  <a:pt x="9847" y="42"/>
                </a:moveTo>
                <a:arcTo wR="10800" hR="10800" stAng="-5703585" swAng="570358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1042920" y="37890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2205000"/>
            <a:ext cx="647640" cy="64764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11280" y="2852640"/>
            <a:ext cx="288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11280" y="3500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285264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 rot="10112400">
            <a:off x="4105800" y="3030120"/>
            <a:ext cx="2158920" cy="143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22" y="3249"/>
                </a:moveTo>
                <a:arcTo wR="10800" hR="10800" stAng="-2661618" swAng="2975580"/>
                <a:lnTo>
                  <a:pt x="10800" y="10800"/>
                </a:lnTo>
                <a:close/>
              </a:path>
              <a:path fill="none" w="21600" h="21600">
                <a:moveTo>
                  <a:pt x="18522" y="3249"/>
                </a:moveTo>
                <a:arcTo wR="10800" hR="10800" stAng="-2661618" swAng="29755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56000" y="3500280"/>
            <a:ext cx="5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116000" y="3716280"/>
                <a:ext cx="207324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068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53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6138720"/>
            <a:ext cx="66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ť stoupá pod úhlem 3°53´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°34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11280" y="2421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75280" y="1557360"/>
            <a:ext cx="107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50920" y="1413000"/>
            <a:ext cx="4681440" cy="792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 rot="18673200">
            <a:off x="415440" y="1697400"/>
            <a:ext cx="2157840" cy="14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00" y="3127"/>
                </a:moveTo>
                <a:arcTo wR="10800" hR="10800" stAng="-2716409" swAng="1418805"/>
                <a:lnTo>
                  <a:pt x="10800" y="10800"/>
                </a:lnTo>
                <a:close/>
              </a:path>
              <a:path fill="none" w="21600" h="21600">
                <a:moveTo>
                  <a:pt x="18400" y="3127"/>
                </a:moveTo>
                <a:arcTo wR="10800" hR="10800" stAng="-2716409" swAng="14188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82920" y="1773360"/>
            <a:ext cx="5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rot="21557400">
            <a:off x="4427640" y="1770840"/>
            <a:ext cx="86508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90" y="92"/>
                </a:moveTo>
                <a:arcTo wR="10800" hR="10800" stAng="-5850091" swAng="5850091"/>
                <a:lnTo>
                  <a:pt x="10800" y="10800"/>
                </a:lnTo>
                <a:close/>
              </a:path>
              <a:path fill="none" w="21600" h="21600">
                <a:moveTo>
                  <a:pt x="9390" y="92"/>
                </a:moveTo>
                <a:arcTo wR="10800" hR="10800" stAng="-5850091" swAng="585009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21171000">
            <a:off x="4714560" y="19890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24000" y="2852640"/>
            <a:ext cx="16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 0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6720" y="1989000"/>
            <a:ext cx="10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364000" y="3716280"/>
                <a:ext cx="208764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045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34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5292720" y="3645000"/>
            <a:ext cx="2232000" cy="21603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rické funkce ostrého úhl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2360" y="2924280"/>
            <a:ext cx="3816360" cy="2373120"/>
            <a:chOff x="252360" y="2924280"/>
            <a:chExt cx="3816360" cy="2373120"/>
          </a:xfrm>
        </p:grpSpPr>
        <p:sp>
          <p:nvSpPr>
            <p:cNvPr id="54" name=""/>
            <p:cNvSpPr/>
            <p:nvPr/>
          </p:nvSpPr>
          <p:spPr>
            <a:xfrm>
              <a:off x="755640" y="335772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4240" y="444024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6920" y="45813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483640" y="4221360"/>
              <a:ext cx="4316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8360" y="465300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29242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8360" y="479736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27280" y="4292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5640" y="342900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52720" y="321228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5280" y="47973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0920" y="35002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2360" y="3789360"/>
              <a:ext cx="357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284720" y="2492280"/>
            <a:ext cx="172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přep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78936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prot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450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– př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87700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apiš názvy stran vzhledem k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349360"/>
            <a:ext cx="324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úhlý trojúhelní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505480" y="3406680"/>
                <a:ext cx="193032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,8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0085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,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2411280" y="24210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75280" y="1557360"/>
            <a:ext cx="14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8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50920" y="1413000"/>
            <a:ext cx="4681440" cy="792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 rot="18673200">
            <a:off x="415440" y="1697400"/>
            <a:ext cx="2157840" cy="14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400" y="3127"/>
                </a:moveTo>
                <a:arcTo wR="10800" hR="10800" stAng="-2716409" swAng="1418805"/>
                <a:lnTo>
                  <a:pt x="10800" y="10800"/>
                </a:lnTo>
                <a:close/>
              </a:path>
              <a:path fill="none" w="21600" h="21600">
                <a:moveTo>
                  <a:pt x="18400" y="3127"/>
                </a:moveTo>
                <a:arcTo wR="10800" hR="10800" stAng="-2716409" swAng="14188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482920" y="1773360"/>
            <a:ext cx="5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rot="21557400">
            <a:off x="4427640" y="1770840"/>
            <a:ext cx="86508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90" y="92"/>
                </a:moveTo>
                <a:arcTo wR="10800" hR="10800" stAng="-5850091" swAng="5850091"/>
                <a:lnTo>
                  <a:pt x="10800" y="10800"/>
                </a:lnTo>
                <a:close/>
              </a:path>
              <a:path fill="none" w="21600" h="21600">
                <a:moveTo>
                  <a:pt x="9390" y="92"/>
                </a:moveTo>
                <a:arcTo wR="10800" hR="10800" stAng="-5850091" swAng="585009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21171000">
            <a:off x="4714560" y="19890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9640" y="3357720"/>
            <a:ext cx="38163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m………..0,85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00 m………….   x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: 0,85 = 2400 :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= 20,4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" y="5516640"/>
            <a:ext cx="705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2 400 m je výškový rozdíl trati 20,4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ť stoupá pod úhlem asi 0,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ange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třního ostrého úhlu libovolného pravoúhlého trojúhelníku je poměr délky protilehlé odvěsny tohoto úhlu k délce přilehlé odvěs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95280" y="3284640"/>
            <a:ext cx="3816360" cy="2373120"/>
            <a:chOff x="395280" y="3284640"/>
            <a:chExt cx="3816360" cy="2373120"/>
          </a:xfrm>
        </p:grpSpPr>
        <p:sp>
          <p:nvSpPr>
            <p:cNvPr id="77" name=""/>
            <p:cNvSpPr/>
            <p:nvPr/>
          </p:nvSpPr>
          <p:spPr>
            <a:xfrm>
              <a:off x="900000" y="371808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8600" y="480060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1640" y="4941720"/>
              <a:ext cx="745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628360" y="4581720"/>
              <a:ext cx="43092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2720" y="501336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640" y="328464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4520" y="5157720"/>
              <a:ext cx="357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73440" y="4653000"/>
              <a:ext cx="357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378936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97080" y="357264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9640" y="5157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95640" y="386064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5280" y="414972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012000" y="3174840"/>
                <a:ext cx="20160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 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39640" y="5877000"/>
            <a:ext cx="4753080" cy="6318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apiš tangens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62680" y="4978440"/>
                <a:ext cx="215100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 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796000" y="3106800"/>
            <a:ext cx="2521080" cy="15825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5013360"/>
            <a:ext cx="2521080" cy="15825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ému ostrému úhlu přísluš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ávě je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dnota funkce tan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157720"/>
            <a:ext cx="5113440" cy="1511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trojte graf funkce tange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užij tabulky, kalkulačku, milimetrový papí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781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známk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ngens ostrého úhlu může být i větší než jedna. Zdůvodni 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93372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že délka jedné odvěsny není vždy menší než délka druhé odvěs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56000" y="4869000"/>
          <a:ext cx="6335640" cy="863640"/>
        </p:xfrm>
        <a:graphic>
          <a:graphicData uri="http://schemas.openxmlformats.org/drawingml/2006/table">
            <a:tbl>
              <a:tblPr/>
              <a:tblGrid>
                <a:gridCol w="503280"/>
                <a:gridCol w="431640"/>
                <a:gridCol w="638280"/>
                <a:gridCol w="611280"/>
                <a:gridCol w="608040"/>
                <a:gridCol w="606240"/>
                <a:gridCol w="611280"/>
                <a:gridCol w="608040"/>
                <a:gridCol w="609480"/>
                <a:gridCol w="608040"/>
                <a:gridCol w="5000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1052640"/>
            <a:ext cx="4680000" cy="5805360"/>
            <a:chOff x="0" y="1052640"/>
            <a:chExt cx="4680000" cy="5805360"/>
          </a:xfrm>
        </p:grpSpPr>
        <p:sp>
          <p:nvSpPr>
            <p:cNvPr id="103" name=""/>
            <p:cNvSpPr/>
            <p:nvPr/>
          </p:nvSpPr>
          <p:spPr>
            <a:xfrm>
              <a:off x="431640" y="1171440"/>
              <a:ext cx="0" cy="568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360" y="6369120"/>
              <a:ext cx="45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200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092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128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164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344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236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1308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128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200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64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0800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6980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2728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8764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4944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0836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6872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2908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7280" y="6381720"/>
              <a:ext cx="216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0360" y="14209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2920" y="263700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2920" y="4437000"/>
              <a:ext cx="2156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0360" y="532620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0360" y="604512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360" y="5721480"/>
              <a:ext cx="142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360" y="422748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360" y="325584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360" y="285264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3280" y="6045120"/>
              <a:ext cx="288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92000" y="6021360"/>
              <a:ext cx="0" cy="2872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150920" y="5734080"/>
              <a:ext cx="0" cy="574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3280" y="5721480"/>
              <a:ext cx="6476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3280" y="5326200"/>
              <a:ext cx="1008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511280" y="5300640"/>
              <a:ext cx="0" cy="10080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3280" y="3255840"/>
              <a:ext cx="20890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03280" y="1413000"/>
              <a:ext cx="2448000" cy="79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3280" y="1420920"/>
              <a:ext cx="2448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871640" y="4868640"/>
              <a:ext cx="0" cy="14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232000" y="4220640"/>
              <a:ext cx="1440" cy="2087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92360" y="3284640"/>
              <a:ext cx="0" cy="30240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2951280" y="1413000"/>
              <a:ext cx="1440" cy="49672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0360" y="457056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3280" y="4869000"/>
              <a:ext cx="13683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3280" y="4227480"/>
              <a:ext cx="1730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1052640"/>
              <a:ext cx="39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74000"/>
            </a:bodyPr>
            <a:p>
              <a:pPr marL="253800" indent="-2538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tg</a:t>
              </a:r>
              <a:r>
                <a:rPr b="0" lang="cs-CZ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64000" y="6397560"/>
              <a:ext cx="216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280" y="634356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5640" y="6019920"/>
              <a:ext cx="712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5695920"/>
              <a:ext cx="6984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74560" y="5300640"/>
              <a:ext cx="730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4832280"/>
              <a:ext cx="7128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5640" y="4192560"/>
              <a:ext cx="6984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9000" y="3249720"/>
              <a:ext cx="6984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4560" y="1384200"/>
              <a:ext cx="69840" cy="73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58560" y="4857480"/>
              <a:ext cx="14148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67280" y="1628640"/>
            <a:ext cx="4824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jíme nalezené bod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řivka, které se nikdy nedotkne prodloužení vedené z bodu 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780000" y="-360"/>
            <a:ext cx="1440" cy="6451560"/>
          </a:xfrm>
          <a:prstGeom prst="line">
            <a:avLst/>
          </a:prstGeom>
          <a:ln cap="rnd" w="284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71280"/>
            <a:ext cx="2736720" cy="6266160"/>
          </a:xfrm>
          <a:custGeom>
            <a:avLst/>
            <a:gdLst/>
            <a:ahLst/>
            <a:rect l="l" t="t" r="r" b="b"/>
            <a:pathLst>
              <a:path w="1724" h="3947">
                <a:moveTo>
                  <a:pt x="0" y="3947"/>
                </a:moveTo>
                <a:cubicBezTo>
                  <a:pt x="72" y="3894"/>
                  <a:pt x="144" y="3841"/>
                  <a:pt x="227" y="3765"/>
                </a:cubicBezTo>
                <a:cubicBezTo>
                  <a:pt x="310" y="3689"/>
                  <a:pt x="409" y="3591"/>
                  <a:pt x="499" y="3493"/>
                </a:cubicBezTo>
                <a:cubicBezTo>
                  <a:pt x="589" y="3395"/>
                  <a:pt x="680" y="3297"/>
                  <a:pt x="771" y="3176"/>
                </a:cubicBezTo>
                <a:cubicBezTo>
                  <a:pt x="862" y="3055"/>
                  <a:pt x="960" y="2933"/>
                  <a:pt x="1043" y="2767"/>
                </a:cubicBezTo>
                <a:cubicBezTo>
                  <a:pt x="1126" y="2601"/>
                  <a:pt x="1194" y="2435"/>
                  <a:pt x="1270" y="2178"/>
                </a:cubicBezTo>
                <a:cubicBezTo>
                  <a:pt x="1346" y="1921"/>
                  <a:pt x="1421" y="1588"/>
                  <a:pt x="1497" y="1225"/>
                </a:cubicBezTo>
                <a:cubicBezTo>
                  <a:pt x="1573" y="862"/>
                  <a:pt x="1686" y="204"/>
                  <a:pt x="1724" y="0"/>
                </a:cubicBezTo>
              </a:path>
            </a:pathLst>
          </a:custGeom>
          <a:noFill/>
          <a:ln w="414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3789360"/>
            <a:ext cx="43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em funkce tangens j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angento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4664160"/>
            <a:ext cx="3384720" cy="324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274400"/>
            <a:ext cx="3754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tková kruž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2560" y="25765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6319800"/>
            <a:ext cx="709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477440" y="2863800"/>
            <a:ext cx="7200000" cy="69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44481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6920" y="64641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79640" y="4220640"/>
            <a:ext cx="3816360" cy="21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79640" y="2709360"/>
            <a:ext cx="381636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050920" y="260280"/>
            <a:ext cx="3673440" cy="616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00720" y="4246560"/>
            <a:ext cx="0" cy="2058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37480" y="2781360"/>
            <a:ext cx="0" cy="353376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77120" y="258840"/>
            <a:ext cx="0" cy="60562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5399640" y="497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g 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5941080" y="4149000"/>
            <a:ext cx="122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g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6408000" y="2961000"/>
            <a:ext cx="143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g 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916280"/>
            <a:ext cx="223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jednotka = 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724360" y="144360"/>
            <a:ext cx="0" cy="615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4257720"/>
            <a:ext cx="6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278136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2602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1440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voď hodnoty funkce tangens pro úhly 30°, 45° a 60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ávo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ij rovnostranný a rovnoramenný pravoúhlý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52520" y="4149720"/>
            <a:ext cx="1943280" cy="19652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2924280"/>
            <a:ext cx="244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ramenn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úhl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3644640"/>
            <a:ext cx="4538520" cy="4496400"/>
            <a:chOff x="0" y="3644640"/>
            <a:chExt cx="4538520" cy="4496400"/>
          </a:xfrm>
        </p:grpSpPr>
        <p:sp>
          <p:nvSpPr>
            <p:cNvPr id="191" name=""/>
            <p:cNvSpPr/>
            <p:nvPr/>
          </p:nvSpPr>
          <p:spPr>
            <a:xfrm>
              <a:off x="539640" y="566280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30560" y="4129560"/>
              <a:ext cx="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48000" y="566280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523116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6094800"/>
              <a:ext cx="43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6880" y="6028200"/>
              <a:ext cx="43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50920" y="371808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520" y="61329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18160" y="61329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8720" y="573588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6099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609930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74920" y="59518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81080" y="606600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2000" y="465480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472644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8113800">
              <a:off x="756360" y="4726440"/>
              <a:ext cx="2878200" cy="2808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26160" y="631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8197800">
              <a:off x="1857960" y="379332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828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82852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30560" y="43311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95640" y="4583520"/>
              <a:ext cx="71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19280" y="4583520"/>
              <a:ext cx="719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40360" y="2781360"/>
            <a:ext cx="2089080" cy="2815920"/>
            <a:chOff x="4140360" y="2781360"/>
            <a:chExt cx="2089080" cy="2815920"/>
          </a:xfrm>
        </p:grpSpPr>
        <p:sp>
          <p:nvSpPr>
            <p:cNvPr id="212" name=""/>
            <p:cNvSpPr/>
            <p:nvPr/>
          </p:nvSpPr>
          <p:spPr>
            <a:xfrm>
              <a:off x="4140360" y="2781360"/>
              <a:ext cx="2089080" cy="17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ythagorova vě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4248360" y="4508280"/>
                  <a:ext cx="133164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6588000" y="2708280"/>
            <a:ext cx="1878120" cy="4149720"/>
            <a:chOff x="6588000" y="2708280"/>
            <a:chExt cx="1878120" cy="4149720"/>
          </a:xfrm>
        </p:grpSpPr>
        <p:sp>
          <p:nvSpPr>
            <p:cNvPr id="215" name=""/>
            <p:cNvSpPr/>
            <p:nvPr/>
          </p:nvSpPr>
          <p:spPr>
            <a:xfrm>
              <a:off x="6588000" y="2708280"/>
              <a:ext cx="187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(c/2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 -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c/2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6659640" y="3400560"/>
                  <a:ext cx="1806480" cy="345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</m:rad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rad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132000" y="5877000"/>
                <a:ext cx="1295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627280" y="2781360"/>
            <a:ext cx="1943280" cy="19652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41360"/>
            <a:ext cx="410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ramenný pravoúhl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4760" y="2275920"/>
            <a:ext cx="4538520" cy="4496400"/>
            <a:chOff x="374760" y="2275920"/>
            <a:chExt cx="4538520" cy="4496400"/>
          </a:xfrm>
        </p:grpSpPr>
        <p:sp>
          <p:nvSpPr>
            <p:cNvPr id="222" name=""/>
            <p:cNvSpPr/>
            <p:nvPr/>
          </p:nvSpPr>
          <p:spPr>
            <a:xfrm>
              <a:off x="914400" y="429408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05320" y="2760840"/>
              <a:ext cx="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22760" y="429408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2760" y="386244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4760" y="4726080"/>
              <a:ext cx="43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81640" y="4659480"/>
              <a:ext cx="43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25680" y="234936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21280" y="47642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92920" y="47642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3480" y="436716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6099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609930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9680" y="458316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55840" y="469728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6760" y="328608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74760" y="335772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8113800">
              <a:off x="1131120" y="3357720"/>
              <a:ext cx="2878200" cy="2808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00920" y="494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8197800">
              <a:off x="2232720" y="242460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828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82852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05320" y="29624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70400" y="3214800"/>
              <a:ext cx="71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94040" y="3214800"/>
              <a:ext cx="719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796000" y="2421000"/>
                <a:ext cx="2033640" cy="36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a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5867280" y="1628640"/>
            <a:ext cx="13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6920" y="5661000"/>
                <a:ext cx="1295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8360" y="1989000"/>
            <a:ext cx="1690920" cy="244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126828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strann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00000" y="4869000"/>
            <a:ext cx="2811600" cy="1729800"/>
            <a:chOff x="900000" y="4869000"/>
            <a:chExt cx="2811600" cy="1729800"/>
          </a:xfrm>
        </p:grpSpPr>
        <p:sp>
          <p:nvSpPr>
            <p:cNvPr id="249" name=""/>
            <p:cNvSpPr/>
            <p:nvPr/>
          </p:nvSpPr>
          <p:spPr>
            <a:xfrm>
              <a:off x="900000" y="4869000"/>
              <a:ext cx="2811600" cy="10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agorova vě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(a/2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971640" y="5735520"/>
                  <a:ext cx="136836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254160" y="1773360"/>
            <a:ext cx="4068720" cy="3095640"/>
            <a:chOff x="254160" y="1773360"/>
            <a:chExt cx="4068720" cy="3095640"/>
          </a:xfrm>
        </p:grpSpPr>
        <p:sp>
          <p:nvSpPr>
            <p:cNvPr id="252" name=""/>
            <p:cNvSpPr/>
            <p:nvPr/>
          </p:nvSpPr>
          <p:spPr>
            <a:xfrm>
              <a:off x="2030400" y="441324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3520" y="3983040"/>
              <a:ext cx="782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6120" y="1968480"/>
              <a:ext cx="3421080" cy="24703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7560" y="1968480"/>
              <a:ext cx="1440" cy="24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7680" y="3983040"/>
              <a:ext cx="834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24080" y="320364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4160" y="437832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5520" y="437832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71920" y="1773360"/>
              <a:ext cx="38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92680" y="4473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70640" y="4475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06760" y="2552760"/>
              <a:ext cx="81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24080" y="2552760"/>
              <a:ext cx="873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5960" y="4114800"/>
              <a:ext cx="64512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782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7822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52960" y="4243680"/>
              <a:ext cx="6480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57640" y="2943360"/>
              <a:ext cx="3859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6880" y="3008520"/>
              <a:ext cx="387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308320" y="3071880"/>
                <a:ext cx="93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843280" y="184464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478400" y="1628640"/>
                <a:ext cx="1906560" cy="501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996240" y="2637000"/>
                <a:ext cx="181584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 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a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 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09:13:14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9-17T23:07:54Z</dcterms:modified>
  <cp:revision>53</cp:revision>
  <dc:subject/>
  <dc:title>Funkce tangens</dc:title>
</cp:coreProperties>
</file>