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1.png" ContentType="image/png"/>
  <Override PartName="/ppt/media/image24.png" ContentType="image/png"/>
  <Override PartName="/ppt/media/image60.png" ContentType="image/png"/>
  <Override PartName="/ppt/media/image2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227-C309-4C16-9B95-9B328236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B4E-74DE-47A4-9E2F-9C9CCE70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361-7E44-4778-8770-687F93D7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313-3ED2-4D77-B8A1-EDB4827C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37C1-C917-462F-95CA-4C67EF24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ACBF-98E6-4C85-9BBB-47A74FCB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0560-E56E-4AB0-80A5-ABB6CDD9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2D98-2DFF-4FA5-9777-71539F06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6B39-4EBD-4485-95B0-B9C2E14E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7B66-D055-46FB-8D67-BF0CB6EE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17D8-814A-4860-9980-6B18E0E3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9A6-0BEA-4A5A-8788-AB438D52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47B4-79F8-4CB6-AC9C-38CF0EC1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63D6-A0BE-497A-A2C5-C7422734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8C33-12D0-4D83-866A-4717E013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A5D5-96AF-4D17-B73B-38B30668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4E34-0640-4DBD-AB38-FEFFB06E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00C-0182-4253-98D4-894FCB27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E1D-506F-4256-B7E7-A4531EDF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344-E0F8-45AA-8EB2-622932B7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4E2-8B69-4385-8EAB-031BC878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DB5-2E64-45B8-8E6E-B13FEEB7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136-E9FC-4DA3-98B2-AD91DF39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CCC-B402-4AA9-8B45-388D9948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2B60-F98B-420F-8430-147148857DBD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A71C-9A35-462B-B9A3-3C2B722F555D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image" Target="../media/image68.png"/><Relationship Id="rId13" Type="http://schemas.openxmlformats.org/officeDocument/2006/relationships/image" Target="../media/image69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Vlastnosti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trojúhel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Střední příčky trojúhelník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2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484280"/>
            <a:ext cx="720108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981000"/>
            <a:ext cx="8137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střední příčky trojúhelníku ABC, je-li a = 5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120°, b = 45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16000" y="1584360"/>
            <a:ext cx="7056360" cy="464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116000" y="1584360"/>
            <a:ext cx="7056360" cy="4643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116000" y="1584360"/>
            <a:ext cx="7056360" cy="4643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116000" y="1584360"/>
            <a:ext cx="7056360" cy="4643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1116000" y="1584360"/>
            <a:ext cx="7056360" cy="4643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1116000" y="1584360"/>
            <a:ext cx="7056360" cy="4643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1116000" y="1584360"/>
            <a:ext cx="7056360" cy="4643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1116000" y="1584360"/>
            <a:ext cx="7056360" cy="4643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0"/>
          <a:stretch/>
        </p:blipFill>
        <p:spPr>
          <a:xfrm>
            <a:off x="1116000" y="1584360"/>
            <a:ext cx="7056360" cy="4643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1116000" y="1584360"/>
            <a:ext cx="7056360" cy="4643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2"/>
          <a:stretch/>
        </p:blipFill>
        <p:spPr>
          <a:xfrm>
            <a:off x="1116000" y="1584360"/>
            <a:ext cx="7056360" cy="4643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3"/>
          <a:stretch/>
        </p:blipFill>
        <p:spPr>
          <a:xfrm>
            <a:off x="1116000" y="1584360"/>
            <a:ext cx="7056360" cy="46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3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1484280"/>
            <a:ext cx="69138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1052640"/>
            <a:ext cx="828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střední příčky trojúhelníku ABC, je-li b = 5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50°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6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95840" y="1370160"/>
            <a:ext cx="511164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3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1484280"/>
            <a:ext cx="727416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1052640"/>
            <a:ext cx="828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střední příčky trojúhelníku ABC, je-li b = 5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50°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6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187280" y="1584360"/>
            <a:ext cx="7056720" cy="4643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187280" y="1584360"/>
            <a:ext cx="7056720" cy="4643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1187280" y="1584360"/>
            <a:ext cx="7056720" cy="4643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1187280" y="1584360"/>
            <a:ext cx="7056720" cy="4643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1187280" y="1584360"/>
            <a:ext cx="7056720" cy="4643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1187280" y="1584360"/>
            <a:ext cx="7056720" cy="4643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1187280" y="1584360"/>
            <a:ext cx="7056720" cy="4643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1187280" y="1584360"/>
            <a:ext cx="7056720" cy="4643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1187280" y="1584360"/>
            <a:ext cx="7056720" cy="4643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1187280" y="1584360"/>
            <a:ext cx="7056720" cy="4643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2"/>
          <a:stretch/>
        </p:blipFill>
        <p:spPr>
          <a:xfrm>
            <a:off x="1187280" y="1584360"/>
            <a:ext cx="7056720" cy="4643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3"/>
          <a:stretch/>
        </p:blipFill>
        <p:spPr>
          <a:xfrm>
            <a:off x="1187280" y="1584360"/>
            <a:ext cx="7056720" cy="46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135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amatuj si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0" name=""/>
          <p:cNvSpPr/>
          <p:nvPr/>
        </p:nvSpPr>
        <p:spPr>
          <a:xfrm>
            <a:off x="900000" y="270828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Střední příčka je úsečka spojující středy dvou stran trojúhelníku (vzdálenost středů dvou stra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4653000"/>
            <a:ext cx="756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To znamená: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Střední příčka trojúhelníku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s</a:t>
            </a:r>
            <a:r>
              <a:rPr b="1" i="1" lang="cs-CZ" sz="2000" spc="-1" strike="noStrike" baseline="-25000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je úsečka spojující středy stran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a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, střední příčka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s</a:t>
            </a:r>
            <a:r>
              <a:rPr b="1" i="1" lang="cs-CZ" sz="2000" spc="-1" strike="noStrike" baseline="-25000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je úsečka spojující středy stran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 c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 střední příčka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s</a:t>
            </a:r>
            <a:r>
              <a:rPr b="1" i="1" lang="cs-CZ" sz="2000" spc="-1" strike="noStrike" baseline="-25000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je úsečka spojující středy stran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a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12000" y="581040"/>
            <a:ext cx="25826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1628640"/>
            <a:ext cx="691380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třední příčka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927000" y="105264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třední příčka je spojnice středů dvou str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25560" y="141300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35200" y="1712880"/>
            <a:ext cx="5645160" cy="4549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735200" y="1712880"/>
            <a:ext cx="5645160" cy="4549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735200" y="1712880"/>
            <a:ext cx="5645160" cy="45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2119320"/>
            <a:ext cx="691380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onstrukce střední příčky trojúhelníku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927000" y="10526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ákladem konstrukce středních příček je „nalezení“ středů stran pomocí konstrukce os úseček (str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25560" y="141300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28800" y="162864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té následuje postupné spojení středů dvou příslušných str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44480" y="2201760"/>
            <a:ext cx="5807160" cy="4179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44480" y="2201760"/>
            <a:ext cx="5807160" cy="4179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644480" y="2201760"/>
            <a:ext cx="5807160" cy="4179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644480" y="2201760"/>
            <a:ext cx="5807160" cy="4179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1644480" y="2201760"/>
            <a:ext cx="5807160" cy="417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1644480" y="2201760"/>
            <a:ext cx="5807160" cy="4179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1644480" y="2201760"/>
            <a:ext cx="5807160" cy="4179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1644480" y="2201760"/>
            <a:ext cx="5807160" cy="4179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1644480" y="2201760"/>
            <a:ext cx="5807160" cy="4179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1644480" y="2201760"/>
            <a:ext cx="5807160" cy="4179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1644480" y="2201760"/>
            <a:ext cx="5807160" cy="417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1644480" y="2201760"/>
            <a:ext cx="5807160" cy="4179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4"/>
          <a:stretch/>
        </p:blipFill>
        <p:spPr>
          <a:xfrm>
            <a:off x="1644480" y="2201760"/>
            <a:ext cx="5807160" cy="41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4560" y="2205000"/>
            <a:ext cx="6913440" cy="41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třední příčka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927000" y="99360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Střední příčka je úsečka, jejímiž krajními body jsou středy dvou stran (vzdálenost středů dvou stra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1368360"/>
            <a:ext cx="789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Protože trojúhelník má tři vrcholy a k nim existují tři kombinace dvojic středů stran, má, jak bylo vidět i na předcházejícím snímku, i tři střední příč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8800" y="1773360"/>
            <a:ext cx="8035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třední příčky se označují malým písmenem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s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s dolním indexem příslušné stra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87400" y="2232000"/>
            <a:ext cx="5664240" cy="407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87400" y="2232000"/>
            <a:ext cx="5664240" cy="4076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787400" y="2232000"/>
            <a:ext cx="5664240" cy="4076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787400" y="2232000"/>
            <a:ext cx="5664240" cy="4076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1787400" y="2232000"/>
            <a:ext cx="5664240" cy="407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1787400" y="2232000"/>
            <a:ext cx="5664240" cy="4076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1787400" y="2232000"/>
            <a:ext cx="5664240" cy="4076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1787400" y="2232000"/>
            <a:ext cx="5664240" cy="4076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1787400" y="2232000"/>
            <a:ext cx="5664240" cy="4076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1787400" y="2232000"/>
            <a:ext cx="5664240" cy="4076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1787400" y="2232000"/>
            <a:ext cx="5664240" cy="4076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1787400" y="2232000"/>
            <a:ext cx="5664240" cy="407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1787400" y="2232000"/>
            <a:ext cx="566424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4560" y="1989000"/>
            <a:ext cx="691344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Vlastnosti středních příček trojúhelníku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928800" y="879480"/>
            <a:ext cx="7893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Už vás na předcházejících snímcích napadlo, jaké vlastnosti střední příčky mají? Pokud ne, dám vám ještě jednu možn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8800" y="1254240"/>
            <a:ext cx="8215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Střední příčka je rovnoběžná s příslušnou stranou (např. </a:t>
            </a:r>
            <a:r>
              <a:rPr b="1" i="1" lang="cs-CZ" sz="1800" spc="-1" strike="noStrike">
                <a:solidFill>
                  <a:srgbClr val="ff0000"/>
                </a:solidFill>
                <a:latin typeface="Trebuchet MS"/>
              </a:rPr>
              <a:t>s</a:t>
            </a:r>
            <a:r>
              <a:rPr b="1" i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 se stranou </a:t>
            </a:r>
            <a:r>
              <a:rPr b="1" i="1" lang="cs-CZ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28800" y="1600200"/>
            <a:ext cx="7893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Její velikost je rovna polovině velikosti této str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62200" y="2103480"/>
            <a:ext cx="5762520" cy="4108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32000" y="564660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34000" y="5587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41068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34000" y="40622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3573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7480" y="38019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8920" y="534348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59880" y="5329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63120" y="3773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6000" y="5388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08720" y="5388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36000" y="38178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38178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86120" y="410544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86120" y="410544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-0.00416 L 0.19167 0.22428 E">
                                      <p:cBhvr>
                                        <p:cTn id="362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0208 L -0.05869 0.22451 E">
                                      <p:cBhvr>
                                        <p:cTn id="36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14560" y="2205000"/>
            <a:ext cx="6913440" cy="414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Vlastnosti středních příček trojúhelníku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2" name=""/>
          <p:cNvSpPr/>
          <p:nvPr/>
        </p:nvSpPr>
        <p:spPr>
          <a:xfrm>
            <a:off x="927000" y="1353960"/>
            <a:ext cx="7893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třední příčky rozdělují trojúhelník na čtyři shodné trojúhelní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97000" y="2289240"/>
            <a:ext cx="4851360" cy="3973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82840" y="4164120"/>
            <a:ext cx="2089080" cy="1511280"/>
          </a:xfrm>
          <a:custGeom>
            <a:avLst/>
            <a:gdLst/>
            <a:ahLst/>
            <a:rect l="l" t="t" r="r" b="b"/>
            <a:pathLst>
              <a:path w="1316" h="952">
                <a:moveTo>
                  <a:pt x="0" y="952"/>
                </a:moveTo>
                <a:lnTo>
                  <a:pt x="1316" y="952"/>
                </a:lnTo>
                <a:lnTo>
                  <a:pt x="771" y="0"/>
                </a:lnTo>
                <a:lnTo>
                  <a:pt x="0" y="95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82840" y="4708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56080" y="4164120"/>
            <a:ext cx="2089080" cy="1511280"/>
          </a:xfrm>
          <a:custGeom>
            <a:avLst/>
            <a:gdLst/>
            <a:ahLst/>
            <a:rect l="l" t="t" r="r" b="b"/>
            <a:pathLst>
              <a:path w="1316" h="952">
                <a:moveTo>
                  <a:pt x="0" y="952"/>
                </a:moveTo>
                <a:lnTo>
                  <a:pt x="1316" y="952"/>
                </a:lnTo>
                <a:lnTo>
                  <a:pt x="771" y="0"/>
                </a:lnTo>
                <a:lnTo>
                  <a:pt x="0" y="95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56080" y="4708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6840" y="2693880"/>
            <a:ext cx="2089080" cy="1511280"/>
          </a:xfrm>
          <a:custGeom>
            <a:avLst/>
            <a:gdLst/>
            <a:ahLst/>
            <a:rect l="l" t="t" r="r" b="b"/>
            <a:pathLst>
              <a:path w="1316" h="952">
                <a:moveTo>
                  <a:pt x="0" y="952"/>
                </a:moveTo>
                <a:lnTo>
                  <a:pt x="1316" y="952"/>
                </a:lnTo>
                <a:lnTo>
                  <a:pt x="771" y="0"/>
                </a:lnTo>
                <a:lnTo>
                  <a:pt x="0" y="95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6840" y="32385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3606480" y="4164120"/>
            <a:ext cx="2089080" cy="1511280"/>
          </a:xfrm>
          <a:custGeom>
            <a:avLst/>
            <a:gdLst/>
            <a:ahLst/>
            <a:rect l="l" t="t" r="r" b="b"/>
            <a:pathLst>
              <a:path w="1316" h="952">
                <a:moveTo>
                  <a:pt x="0" y="952"/>
                </a:moveTo>
                <a:lnTo>
                  <a:pt x="1316" y="952"/>
                </a:lnTo>
                <a:lnTo>
                  <a:pt x="771" y="0"/>
                </a:lnTo>
                <a:lnTo>
                  <a:pt x="0" y="952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90840" y="4338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příklad č. 1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484280"/>
            <a:ext cx="69138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0960" y="1052640"/>
            <a:ext cx="8412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střední příčky trojúhelníku ABC, je-li a = 7 cm, b = 6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 45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95840" y="1370160"/>
            <a:ext cx="511164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1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1484280"/>
            <a:ext cx="69138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960" y="1052640"/>
            <a:ext cx="84121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střední příčky trojúhelníku ABC, je-li a = 7 cm, b = 6 cm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 = 45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631880" y="1581120"/>
            <a:ext cx="5819760" cy="4694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631880" y="1584360"/>
            <a:ext cx="5819760" cy="4694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631880" y="1584360"/>
            <a:ext cx="5819760" cy="4694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631880" y="1584360"/>
            <a:ext cx="5819760" cy="4694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1631880" y="1584360"/>
            <a:ext cx="5819760" cy="4694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1631880" y="1584360"/>
            <a:ext cx="5819760" cy="4694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1631880" y="1584360"/>
            <a:ext cx="5819760" cy="4694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1631880" y="1584360"/>
            <a:ext cx="5819760" cy="46940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1631880" y="1584360"/>
            <a:ext cx="5819760" cy="4694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1631880" y="1584360"/>
            <a:ext cx="5819760" cy="4694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2"/>
          <a:stretch/>
        </p:blipFill>
        <p:spPr>
          <a:xfrm>
            <a:off x="1631880" y="1584360"/>
            <a:ext cx="5819760" cy="4694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3"/>
          <a:stretch/>
        </p:blipFill>
        <p:spPr>
          <a:xfrm>
            <a:off x="1631880" y="1584360"/>
            <a:ext cx="5819760" cy="46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– příklad č. 2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1484280"/>
            <a:ext cx="6913800" cy="486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981000"/>
            <a:ext cx="8137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střední příčky trojúhelníku ABC, je-li a = 5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120°, b = 45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95840" y="1370160"/>
            <a:ext cx="511164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25T13:09:12Z</dcterms:modified>
  <cp:revision>173</cp:revision>
  <dc:subject/>
  <dc:title>Střední příčky trojúhelníku</dc:title>
</cp:coreProperties>
</file>