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373-AE7B-4F80-92B0-3C16A1B0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1C7-0335-4C11-9D93-FA89EF59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41A-6C0D-4071-B827-74AEF1FC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E6F-8FFD-4BFA-88CC-6F823C9C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0D76-C99C-4248-B29C-879D3229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64CA-919A-44F3-8C72-CCBECCEA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C082-F542-41C8-9196-535F5BA8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3B73-E9D9-4A78-97B8-AB3B388B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7C02-9EF9-4B86-8F7E-B4F62CA6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7474-9FC7-4DCB-ACD9-854A60AB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8457-31AA-42DE-BA37-2AD093A5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524-38C2-4B2C-A8EB-44891189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0903-C7EE-4219-A4FE-D0D197D5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3CD2-075E-41D3-A973-C91074BF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9C82-F3F8-4A32-A8B3-0E2A2CAF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34FE-4CDB-47DF-A7A0-32036D1A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30CF-9FDA-4B03-8FB1-D8743BF7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45A-18D1-41A4-9F8B-8FB4C026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C91-509C-4AC0-BA5F-FE11DEA7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915-80F8-4A4F-86B0-7FC32680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4B0-FD36-4318-B791-CB823C59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DC9-D7E6-4C70-9AC7-A5C71837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43C-9FCC-4819-A44A-5D806056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E04-A0F7-4AD8-9CCE-39A0E599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BCD1-F76D-4398-9B33-69BB7E38F5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26E8-99D9-42CF-80F2-A8E7EA8A664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Soustava dvou lineárních rovnic se dvěma neznámými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4292640"/>
            <a:ext cx="8077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Řešení sčítací metodo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6046920" cy="45561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42920" y="907920"/>
            <a:ext cx="7344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84c6a"/>
                </a:solidFill>
                <a:latin typeface="Trebuchet MS"/>
              </a:rPr>
              <a:t>Přeji mnoho úspěchů při řešení soustav lineárních rovnic se dvěma neznámým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4360" y="2435400"/>
            <a:ext cx="806436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4292640"/>
            <a:ext cx="64800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Řešení soustavy dvou lineárních rovnic se dvěma neznámými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sčítací metodou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1628640"/>
            <a:ext cx="7274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.: Najděte řešení soustavy lineárních rovnic:   2x - y = 3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                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3x + y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349360"/>
            <a:ext cx="8064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421000"/>
            <a:ext cx="79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.) Rovnice vynásobíme takovými čísly (různými od nuly), abychom po sečtení upravených rovnic dostali jednu lineární rovnici s jednou neznámou. Jinými slovy, násobíme tak, aby členy s jednou z neznámých představovaly po násobení opačné výrazy a jejich součet byl tedy nula. Ukážeme si to s neznámou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132000" y="3500280"/>
                <a:ext cx="25923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900000" y="4941720"/>
            <a:ext cx="8064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) Rovnice sečteme a vypočítáme neznámou (v našem případě 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146400" y="3822840"/>
                <a:ext cx="221760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484360" y="422100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57600" y="4280040"/>
                <a:ext cx="19159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973240" y="4610160"/>
                <a:ext cx="17049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666960" y="5238720"/>
                <a:ext cx="865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809880" y="5559480"/>
                <a:ext cx="10987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14920" y="5877000"/>
                <a:ext cx="6778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870440" y="5235480"/>
                <a:ext cx="5367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743280" y="622296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137040" y="5224320"/>
                <a:ext cx="506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1557360"/>
            <a:ext cx="8064360" cy="489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02320" y="2608200"/>
            <a:ext cx="50292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Řešení soustavy dvou lineárních rovnic se dvěma neznámými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sčítací metodou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544500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284720" y="2549520"/>
                <a:ext cx="13777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900000" y="1700280"/>
            <a:ext cx="792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) Nyní budeme se soustavou pracovat stejně jako v prvním kroku, jen s tím rozdílem, že členy s neznámou, které budou představovat po násobení opačné výrazy a jejich součet bude tedy nula, budou členy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284720" y="2982960"/>
                <a:ext cx="13777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900000" y="3284640"/>
            <a:ext cx="7272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Tentokrát je vidět, že násobit ani nemusíme, protože členy s neznámou y jsou již v zadání opačné výrazy. Tudíž můžeme rovnice rovnou sečíst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vypočítat neznámou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140360" y="4165560"/>
                <a:ext cx="1641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284880" y="4206960"/>
                <a:ext cx="536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900680" y="4699080"/>
                <a:ext cx="12841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183280" y="5140440"/>
                <a:ext cx="747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900000" y="5661000"/>
            <a:ext cx="806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4.) Získali jsme dvojici čísel x = 2 a y = 1, tedy uspořádanou dvojici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[2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;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 Přesvědčíme se ještě, zda je řešením první i druhé rovnice sousta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557600" y="4167360"/>
                <a:ext cx="505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557360"/>
            <a:ext cx="8064360" cy="489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Řešení soustavy dvou lineárních rovnic se dvěma neznámými </a:t>
            </a: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sčítací metodou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3120" y="170028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esvědčíme se, že uspořádaná dvojice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[2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;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je řešením první i druhé rovnice sousta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56000" y="2217600"/>
                <a:ext cx="13716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940360" y="2217600"/>
                <a:ext cx="13683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500200" y="2612880"/>
                <a:ext cx="14400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870520" y="2612880"/>
                <a:ext cx="14382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836800" y="3044880"/>
                <a:ext cx="11160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221520" y="3044880"/>
                <a:ext cx="11127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52960" y="3473280"/>
                <a:ext cx="6951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593040" y="3473280"/>
                <a:ext cx="7207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54320" y="3855960"/>
                <a:ext cx="8571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443640" y="3849840"/>
                <a:ext cx="92880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900000" y="4365720"/>
            <a:ext cx="806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5.) Uspořádaná dvojice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[2</a:t>
            </a:r>
            <a:r>
              <a:rPr b="1" lang="cs-CZ" sz="1800" spc="-1" strike="noStrike">
                <a:solidFill>
                  <a:srgbClr val="ff0000"/>
                </a:solidFill>
                <a:latin typeface="Trebuchet MS"/>
              </a:rPr>
              <a:t>;1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je řešením první i druhé rovnice, je tedy řešením dané soustavy lineárních rovn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4221000"/>
            <a:ext cx="4032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ff0000"/>
                </a:solidFill>
                <a:latin typeface="Arial"/>
              </a:rPr>
              <a:t>[2</a:t>
            </a:r>
            <a:r>
              <a:rPr b="1" lang="cs-CZ" sz="14000" spc="-1" strike="noStrike">
                <a:solidFill>
                  <a:srgbClr val="ff0000"/>
                </a:solidFill>
                <a:latin typeface="Arial"/>
              </a:rPr>
              <a:t>;1</a:t>
            </a:r>
            <a:r>
              <a:rPr b="1" lang="en-US" sz="140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69960" y="836640"/>
            <a:ext cx="8136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Shrnutí</a:t>
            </a: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1700280"/>
            <a:ext cx="806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odstatou sčítací metody je, že jednotlivé rovnice soustavy nejprve násobíme takovými čísly (různými od nuly), aby členy 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s jednou z neznámých představovaly po této úpravě opačné výrazy a jejich součet byl nula, tudíž abychom po sečtení upravených rovnic dostali jednu lineární rovnici s jednou jedinou neznám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645000"/>
            <a:ext cx="813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i řešení soustavy sčítací metodou je tedy nejdůležitější najít vhodná čísla, kterými budeme jednotlivé rovnice náso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4653000"/>
            <a:ext cx="8135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A ještě jednu podstatnou věc bychom si měli říct a zapamatovat.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Rovnice soustavy nebudou vždy již v zadání ve tvaru </a:t>
            </a:r>
            <a:r>
              <a:rPr b="1" lang="cs-CZ" sz="2000" spc="-1" strike="noStrike">
                <a:solidFill>
                  <a:srgbClr val="00cc00"/>
                </a:solidFill>
                <a:latin typeface="Trebuchet MS"/>
              </a:rPr>
              <a:t>ax+by=c</a:t>
            </a: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. </a:t>
            </a:r>
            <a:br>
              <a:rPr sz="2000"/>
            </a:br>
            <a:r>
              <a:rPr b="1" lang="cs-CZ" sz="2000" spc="-1" strike="noStrike">
                <a:solidFill>
                  <a:srgbClr val="284c6a"/>
                </a:solidFill>
                <a:latin typeface="Trebuchet MS"/>
              </a:rPr>
              <a:t>V takovém případě je ještě před tím, než začneme hledat vhodná čísla, kterými budeme jednotlivé rovnice násobit, do tohoto tvaru upraví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4360" y="1414440"/>
            <a:ext cx="806436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49360"/>
            <a:ext cx="83804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i řešení soustavy dvou lineárních rovnic se dvěma neznámými obvykle kombinujeme dosazovací metodu s metodou sčít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631880"/>
            <a:ext cx="345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.) Rovnice nejdříve sečteme 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a vypočítáme první neznám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20720" y="2278080"/>
                <a:ext cx="12924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546200" y="3070080"/>
            <a:ext cx="144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60640" y="3174840"/>
                <a:ext cx="96660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24080" y="3529080"/>
                <a:ext cx="12081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273480" y="3171960"/>
                <a:ext cx="506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224080" y="3925800"/>
                <a:ext cx="703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4592520"/>
                <a:ext cx="11718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kouška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39920" y="4624560"/>
                <a:ext cx="2613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178000" y="42228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38480" y="4956120"/>
                <a:ext cx="7110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100400" y="4956120"/>
                <a:ext cx="7732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537160" y="4624560"/>
                <a:ext cx="26352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551560" y="4956120"/>
                <a:ext cx="7538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394400" y="4956120"/>
                <a:ext cx="836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576440" y="5302080"/>
            <a:ext cx="648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Řešením dané soustavy je uspořádaná dvojice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[2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;1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]</a:t>
            </a:r>
            <a:r>
              <a:rPr b="1" lang="cs-CZ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76360" y="5921280"/>
            <a:ext cx="6697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nyní už vzhůru a beze strachu na soustavy rovn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1573200"/>
            <a:ext cx="367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) Poté dosadíme vypočítanou neznámou do kterékoliv z obou rovnic a určíme druhou neznám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651640" y="2351160"/>
                <a:ext cx="12967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22760" y="2709720"/>
                <a:ext cx="14288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26240" y="3070080"/>
                <a:ext cx="1122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66000" y="3459240"/>
                <a:ext cx="1342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084720" y="3819600"/>
                <a:ext cx="1035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299280" y="4176720"/>
                <a:ext cx="637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6257880" y="451008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280280" y="3084480"/>
                <a:ext cx="595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377120" y="3833640"/>
                <a:ext cx="77328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4360" y="765000"/>
            <a:ext cx="53276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404640"/>
            <a:ext cx="8380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teď sami. 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ebojte, nebudete-li si vědět rady jak dál, klikněte a odtajním vám další kr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56360" y="907920"/>
                <a:ext cx="8841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084720" y="1628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56360" y="1643040"/>
                <a:ext cx="9144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26920" y="907920"/>
                <a:ext cx="8845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084720" y="21765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567480" y="2782800"/>
                <a:ext cx="465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7543800" y="2795760"/>
                <a:ext cx="915840" cy="24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481880" y="3063960"/>
                <a:ext cx="9777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970760" y="3616200"/>
                <a:ext cx="7905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970760" y="3882960"/>
                <a:ext cx="5731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140520" y="3933720"/>
                <a:ext cx="86508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kouška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178680" y="4221000"/>
                <a:ext cx="9111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343560" y="4726080"/>
                <a:ext cx="6969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632640" y="5056200"/>
                <a:ext cx="4014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516720" y="5337000"/>
                <a:ext cx="5713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83480" y="4491000"/>
                <a:ext cx="11588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107200" y="4738680"/>
                <a:ext cx="72720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354880" y="5056200"/>
                <a:ext cx="4795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164360" y="5715000"/>
                <a:ext cx="924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7164360" y="6237360"/>
            <a:ext cx="938160" cy="42840"/>
            <a:chOff x="7164360" y="6237360"/>
            <a:chExt cx="938160" cy="42840"/>
          </a:xfrm>
        </p:grpSpPr>
        <p:sp>
          <p:nvSpPr>
            <p:cNvPr id="188" name=""/>
            <p:cNvSpPr/>
            <p:nvPr/>
          </p:nvSpPr>
          <p:spPr>
            <a:xfrm>
              <a:off x="7164360" y="623736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65800" y="6280200"/>
              <a:ext cx="93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290080" y="5337000"/>
                <a:ext cx="6188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205760" y="1058760"/>
                <a:ext cx="3157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174080" y="1643040"/>
                <a:ext cx="5252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032520" y="2205000"/>
                <a:ext cx="1162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084720" y="27385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667640" y="3343320"/>
                <a:ext cx="79056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518160" y="2997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58160" y="413532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4360" y="765000"/>
            <a:ext cx="53276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404640"/>
            <a:ext cx="8380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teď sami. 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ebojte, nebudete-li si vědět rady jak dál, klikněte a odtajním vám další kr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41960" y="744480"/>
                <a:ext cx="1728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,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6084720" y="123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885960" y="907920"/>
                <a:ext cx="1603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,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294600" y="1262160"/>
                <a:ext cx="1373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6084720" y="17524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280200" y="1809720"/>
                <a:ext cx="1373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6084720" y="231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272280" y="2370240"/>
                <a:ext cx="1179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141960" y="28605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596360" y="2367000"/>
                <a:ext cx="33804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588080" y="2629080"/>
                <a:ext cx="5796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649920" y="3429000"/>
                <a:ext cx="101448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913440" y="3622680"/>
                <a:ext cx="12733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907320" y="3836880"/>
                <a:ext cx="515880" cy="1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357960" y="4076640"/>
                <a:ext cx="163044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262560" y="4294080"/>
                <a:ext cx="16113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93000" y="5384880"/>
                <a:ext cx="2151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k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099120" y="5773680"/>
                <a:ext cx="24274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k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,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,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317080" y="6159600"/>
                <a:ext cx="576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8258040" y="645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58040" y="64962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114960" y="2903400"/>
                <a:ext cx="1551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6170760" y="3394080"/>
            <a:ext cx="14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624720" y="4518000"/>
                <a:ext cx="9349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832440" y="4711680"/>
                <a:ext cx="7257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924600" y="4913280"/>
                <a:ext cx="8874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934320" y="5137200"/>
                <a:ext cx="6285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6883560" y="40338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62760" y="535932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4360" y="765000"/>
            <a:ext cx="53276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404640"/>
            <a:ext cx="8380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teď sami. 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Nebojte, nebudete-li si vědět rady jak dál, klikněte a odtajním vám další kr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84720" y="123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89120" y="907920"/>
                <a:ext cx="17985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084720" y="17524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4720" y="231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41960" y="28605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626240" y="2352600"/>
                <a:ext cx="5461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746760" y="3406680"/>
                <a:ext cx="8208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862680" y="3622680"/>
                <a:ext cx="93528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872400" y="3814920"/>
                <a:ext cx="7095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580080" y="4076640"/>
                <a:ext cx="13557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207120" y="4294080"/>
                <a:ext cx="172404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087960" y="5373720"/>
                <a:ext cx="2587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k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070680" y="5762520"/>
                <a:ext cx="263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k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8211960" y="6151680"/>
                <a:ext cx="7858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8258040" y="645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58040" y="64962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156360" y="2903400"/>
                <a:ext cx="13888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6170760" y="3394080"/>
            <a:ext cx="14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618240" y="4532400"/>
                <a:ext cx="132408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994440" y="4726080"/>
                <a:ext cx="132264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004160" y="4927680"/>
                <a:ext cx="96660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262640" y="5137200"/>
                <a:ext cx="15973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6945480" y="40338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424720" y="535932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084720" y="706320"/>
                <a:ext cx="17989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099120" y="1249200"/>
                <a:ext cx="1768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084720" y="1801800"/>
                <a:ext cx="1768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6242040" y="2349360"/>
                <a:ext cx="12589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7-25T08:17:07Z</dcterms:modified>
  <cp:revision>112</cp:revision>
  <dc:subject/>
  <dc:title>Soustava lineárních rovnic - řešení sčítací metodou</dc:title>
</cp:coreProperties>
</file>