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9E7-C35D-4031-B09F-1702181F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4BE-C59C-4EEC-96F0-CD0FD9D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C38-95B6-4455-B77A-F88E59DE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7B6-7755-4618-84DB-9339DCA5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011C-59A6-45E0-90D8-ADB9009B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4F7E-766D-4554-9A71-4208394F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BA2A-59B8-4EDF-A4A6-EB600C8F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F46D-6496-44E3-AEB5-FF1A46F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EB5-84E5-44ED-9DA2-5955F68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7DC-C907-40A3-89AB-3A0EAF3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8241-E4A1-42A8-A9DE-C6D9FFF6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F0E-D888-4957-857C-52A1C826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0DA4-412A-49AB-B4AB-AF0E4DB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CC3B-5462-4BBA-94AF-0FED3F6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92E2-915F-4BF0-A927-AEF6676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91DE-19B7-414F-BD15-0700BEE8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A46-362B-4ABB-A196-DD09663D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E0F-4194-4034-811B-73939A67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C1A-EE67-46E9-901F-F80E09E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35D-4F03-4EA2-95FF-FD1BD13E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465-1EFD-49CB-993C-8BFE7B4A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6E8-74B8-4422-A04D-03B7185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B47-9B31-4004-A2EA-DF22B4C2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6E9-52E4-4C0F-884B-326FD0DE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967-05AA-4587-B4A9-A19D3AFAFF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F8C0-2875-42BD-938E-04580589143D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Zástupný symbol pro zápatí 3"/>
          <p:cNvSpPr/>
          <p:nvPr/>
        </p:nvSpPr>
        <p:spPr>
          <a:xfrm>
            <a:off x="816120" y="645336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84c6a"/>
                </a:solidFill>
                <a:latin typeface="Trebuchet MS"/>
              </a:rPr>
              <a:t>Soustava dvou lineárních rovnic se dvěma neznámými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429264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Řešení grafickou metodou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050840"/>
            <a:ext cx="7632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Existují tři základní metody řešení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843280" y="2924280"/>
            <a:ext cx="4402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dosazovací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sčítací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4c6a"/>
                </a:solidFill>
                <a:latin typeface="Trebuchet MS"/>
              </a:rPr>
              <a:t>grafická metod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628640"/>
            <a:ext cx="720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   2x - y = 3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2563920"/>
            <a:ext cx="792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1.) Z obou rovnic nejprve vyjádříme neznámou 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95640" y="3030480"/>
                <a:ext cx="13125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19520" y="3043080"/>
                <a:ext cx="779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90920" y="3360600"/>
                <a:ext cx="15350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00440" y="3720960"/>
                <a:ext cx="146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224240" y="3375000"/>
                <a:ext cx="7794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216080" y="5805360"/>
            <a:ext cx="712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estrojíme jejich graf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09800" y="4081320"/>
                <a:ext cx="131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562720" y="3029040"/>
                <a:ext cx="131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0760" y="3360600"/>
                <a:ext cx="1314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183360" y="3720960"/>
                <a:ext cx="146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201680" y="4510080"/>
            <a:ext cx="7473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ískali jsme rovnice dvou lineárních závislo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148280" y="4836960"/>
                <a:ext cx="2117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48280" y="5311800"/>
                <a:ext cx="2368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570120" y="4835520"/>
            <a:ext cx="6908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70120" y="5281560"/>
            <a:ext cx="86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628640"/>
            <a:ext cx="720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   2x - y = 3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2492280"/>
            <a:ext cx="806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Sestrojíme grafy lineárních závisl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44500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2x-3, prochází body </a:t>
            </a:r>
            <a:br>
              <a:rPr sz="1600"/>
            </a:b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 souřadnicích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-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B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0;-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92360" y="3259080"/>
                <a:ext cx="1962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085760" y="2838600"/>
            <a:ext cx="720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rčíme souřadnice dvou různých bodů, kterými prochází graf lineární závislosti dané rovnic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38624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př. pro x=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2920" y="386388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2.1-3=2-3=-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70320" y="420840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4581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ouřadnice prvního bodu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3480" y="5013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A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-1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8624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př. pro x=0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38624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2.0-3=0-3=-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43760" y="420696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457992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ouřadnice druhého bodu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5011560"/>
            <a:ext cx="1512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B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0;-3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2435400"/>
            <a:ext cx="806436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28640"/>
            <a:ext cx="7201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Př.: Najděte řešení soustavy lineárních rovnic:   2x - y = 3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                  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   3x + y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349360"/>
            <a:ext cx="80643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492280"/>
            <a:ext cx="806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2.) Sestrojíme grafy lineárních závisl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5445000"/>
            <a:ext cx="7559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římka, jež je grafem lineární závislosti dané rovnicí y=-3x+7, prochází body o souřadnicích 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4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a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 D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;-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00360" y="3259080"/>
                <a:ext cx="219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085760" y="2838600"/>
            <a:ext cx="720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Určíme souřadnice dvou různých bodů, kterými prochází graf lineární závislosti dané rovnic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38624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př. pro x=1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2920" y="386388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3.1+7=-3+7=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70320" y="420840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4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458136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ouřadnice prvního bodu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3480" y="5013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C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1;4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86244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Např. pro x=3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386244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3.3+7=-9+7=-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43760" y="420696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y=-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4579920"/>
            <a:ext cx="33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Souřadnice druhého bodu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5640" y="5011560"/>
            <a:ext cx="1512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D 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[</a:t>
            </a:r>
            <a:r>
              <a:rPr b="1" lang="cs-CZ" sz="2400" spc="-1" strike="noStrike">
                <a:solidFill>
                  <a:srgbClr val="00cc00"/>
                </a:solidFill>
                <a:latin typeface="Trebuchet MS"/>
              </a:rPr>
              <a:t>3;-2</a:t>
            </a:r>
            <a:r>
              <a:rPr b="1" lang="en-US" sz="2400" spc="-1" strike="noStrike">
                <a:solidFill>
                  <a:srgbClr val="00cc00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1557360"/>
            <a:ext cx="8064360" cy="476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4221000"/>
            <a:ext cx="151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[</a:t>
            </a:r>
            <a:r>
              <a:rPr b="1" lang="cs-CZ" sz="2800" spc="-1" strike="noStrike">
                <a:solidFill>
                  <a:srgbClr val="ff0000"/>
                </a:solidFill>
                <a:latin typeface="Trebuchet MS"/>
              </a:rPr>
              <a:t>2;1</a:t>
            </a: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3135240" y="1576440"/>
            <a:ext cx="5253120" cy="466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2133720"/>
            <a:ext cx="28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Průsečík obou přímek má souřadn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708280"/>
            <a:ext cx="287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Uspořádaná dvoj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jak rovnice 2x-y=3, tak i rovnice 3x+y=7. Je tedy řešením soustavy lineárních rovnic se dvěma neznámý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5300640"/>
            <a:ext cx="30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Zkouška: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2.2-1=4-1=3; 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3; 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1</a:t>
            </a:r>
            <a:br>
              <a:rPr sz="1600"/>
            </a:b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3.2+1=6+1=7; 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7; L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=P</a:t>
            </a:r>
            <a:r>
              <a:rPr b="1" lang="en-US" sz="1600" spc="-1" strike="noStrike" baseline="-25000">
                <a:solidFill>
                  <a:srgbClr val="284c6a"/>
                </a:solidFill>
                <a:latin typeface="Trebuchet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62864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3.) Grafy obou lineárních závislostí sestrojíme v téže soustavě souřadn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1557360"/>
            <a:ext cx="8064360" cy="489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440" y="503280"/>
            <a:ext cx="84963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Grafické řešení</a:t>
            </a:r>
            <a:r>
              <a:rPr b="1" lang="en-US" sz="3000" spc="-1" strike="noStrike">
                <a:solidFill>
                  <a:srgbClr val="284c6a"/>
                </a:solidFill>
                <a:latin typeface="Trebuchet MS"/>
              </a:rPr>
              <a:t> soustavy dvou lineárních rovnic se dvěma neznámým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628640"/>
            <a:ext cx="8064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Ověříme, že uspořádaná dvojice 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2;1</a:t>
            </a:r>
            <a:r>
              <a:rPr b="1" lang="en-US" sz="1600" spc="-1" strike="noStrike">
                <a:solidFill>
                  <a:srgbClr val="284c6a"/>
                </a:solidFill>
                <a:latin typeface="Trebuchet MS"/>
              </a:rPr>
              <a:t>]</a:t>
            </a:r>
            <a:r>
              <a:rPr b="1" lang="cs-CZ" sz="1600" spc="-1" strike="noStrike">
                <a:solidFill>
                  <a:srgbClr val="284c6a"/>
                </a:solidFill>
                <a:latin typeface="Trebuchet MS"/>
              </a:rPr>
              <a:t> je řešením dané soustavy ještě i početně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20720" y="2278080"/>
                <a:ext cx="12924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6200" y="3070080"/>
            <a:ext cx="144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60640" y="3174840"/>
                <a:ext cx="9666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4080" y="3529080"/>
                <a:ext cx="12081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3480" y="3171960"/>
                <a:ext cx="506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24080" y="3925800"/>
                <a:ext cx="703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00000" y="4592520"/>
                <a:ext cx="11718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kouška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239920" y="4624560"/>
                <a:ext cx="2613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2178000" y="42228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38480" y="4956120"/>
                <a:ext cx="7110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100400" y="4956120"/>
                <a:ext cx="773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537160" y="4624560"/>
                <a:ext cx="26352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551560" y="4956120"/>
                <a:ext cx="7538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94400" y="4956120"/>
                <a:ext cx="836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081160" y="5445000"/>
            <a:ext cx="544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Řešením dané soustavy je tedy skutečně uspořádaná dvojice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[2</a:t>
            </a:r>
            <a:r>
              <a:rPr b="1" lang="cs-CZ" sz="3200" spc="-1" strike="noStrike">
                <a:solidFill>
                  <a:srgbClr val="ff0000"/>
                </a:solidFill>
                <a:latin typeface="Trebuchet MS"/>
              </a:rPr>
              <a:t>;1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]</a:t>
            </a:r>
            <a:r>
              <a:rPr b="1" lang="cs-CZ" sz="2000" spc="-1" strike="noStrike">
                <a:solidFill>
                  <a:srgbClr val="ff0000"/>
                </a:solidFill>
                <a:latin typeface="Trebuchet MS"/>
              </a:rPr>
              <a:t>.</a:t>
            </a:r>
            <a:r>
              <a:rPr b="1" lang="cs-CZ" sz="16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651640" y="2351160"/>
                <a:ext cx="12967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22760" y="2709720"/>
                <a:ext cx="1428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826240" y="3070080"/>
                <a:ext cx="1122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66000" y="3459240"/>
                <a:ext cx="1342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084720" y="3819600"/>
                <a:ext cx="1035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299280" y="4176720"/>
                <a:ext cx="637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257880" y="45100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280280" y="3084480"/>
                <a:ext cx="595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377120" y="3833640"/>
                <a:ext cx="7732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8400" y="765000"/>
            <a:ext cx="770436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404640"/>
            <a:ext cx="8380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A teď sami. Graficky! </a:t>
            </a:r>
            <a:r>
              <a:rPr b="1" lang="en-US" sz="1400" spc="-1" strike="noStrike">
                <a:solidFill>
                  <a:srgbClr val="284c6a"/>
                </a:solidFill>
                <a:latin typeface="Trebuchet MS"/>
              </a:rPr>
              <a:t>Po kliknutí vám ukážu výsled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826920" y="836640"/>
                <a:ext cx="1086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705120" y="836640"/>
            <a:ext cx="461196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6046920" cy="4556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42920" y="907920"/>
            <a:ext cx="7344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84c6a"/>
                </a:solidFill>
                <a:latin typeface="Trebuchet MS"/>
              </a:rPr>
              <a:t>Přeji mnoho úspěchů při řešení soustav lineárních rovnic se dvěma neznámým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Dostupné z Metodického portálu www.rvp.cz, ISSN: 1802-4785, financovaného z ESF a státního rozpočtu ČR. Provozováno Výzkumným ústavem pedagogickým v Praze.</dc:description>
  <dc:language>en-US</dc:language>
  <cp:lastModifiedBy>Svejdova</cp:lastModifiedBy>
  <dcterms:modified xsi:type="dcterms:W3CDTF">2008-07-25T09:17:44Z</dcterms:modified>
  <cp:revision>118</cp:revision>
  <dc:subject/>
  <dc:title>Soustava lineárních rovnic - řešení grafickou metodou</dc:title>
</cp:coreProperties>
</file>