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43F-9F1E-4320-9482-B1E70CE3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EB05-0DC6-41A0-96C8-C33CC7FC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7ED-E8D1-4820-8DF2-4B9C5B02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5FD8-9953-4617-AB97-EC2126E9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602E-B89B-4B8C-8C46-38E08F5D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72B9-EF67-4682-AC36-A4C293B4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164D-2716-441E-BF1B-C977DF2E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F88A-2078-41A1-ACD1-FE9A17AA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EF7B-252E-46FF-BC8E-76311FD4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4688-C442-449B-952B-07E6E71D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A144-FC8D-458F-B4C7-DA90EC44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5425-06DD-491C-9397-DD7900C6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1CB5-BB62-4C75-9F53-649AFE28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58E4-A178-41D2-B7F0-D9293A2A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D933-F737-4D28-841D-6FD68A59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F878-C533-4C4C-B4EB-0AD5CC1F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AEAC-7F6B-45F6-9247-8FA231A5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BB4-E765-41EB-A12C-F7FF3C7D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44D3-65A9-4A7F-84BA-9DCC3E00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ABEF-97AB-44B6-BC79-B0BFDB16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DE9-5681-46F2-8D14-3B561EDA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243-B652-4EF7-BDC9-9338AB73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0D70-3C07-4266-9668-4CBABF51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0D3A-DA20-43ED-9623-42DE2B5B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A63E-F812-430A-BF78-0462E7959C7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D250-7D54-433E-B07A-DFA1A97ACE5B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Soustava dvou lineárních rovnic se dvěma neznámými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4292640"/>
            <a:ext cx="80773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Druhy grafických řešení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68360" y="1341360"/>
            <a:ext cx="6046920" cy="4556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042920" y="907920"/>
            <a:ext cx="7344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řeji mnoho úspěchů při řešení soustav lineárních rovnic se dvěma neznámým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55640" y="549360"/>
            <a:ext cx="80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84c6a"/>
                </a:solidFill>
                <a:latin typeface="Trebuchet MS"/>
              </a:rPr>
              <a:t>Všechny možnosti řešení si představíme a především prakticky ukážeme na konkrétních příkladec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1973160"/>
            <a:ext cx="770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Vyřešíme následující soustavy dvou lineárních rovnic </a:t>
            </a:r>
            <a:br>
              <a:rPr sz="2200"/>
            </a:b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a rozebereme výsledky, ke kterým dospějem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92360" y="3068640"/>
                <a:ext cx="16556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724360" y="3429000"/>
                <a:ext cx="218772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700360" y="4869000"/>
                <a:ext cx="244152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</m:e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2435400"/>
            <a:ext cx="806436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2440" y="503280"/>
            <a:ext cx="8496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Grafické řešení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 soustavy dvou lineárních rovnic se dvěma neznámým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1628640"/>
            <a:ext cx="720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.: Najděte řešení soustavy lineárních rovnic:   2x - y = 3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                 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3x + y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2349360"/>
            <a:ext cx="80643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32000" y="2494080"/>
                <a:ext cx="13129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855880" y="2506680"/>
                <a:ext cx="7794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727280" y="2824200"/>
                <a:ext cx="15350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36800" y="3184560"/>
                <a:ext cx="14698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360600" y="2838600"/>
                <a:ext cx="7797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46160" y="3544920"/>
                <a:ext cx="1314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651640" y="2492280"/>
                <a:ext cx="13143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259680" y="2824200"/>
                <a:ext cx="13143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272280" y="3184560"/>
                <a:ext cx="14698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900000" y="5157720"/>
            <a:ext cx="36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mka, jež je grafem lineární závislosti dané rovnicí y=2x-3, prochází body o souřadnicích 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1;-1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0;-3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3862440"/>
            <a:ext cx="115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ro x=1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384984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y=2.1-3=2-3=-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33600" y="4149720"/>
            <a:ext cx="13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1;-1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57320" y="443700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ro x=0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94040" y="4437000"/>
            <a:ext cx="172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y=2.0-3=0-3=-3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724280"/>
            <a:ext cx="151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0;-3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18040" y="5154480"/>
            <a:ext cx="36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mka, jež je grafem lineární závislosti dané rovnicí y=2x-3, prochází body o souřadnicích 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1;4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3;-2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60960" y="3859200"/>
            <a:ext cx="115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ro x=1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7680" y="3846600"/>
            <a:ext cx="2003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y=-3.1+7=-3+7=4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51640" y="414648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1;4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5360" y="443376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ro x=3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1720" y="4433760"/>
            <a:ext cx="191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y=-3.3+7=-9+7=-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80360" y="4724280"/>
            <a:ext cx="151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3;-2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175520" y="2506680"/>
                <a:ext cx="7570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4360" y="1557360"/>
            <a:ext cx="8064360" cy="476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2440" y="503280"/>
            <a:ext cx="8496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Grafické řešení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 soustavy dvou lineárních rovnic se dvěma neznámým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1628640"/>
            <a:ext cx="8064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Grafy obou lineárních závislostí sestrojíme v téže soustavě souřadn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979640"/>
            <a:ext cx="5538960" cy="432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141720" y="1979640"/>
            <a:ext cx="5538600" cy="4329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143160" y="1987560"/>
            <a:ext cx="5527800" cy="4321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3143160" y="1987560"/>
            <a:ext cx="5527800" cy="4321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3143160" y="1987560"/>
            <a:ext cx="5527800" cy="432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3143160" y="1987560"/>
            <a:ext cx="5527800" cy="4321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3143160" y="1987560"/>
            <a:ext cx="5527800" cy="4321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3143160" y="1987560"/>
            <a:ext cx="5527800" cy="4321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3143160" y="1987560"/>
            <a:ext cx="5527800" cy="4321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1"/>
          <a:stretch/>
        </p:blipFill>
        <p:spPr>
          <a:xfrm>
            <a:off x="3143160" y="1987560"/>
            <a:ext cx="5527800" cy="4321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2"/>
          <a:stretch/>
        </p:blipFill>
        <p:spPr>
          <a:xfrm>
            <a:off x="3143160" y="1987560"/>
            <a:ext cx="5527800" cy="4321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55640" y="246384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růsečík obou přímek má souřadnice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[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2;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3068640"/>
            <a:ext cx="2879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Uspořádaná dvojice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[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2;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je řešením jak rovnice 2x-y=3, tak i rovnice 3x+y=7. </a:t>
            </a:r>
            <a:br>
              <a:rPr sz="1600"/>
            </a:b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Je tedy řešením soustavy lineárních rovnic se dvěma neznámý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4681440"/>
            <a:ext cx="302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Zkouška: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L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=2.2-1=4-1=3; P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=3; L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=P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L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=3.2+1=6+1=7; P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=7; L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=P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5661000"/>
            <a:ext cx="31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Daná soustava lineárních rovnic má právě jedno ře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4360" y="2435400"/>
            <a:ext cx="806436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2440" y="503280"/>
            <a:ext cx="8496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Grafické řešení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 soustavy dvou lineárních rovnic se dvěma neznámým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1585800"/>
            <a:ext cx="568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.: Najděte řešení soustavy lineárních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2349360"/>
            <a:ext cx="80643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258920" y="2421000"/>
                <a:ext cx="1584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025800" y="2575080"/>
                <a:ext cx="4683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116000" y="2973240"/>
                <a:ext cx="1781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565280" y="3303720"/>
                <a:ext cx="13366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141720" y="2979720"/>
                <a:ext cx="6220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92400" y="3649680"/>
                <a:ext cx="13366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540400" y="2481120"/>
                <a:ext cx="1538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256440" y="2824200"/>
                <a:ext cx="12920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880240" y="3184560"/>
                <a:ext cx="1269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900000" y="5157720"/>
            <a:ext cx="36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mka, jež je grafem lineární závislosti dané rovnicí y=2x-3, prochází body o souřadnicích 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-1;-2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0;2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3862440"/>
            <a:ext cx="115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ro x=-1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3849840"/>
            <a:ext cx="23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y=4.(-1)+2=-4+2=-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33600" y="4149720"/>
            <a:ext cx="13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-1;-2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57320" y="443700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ro x=0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94040" y="4437000"/>
            <a:ext cx="172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y=4.0+2=0+2=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4724280"/>
            <a:ext cx="151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0;2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18040" y="5154480"/>
            <a:ext cx="36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mka, jež je grafem lineární závislosti dané rovnicí y=2x-3, prochází body o souřadnicích 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1;3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0;-1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60960" y="3859200"/>
            <a:ext cx="115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ro x=1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97680" y="3846600"/>
            <a:ext cx="2003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y=4.1-1=4-1=3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1640" y="414648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1;3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75360" y="443376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ro x=0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1720" y="4433760"/>
            <a:ext cx="191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y=4.0-1=0-1=-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80360" y="4724280"/>
            <a:ext cx="151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0;-1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508880" y="2492280"/>
                <a:ext cx="6015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7785000" y="2857680"/>
                <a:ext cx="5112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429240" y="3573360"/>
                <a:ext cx="1270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659640" y="1454040"/>
                <a:ext cx="158436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703920" y="2001960"/>
                <a:ext cx="1538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4360" y="1557360"/>
            <a:ext cx="8064360" cy="476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2440" y="503280"/>
            <a:ext cx="8496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Grafické řešení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 soustavy dvou lineárních rovnic se dvěma neznámým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1628640"/>
            <a:ext cx="8064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Grafy obou lineárních závislostí sestrojíme v téže soustavě souřadn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3286080"/>
            <a:ext cx="2879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Grafy obou lineárních závislostí jsou rovnoběžné přímky. Nemají společný b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4365720"/>
            <a:ext cx="2879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eexistuje žádná uspořádaná dvojice, která by byla řešením jak první, tak zároveň druhé rovn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917880" y="1863720"/>
            <a:ext cx="4470480" cy="4398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917880" y="1863720"/>
            <a:ext cx="4470480" cy="43988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917880" y="1863720"/>
            <a:ext cx="4470480" cy="4398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3917880" y="1863720"/>
            <a:ext cx="4470480" cy="4398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3917880" y="1863720"/>
            <a:ext cx="4470480" cy="4398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3917880" y="1863720"/>
            <a:ext cx="4470480" cy="4398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3917880" y="1863720"/>
            <a:ext cx="4470480" cy="4398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55640" y="5661000"/>
            <a:ext cx="287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Daná soustava lineárních rovnic nemá ře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4360" y="2435400"/>
            <a:ext cx="806436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2440" y="503280"/>
            <a:ext cx="8496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Grafické řešení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 soustavy dvou lineárních rovnic se dvěma neznámým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1585800"/>
            <a:ext cx="568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.: Najděte řešení soustavy lineárních rovn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2349360"/>
            <a:ext cx="80643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671480" y="2446200"/>
                <a:ext cx="14464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198960" y="2449440"/>
                <a:ext cx="8683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966960" y="2814480"/>
                <a:ext cx="14922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490760" y="3228840"/>
                <a:ext cx="14922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584440" y="2835360"/>
                <a:ext cx="6922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662120" y="3524400"/>
                <a:ext cx="141120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278320" y="2381400"/>
                <a:ext cx="14544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05320" y="3073320"/>
                <a:ext cx="1470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838840" y="3500280"/>
                <a:ext cx="146988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900000" y="5589720"/>
            <a:ext cx="763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mka, jež je grafem obou lineárních závislostí, prochází body </a:t>
            </a:r>
            <a:br>
              <a:rPr sz="1600"/>
            </a:b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 souřadnicích 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2;0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-2;1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00000" y="4438800"/>
            <a:ext cx="338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ro obě rovnice platí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472608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ro x=2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71640" y="515628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2;0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4360" y="4722840"/>
            <a:ext cx="1125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ro x=-2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96360" y="5156280"/>
            <a:ext cx="122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-2;1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886440" y="2579760"/>
                <a:ext cx="517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850080" y="3067200"/>
                <a:ext cx="662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012000" y="3822840"/>
                <a:ext cx="13525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842160" y="1427040"/>
                <a:ext cx="12193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815160" y="1671480"/>
                <a:ext cx="13161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124080" y="3238560"/>
                <a:ext cx="5940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297560" y="3513240"/>
                <a:ext cx="6382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765440" y="4940280"/>
                <a:ext cx="13539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859280" y="4940280"/>
                <a:ext cx="2817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4360" y="1557360"/>
            <a:ext cx="8064360" cy="476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2440" y="503280"/>
            <a:ext cx="8496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Grafické řešení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 soustavy dvou lineárních rovnic se dvěma neznámým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5640" y="1628640"/>
            <a:ext cx="8064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Grafy obou lineárních závislostí sestrojíme v téže soustavě souřadn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2637000"/>
            <a:ext cx="2879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Grafy obou lineárních závislostí splývaj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5640" y="3284640"/>
            <a:ext cx="2879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Souřadnice každého bodu narýsované přímky představují uspořádanou dvojici, která je řešením obou rovn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4581360"/>
            <a:ext cx="287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Daná soustava lineárních rovnic má nekonečně mnoho ře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917880" y="1863720"/>
            <a:ext cx="4470480" cy="4398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3917880" y="1863720"/>
            <a:ext cx="4470480" cy="4398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917880" y="1863720"/>
            <a:ext cx="4470480" cy="43988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3917880" y="1863720"/>
            <a:ext cx="4470480" cy="4398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55640" y="5445000"/>
            <a:ext cx="22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Řešením je každá uspořádaná dvoj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29080" y="5675400"/>
            <a:ext cx="934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981080" y="404496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714760" y="5423040"/>
                <a:ext cx="1800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5640" y="549360"/>
            <a:ext cx="2376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hrnut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2637000"/>
            <a:ext cx="2232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1.) Soustava má právě jedno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1052640"/>
            <a:ext cx="82090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Stejně jako u početních řešení i u metody grafické existují tři druhy možných řešení soustavy dvou lineárních rovnic se dvěma neznámými.</a:t>
            </a:r>
            <a:br>
              <a:rPr sz="24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aké a jak je pozná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35280" y="2752560"/>
            <a:ext cx="2305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2.)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oustava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nemá žádné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0560" y="2752560"/>
            <a:ext cx="2305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3.) Soustava má nekonečně mnoho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53960" y="4076640"/>
            <a:ext cx="276408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3751200" y="4076640"/>
            <a:ext cx="219564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6480000" y="4076640"/>
            <a:ext cx="219564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7-28T09:29:23Z</dcterms:modified>
  <cp:revision>148</cp:revision>
  <dc:subject/>
  <dc:title>Soustavy rovnic - druhy grafických řešení</dc:title>
</cp:coreProperties>
</file>