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3408-0A15-46C6-A682-717A6886B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ACDE-42E1-48C2-8111-C301B9FC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611E-3D85-43FA-9EBB-19FCD9F06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131A-E69A-484C-9514-A0B0F8473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D052-F6A9-46E3-A4FF-D5CFCF7DC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E72E-48B6-44D4-B823-B0AB49AA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95C4-5F40-44B7-8946-5DD10487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3BBD-B1D0-402F-9942-43273CFD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79C08-C863-42E7-9E94-9FAE284C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C7FED-A83F-46BD-AC3A-140A0CC9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7A9D-1BBB-4DBD-89FF-2CF20A54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CF06-6D7A-438F-8ADD-93D49D6D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7521-EA82-4EAF-9C3A-9775EAA7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5646-2F88-40B5-892D-10B4FCF8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FD860-480A-42F6-A911-3706FB9B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312B-7BA9-4A80-AF24-221C66E41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5D593-78A7-4C71-AA80-CC93E035E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EBAE-5569-4ECC-BFB8-E0801C8D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CE56-7A59-4BF4-9301-19C01310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E24C-F264-499C-A822-C6B264DE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AD9B-9D47-401E-A1EA-B2164ADC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6770-4AC7-425F-9716-0562E966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136E-73B2-466B-8AFA-8F43C1C5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5503-4B57-43B3-A0D8-5FC0BEA1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179C-4990-44BD-BC84-4B897AB0DF2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F8B1-CAEF-4D18-9669-D3403E93F733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84c6a"/>
                </a:solidFill>
                <a:latin typeface="Trebuchet MS"/>
              </a:rPr>
              <a:t>Soustava dvou lineárních rovnic se dvěma neznámými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280" y="4292640"/>
            <a:ext cx="80773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Druhy řešení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4360" y="765000"/>
            <a:ext cx="532764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68360" y="404640"/>
            <a:ext cx="8380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Ověření. 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Vyzkoušíme si, zda řešení skutečně platí. Zvolíme si například x = 0.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6122880" y="3168720"/>
                <a:ext cx="14018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755640" y="836640"/>
                <a:ext cx="124452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2093760" y="1298520"/>
                <a:ext cx="1901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řešení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7230960" y="2405160"/>
                <a:ext cx="43668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7711920" y="765000"/>
                <a:ext cx="95724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6659640" y="879480"/>
                <a:ext cx="504720" cy="1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6899400" y="1268280"/>
                <a:ext cx="105552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7194600" y="1700280"/>
                <a:ext cx="56340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7202520" y="2133720"/>
                <a:ext cx="465120" cy="22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6248520" y="2708280"/>
                <a:ext cx="13046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6578640" y="3591000"/>
                <a:ext cx="77292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7545240" y="3933720"/>
                <a:ext cx="12747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7577280" y="4379760"/>
                <a:ext cx="13874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7900920" y="4869000"/>
                <a:ext cx="9352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7913520" y="5300640"/>
                <a:ext cx="790920" cy="2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7904160" y="5589720"/>
                <a:ext cx="48420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6307200" y="5775480"/>
            <a:ext cx="2944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Uspořádaná dvojice </a:t>
            </a: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[</a:t>
            </a: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0;4</a:t>
            </a: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]</a:t>
            </a:r>
            <a:r>
              <a:rPr b="1" lang="cs-CZ" sz="1400" spc="-1" strike="noStrike">
                <a:solidFill>
                  <a:srgbClr val="284c6a"/>
                </a:solidFill>
                <a:latin typeface="Trebuchet MS"/>
              </a:rPr>
              <a:t> je řešením dané soustavy rovni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0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10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500"/>
                            </p:stCondLst>
                            <p:childTnLst>
                              <p:par>
                                <p:cTn id="8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755640" y="549360"/>
            <a:ext cx="2376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Shrnut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413080" y="3355920"/>
            <a:ext cx="633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Vychází například: 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x=2 a y=-1 </a:t>
            </a:r>
            <a:r>
              <a:rPr b="1" lang="cs-CZ" sz="3200" spc="-1" strike="noStrike">
                <a:solidFill>
                  <a:srgbClr val="00cc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 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[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2;-1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26920" y="2565360"/>
            <a:ext cx="770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1. Soustava má právě jedno řeš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55640" y="1197000"/>
            <a:ext cx="8209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Existují tři druhy možných řešení soustavy dvou lineárních rovnic se dvěma neznámými.</a:t>
            </a:r>
            <a:br>
              <a:rPr sz="24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Jaké a jak je pozná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230480" y="3097080"/>
            <a:ext cx="770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Je jím uspořádaná dvojice čís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759200" y="4435560"/>
            <a:ext cx="4392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Vychází například: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0 =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26920" y="4002120"/>
            <a:ext cx="770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2.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Soustava 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nemá žádné řeš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7826400" y="4506480"/>
            <a:ext cx="171360" cy="35892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92720" y="5516640"/>
            <a:ext cx="331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Vychází například: 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0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26920" y="5083200"/>
            <a:ext cx="770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3. Soustava má nekonečně mnoho řeš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0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6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2000"/>
                            </p:stCondLst>
                            <p:childTnLst>
                              <p:par>
                                <p:cTn id="8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3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2268360" y="1341360"/>
            <a:ext cx="6046920" cy="45561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042920" y="907920"/>
            <a:ext cx="73440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Přeji mnoho úspěchů při řešení soustav lineárních rovnic se dvěma neznámým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55640" y="549360"/>
            <a:ext cx="8064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84c6a"/>
                </a:solidFill>
                <a:latin typeface="Trebuchet MS"/>
              </a:rPr>
              <a:t>Všechny možnosti řešení si představíme a především prakticky ukážeme na konkrétních příkladech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1973160"/>
            <a:ext cx="770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Vyřešíme si následující soustavy dvou lineárních rovnic </a:t>
            </a:r>
            <a:br>
              <a:rPr sz="2200"/>
            </a:b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a rozebereme výsledky, ke kterým dospějem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403280" y="2997360"/>
                <a:ext cx="30034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4,5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724360" y="3645000"/>
                <a:ext cx="266544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,1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0,5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,7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1,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0,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0,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132000" y="4508640"/>
                <a:ext cx="2300400" cy="17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4360" y="765000"/>
            <a:ext cx="532764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404640"/>
            <a:ext cx="8380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říklad č. 1. </a:t>
            </a: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Řešte, a jen pokud si nebudete vědět rady, klikněte. Pomohu vá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41960" y="744480"/>
                <a:ext cx="17287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4,5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6084720" y="1233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885960" y="907920"/>
                <a:ext cx="16030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4,5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6294600" y="1262160"/>
                <a:ext cx="13730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6084720" y="175248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6280200" y="1809720"/>
                <a:ext cx="13730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6084720" y="231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272280" y="2370240"/>
                <a:ext cx="11793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6141960" y="28605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7596360" y="2367000"/>
                <a:ext cx="338040" cy="2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7588080" y="2629080"/>
                <a:ext cx="57960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6649920" y="3429000"/>
                <a:ext cx="1014480" cy="1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6913440" y="3622680"/>
                <a:ext cx="127332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6907320" y="3836880"/>
                <a:ext cx="515880" cy="1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357960" y="4076640"/>
                <a:ext cx="163044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6262560" y="4294080"/>
                <a:ext cx="161136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6093000" y="5384880"/>
                <a:ext cx="21510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Zk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099120" y="5773680"/>
                <a:ext cx="242748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Zk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4,5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,5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8317080" y="6159600"/>
                <a:ext cx="57600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8258040" y="6453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58040" y="64962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6114960" y="2903400"/>
                <a:ext cx="15512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6170760" y="3394080"/>
            <a:ext cx="147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624720" y="4518000"/>
                <a:ext cx="93492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6832440" y="4711680"/>
                <a:ext cx="72576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924600" y="4913280"/>
                <a:ext cx="88740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934320" y="5137200"/>
                <a:ext cx="62856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6883560" y="403380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962760" y="535932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55640" y="549360"/>
            <a:ext cx="820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Máme na světě první typ možného řešen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4720" y="1413000"/>
            <a:ext cx="770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rebuchet MS"/>
              </a:rPr>
              <a:t>[</a:t>
            </a:r>
            <a:r>
              <a:rPr b="1" lang="cs-CZ" sz="8000" spc="-1" strike="noStrike">
                <a:solidFill>
                  <a:srgbClr val="ff0000"/>
                </a:solidFill>
                <a:latin typeface="Trebuchet MS"/>
              </a:rPr>
              <a:t>2;-2</a:t>
            </a:r>
            <a:r>
              <a:rPr b="1" lang="en-US" sz="8000" spc="-1" strike="noStrike">
                <a:solidFill>
                  <a:srgbClr val="ff0000"/>
                </a:solidFill>
                <a:latin typeface="Trebuchet MS"/>
              </a:rPr>
              <a:t>]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3040" y="2664000"/>
            <a:ext cx="770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Jinými slovy: uspořádaná dvojice x=2 a y=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26920" y="3429000"/>
            <a:ext cx="770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Takový výsledek znamená, že řešením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soustavy dvou lineárních rovnic se dvěma neznámými je právě jedna uspořádaná dvoj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21190200">
            <a:off x="971280" y="4797000"/>
            <a:ext cx="18716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[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0; 5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468600">
            <a:off x="2627280" y="5229000"/>
            <a:ext cx="18716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[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20;-1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20037600">
            <a:off x="4427640" y="5157720"/>
            <a:ext cx="18716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[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1;-8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418800">
            <a:off x="7021440" y="5445000"/>
            <a:ext cx="18716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[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-2;-5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468600">
            <a:off x="5364000" y="5589360"/>
            <a:ext cx="1872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[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3;4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]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37600">
            <a:off x="682560" y="5459400"/>
            <a:ext cx="20876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[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-2,7;1,6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]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4360" y="765000"/>
            <a:ext cx="532764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404640"/>
            <a:ext cx="8380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říklad č. 2. </a:t>
            </a: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Řešte, a jen pokud si nebudete vědět rady, klikněte. Pomohu vá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84720" y="154152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6253200" y="1052640"/>
                <a:ext cx="140796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,1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0,5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,7</m:t>
                        </m:r>
                      </m:e>
                      <m:e>
                        <m:r>
                          <m:t xml:space="preserve">1,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0,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0,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6372360" y="1576440"/>
                <a:ext cx="11458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608472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8042400" y="1562040"/>
                <a:ext cx="94932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156360" y="2101680"/>
                <a:ext cx="1805040" cy="2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755640" y="836640"/>
                <a:ext cx="17287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,1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0,5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,7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1,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0,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0,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 flipV="1">
            <a:off x="7596360" y="2779200"/>
            <a:ext cx="215640" cy="28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04280" y="1504800"/>
            <a:ext cx="5680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315120" y="2333520"/>
                <a:ext cx="166032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699240" y="2577960"/>
                <a:ext cx="166068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7323120" y="2808360"/>
                <a:ext cx="74124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6084720" y="3143160"/>
            <a:ext cx="2895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Protože rovnice 0.x=30 nemá řešení, nemá žádné řešení ani daná soustava rovni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6300720" y="4097160"/>
                <a:ext cx="14083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,1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0,5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,7</m:t>
                        </m:r>
                      </m:e>
                      <m:e>
                        <m:r>
                          <m:t xml:space="preserve">1,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0,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0,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6084720" y="46004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7812000" y="4091040"/>
                <a:ext cx="451080" cy="2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7812000" y="4384800"/>
                <a:ext cx="451080" cy="2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6450120" y="4629240"/>
                <a:ext cx="11462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812000" y="1058760"/>
                <a:ext cx="451080" cy="2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7812000" y="1338120"/>
                <a:ext cx="451080" cy="2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6084720" y="51195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443640" y="5753160"/>
                <a:ext cx="1176480" cy="23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6267600" y="5176800"/>
                <a:ext cx="13554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810560" y="4643280"/>
                <a:ext cx="338040" cy="2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6084720" y="568152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2000" y="793800"/>
            <a:ext cx="28954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Dosazovací metod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12000" y="3817800"/>
            <a:ext cx="28954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Sčítací metod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7012080" y="5970600"/>
                <a:ext cx="612720" cy="1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 flipV="1">
            <a:off x="7164360" y="5905080"/>
            <a:ext cx="216000" cy="28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84720" y="6093000"/>
            <a:ext cx="28958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Soustava nemá řešení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164360" y="5691240"/>
            <a:ext cx="216000" cy="28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500"/>
                            </p:stCondLst>
                            <p:childTnLst>
                              <p:par>
                                <p:cTn id="3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5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11280" y="549360"/>
            <a:ext cx="8353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Máme na světě druhý typ možného řešen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44720" y="1413000"/>
            <a:ext cx="770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rebuchet MS"/>
              </a:rPr>
              <a:t>0.x+0.y = 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42920" y="3068640"/>
            <a:ext cx="7705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Jinými slovy: nepravda, nepravdivý výrok, nerov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44720" y="3789360"/>
            <a:ext cx="770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Takový výsledek znamená, že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soustava rovnic nemá řeše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63640" y="5877000"/>
            <a:ext cx="18716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-5 </a:t>
            </a:r>
            <a:r>
              <a:rPr b="1" lang="en-US" sz="32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≠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20641200">
            <a:off x="0" y="4508280"/>
            <a:ext cx="18716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2 </a:t>
            </a:r>
            <a:r>
              <a:rPr b="1" lang="en-US" sz="32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≠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20037600">
            <a:off x="5796000" y="5805360"/>
            <a:ext cx="18716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14 </a:t>
            </a:r>
            <a:r>
              <a:rPr b="1" lang="en-US" sz="32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≠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418800">
            <a:off x="179280" y="5661000"/>
            <a:ext cx="18716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-0,5 </a:t>
            </a:r>
            <a:r>
              <a:rPr b="1" lang="en-US" sz="32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≠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468600">
            <a:off x="3851280" y="5876640"/>
            <a:ext cx="18716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4 </a:t>
            </a:r>
            <a:r>
              <a:rPr b="1" lang="en-US" sz="32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≠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0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537600">
            <a:off x="178920" y="3715920"/>
            <a:ext cx="18716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-2,7 </a:t>
            </a:r>
            <a:r>
              <a:rPr b="1" lang="en-US" sz="32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≠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6840360" y="5445000"/>
            <a:ext cx="2303640" cy="1081080"/>
            <a:chOff x="6840360" y="5445000"/>
            <a:chExt cx="2303640" cy="1081080"/>
          </a:xfrm>
        </p:grpSpPr>
        <p:sp>
          <p:nvSpPr>
            <p:cNvPr id="176" name=""/>
            <p:cNvSpPr/>
            <p:nvPr/>
          </p:nvSpPr>
          <p:spPr>
            <a:xfrm>
              <a:off x="6840360" y="5648040"/>
              <a:ext cx="215892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cc00"/>
                  </a:solidFill>
                  <a:latin typeface="Trebuchet MS"/>
                </a:rPr>
                <a:t>1 </a:t>
              </a:r>
              <a:r>
                <a:rPr b="1" lang="en-US" sz="3200" spc="-1" strike="noStrike">
                  <a:solidFill>
                    <a:srgbClr val="00cc00"/>
                  </a:solidFill>
                  <a:latin typeface="Times New Roman"/>
                  <a:ea typeface="Times New Roman"/>
                </a:rPr>
                <a:t>≠</a:t>
              </a:r>
              <a:r>
                <a:rPr b="1" lang="en-US" sz="3200" spc="-1" strike="noStrike">
                  <a:solidFill>
                    <a:srgbClr val="00cc00"/>
                  </a:solidFill>
                  <a:latin typeface="Trebuchet MS"/>
                </a:rPr>
                <a:t> -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36000" y="5475240"/>
              <a:ext cx="100800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cc00"/>
                  </a:solidFill>
                  <a:latin typeface="Trebuchet MS"/>
                </a:rPr>
                <a:t>__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36000" y="5445000"/>
              <a:ext cx="100800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cc00"/>
                  </a:solidFill>
                  <a:latin typeface="Trebuchet MS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136000" y="5876640"/>
              <a:ext cx="100800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cc00"/>
                  </a:solidFill>
                  <a:latin typeface="Trebuchet MS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6804000" y="3933720"/>
            <a:ext cx="2016000" cy="1081080"/>
            <a:chOff x="6804000" y="3933720"/>
            <a:chExt cx="2016000" cy="1081080"/>
          </a:xfrm>
        </p:grpSpPr>
        <p:sp>
          <p:nvSpPr>
            <p:cNvPr id="181" name=""/>
            <p:cNvSpPr/>
            <p:nvPr/>
          </p:nvSpPr>
          <p:spPr>
            <a:xfrm>
              <a:off x="6804000" y="4137120"/>
              <a:ext cx="187164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cc00"/>
                  </a:solidFill>
                  <a:latin typeface="Trebuchet MS"/>
                </a:rPr>
                <a:t>0 </a:t>
              </a:r>
              <a:r>
                <a:rPr b="1" lang="en-US" sz="3200" spc="-1" strike="noStrike">
                  <a:solidFill>
                    <a:srgbClr val="00cc00"/>
                  </a:solidFill>
                  <a:latin typeface="Times New Roman"/>
                  <a:ea typeface="Times New Roman"/>
                </a:rPr>
                <a:t>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812000" y="3963960"/>
              <a:ext cx="100800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cc00"/>
                  </a:solidFill>
                  <a:latin typeface="Trebuchet MS"/>
                </a:rPr>
                <a:t>__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812000" y="3933720"/>
              <a:ext cx="100800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cc00"/>
                  </a:solidFill>
                  <a:latin typeface="Trebuchet MS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812000" y="4365720"/>
              <a:ext cx="100800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cc00"/>
                  </a:solidFill>
                  <a:latin typeface="Trebuchet MS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1042920" y="2276640"/>
            <a:ext cx="7704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rebuchet MS"/>
              </a:rPr>
              <a:t>0 = 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500720" y="2449440"/>
            <a:ext cx="360360" cy="547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608800" y="1599840"/>
            <a:ext cx="360360" cy="547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71640" y="4724280"/>
            <a:ext cx="7704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Neexistuje žádná uspořádaná dvojice čísel, po jejichž dosazení za neznámé do obou daných rovnic soustavy lineárních rovnic se dvěma neznámými, by nastala rovnost levých a pravých stran těchto rovni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500"/>
                            </p:stCondLst>
                            <p:childTnLst>
                              <p:par>
                                <p:cTn id="3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50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3500"/>
                            </p:stCondLst>
                            <p:childTnLst>
                              <p:par>
                                <p:cTn id="4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84360" y="765000"/>
            <a:ext cx="532764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8360" y="404640"/>
            <a:ext cx="8380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říklad č. 3. </a:t>
            </a: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Řešte dosazovací metodou, a jen pokud si nebudete vědět rady, klikněte. Pomohu vá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59520" y="16430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59520" y="21193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6156360" y="3156120"/>
                <a:ext cx="214308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7710480" y="2463840"/>
                <a:ext cx="124128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6156360" y="4508640"/>
            <a:ext cx="28954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Trebuchet MS"/>
              </a:rPr>
              <a:t>Řešením rovnice 0.y=0 je každé reálné číslo. Soustava rovnic má tedy nekonečně mnoho řešení. Nekonečně mnoho uspořádaných dvojic. Jakých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755640" y="836640"/>
                <a:ext cx="16048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6202440" y="765000"/>
                <a:ext cx="115236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6132600" y="1671480"/>
                <a:ext cx="130788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7656480" y="890640"/>
                <a:ext cx="338040" cy="2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7642080" y="1312920"/>
                <a:ext cx="338400" cy="2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6012000" y="2162160"/>
                <a:ext cx="154764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6059520" y="2637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6016680" y="2665440"/>
                <a:ext cx="128088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6059520" y="3141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316640" y="2550960"/>
            <a:ext cx="495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6099120" y="3573360"/>
                <a:ext cx="2224080" cy="2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6719760" y="3789360"/>
                <a:ext cx="1611360" cy="2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6977160" y="4005360"/>
                <a:ext cx="1757160" cy="23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7572240" y="4221000"/>
                <a:ext cx="628920" cy="2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7308720" y="2897280"/>
            <a:ext cx="495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7738920" y="2857680"/>
                <a:ext cx="109548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6084720" y="5573880"/>
                <a:ext cx="127332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7950240" y="5565600"/>
                <a:ext cx="111276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7386480" y="5791320"/>
            <a:ext cx="700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Trebuchet MS"/>
              </a:rPr>
              <a:t>neb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00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84360" y="765000"/>
            <a:ext cx="532764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8360" y="404640"/>
            <a:ext cx="8380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říklad č. 3 </a:t>
            </a: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Ještě jednou, tentokrát metodou sčítací. Řešte, a jen pokud si nebudete vědět rady, klikněte. Pomohu vá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16430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84720" y="211932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6243480" y="3157560"/>
                <a:ext cx="1079640" cy="2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6156360" y="4869000"/>
                <a:ext cx="1320840" cy="2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6084720" y="4221000"/>
            <a:ext cx="28958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Trebuchet MS"/>
              </a:rPr>
              <a:t>Vyjádříme y z kterékoliv rovnice pomocí neznámé x a poté podobně x pomocí y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755640" y="836640"/>
                <a:ext cx="16048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6451560" y="765000"/>
                <a:ext cx="11527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381720" y="1671480"/>
                <a:ext cx="130824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7905600" y="890640"/>
                <a:ext cx="338400" cy="2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7891560" y="1312920"/>
                <a:ext cx="338040" cy="2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161040" y="2162160"/>
                <a:ext cx="154800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6084720" y="2637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6180120" y="2666880"/>
                <a:ext cx="128124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6084720" y="314172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6805440" y="3395520"/>
                <a:ext cx="50040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6084720" y="3573360"/>
            <a:ext cx="2895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Trebuchet MS"/>
              </a:rPr>
              <a:t>Soustava rovnic má nekonečně mnoho řešení. Nekonečně mnoho uspořádaných dvojic. Jakých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6235560" y="5099040"/>
                <a:ext cx="1160640" cy="2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259680" y="5291280"/>
                <a:ext cx="109512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7653240" y="4859280"/>
                <a:ext cx="1287720" cy="2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7653240" y="5089680"/>
                <a:ext cx="1289160" cy="2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7667640" y="5281560"/>
                <a:ext cx="12412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6219720" y="5713560"/>
                <a:ext cx="11113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7805880" y="5713560"/>
                <a:ext cx="127476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7265880" y="5819760"/>
            <a:ext cx="7002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Trebuchet MS"/>
              </a:rPr>
              <a:t>neb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000"/>
                            </p:stCondLst>
                            <p:childTnLst>
                              <p:par>
                                <p:cTn id="6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000"/>
                            </p:stCondLst>
                            <p:childTnLst>
                              <p:par>
                                <p:cTn id="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11280" y="549360"/>
            <a:ext cx="8353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Máme na světě třetí typ možného řešen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044720" y="1413000"/>
            <a:ext cx="770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rebuchet MS"/>
              </a:rPr>
              <a:t>0.x+0.y =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8360" y="3141720"/>
            <a:ext cx="828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Jinými slovy: pravda, pravdivý výrok, rov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044720" y="3789360"/>
            <a:ext cx="770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Takový výsledek znamená, že soustava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rovnic má nekonečně mnoho řeše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21190200">
            <a:off x="0" y="4005000"/>
            <a:ext cx="18716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[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3;6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468600">
            <a:off x="7596360" y="4149360"/>
            <a:ext cx="18716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[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0;4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20949000">
            <a:off x="1692360" y="5229000"/>
            <a:ext cx="18716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[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-6;0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rot="20713200">
            <a:off x="6516720" y="5084280"/>
            <a:ext cx="24112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[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-3;2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]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468600">
            <a:off x="7308720" y="5805360"/>
            <a:ext cx="2016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[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1,5;5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517800">
            <a:off x="-252000" y="4869000"/>
            <a:ext cx="25225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[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-1,5;3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042920" y="2276640"/>
            <a:ext cx="7704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rebuchet MS"/>
              </a:rPr>
              <a:t>0 =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71640" y="4724280"/>
            <a:ext cx="777708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V našem předchozím příkladu je to každá uspořádaná dvojice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                                   ,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kde za x můžeme dosadit libovolné čís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20776200">
            <a:off x="0" y="5733720"/>
            <a:ext cx="2016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[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-9;-2</a:t>
            </a: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3621240" y="5113440"/>
                <a:ext cx="251928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;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0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500"/>
                            </p:stCondLst>
                            <p:childTnLst>
                              <p:par>
                                <p:cTn id="7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000"/>
                            </p:stCondLst>
                            <p:childTnLst>
                              <p:par>
                                <p:cTn id="7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500"/>
                            </p:stCondLst>
                            <p:childTnLst>
                              <p:par>
                                <p:cTn id="7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2500"/>
                            </p:stCondLst>
                            <p:childTnLst>
                              <p:par>
                                <p:cTn id="7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3000"/>
                            </p:stCondLst>
                            <p:childTnLst>
                              <p:par>
                                <p:cTn id="7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Svejdova</cp:lastModifiedBy>
  <dcterms:modified xsi:type="dcterms:W3CDTF">2008-07-25T08:50:05Z</dcterms:modified>
  <cp:revision>132</cp:revision>
  <dc:subject/>
  <dc:title>Soustava lineárních rovnic - druhy řešení</dc:title>
</cp:coreProperties>
</file>