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6C2-E55F-40D6-8241-DAADD132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B34-BCB0-430F-8F2D-146FF4BB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107-15E3-4A5F-8540-11E61125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5B34-3DF2-442A-BA2C-3DDA3976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C59E-D4DA-471A-A1A6-90EB60C2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2408-1568-4D9E-A8B7-871E53BA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8ABA-CE6A-448C-BCCC-0C1927E0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CC1B-65FD-46CE-9C22-4F34B1D9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7612-4C14-4AB6-8F5F-E8D84C18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2AA4-9D07-4FFD-A409-1EB98161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4FC2-A8B6-4E81-B870-62A66E86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C6B-EDFC-4329-9558-128C4C68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4D9F-635F-4846-8C2C-83E2A74D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4C10-4497-454E-A817-0BA0AE8E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581F-969C-421C-AD8C-C71EC8E9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0448-5CD8-4E9B-AC9A-E678652E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D2A7-9ACB-450F-AA02-04F5D57B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E0A2-FD75-4C40-806A-AAE7F9B9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40A-DD81-4A63-9759-E42E6921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B3B-9656-4092-8599-B944FCD7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B53-CB16-4BC7-9CA5-57E3420F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403-EA91-415C-B977-77C31899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935-B2D8-4465-8746-BC65CE90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C98-BB7D-442E-8BE8-6D02D6BF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5F2A-A495-4278-8E9E-013CB9DF107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C7C4-5DDE-4C66-A256-74D45075B5C2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Soustava dvou lineárních rovnic se dvěma neznámými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4292640"/>
            <a:ext cx="80773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Řešení dosazovací metodo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1557360"/>
            <a:ext cx="8064360" cy="489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Řešení soustavy dvou lineárních rovnic se dvěma neznámými 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dosazovací metodou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5302080"/>
            <a:ext cx="8064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4.) Nyní dosadíme y = 1 do výrazu vyjádřeného v prvním kroku řeše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162240" y="1628640"/>
                <a:ext cx="1871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333600" y="2276640"/>
                <a:ext cx="1721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94320" y="2463840"/>
                <a:ext cx="4748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218040" y="2997360"/>
                <a:ext cx="195876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811680" y="3444840"/>
                <a:ext cx="13777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718240" y="3446640"/>
                <a:ext cx="58248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45120" y="3876840"/>
                <a:ext cx="137772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508720" y="4307040"/>
                <a:ext cx="4968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235400" y="4294080"/>
                <a:ext cx="7970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365720" y="4740120"/>
                <a:ext cx="6238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325760" y="5637240"/>
                <a:ext cx="12970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4299120" y="508464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4360" y="1557360"/>
            <a:ext cx="8064360" cy="489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Řešení soustavy dvou lineárních rovnic se dvěma neznámými 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dosazovací metodou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0000" y="3933720"/>
            <a:ext cx="806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5.) Získali jsme dvojici čísel x = 2 a y = 1, tedy uspořádanou dvojici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[2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;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 Přesvědčíme se, že je řešením první i druhé rovnice sousta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313160" y="1625760"/>
                <a:ext cx="115092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4255920" y="378936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313160" y="2205000"/>
                <a:ext cx="10890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302000" y="2781360"/>
                <a:ext cx="7462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313160" y="3500280"/>
                <a:ext cx="68436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482920" y="4437000"/>
                <a:ext cx="11541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867280" y="4437000"/>
                <a:ext cx="11527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427120" y="4714920"/>
                <a:ext cx="121284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797440" y="4714920"/>
                <a:ext cx="12114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05040" y="5002200"/>
                <a:ext cx="9399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091200" y="5002200"/>
                <a:ext cx="93672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54240" y="5257800"/>
                <a:ext cx="58572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413400" y="5257800"/>
                <a:ext cx="6066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41640" y="5516640"/>
                <a:ext cx="6238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408720" y="5502240"/>
                <a:ext cx="62532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900000" y="5805360"/>
            <a:ext cx="806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5.) Uspořádaná dvojice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[2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;1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je řešením první i druhé rovnice, je tedy řešením dané soustavy lineárních rovn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79640" y="2376360"/>
            <a:ext cx="6048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Arial"/>
              </a:rPr>
              <a:t>[2</a:t>
            </a:r>
            <a:r>
              <a:rPr b="1" lang="cs-CZ" sz="20000" spc="-1" strike="noStrike">
                <a:solidFill>
                  <a:srgbClr val="ff0000"/>
                </a:solidFill>
                <a:latin typeface="Arial"/>
              </a:rPr>
              <a:t>;1</a:t>
            </a:r>
            <a:r>
              <a:rPr b="1" lang="en-US" sz="200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4360" y="1197000"/>
            <a:ext cx="806436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549360"/>
            <a:ext cx="83804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kážeme si řešení soustavy dosazovací metodou ještě jednou, ale trochu jin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5676840"/>
            <a:ext cx="626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znali jste, v čem se oba postupy od sebe liši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117440" y="1413000"/>
                <a:ext cx="12924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1042920" y="2205000"/>
            <a:ext cx="144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925800" y="1797120"/>
                <a:ext cx="129564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57240" y="2349360"/>
                <a:ext cx="20192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16000" y="2741760"/>
                <a:ext cx="18651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720800" y="3144960"/>
                <a:ext cx="125100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152800" y="3505320"/>
                <a:ext cx="12524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135160" y="3865680"/>
                <a:ext cx="9669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203640" y="3141720"/>
                <a:ext cx="593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298600" y="4219560"/>
                <a:ext cx="12081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348000" y="3862440"/>
                <a:ext cx="506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298600" y="4616280"/>
                <a:ext cx="7034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505480" y="3117960"/>
                <a:ext cx="12301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kouška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527800" y="3500280"/>
                <a:ext cx="274608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892680" y="2347920"/>
                <a:ext cx="14713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92680" y="2751120"/>
                <a:ext cx="7030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2224080" y="491328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65680" y="306864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537160" y="3860640"/>
                <a:ext cx="74628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467480" y="3860640"/>
                <a:ext cx="81288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548320" y="4221000"/>
                <a:ext cx="276876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551560" y="4595760"/>
                <a:ext cx="7920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451640" y="4595760"/>
                <a:ext cx="8794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502000" y="1930320"/>
            <a:ext cx="1306440" cy="87480"/>
          </a:xfrm>
          <a:prstGeom prst="rightArrow">
            <a:avLst>
              <a:gd name="adj1" fmla="val 50000"/>
              <a:gd name="adj2" fmla="val 3733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76440" y="5084640"/>
            <a:ext cx="6480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Řešením dané soustavy je uspořádaná dvojice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[2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;1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]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2560" y="6006960"/>
            <a:ext cx="8353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Tentokrát jsme v 1. kroku vyjádřili z druhé rovnice neznámou y pomocí neznámé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1916280"/>
            <a:ext cx="3384360" cy="4105080"/>
          </a:xfrm>
          <a:custGeom>
            <a:avLst/>
            <a:gdLst/>
            <a:ahLst/>
            <a:rect l="l" t="t" r="r" b="b"/>
            <a:pathLst>
              <a:path w="2381" h="2933">
                <a:moveTo>
                  <a:pt x="2041" y="2933"/>
                </a:moveTo>
                <a:cubicBezTo>
                  <a:pt x="2211" y="1950"/>
                  <a:pt x="2381" y="968"/>
                  <a:pt x="2041" y="484"/>
                </a:cubicBezTo>
                <a:cubicBezTo>
                  <a:pt x="1701" y="0"/>
                  <a:pt x="850" y="15"/>
                  <a:pt x="0" y="3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36880" y="1687680"/>
            <a:ext cx="1441440" cy="576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04840" y="1916280"/>
            <a:ext cx="7499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1. krok: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 jedné rovnice soustavy vyjádříme jednu neznámou pomocí druhé neznámé (Například z první rovnice vyjádříme neznámou x pomocí neznámé 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692280"/>
            <a:ext cx="811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Shrňme si celý postup dosazovací met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04840" y="2736720"/>
            <a:ext cx="749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2. krok: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ískaný výraz dosadíme do druhé rovnice za druhou neznámo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16000" y="3255840"/>
            <a:ext cx="77770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3. krok: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Dostaneme rovnici s jednou neznámou, kterou vyřeší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16000" y="4033800"/>
            <a:ext cx="74167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4. krok: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Dosadíme první vypočítanou neznámou do výrazu vyjádřeného v prvním kroku řešení a vypočítáme druhou neznám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68360" y="5589720"/>
            <a:ext cx="65516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nyní už vzhůru a beze strachu na soustavy rovn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7680" y="4826160"/>
            <a:ext cx="7499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5. krok: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Ověření správnosti řešení (zkoušk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4360" y="765000"/>
            <a:ext cx="53276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404640"/>
            <a:ext cx="8380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teď sami. 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Nebojte, nebudete-li si vědět rady jak dál, klikněte a odtajním vám další kr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907920"/>
                <a:ext cx="8841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6084720" y="1628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156360" y="1643040"/>
                <a:ext cx="9144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26920" y="907920"/>
                <a:ext cx="8845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084720" y="21765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900920" y="1643040"/>
                <a:ext cx="8827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7316640" y="1573200"/>
            <a:ext cx="424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156360" y="2262240"/>
                <a:ext cx="128916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691320" y="2549520"/>
                <a:ext cx="7603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6951600" y="2881440"/>
                <a:ext cx="7603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958080" y="3182760"/>
                <a:ext cx="465120" cy="2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899480" y="1960560"/>
                <a:ext cx="94464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888320" y="2260440"/>
                <a:ext cx="7588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7886880" y="2550960"/>
                <a:ext cx="5727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6140520" y="3933720"/>
                <a:ext cx="86508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kouška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6178680" y="4221000"/>
                <a:ext cx="911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6343560" y="4726080"/>
                <a:ext cx="69696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632640" y="5056200"/>
                <a:ext cx="4014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516720" y="5337000"/>
                <a:ext cx="5713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683480" y="4491000"/>
                <a:ext cx="115884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8107200" y="4738680"/>
                <a:ext cx="7272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8354880" y="5056200"/>
                <a:ext cx="4795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7164360" y="5715000"/>
                <a:ext cx="9241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8" name=""/>
          <p:cNvGrpSpPr/>
          <p:nvPr/>
        </p:nvGrpSpPr>
        <p:grpSpPr>
          <a:xfrm>
            <a:off x="7164360" y="6237360"/>
            <a:ext cx="938160" cy="42840"/>
            <a:chOff x="7164360" y="6237360"/>
            <a:chExt cx="938160" cy="42840"/>
          </a:xfrm>
        </p:grpSpPr>
        <p:sp>
          <p:nvSpPr>
            <p:cNvPr id="289" name=""/>
            <p:cNvSpPr/>
            <p:nvPr/>
          </p:nvSpPr>
          <p:spPr>
            <a:xfrm>
              <a:off x="7164360" y="623736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65800" y="628020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8290080" y="5337000"/>
                <a:ext cx="61884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84360" y="765000"/>
            <a:ext cx="53276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404640"/>
            <a:ext cx="8380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teď sami. 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Nebojte, nebudete-li si vědět rady jak dál, klikněte a odtajním vám další kr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6141960" y="1054080"/>
                <a:ext cx="1728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,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084720" y="15429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85960" y="907920"/>
                <a:ext cx="1603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,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7510320" y="2575080"/>
            <a:ext cx="424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294600" y="1571760"/>
                <a:ext cx="1373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6084720" y="20620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280200" y="2119320"/>
                <a:ext cx="1373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6084720" y="26226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272280" y="2679840"/>
                <a:ext cx="117936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7954920" y="2521080"/>
                <a:ext cx="10810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6141960" y="31701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127920" y="3198960"/>
                <a:ext cx="1822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6053040" y="3675240"/>
                <a:ext cx="19177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291360" y="3933720"/>
                <a:ext cx="167616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6635880" y="4192560"/>
                <a:ext cx="114444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630840" y="4437000"/>
                <a:ext cx="8557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738840" y="4695840"/>
                <a:ext cx="10159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: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753240" y="4941720"/>
                <a:ext cx="628560" cy="2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7709040" y="2924280"/>
                <a:ext cx="14349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8101080" y="3357720"/>
                <a:ext cx="9666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8302680" y="3789360"/>
                <a:ext cx="5634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312040" y="4245120"/>
                <a:ext cx="515880" cy="1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093000" y="5202360"/>
                <a:ext cx="2373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k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099120" y="5691240"/>
                <a:ext cx="2678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k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,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,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8317080" y="6159600"/>
                <a:ext cx="576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8258040" y="6453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8040" y="64962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268360" y="1341360"/>
            <a:ext cx="6046920" cy="4556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042920" y="907920"/>
            <a:ext cx="7344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řeji mnoho úspěchů při řešení soustav lineárních rovnic se dvěma neznámým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16000" y="2492280"/>
            <a:ext cx="741672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Máme dány dvě lineární rovnice se dvěma neznámými: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x - y = 3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x + y = 7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ároveň máme tři uspořádané dvojice: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;3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]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4;-5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]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;1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]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Která z nich je řešením první a zároveň i druhé rovn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547560"/>
            <a:ext cx="784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Čemu říkáme soustava dvou lineárních rovnic se dvěma neznámými a čemu řešení soustavy rovn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916280"/>
            <a:ext cx="741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kážeme si to na příklad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37620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Nejdříve ověříme 1. uspořádanou dvojici: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;3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413000"/>
            <a:ext cx="511164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325600" y="1484280"/>
                <a:ext cx="1041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75640" y="1989000"/>
                <a:ext cx="104436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468360" y="1197000"/>
            <a:ext cx="5111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,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53240" y="1384200"/>
            <a:ext cx="30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Dosadíme uspořádanou dvojici do první rovni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786720" y="2276640"/>
                <a:ext cx="111276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047000" y="2565360"/>
                <a:ext cx="86652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381800" y="2852640"/>
                <a:ext cx="53172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883560" y="3867120"/>
                <a:ext cx="10443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67280" y="3284640"/>
            <a:ext cx="30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Dosadíme uspořádanou dvojici </a:t>
            </a:r>
            <a:br>
              <a:rPr sz="1400"/>
            </a:b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i do druhé rovni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811920" y="4192560"/>
                <a:ext cx="111456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375680" y="3125880"/>
                <a:ext cx="56664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042320" y="4548240"/>
                <a:ext cx="8856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272360" y="4853160"/>
                <a:ext cx="6555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61280" y="5184720"/>
                <a:ext cx="5666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869080" y="5373720"/>
            <a:ext cx="30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Uspořádaná dvojice je řešením pouze první rovnic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96360" y="4925880"/>
            <a:ext cx="72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610400" y="45954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96360" y="4263840"/>
            <a:ext cx="7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37620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Nyní ověříme 2. uspořádanou dvojici: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4;-5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413000"/>
            <a:ext cx="511164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325600" y="1484280"/>
                <a:ext cx="1041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875640" y="1989000"/>
                <a:ext cx="104436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68360" y="1197000"/>
            <a:ext cx="5111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,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53240" y="1384200"/>
            <a:ext cx="30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Dosadíme uspořádanou dvojici do první rovni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518160" y="2251080"/>
                <a:ext cx="13953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7047000" y="2565360"/>
                <a:ext cx="86652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272360" y="2852640"/>
                <a:ext cx="63828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883560" y="3867120"/>
                <a:ext cx="10443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867280" y="3284640"/>
            <a:ext cx="30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Dosadíme uspořádanou dvojici </a:t>
            </a:r>
            <a:br>
              <a:rPr sz="1400"/>
            </a:b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i do druhé rovni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796080" y="4192560"/>
                <a:ext cx="113184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375680" y="3125880"/>
                <a:ext cx="56664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935760" y="4556160"/>
                <a:ext cx="99216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378560" y="4853160"/>
                <a:ext cx="54936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375680" y="5184720"/>
                <a:ext cx="5666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869080" y="5373720"/>
            <a:ext cx="3274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rebuchet MS"/>
              </a:rPr>
              <a:t>Uspořádaná dvojice je řešením pouze druhé rovnic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596360" y="2923920"/>
            <a:ext cx="7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610400" y="26366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596360" y="2304720"/>
            <a:ext cx="7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9640" y="376200"/>
            <a:ext cx="820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A na konec ověříme 3. uspořádanou dvojici: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;1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413000"/>
            <a:ext cx="511164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325600" y="1484280"/>
                <a:ext cx="1041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875640" y="1989000"/>
                <a:ext cx="104436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68360" y="1197000"/>
            <a:ext cx="5111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Řešte, a jen pokud si nebudete vědět rady, klikněte, pomohu vá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53240" y="1384200"/>
            <a:ext cx="30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Dosadíme uspořádanou dvojici do první rovni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823080" y="2276640"/>
                <a:ext cx="109548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068960" y="2565360"/>
                <a:ext cx="84960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396200" y="2852640"/>
                <a:ext cx="53172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883560" y="3867120"/>
                <a:ext cx="10443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867280" y="3284640"/>
            <a:ext cx="30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Dosadíme uspořádanou dvojici </a:t>
            </a:r>
            <a:br>
              <a:rPr sz="1400"/>
            </a:b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i do druhé rovni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819840" y="4192560"/>
                <a:ext cx="109692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375680" y="3125880"/>
                <a:ext cx="56664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088040" y="4556160"/>
                <a:ext cx="8496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367760" y="4853160"/>
                <a:ext cx="54900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375680" y="5184720"/>
                <a:ext cx="5666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869080" y="5587920"/>
            <a:ext cx="30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Uspořádaná dvojice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;1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]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 je řešením první </a:t>
            </a:r>
            <a:br>
              <a:rPr sz="2000"/>
            </a:b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i druhé rovni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71640" y="1557360"/>
            <a:ext cx="756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 právě vyřešené úloze byly zadány dvě rovnice se dvěma neznámými:</a:t>
            </a:r>
            <a:br>
              <a:rPr sz="800"/>
            </a:br>
            <a:br>
              <a:rPr sz="800"/>
            </a:b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2x - y = 3</a:t>
            </a:r>
            <a:br>
              <a:rPr sz="3200"/>
            </a:b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3x + y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547560"/>
            <a:ext cx="784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hrnut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3284640"/>
            <a:ext cx="756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Říkáme, že byla dána soustava lineárních rovnic se dvěma neznámý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4869000"/>
            <a:ext cx="75610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Uspořádaná dvojice čísel, která je řešením první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i druhé rovnice této soustavy, se nazývá řešením soustavy lineárních rovnic se dvěma neznámý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4149720"/>
            <a:ext cx="756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jistili jsme, že uspořádaná dvojice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2;1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]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e řešením první i druhé rov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71640" y="1339920"/>
            <a:ext cx="75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2x - y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547560"/>
            <a:ext cx="8135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aždá rovnice soustavy má sama o sobě nekonečně mnoho řeš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5373720"/>
            <a:ext cx="756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aučíme se proto hledat řešení soustavy lineárních rovnic se dvěma neznámý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198900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4;5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2852640"/>
            <a:ext cx="75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3x + y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24360" y="1628640"/>
            <a:ext cx="16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;3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2133720"/>
            <a:ext cx="16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-1;-5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1916280"/>
            <a:ext cx="165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5;7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1413000"/>
            <a:ext cx="165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2;1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198900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-2;-7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32720" y="1413000"/>
            <a:ext cx="165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6;9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2131920"/>
            <a:ext cx="16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1,5;0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16360" y="393372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3333cc"/>
                </a:solidFill>
                <a:latin typeface="Trebuchet MS"/>
              </a:rPr>
              <a:t>0;7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24000" y="3429000"/>
            <a:ext cx="165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3333cc"/>
                </a:solidFill>
                <a:latin typeface="Trebuchet MS"/>
              </a:rPr>
              <a:t>3;-2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27640" y="2997360"/>
            <a:ext cx="16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3333cc"/>
                </a:solidFill>
                <a:latin typeface="Trebuchet MS"/>
              </a:rPr>
              <a:t>-3;16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371628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3333cc"/>
                </a:solidFill>
                <a:latin typeface="Trebuchet MS"/>
              </a:rPr>
              <a:t>4;-5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20000" y="371628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3333cc"/>
                </a:solidFill>
                <a:latin typeface="Trebuchet MS"/>
              </a:rPr>
              <a:t>2;1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141720"/>
            <a:ext cx="165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3333cc"/>
                </a:solidFill>
                <a:latin typeface="Trebuchet MS"/>
              </a:rPr>
              <a:t>-1;10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3429000"/>
            <a:ext cx="194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3333cc"/>
                </a:solidFill>
                <a:latin typeface="Trebuchet MS"/>
              </a:rPr>
              <a:t>-1,5;11,5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51640" y="4005360"/>
            <a:ext cx="165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3333cc"/>
                </a:solidFill>
                <a:latin typeface="Trebuchet MS"/>
              </a:rPr>
              <a:t>5;-8</a:t>
            </a: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7200" y="4724280"/>
            <a:ext cx="8135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jich soustava však řešení mít nemusí. Naše ale má. Najdete h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08800" y="3571920"/>
            <a:ext cx="86364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79720" y="1282680"/>
            <a:ext cx="86364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26920" y="1050840"/>
            <a:ext cx="76327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Existují tři základní metody řešení soustavy dvou lineárních rovnic se dvěma neznámý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843280" y="2924280"/>
            <a:ext cx="4402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osazovací metod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čítací metod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Grafická metod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4360" y="2435400"/>
            <a:ext cx="806436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Řešení soustavy dvou lineárních rovnic se dvěma neznámými 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dosazovací metodou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628640"/>
            <a:ext cx="720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ř: Najděte řešení soustavy lineárních rovnic:   2x - y = 3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                    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  3x + y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2349360"/>
            <a:ext cx="8064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2563920"/>
            <a:ext cx="792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.) Z jedné rovnice soustavy vyjádříme jednu neznámou pomocí druhé neznámé. Například z první rovnice vyjádříme neznámou x pomocí neznámé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738600" y="3103560"/>
                <a:ext cx="1312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460840" y="3111480"/>
                <a:ext cx="6238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195800" y="3432240"/>
                <a:ext cx="1312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334040" y="3747960"/>
                <a:ext cx="12031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981760" y="3440160"/>
                <a:ext cx="5349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900000" y="4510080"/>
            <a:ext cx="80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) Získaný výraz dosadíme do druhé rovnice za neznámou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782880" y="4834080"/>
                <a:ext cx="12654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162240" y="5138640"/>
                <a:ext cx="1871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900000" y="5877000"/>
            <a:ext cx="806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) Dostaneme rovnici s jednou neznámou, kterou už umíme vyřeš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7-23T09:56:06Z</dcterms:modified>
  <cp:revision>104</cp:revision>
  <dc:subject/>
  <dc:title>Soustava lineárních rovnic - řešení dosazovací metodou</dc:title>
</cp:coreProperties>
</file>