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780A-6FF4-4985-85BC-A255BA567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utný doprovodný komentář učite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266-BF3C-4DC0-B57E-38E1082B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DC9-D0C0-466F-AFAE-58827BD2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174-484A-4026-9C93-69814302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D16-D051-4661-98C3-126AE0BC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69B-DD08-47C4-914C-EA9626CA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03F-7E07-42E1-966A-C6833C61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9FC-5BE6-4175-8FEE-DB48BA34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489-3021-4D6E-9A37-A23B7A82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FA4-CD1F-4021-854E-069C3E6C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F7E-F782-4A74-9770-A4BD0D4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95E-1093-48CA-9A8E-89253F49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D02-369B-4396-ADAE-E2595EBF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67CE-5E27-4A45-BD5F-32CF60C1B9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F8F4-5C98-4213-A201-C3B6DA95B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niometrické fun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8989"/>
                </a:solidFill>
                <a:latin typeface="Arial"/>
              </a:rPr>
              <a:t>Sin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Vypočítejte velikosti úhlů v pravoúhlém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jehož strany mají délky 3, 4 a 5 c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3573360"/>
            <a:ext cx="82090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Vypočítejte velikosti vnitřních úhlů a délky stran rovnoramenného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ABC, jestliže známe: délku ramene 12 cm a velikost vrcholového úhlu 32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72360" y="1916280"/>
            <a:ext cx="649440" cy="50292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88" h="21600">
                <a:moveTo>
                  <a:pt x="0" y="0"/>
                </a:moveTo>
                <a:lnTo>
                  <a:pt x="27888" y="0"/>
                </a:lnTo>
                <a:lnTo>
                  <a:pt x="27888" y="21600"/>
                </a:lnTo>
                <a:lnTo>
                  <a:pt x="0" y="21600"/>
                </a:lnTo>
                <a:close/>
              </a:path>
              <a:path fill="lightenLess" w="27888" h="21600">
                <a:moveTo>
                  <a:pt x="0" y="0"/>
                </a:moveTo>
                <a:lnTo>
                  <a:pt x="27888" y="0"/>
                </a:lnTo>
                <a:lnTo>
                  <a:pt x="26488" y="1400"/>
                </a:lnTo>
                <a:lnTo>
                  <a:pt x="1400" y="1400"/>
                </a:lnTo>
                <a:close/>
              </a:path>
              <a:path fill="darken" w="27888" h="21600">
                <a:moveTo>
                  <a:pt x="27888" y="0"/>
                </a:moveTo>
                <a:lnTo>
                  <a:pt x="27888" y="21600"/>
                </a:lnTo>
                <a:lnTo>
                  <a:pt x="26488" y="20200"/>
                </a:lnTo>
                <a:lnTo>
                  <a:pt x="26488" y="1400"/>
                </a:lnTo>
                <a:close/>
              </a:path>
              <a:path fill="darkenLess" w="27888" h="21600">
                <a:moveTo>
                  <a:pt x="27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8" y="20200"/>
                </a:lnTo>
                <a:close/>
              </a:path>
              <a:path fill="lighten" w="27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88" h="21600">
                <a:moveTo>
                  <a:pt x="17443" y="10800"/>
                </a:moveTo>
                <a:lnTo>
                  <a:pt x="6938" y="17806"/>
                </a:lnTo>
                <a:lnTo>
                  <a:pt x="6938" y="3794"/>
                </a:lnTo>
                <a:close/>
              </a:path>
              <a:path fill="darken" w="27888" h="21600">
                <a:moveTo>
                  <a:pt x="19288" y="3794"/>
                </a:moveTo>
                <a:lnTo>
                  <a:pt x="19288" y="17806"/>
                </a:lnTo>
                <a:lnTo>
                  <a:pt x="20951" y="17806"/>
                </a:lnTo>
                <a:lnTo>
                  <a:pt x="20951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01080" y="551664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17425" y="10800"/>
                </a:moveTo>
                <a:lnTo>
                  <a:pt x="6920" y="17806"/>
                </a:lnTo>
                <a:lnTo>
                  <a:pt x="6920" y="3794"/>
                </a:lnTo>
                <a:close/>
              </a:path>
              <a:path fill="darken" w="27853" h="21600">
                <a:moveTo>
                  <a:pt x="19271" y="3794"/>
                </a:moveTo>
                <a:lnTo>
                  <a:pt x="19271" y="17806"/>
                </a:lnTo>
                <a:lnTo>
                  <a:pt x="20933" y="17806"/>
                </a:lnTo>
                <a:lnTo>
                  <a:pt x="20933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064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Lanová dráha na Petřín v Praze má délku 400 m. Hořejší stanice leží o 106 metrů výše než dolejší. Určete úhel stoupání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/>
          <p:nvPr/>
        </p:nvSpPr>
        <p:spPr>
          <a:xfrm>
            <a:off x="8101080" y="2637000"/>
            <a:ext cx="649080" cy="5029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73" h="21600">
                <a:moveTo>
                  <a:pt x="0" y="0"/>
                </a:moveTo>
                <a:lnTo>
                  <a:pt x="27873" y="0"/>
                </a:lnTo>
                <a:lnTo>
                  <a:pt x="27873" y="21600"/>
                </a:lnTo>
                <a:lnTo>
                  <a:pt x="0" y="21600"/>
                </a:lnTo>
                <a:close/>
              </a:path>
              <a:path fill="lightenLess" w="27873" h="21600">
                <a:moveTo>
                  <a:pt x="0" y="0"/>
                </a:moveTo>
                <a:lnTo>
                  <a:pt x="27873" y="0"/>
                </a:lnTo>
                <a:lnTo>
                  <a:pt x="26473" y="1400"/>
                </a:lnTo>
                <a:lnTo>
                  <a:pt x="1400" y="1400"/>
                </a:lnTo>
                <a:close/>
              </a:path>
              <a:path fill="darken" w="27873" h="21600">
                <a:moveTo>
                  <a:pt x="27873" y="0"/>
                </a:moveTo>
                <a:lnTo>
                  <a:pt x="27873" y="21600"/>
                </a:lnTo>
                <a:lnTo>
                  <a:pt x="26473" y="20200"/>
                </a:lnTo>
                <a:lnTo>
                  <a:pt x="26473" y="1400"/>
                </a:lnTo>
                <a:close/>
              </a:path>
              <a:path fill="darkenLess" w="27873" h="21600">
                <a:moveTo>
                  <a:pt x="27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73" y="20200"/>
                </a:lnTo>
                <a:close/>
              </a:path>
              <a:path fill="lighten" w="27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73" h="21600">
                <a:moveTo>
                  <a:pt x="17435" y="10800"/>
                </a:moveTo>
                <a:lnTo>
                  <a:pt x="6930" y="17806"/>
                </a:lnTo>
                <a:lnTo>
                  <a:pt x="6930" y="3794"/>
                </a:lnTo>
                <a:close/>
              </a:path>
              <a:path fill="darken" w="27873" h="21600">
                <a:moveTo>
                  <a:pt x="19281" y="3794"/>
                </a:moveTo>
                <a:lnTo>
                  <a:pt x="19281" y="17806"/>
                </a:lnTo>
                <a:lnTo>
                  <a:pt x="20943" y="17806"/>
                </a:lnTo>
                <a:lnTo>
                  <a:pt x="20943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95280" y="3618000"/>
            <a:ext cx="8280360" cy="2612880"/>
            <a:chOff x="395280" y="3618000"/>
            <a:chExt cx="8280360" cy="2612880"/>
          </a:xfrm>
        </p:grpSpPr>
        <p:sp>
          <p:nvSpPr>
            <p:cNvPr id="260" name=""/>
            <p:cNvSpPr/>
            <p:nvPr/>
          </p:nvSpPr>
          <p:spPr>
            <a:xfrm>
              <a:off x="395280" y="3618000"/>
              <a:ext cx="8280360" cy="18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597240" indent="-5972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4. Vypočítejte objem balonku tvaru koule, který uvidíme z místa A vzdáleného od jeho středu 30 cm v zorném úhlu 60°. Výsledek vyjádři v litrech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Zástupný symbol pro text 2"/>
                <p:cNvSpPr txBox="1"/>
                <p:nvPr/>
              </p:nvSpPr>
              <p:spPr>
                <a:xfrm>
                  <a:off x="4427640" y="5229360"/>
                  <a:ext cx="194472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r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2" name=""/>
          <p:cNvSpPr/>
          <p:nvPr/>
        </p:nvSpPr>
        <p:spPr>
          <a:xfrm>
            <a:off x="8101080" y="5589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17425" y="10800"/>
                </a:moveTo>
                <a:lnTo>
                  <a:pt x="6920" y="17806"/>
                </a:lnTo>
                <a:lnTo>
                  <a:pt x="6920" y="3794"/>
                </a:lnTo>
                <a:close/>
              </a:path>
              <a:path fill="darken" w="27853" h="21600">
                <a:moveTo>
                  <a:pt x="19271" y="3794"/>
                </a:moveTo>
                <a:lnTo>
                  <a:pt x="19271" y="17806"/>
                </a:lnTo>
                <a:lnTo>
                  <a:pt x="20933" y="17806"/>
                </a:lnTo>
                <a:lnTo>
                  <a:pt x="20933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Zástupný symbol pro text 2"/>
              <p:cNvSpPr txBox="1"/>
              <p:nvPr/>
            </p:nvSpPr>
            <p:spPr>
              <a:xfrm>
                <a:off x="4327560" y="2060640"/>
                <a:ext cx="194796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 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 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 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6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52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50920" y="1484280"/>
            <a:ext cx="3816360" cy="2373120"/>
            <a:chOff x="250920" y="1484280"/>
            <a:chExt cx="3816360" cy="2373120"/>
          </a:xfrm>
        </p:grpSpPr>
        <p:sp>
          <p:nvSpPr>
            <p:cNvPr id="267" name=""/>
            <p:cNvSpPr/>
            <p:nvPr/>
          </p:nvSpPr>
          <p:spPr>
            <a:xfrm>
              <a:off x="755640" y="1917720"/>
              <a:ext cx="3024360" cy="136836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4240" y="3000240"/>
              <a:ext cx="62244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7280" y="314136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84000" y="2781360"/>
              <a:ext cx="430920" cy="10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08360" y="321300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5280" y="148428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360" y="335736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27280" y="285264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5640" y="198900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52720" y="1772280"/>
              <a:ext cx="100584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35280" y="335736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51280" y="2060280"/>
              <a:ext cx="35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0920" y="234936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Zástupný symbol pro text 2"/>
              <p:cNvSpPr txBox="1"/>
              <p:nvPr/>
            </p:nvSpPr>
            <p:spPr>
              <a:xfrm>
                <a:off x="6732720" y="1989000"/>
                <a:ext cx="1887480" cy="33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 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 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 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8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8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95280" y="4221000"/>
            <a:ext cx="237636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ouš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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6°52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53°  8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89°60´= 90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Zástupný symbol pro text 2"/>
              <p:cNvSpPr txBox="1"/>
              <p:nvPr/>
            </p:nvSpPr>
            <p:spPr>
              <a:xfrm>
                <a:off x="5364000" y="1700280"/>
                <a:ext cx="2178360" cy="35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 16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in 16</m:t>
                        </m:r>
                        <m:r>
                          <m:t xml:space="preserve">°</m:t>
                        </m:r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,3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6  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541440" y="2492280"/>
            <a:ext cx="2376360" cy="3024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31960" y="249696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5589720"/>
            <a:ext cx="43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00360" y="5589720"/>
            <a:ext cx="43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49440" y="1989000"/>
            <a:ext cx="43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1280" y="3933720"/>
            <a:ext cx="1654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a = 1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76360" y="6021360"/>
            <a:ext cx="43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85000"/>
          </a:bodyPr>
          <a:p>
            <a:pPr marL="518040" indent="-51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3640" y="2565360"/>
            <a:ext cx="1141560" cy="291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32000" y="4508640"/>
            <a:ext cx="43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79600" y="5229360"/>
            <a:ext cx="57420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31" y="53"/>
                </a:moveTo>
                <a:arcTo wR="10800" hR="10800" stAng="-5740745" swAng="5740745"/>
                <a:lnTo>
                  <a:pt x="10800" y="10800"/>
                </a:lnTo>
                <a:close/>
              </a:path>
              <a:path fill="none" w="21600" h="21600">
                <a:moveTo>
                  <a:pt x="9731" y="53"/>
                </a:moveTo>
                <a:arcTo wR="10800" hR="10800" stAng="-5740745" swAng="574074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36720" y="537228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 rot="17058000">
            <a:off x="1641600" y="3180240"/>
            <a:ext cx="430920" cy="732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26" y="350"/>
                </a:moveTo>
                <a:arcTo wR="10800" hR="10800" stAng="-4522822" swAng="5265385"/>
                <a:lnTo>
                  <a:pt x="10800" y="10800"/>
                </a:lnTo>
                <a:close/>
              </a:path>
              <a:path fill="none" w="21600" h="21600">
                <a:moveTo>
                  <a:pt x="13526" y="350"/>
                </a:moveTo>
                <a:arcTo wR="10800" hR="10800" stAng="-4522822" swAng="5265385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11874600">
            <a:off x="300960" y="2800800"/>
            <a:ext cx="2365920" cy="14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27" y="130"/>
                </a:moveTo>
                <a:arcTo wR="10800" hR="10800" stAng="-5934836" swAng="4278043"/>
                <a:lnTo>
                  <a:pt x="10800" y="10800"/>
                </a:lnTo>
                <a:close/>
              </a:path>
              <a:path fill="none" w="21600" h="21600">
                <a:moveTo>
                  <a:pt x="9127" y="130"/>
                </a:moveTo>
                <a:arcTo wR="10800" hR="10800" stAng="-5934836" swAng="4278043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92360" y="5734080"/>
            <a:ext cx="3527640" cy="576360"/>
          </a:xfrm>
          <a:prstGeom prst="borderCallout2">
            <a:avLst>
              <a:gd name="adj1" fmla="val 18750"/>
              <a:gd name="adj2" fmla="val -8333"/>
              <a:gd name="adj3" fmla="val 19833"/>
              <a:gd name="adj4" fmla="val -2162"/>
              <a:gd name="adj5" fmla="val -96967"/>
              <a:gd name="adj6" fmla="val -29074"/>
            </a:avLst>
          </a:prstGeom>
          <a:noFill/>
          <a:ln w="936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(180°- 32°) : 2 =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74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3860640"/>
            <a:ext cx="43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6360" y="5589720"/>
            <a:ext cx="43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79640" y="558972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/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03280" y="3860640"/>
            <a:ext cx="6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85000"/>
          </a:bodyPr>
          <a:p>
            <a:pPr marL="518040" indent="-51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3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 rot="10800000">
            <a:off x="2268720" y="5013000"/>
            <a:ext cx="863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9280" y="3429000"/>
            <a:ext cx="64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85000"/>
          </a:bodyPr>
          <a:p>
            <a:pPr marL="518040" indent="-51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16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Zástupný symbol pro text 2"/>
              <p:cNvSpPr txBox="1"/>
              <p:nvPr/>
            </p:nvSpPr>
            <p:spPr>
              <a:xfrm>
                <a:off x="5580000" y="2133720"/>
                <a:ext cx="2952720" cy="27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 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 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265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22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324000" y="1773360"/>
            <a:ext cx="4825800" cy="2736000"/>
            <a:chOff x="324000" y="1773360"/>
            <a:chExt cx="4825800" cy="2736000"/>
          </a:xfrm>
        </p:grpSpPr>
        <p:sp>
          <p:nvSpPr>
            <p:cNvPr id="309" name=""/>
            <p:cNvSpPr/>
            <p:nvPr/>
          </p:nvSpPr>
          <p:spPr>
            <a:xfrm>
              <a:off x="324000" y="4005360"/>
              <a:ext cx="433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90000"/>
            </a:bodyPr>
            <a:p>
              <a:pPr marL="548280" indent="-5482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53080" y="1773360"/>
              <a:ext cx="433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4000"/>
            </a:bodyPr>
            <a:p>
              <a:pPr marL="511920" indent="-5119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32000" y="3502080"/>
              <a:ext cx="431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5000"/>
            </a:bodyPr>
            <a:p>
              <a:pPr marL="518040" indent="-518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9918200">
              <a:off x="1332000" y="2565000"/>
              <a:ext cx="1440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ff0000"/>
                  </a:solidFill>
                  <a:latin typeface="Arial"/>
                </a:rPr>
                <a:t>400 m</a:t>
              </a: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68360" y="2278080"/>
              <a:ext cx="3457440" cy="165744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53080" y="400536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4000"/>
            </a:bodyPr>
            <a:p>
              <a:pPr marL="511920" indent="-5119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4360" y="2925720"/>
              <a:ext cx="12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4000"/>
            </a:bodyPr>
            <a:p>
              <a:pPr marL="511920" indent="-5119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ff0000"/>
                  </a:solidFill>
                  <a:latin typeface="Arial"/>
                </a:rPr>
                <a:t>106 m</a:t>
              </a: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48360" y="3357360"/>
              <a:ext cx="288000" cy="11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539000">
              <a:off x="3626640" y="3661200"/>
              <a:ext cx="5742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73" y="1"/>
                  </a:moveTo>
                  <a:arcTo wR="10800" hR="10800" stAng="-5440518" swAng="53066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73" y="1"/>
                  </a:moveTo>
                  <a:arcTo wR="10800" hR="10800" stAng="-5440518" swAng="530662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81440" y="3789360"/>
              <a:ext cx="3672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95280" y="5445000"/>
            <a:ext cx="712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hel stoupání lanové dráhy je asi 15°22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Zástupný symbol pro text 2"/>
              <p:cNvSpPr txBox="1"/>
              <p:nvPr/>
            </p:nvSpPr>
            <p:spPr>
              <a:xfrm>
                <a:off x="4140360" y="2565360"/>
                <a:ext cx="187308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 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in  3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0,5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 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5445000"/>
            <a:ext cx="712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m balonku je asi 14 litr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627280" y="3537000"/>
            <a:ext cx="289080" cy="288720"/>
            <a:chOff x="2627280" y="3537000"/>
            <a:chExt cx="289080" cy="288720"/>
          </a:xfrm>
        </p:grpSpPr>
        <p:sp>
          <p:nvSpPr>
            <p:cNvPr id="325" name=""/>
            <p:cNvSpPr/>
            <p:nvPr/>
          </p:nvSpPr>
          <p:spPr>
            <a:xfrm>
              <a:off x="2627280" y="3609720"/>
              <a:ext cx="28908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700000" y="3537000"/>
              <a:ext cx="135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908000" y="2779560"/>
            <a:ext cx="180036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27280" y="37162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760" y="3681360"/>
            <a:ext cx="23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8760" y="357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8000" y="3716280"/>
            <a:ext cx="431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95640" y="23479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24000" y="2311560"/>
            <a:ext cx="3452760" cy="14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3645000"/>
            <a:ext cx="3851280" cy="15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40080" y="2852640"/>
            <a:ext cx="342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56000" y="285264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9446400">
            <a:off x="2024640" y="2424240"/>
            <a:ext cx="866520" cy="86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04" y="23"/>
                </a:moveTo>
                <a:arcTo wR="10800" hR="10800" stAng="-5175882" swAng="5175882"/>
                <a:lnTo>
                  <a:pt x="10800" y="10800"/>
                </a:lnTo>
                <a:close/>
              </a:path>
              <a:path fill="none" w="21600" h="21600">
                <a:moveTo>
                  <a:pt x="11504" y="23"/>
                </a:moveTo>
                <a:arcTo wR="10800" hR="10800" stAng="-5175882" swAng="517588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306864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630800">
            <a:off x="210600" y="3022560"/>
            <a:ext cx="1297800" cy="144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72" y="970"/>
                </a:moveTo>
                <a:arcTo wR="10800" hR="10800" stAng="-3932219" swAng="4224682"/>
                <a:lnTo>
                  <a:pt x="10800" y="10800"/>
                </a:lnTo>
                <a:close/>
              </a:path>
              <a:path fill="none" w="21600" h="21600">
                <a:moveTo>
                  <a:pt x="15272" y="970"/>
                </a:moveTo>
                <a:arcTo wR="10800" hR="10800" stAng="-3932219" swAng="4224682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00000" y="328464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76360" y="3645000"/>
            <a:ext cx="122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Zástupný symbol pro text 2"/>
              <p:cNvSpPr txBox="1"/>
              <p:nvPr/>
            </p:nvSpPr>
            <p:spPr>
              <a:xfrm>
                <a:off x="6442200" y="2060640"/>
                <a:ext cx="2701800" cy="26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,14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137,167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 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niometrické fun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iometrické funkce ostrého úh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492280"/>
            <a:ext cx="172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hel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306864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– přep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8936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– protilehlá odvě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450864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– přilehlá odvě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5661000"/>
            <a:ext cx="7991280" cy="936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jmenuj názvy str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C vzhledem k úhl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0920" y="2349360"/>
            <a:ext cx="3816360" cy="2948040"/>
            <a:chOff x="250920" y="2349360"/>
            <a:chExt cx="3816360" cy="2948040"/>
          </a:xfrm>
        </p:grpSpPr>
        <p:sp>
          <p:nvSpPr>
            <p:cNvPr id="59" name=""/>
            <p:cNvSpPr/>
            <p:nvPr/>
          </p:nvSpPr>
          <p:spPr>
            <a:xfrm>
              <a:off x="755640" y="3357720"/>
              <a:ext cx="3024360" cy="13683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4240" y="4440240"/>
              <a:ext cx="62244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6920" y="458136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483640" y="4221360"/>
              <a:ext cx="431640" cy="10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08360" y="465300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292428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8360" y="4797360"/>
              <a:ext cx="35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27280" y="429264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5640" y="342900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52720" y="3212280"/>
              <a:ext cx="100584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35280" y="4797360"/>
              <a:ext cx="35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50920" y="350028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0920" y="3789360"/>
              <a:ext cx="358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8360" y="2349360"/>
              <a:ext cx="3240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avoúhlý trojúhelní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9152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in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i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itřního ostrého úhlu libovolného pravoúhlého trojúhelníku je poměr délky protilehlé odvěsny tohoto úhlu k délce přep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95280" y="2997360"/>
            <a:ext cx="3816360" cy="2372040"/>
            <a:chOff x="395280" y="2997360"/>
            <a:chExt cx="3816360" cy="2372040"/>
          </a:xfrm>
        </p:grpSpPr>
        <p:sp>
          <p:nvSpPr>
            <p:cNvPr id="76" name=""/>
            <p:cNvSpPr/>
            <p:nvPr/>
          </p:nvSpPr>
          <p:spPr>
            <a:xfrm>
              <a:off x="900000" y="3430440"/>
              <a:ext cx="3024360" cy="1368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8600" y="4512960"/>
              <a:ext cx="622440" cy="85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71640" y="465408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628360" y="4294080"/>
              <a:ext cx="430920" cy="1005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52720" y="4725720"/>
              <a:ext cx="358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9640" y="2997360"/>
              <a:ext cx="358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2720" y="487008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71640" y="4365360"/>
              <a:ext cx="358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00000" y="3501720"/>
              <a:ext cx="358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97080" y="3285360"/>
              <a:ext cx="1005840" cy="71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79640" y="487008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95640" y="3573000"/>
              <a:ext cx="358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5280" y="3862080"/>
              <a:ext cx="358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Zástupný symbol pro text 2"/>
              <p:cNvSpPr txBox="1"/>
              <p:nvPr/>
            </p:nvSpPr>
            <p:spPr>
              <a:xfrm>
                <a:off x="5364000" y="3241800"/>
                <a:ext cx="22003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 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539640" y="5589720"/>
            <a:ext cx="3527640" cy="1008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iš sinus úhl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318280" y="5084640"/>
                <a:ext cx="229392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 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219640" y="3141720"/>
            <a:ext cx="2521080" cy="158256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5013360"/>
            <a:ext cx="2521080" cy="158256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ždému ostrému úhlu přísluš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ávě je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dnota funkce sin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157720"/>
            <a:ext cx="4824360" cy="1440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trojte graf funkce sinu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užij tabulky, kalkulačku, milimetrový papí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781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námka: sinus ostrého úhlu je vždy menší než jedna. Zdůvodni pro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393372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délka odvěsny je vždy menší než délka přepony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: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 (pro úhel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1341360"/>
          <a:ext cx="8218440" cy="965160"/>
        </p:xfrm>
        <a:graphic>
          <a:graphicData uri="http://schemas.openxmlformats.org/drawingml/2006/table">
            <a:tbl>
              <a:tblPr/>
              <a:tblGrid>
                <a:gridCol w="746280"/>
                <a:gridCol w="749160"/>
                <a:gridCol w="746280"/>
                <a:gridCol w="749160"/>
                <a:gridCol w="745920"/>
                <a:gridCol w="744840"/>
                <a:gridCol w="750600"/>
                <a:gridCol w="744840"/>
                <a:gridCol w="750600"/>
                <a:gridCol w="744840"/>
                <a:gridCol w="7459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4859280" y="3933720"/>
            <a:ext cx="3889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fem funkce sinus je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inusoida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1280" y="2421000"/>
            <a:ext cx="4716720" cy="4275000"/>
            <a:chOff x="71280" y="2421000"/>
            <a:chExt cx="4716720" cy="4275000"/>
          </a:xfrm>
        </p:grpSpPr>
        <p:sp>
          <p:nvSpPr>
            <p:cNvPr id="103" name=""/>
            <p:cNvSpPr/>
            <p:nvPr/>
          </p:nvSpPr>
          <p:spPr>
            <a:xfrm>
              <a:off x="539640" y="2421000"/>
              <a:ext cx="0" cy="424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638172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000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5892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928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7964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000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0036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1964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5928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0000" y="630864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" y="6453360"/>
              <a:ext cx="216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6000" y="6453360"/>
              <a:ext cx="216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76360" y="6453360"/>
              <a:ext cx="216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35280" y="645336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95640" y="645336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6000" y="645336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16360" y="645336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76720" y="645336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35280" y="6453360"/>
              <a:ext cx="216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5280" y="6381720"/>
              <a:ext cx="216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2781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000" y="2637000"/>
              <a:ext cx="215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80" y="4365720"/>
              <a:ext cx="216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6560" y="45799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6560" y="5769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8360" y="515628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6560" y="3645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6560" y="328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6560" y="2997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6560" y="2852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1280" y="5769000"/>
              <a:ext cx="2872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900000" y="5768640"/>
              <a:ext cx="0" cy="5396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258920" y="5157360"/>
              <a:ext cx="0" cy="11509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1280" y="5157720"/>
              <a:ext cx="64764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1280" y="4581360"/>
              <a:ext cx="1008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1619280" y="4581360"/>
              <a:ext cx="0" cy="17272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280" y="3284640"/>
              <a:ext cx="20890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1280" y="2997360"/>
              <a:ext cx="244800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280" y="2852640"/>
              <a:ext cx="28083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979640" y="4076640"/>
              <a:ext cx="0" cy="223200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340000" y="3644640"/>
              <a:ext cx="0" cy="266364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662200" y="3249720"/>
              <a:ext cx="0" cy="302400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059280" y="2997360"/>
              <a:ext cx="0" cy="33112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419640" y="2852640"/>
              <a:ext cx="0" cy="345600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780000" y="2781360"/>
              <a:ext cx="0" cy="35272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6560" y="4076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1280" y="4076640"/>
              <a:ext cx="13683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1280" y="3645000"/>
              <a:ext cx="1728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1280" y="2781360"/>
              <a:ext cx="3168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280" y="2457360"/>
              <a:ext cx="395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74000"/>
            </a:bodyPr>
            <a:p>
              <a:pPr marL="253800" indent="-2538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sin</a:t>
              </a:r>
              <a:r>
                <a:rPr b="0" lang="cs-CZ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6397560"/>
              <a:ext cx="216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91000"/>
            </a:bodyPr>
            <a:p>
              <a:pPr marL="312120" indent="-31212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3280" y="6343560"/>
              <a:ext cx="71280" cy="73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3640" y="5734080"/>
              <a:ext cx="71280" cy="73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22200" y="5119560"/>
              <a:ext cx="71640" cy="73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2560" y="4545000"/>
              <a:ext cx="71640" cy="73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43280" y="4076640"/>
              <a:ext cx="71280" cy="73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01840" y="3608280"/>
              <a:ext cx="71640" cy="73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25840" y="3249720"/>
              <a:ext cx="71280" cy="73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22560" y="2960640"/>
              <a:ext cx="71640" cy="73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81480" y="2817720"/>
              <a:ext cx="71280" cy="73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41840" y="2744640"/>
              <a:ext cx="71280" cy="7308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57280" y="2781360"/>
            <a:ext cx="3240000" cy="3600360"/>
          </a:xfrm>
          <a:custGeom>
            <a:avLst/>
            <a:gdLst/>
            <a:ahLst/>
            <a:rect l="l" t="t" r="r" b="b"/>
            <a:pathLst>
              <a:path w="2041" h="2268">
                <a:moveTo>
                  <a:pt x="0" y="2268"/>
                </a:moveTo>
                <a:cubicBezTo>
                  <a:pt x="76" y="2109"/>
                  <a:pt x="152" y="1950"/>
                  <a:pt x="227" y="1814"/>
                </a:cubicBezTo>
                <a:cubicBezTo>
                  <a:pt x="302" y="1678"/>
                  <a:pt x="378" y="1572"/>
                  <a:pt x="453" y="1451"/>
                </a:cubicBezTo>
                <a:cubicBezTo>
                  <a:pt x="528" y="1330"/>
                  <a:pt x="604" y="1201"/>
                  <a:pt x="680" y="1088"/>
                </a:cubicBezTo>
                <a:cubicBezTo>
                  <a:pt x="756" y="975"/>
                  <a:pt x="824" y="877"/>
                  <a:pt x="907" y="771"/>
                </a:cubicBezTo>
                <a:cubicBezTo>
                  <a:pt x="990" y="665"/>
                  <a:pt x="1096" y="544"/>
                  <a:pt x="1179" y="453"/>
                </a:cubicBezTo>
                <a:cubicBezTo>
                  <a:pt x="1262" y="362"/>
                  <a:pt x="1330" y="287"/>
                  <a:pt x="1406" y="227"/>
                </a:cubicBezTo>
                <a:cubicBezTo>
                  <a:pt x="1482" y="167"/>
                  <a:pt x="1565" y="120"/>
                  <a:pt x="1633" y="90"/>
                </a:cubicBezTo>
                <a:cubicBezTo>
                  <a:pt x="1701" y="60"/>
                  <a:pt x="1746" y="60"/>
                  <a:pt x="1814" y="45"/>
                </a:cubicBezTo>
                <a:cubicBezTo>
                  <a:pt x="1882" y="30"/>
                  <a:pt x="2003" y="7"/>
                  <a:pt x="2041" y="0"/>
                </a:cubicBezTo>
              </a:path>
            </a:pathLst>
          </a:custGeom>
          <a:noFill/>
          <a:ln w="442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Zástupný symbol pro text 2" descr=""/>
          <p:cNvPicPr/>
          <p:nvPr/>
        </p:nvPicPr>
        <p:blipFill>
          <a:blip r:embed="rId1"/>
          <a:stretch/>
        </p:blipFill>
        <p:spPr>
          <a:xfrm>
            <a:off x="0" y="3616200"/>
            <a:ext cx="3384720" cy="3241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03280" y="1125000"/>
            <a:ext cx="3754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otková kruž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1727280" y="1528920"/>
            <a:ext cx="0" cy="424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2360" y="5272200"/>
            <a:ext cx="45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872720" y="1816200"/>
            <a:ext cx="7200000" cy="691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52360" y="34005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11640" y="54165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584360" y="3460680"/>
            <a:ext cx="3311640" cy="18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584360" y="2741760"/>
            <a:ext cx="273672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55640" y="2103480"/>
            <a:ext cx="194472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24360" y="3508200"/>
            <a:ext cx="0" cy="176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48000" y="2824200"/>
            <a:ext cx="0" cy="2448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8200" y="2266920"/>
            <a:ext cx="0" cy="300528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27280" y="1816200"/>
            <a:ext cx="0" cy="345600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11640" y="4119480"/>
            <a:ext cx="144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 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64000" y="2824200"/>
            <a:ext cx="14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in 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43280" y="2103480"/>
            <a:ext cx="14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n 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00360" y="2031840"/>
            <a:ext cx="143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in 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1916280"/>
            <a:ext cx="223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jednotka = 1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3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014560" y="3645000"/>
            <a:ext cx="1690560" cy="24480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1440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voď hodnoty funkce sinus pro úhly 30°, 45° a 60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ávod: použij rovnostranný a rovnoramenný pravoúhlý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2781360"/>
            <a:ext cx="22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vnostrann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35640" y="2997360"/>
            <a:ext cx="2808360" cy="3560760"/>
            <a:chOff x="6335640" y="2997360"/>
            <a:chExt cx="2808360" cy="3560760"/>
          </a:xfrm>
        </p:grpSpPr>
        <p:sp>
          <p:nvSpPr>
            <p:cNvPr id="191" name=""/>
            <p:cNvSpPr/>
            <p:nvPr/>
          </p:nvSpPr>
          <p:spPr>
            <a:xfrm>
              <a:off x="6335640" y="2997360"/>
              <a:ext cx="280836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Symbol" charset="2"/>
                <a:buChar char="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C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agorova vě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(a/2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(a/2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3/4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Zástupný symbol pro text 2"/>
                <p:cNvSpPr txBox="1"/>
                <p:nvPr/>
              </p:nvSpPr>
              <p:spPr>
                <a:xfrm>
                  <a:off x="6407280" y="5589720"/>
                  <a:ext cx="136836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3" name=""/>
          <p:cNvGrpSpPr/>
          <p:nvPr/>
        </p:nvGrpSpPr>
        <p:grpSpPr>
          <a:xfrm>
            <a:off x="0" y="3429000"/>
            <a:ext cx="4068720" cy="3095640"/>
            <a:chOff x="0" y="3429000"/>
            <a:chExt cx="4068720" cy="3095640"/>
          </a:xfrm>
        </p:grpSpPr>
        <p:sp>
          <p:nvSpPr>
            <p:cNvPr id="194" name=""/>
            <p:cNvSpPr/>
            <p:nvPr/>
          </p:nvSpPr>
          <p:spPr>
            <a:xfrm>
              <a:off x="1776240" y="6068880"/>
              <a:ext cx="387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9360" y="5638680"/>
              <a:ext cx="782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1960" y="3624120"/>
              <a:ext cx="3421080" cy="24703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03400" y="3624120"/>
              <a:ext cx="1440" cy="247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73520" y="5638680"/>
              <a:ext cx="8348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69920" y="4859280"/>
              <a:ext cx="387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6033960"/>
              <a:ext cx="387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81360" y="6033960"/>
              <a:ext cx="387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17760" y="3429000"/>
              <a:ext cx="385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8520" y="61293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16480" y="6130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52600" y="4208400"/>
              <a:ext cx="815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69920" y="4208400"/>
              <a:ext cx="8733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1800" y="5770440"/>
              <a:ext cx="645120" cy="65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5782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57822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98800" y="5899320"/>
              <a:ext cx="6480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3480" y="4599000"/>
              <a:ext cx="3859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720" y="4664160"/>
              <a:ext cx="387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54160" y="4727520"/>
                <a:ext cx="936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211640" y="2997360"/>
            <a:ext cx="28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84720" y="3429000"/>
                <a:ext cx="185904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588000" y="3429000"/>
                <a:ext cx="2151360" cy="32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52520" y="2565360"/>
            <a:ext cx="1943280" cy="19652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1484280"/>
            <a:ext cx="410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vnoramenný pravoúhl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427640" y="1989000"/>
            <a:ext cx="2852640" cy="2904840"/>
            <a:chOff x="4427640" y="1989000"/>
            <a:chExt cx="2852640" cy="2904840"/>
          </a:xfrm>
        </p:grpSpPr>
        <p:sp>
          <p:nvSpPr>
            <p:cNvPr id="219" name=""/>
            <p:cNvSpPr/>
            <p:nvPr/>
          </p:nvSpPr>
          <p:spPr>
            <a:xfrm>
              <a:off x="4427640" y="1989000"/>
              <a:ext cx="2852640" cy="19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Symbol" charset="2"/>
                <a:buChar char="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C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ythagorova vě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Zástupný symbol pro text 2"/>
                <p:cNvSpPr txBox="1"/>
                <p:nvPr/>
              </p:nvSpPr>
              <p:spPr>
                <a:xfrm>
                  <a:off x="4535640" y="3715920"/>
                  <a:ext cx="144000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1" name=""/>
          <p:cNvGrpSpPr/>
          <p:nvPr/>
        </p:nvGrpSpPr>
        <p:grpSpPr>
          <a:xfrm>
            <a:off x="0" y="2060280"/>
            <a:ext cx="4538520" cy="4496400"/>
            <a:chOff x="0" y="2060280"/>
            <a:chExt cx="4538520" cy="4496400"/>
          </a:xfrm>
        </p:grpSpPr>
        <p:sp>
          <p:nvSpPr>
            <p:cNvPr id="222" name=""/>
            <p:cNvSpPr/>
            <p:nvPr/>
          </p:nvSpPr>
          <p:spPr>
            <a:xfrm>
              <a:off x="539640" y="4078440"/>
              <a:ext cx="71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0560" y="2545200"/>
              <a:ext cx="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48000" y="4078440"/>
              <a:ext cx="71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08000" y="364680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4510440"/>
              <a:ext cx="43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06880" y="4443840"/>
              <a:ext cx="43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0920" y="2133720"/>
              <a:ext cx="4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46520" y="45486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18160" y="45486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08720" y="4151520"/>
              <a:ext cx="720000" cy="72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6099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609930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74920" y="43675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81080" y="4481640"/>
              <a:ext cx="4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32000" y="307044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0000" y="314208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8113800">
              <a:off x="756360" y="3142080"/>
              <a:ext cx="2878200" cy="2808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26160" y="4726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8197800">
              <a:off x="1857960" y="2208960"/>
              <a:ext cx="720000" cy="72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5828522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582852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30560" y="274680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95640" y="2999160"/>
              <a:ext cx="718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9280" y="2999160"/>
              <a:ext cx="719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948360" y="2565360"/>
                <a:ext cx="1824120" cy="39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>
                                  <m:t xml:space="preserve">a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948360" y="1989000"/>
            <a:ext cx="136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abulka důležitých hodnot funkce si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55640" y="3068640"/>
          <a:ext cx="7561440" cy="1782720"/>
        </p:xfrm>
        <a:graphic>
          <a:graphicData uri="http://schemas.openxmlformats.org/drawingml/2006/table">
            <a:tbl>
              <a:tblPr/>
              <a:tblGrid>
                <a:gridCol w="1260360"/>
                <a:gridCol w="1260720"/>
                <a:gridCol w="1260360"/>
                <a:gridCol w="1258920"/>
                <a:gridCol w="1260360"/>
                <a:gridCol w="126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708360" y="3860640"/>
            <a:ext cx="3029040" cy="941400"/>
            <a:chOff x="3708360" y="3860640"/>
            <a:chExt cx="3029040" cy="941400"/>
          </a:xfrm>
        </p:grpSpPr>
        <mc:AlternateContent>
          <mc:Choice xmlns:a14="http://schemas.microsoft.com/office/drawing/2010/main" Requires="a14">
            <p:sp>
              <p:nvSpPr>
                <p:cNvPr id="248" name="Zástupný symbol pro text 2"/>
                <p:cNvSpPr txBox="1"/>
                <p:nvPr/>
              </p:nvSpPr>
              <p:spPr>
                <a:xfrm>
                  <a:off x="3708360" y="3933720"/>
                  <a:ext cx="33192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4859280" y="3860640"/>
                  <a:ext cx="58104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6156360" y="3860640"/>
                  <a:ext cx="58104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2T09:45:48Z</dcterms:created>
  <dc:creator>Kamila Mužíková</dc:creator>
  <dc:description>Dostupné z Metodického portálu www.rvp.cz, ISSN: 1802-4785, financovaného z ESF a státního rozpočtu ČR. Provozováno Výzkumným ústavem pedagogickým v Praze.</dc:description>
  <dc:language>en-US</dc:language>
  <cp:lastModifiedBy>Stepanka</cp:lastModifiedBy>
  <dcterms:modified xsi:type="dcterms:W3CDTF">2008-08-26T22:44:15Z</dcterms:modified>
  <cp:revision>47</cp:revision>
  <dc:subject/>
  <dc:title>Funkce sinus</dc:title>
</cp:coreProperties>
</file>