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EC83-BDAF-4E62-A1D0-6668544E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0018-7D73-4F5F-8E67-7738AC87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5E1A-7A40-42DC-9370-7DA4ECBC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1023-7067-4EC6-8C8C-1976F97B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39F-4ED3-488D-A802-DA3A8A86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F59C-AC29-4DA4-B6AF-2F47F5A4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6FA9-C4B7-4D77-B850-47DE12AB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6513-7098-4A40-9EE4-676ED9C9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9C9B-ABEC-4AC1-A7D1-29F41C69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B825-840E-482C-A21A-6C8167D9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6668-E52D-4FF8-83BE-CD170D49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4A4-00C5-49F3-B076-A466D3C8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7AC1-10AC-4E2E-A7D8-4C6D6812769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53EA-DBDC-44B5-AD21-11EE9B842A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YTHAGOROVA VĚ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Věta k ní obráce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thagorova věta – příklad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497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estrojte trojúhelníky s danými délkami stran a zjistěte, který z nich je pravoúhlý. Výsledek ověřte výpočtem pomocí obrácené Pythagorovy vě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3,5 cm; b = 4 cm; c = 5,5 c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6 cm; n = 8 cm; o = 1 d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0,4 dm; f = 7,5 cm; g = 85 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0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3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3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8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6000"/>
                            </p:stCondLst>
                            <p:childTnLst>
                              <p:par>
                                <p:cTn id="8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9000"/>
                            </p:stCondLst>
                            <p:childTnLst>
                              <p:par>
                                <p:cTn id="9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3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3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thagorova věta – příklad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3889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1916280"/>
            <a:ext cx="41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3,5 cm; b = 4 cm; c = 5,5 c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,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,25 + 16 = 3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,25 ≠ 3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avoúhl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443700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 = 6 cm; n = 8 cm; o = 1 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+ 8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6 + 64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0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NO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avoúhl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24360" y="2997360"/>
            <a:ext cx="39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= 0,4 dm; f = 7,5 cm; g = 8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7,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,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+ 56,25 = 72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,25 = 72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avoúhl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thagorova věta - zajímav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Staří Egypťané a Indové vytyčovali pravý úhel pomocí motouz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Na motouzu je uvázáno ve stejných vzdálenostech 13 uzl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Motouz se vypne tak, aby se uzly 1, 4, 8 staly vrcholy trojúhelníku (uzel 13 je upevněný v témže místě jako uzel 1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Platí: 3</a:t>
            </a:r>
            <a:r>
              <a:rPr b="1" lang="en-US" sz="1800" spc="-1" strike="noStrike" baseline="30000">
                <a:solidFill>
                  <a:srgbClr val="99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+ 4</a:t>
            </a:r>
            <a:r>
              <a:rPr b="1" lang="en-US" sz="1800" spc="-1" strike="noStrike" baseline="30000">
                <a:solidFill>
                  <a:srgbClr val="99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= 5</a:t>
            </a:r>
            <a:r>
              <a:rPr b="1" lang="en-US" sz="1800" spc="-1" strike="noStrike" baseline="30000">
                <a:solidFill>
                  <a:srgbClr val="990000"/>
                </a:solidFill>
                <a:latin typeface="Arial"/>
              </a:rPr>
              <a:t>2     </a:t>
            </a:r>
            <a:r>
              <a:rPr b="1" lang="en-US" sz="1800" spc="-1" strike="noStrike">
                <a:solidFill>
                  <a:srgbClr val="99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  9 + 16 = 25 </a:t>
            </a:r>
            <a:r>
              <a:rPr b="1" lang="en-US" sz="1800" spc="-1" strike="noStrike">
                <a:solidFill>
                  <a:srgbClr val="99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  trojúhelník je pravoúhl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Zástupný symbol pro text 2" descr=""/>
          <p:cNvPicPr/>
          <p:nvPr/>
        </p:nvPicPr>
        <p:blipFill>
          <a:blip r:embed="rId1"/>
          <a:stretch/>
        </p:blipFill>
        <p:spPr>
          <a:xfrm>
            <a:off x="5651640" y="5300640"/>
            <a:ext cx="484200" cy="889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798560" y="6093000"/>
            <a:ext cx="7192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17840" y="6093000"/>
            <a:ext cx="718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38560" y="6093000"/>
            <a:ext cx="718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7480" y="6093000"/>
            <a:ext cx="7192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78200" y="6093000"/>
            <a:ext cx="7192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48360" y="6093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00720" y="6093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40000" y="6093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59280" y="6093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0" y="6093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6093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64760" y="5505840"/>
            <a:ext cx="432000" cy="57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32760" y="4923360"/>
            <a:ext cx="431640" cy="57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76720" y="52293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90320" y="4344120"/>
            <a:ext cx="431280" cy="57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791000" y="5650920"/>
            <a:ext cx="57492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355840" y="5218920"/>
            <a:ext cx="575280" cy="43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924280" y="4796280"/>
            <a:ext cx="57564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497400" y="4358160"/>
            <a:ext cx="57564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1579400">
            <a:off x="5351040" y="6224040"/>
            <a:ext cx="1152720" cy="384120"/>
          </a:xfrm>
          <a:custGeom>
            <a:avLst/>
            <a:gdLst/>
            <a:ahLst/>
            <a:rect l="l" t="t" r="r" b="b"/>
            <a:pathLst>
              <a:path w="726" h="242">
                <a:moveTo>
                  <a:pt x="0" y="151"/>
                </a:moveTo>
                <a:cubicBezTo>
                  <a:pt x="189" y="75"/>
                  <a:pt x="378" y="0"/>
                  <a:pt x="499" y="15"/>
                </a:cubicBezTo>
                <a:cubicBezTo>
                  <a:pt x="620" y="30"/>
                  <a:pt x="673" y="136"/>
                  <a:pt x="726" y="24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79640" y="530064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6000" y="48690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95640" y="39337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3640" y="44370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45813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284720" y="3573360"/>
            <a:ext cx="484200" cy="889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 flipH="1">
            <a:off x="1042560" y="5300640"/>
            <a:ext cx="452520" cy="889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395280" y="3357720"/>
            <a:ext cx="2311560" cy="1539720"/>
          </a:xfrm>
          <a:prstGeom prst="rect">
            <a:avLst/>
          </a:prstGeom>
          <a:ln w="0">
            <a:noFill/>
          </a:ln>
        </p:spPr>
      </p:pic>
      <p:pic>
        <p:nvPicPr>
          <p:cNvPr id="223" name="Zástupný symbol pro text 2" descr=""/>
          <p:cNvPicPr/>
          <p:nvPr/>
        </p:nvPicPr>
        <p:blipFill>
          <a:blip r:embed="rId5"/>
          <a:stretch/>
        </p:blipFill>
        <p:spPr>
          <a:xfrm>
            <a:off x="6300720" y="3789360"/>
            <a:ext cx="2446560" cy="1959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 rot="8240400">
            <a:off x="3027600" y="3317400"/>
            <a:ext cx="1869840" cy="20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24360" y="4869000"/>
            <a:ext cx="71280" cy="727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0"/>
                            </p:stCondLst>
                            <p:childTnLst>
                              <p:par>
                                <p:cTn id="9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9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9000"/>
                            </p:stCondLst>
                            <p:childTnLst>
                              <p:par>
                                <p:cTn id="9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10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9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25000"/>
                            </p:stCondLst>
                            <p:childTnLst>
                              <p:par>
                                <p:cTn id="9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7000"/>
                            </p:stCondLst>
                            <p:childTnLst>
                              <p:par>
                                <p:cTn id="9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9000"/>
                            </p:stCondLst>
                            <p:childTnLst>
                              <p:par>
                                <p:cTn id="9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310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37000"/>
                            </p:stCondLst>
                            <p:childTnLst>
                              <p:par>
                                <p:cTn id="10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1000"/>
                            </p:stCondLst>
                            <p:childTnLst>
                              <p:par>
                                <p:cTn id="10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43000"/>
                            </p:stCondLst>
                            <p:childTnLst>
                              <p:par>
                                <p:cTn id="1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2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2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6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thagorova věta – příklad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41672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Vypočítejte délku přepo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pravoúhlém trojúhelník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 odvěsnami délek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2 cm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9 c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2781360"/>
            <a:ext cx="1871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áč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71640" y="3645000"/>
            <a:ext cx="1727280" cy="208764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00360" y="5445000"/>
            <a:ext cx="43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342900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445000"/>
            <a:ext cx="4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09800" y="436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04360" y="57340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= 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99800" y="441828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= 1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71640" y="5734080"/>
            <a:ext cx="172872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3645000"/>
            <a:ext cx="0" cy="2089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0360" y="5373720"/>
            <a:ext cx="86256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16000" y="5589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24360" y="2781360"/>
            <a:ext cx="23032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poč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4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 =1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Zástupný symbol pro text 2"/>
              <p:cNvSpPr txBox="1"/>
              <p:nvPr/>
            </p:nvSpPr>
            <p:spPr>
              <a:xfrm>
                <a:off x="4427640" y="4941720"/>
                <a:ext cx="8935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3924360" y="6021360"/>
            <a:ext cx="403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lka přepony je 15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2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3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3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3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3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3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3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3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3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3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3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3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3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3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3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 flipH="1">
            <a:off x="971640" y="3645000"/>
            <a:ext cx="1727280" cy="208908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3645000"/>
            <a:ext cx="1728720" cy="20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thagorova věta – příklad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05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Vypočítejte délku úhlopříčk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délník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stranami déle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6 m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8 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2781360"/>
            <a:ext cx="1871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áč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360" y="342900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342900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5589720"/>
            <a:ext cx="4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49800" y="44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04360" y="57340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= 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2425320" y="455112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= 8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71640" y="5734080"/>
            <a:ext cx="172872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3645000"/>
            <a:ext cx="0" cy="2089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934400">
            <a:off x="2155680" y="5411880"/>
            <a:ext cx="861840" cy="72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74" y="82"/>
                </a:moveTo>
                <a:arcTo wR="10800" hR="10800" stAng="-5823300" swAng="5844902"/>
                <a:lnTo>
                  <a:pt x="10800" y="10800"/>
                </a:lnTo>
                <a:close/>
              </a:path>
              <a:path fill="none" w="21600" h="21600">
                <a:moveTo>
                  <a:pt x="9474" y="82"/>
                </a:moveTo>
                <a:arcTo wR="10800" hR="10800" stAng="-5823300" swAng="5844902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84360" y="55166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2781360"/>
            <a:ext cx="23032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poč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  =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Zástupný symbol pro text 2"/>
              <p:cNvSpPr txBox="1"/>
              <p:nvPr/>
            </p:nvSpPr>
            <p:spPr>
              <a:xfrm>
                <a:off x="4500720" y="4975200"/>
                <a:ext cx="8046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3924360" y="6021360"/>
            <a:ext cx="403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lka úhlopříčky je 10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71640" y="5516640"/>
            <a:ext cx="4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971640" y="3644640"/>
            <a:ext cx="172872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2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2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2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2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2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2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2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2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2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2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2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thagorova věta – příklad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41672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Vypočítejte délku odvěs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pravoúhlém trojúhelník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F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 přepono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7 dm a odvěsno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5 d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2781360"/>
            <a:ext cx="1871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áč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1640" y="3645000"/>
            <a:ext cx="1727280" cy="208764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558972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1280" y="342900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5589720"/>
            <a:ext cx="4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4292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 = 17 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60000" y="57340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= 15 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71640" y="5734080"/>
            <a:ext cx="172872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71640" y="3645000"/>
            <a:ext cx="1728720" cy="2089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0360" y="5373720"/>
            <a:ext cx="86256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16000" y="5589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60640" y="2708280"/>
            <a:ext cx="2592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poč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89 – 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  = 8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Zástupný symbol pro text 2"/>
              <p:cNvSpPr txBox="1"/>
              <p:nvPr/>
            </p:nvSpPr>
            <p:spPr>
              <a:xfrm>
                <a:off x="4716360" y="5373720"/>
                <a:ext cx="5590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2987640" y="6208560"/>
            <a:ext cx="4896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lka druhé odvěsny je 8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3080" y="44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3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3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3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3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3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3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3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3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3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3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3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3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3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3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124000" y="3357720"/>
            <a:ext cx="1871640" cy="230328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thagorova věta – příklad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ypočítejte výšku k základně rovnoramenného trojúhelníku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L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 základnou délk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6 cm a s rameny déle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2 c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2637000"/>
            <a:ext cx="1871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áč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51280" y="558972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8000" y="292428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558972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3860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= l = 2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03280" y="6021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= 1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5661000"/>
            <a:ext cx="3744720" cy="14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24000" y="3357720"/>
            <a:ext cx="1873440" cy="23047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92360" y="5300640"/>
            <a:ext cx="8632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68360" y="544500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48360" y="2637000"/>
            <a:ext cx="3168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poč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(m/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84 –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  = 20,493 901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Zástupný symbol pro text 2"/>
              <p:cNvSpPr txBox="1"/>
              <p:nvPr/>
            </p:nvSpPr>
            <p:spPr>
              <a:xfrm>
                <a:off x="6012000" y="5229360"/>
                <a:ext cx="8636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2987640" y="6208560"/>
            <a:ext cx="5905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lka výšky k základně je asi 20,5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20720" y="4437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3357720"/>
            <a:ext cx="3744720" cy="2303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01800" y="40053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124000" y="335772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8000" y="5661000"/>
            <a:ext cx="4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00360" y="5734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3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3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3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3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3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3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3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3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3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3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3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3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30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30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30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30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voúhlý trojúhelník - poj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2637000"/>
            <a:ext cx="16560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vě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08360" y="5805360"/>
            <a:ext cx="1655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p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7850400">
            <a:off x="2967480" y="3187080"/>
            <a:ext cx="3403440" cy="393840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5084640"/>
            <a:ext cx="43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2060640"/>
            <a:ext cx="43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6000" y="5084640"/>
            <a:ext cx="43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3429000"/>
            <a:ext cx="43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3500280"/>
            <a:ext cx="43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5013360"/>
            <a:ext cx="43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8064600">
            <a:off x="3695760" y="2022840"/>
            <a:ext cx="1311120" cy="118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61" y="9"/>
                </a:moveTo>
                <a:arcTo wR="10800" hR="10800" stAng="-5539814" swAng="5641642"/>
                <a:lnTo>
                  <a:pt x="10800" y="10800"/>
                </a:lnTo>
                <a:close/>
              </a:path>
              <a:path fill="none" w="21600" h="21600">
                <a:moveTo>
                  <a:pt x="10361" y="9"/>
                </a:moveTo>
                <a:arcTo wR="10800" hR="10800" stAng="-5539814" swAng="564164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29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3357720"/>
            <a:ext cx="360360" cy="100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227640" y="3213000"/>
            <a:ext cx="432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859280" y="5157360"/>
            <a:ext cx="7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40360" y="1484280"/>
            <a:ext cx="21589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vý úh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427280" y="2060640"/>
            <a:ext cx="649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2781360"/>
            <a:ext cx="1655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vě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thagorova vě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82840"/>
            <a:ext cx="0" cy="35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38440" y="1374840"/>
            <a:ext cx="0" cy="36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68520" y="14446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41400" y="1739880"/>
            <a:ext cx="51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41400" y="3368520"/>
            <a:ext cx="51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41400" y="4997520"/>
            <a:ext cx="51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97520" y="1374840"/>
            <a:ext cx="0" cy="36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1000" y="1519200"/>
            <a:ext cx="3528720" cy="352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49640" y="1515960"/>
            <a:ext cx="2009880" cy="20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623960"/>
            <a:ext cx="3530520" cy="353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55840"/>
            <a:ext cx="1792440" cy="179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200" y="1482840"/>
            <a:ext cx="3585960" cy="36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0520" y="1482840"/>
            <a:ext cx="1960560" cy="19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685520" y="1515960"/>
            <a:ext cx="352908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260880" y="3255840"/>
            <a:ext cx="1846080" cy="184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7520" y="2565360"/>
            <a:ext cx="1585800" cy="7952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57520" y="4194000"/>
            <a:ext cx="1585800" cy="7956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1763280" y="3373200"/>
            <a:ext cx="1584360" cy="7952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1350360" y="3780000"/>
            <a:ext cx="1585800" cy="7952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2165400" y="3787560"/>
            <a:ext cx="1585800" cy="7952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1350360" y="2158920"/>
            <a:ext cx="1586160" cy="7952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2973240" y="2150640"/>
            <a:ext cx="1585800" cy="7956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2165400" y="2157120"/>
            <a:ext cx="1585800" cy="7952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536760" y="2141280"/>
            <a:ext cx="1585800" cy="7952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64000" y="2349360"/>
            <a:ext cx="37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hlopříčky dlaž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0600" y="230976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66960" y="230976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22600" y="230976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74960" y="2309760"/>
            <a:ext cx="3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66960" y="389412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46248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74960" y="396720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70240" y="447048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1557360"/>
            <a:ext cx="378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ažba ze čtvercových dlaž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2781360"/>
            <a:ext cx="37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voúhlý trojúhel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64000" y="3213000"/>
            <a:ext cx="37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tverce nad odvěs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4000" y="3645000"/>
            <a:ext cx="3527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tverec nad přepon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64000" y="4076640"/>
            <a:ext cx="37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číslujeme trojúhelní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0" y="4508640"/>
            <a:ext cx="3527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o jste zjisti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229360"/>
            <a:ext cx="8642160" cy="1484280"/>
          </a:xfrm>
          <a:prstGeom prst="rect">
            <a:avLst/>
          </a:prstGeom>
          <a:noFill/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 pravoúhlém trojúhelníku je obsah čtverce nad přeponou roven součtu obsahů čtverců nad oběma odvěsn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ythagorova vě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7967400">
            <a:off x="2325600" y="2329920"/>
            <a:ext cx="438120" cy="46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06" y="4"/>
                </a:moveTo>
                <a:arcTo wR="10800" hR="10800" stAng="-5493731" swAng="5493731"/>
                <a:lnTo>
                  <a:pt x="10800" y="10800"/>
                </a:lnTo>
                <a:close/>
              </a:path>
              <a:path fill="none" w="21600" h="21600">
                <a:moveTo>
                  <a:pt x="10506" y="4"/>
                </a:moveTo>
                <a:arcTo wR="10800" hR="10800" stAng="-5493731" swAng="549373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30440" y="2670120"/>
            <a:ext cx="3672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thagorova věta - důka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 rot="2208000">
            <a:off x="1115640" y="2205000"/>
            <a:ext cx="2521080" cy="2521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1700280"/>
            <a:ext cx="2016000" cy="1511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003280" y="1700280"/>
            <a:ext cx="2016360" cy="1511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6768720" y="3465360"/>
            <a:ext cx="2016360" cy="1511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768720" y="3465000"/>
            <a:ext cx="2016360" cy="1511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8720" y="1125360"/>
            <a:ext cx="36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2360" y="4221000"/>
            <a:ext cx="36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5084640"/>
            <a:ext cx="36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206064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97800" y="5084640"/>
            <a:ext cx="36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97800" y="119700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60720" y="119700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7440" y="119700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407664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515772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2360" y="220500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242100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5080" y="3933720"/>
            <a:ext cx="36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89440" y="3860640"/>
            <a:ext cx="36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4720" y="227664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31417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2376360" y="3465000"/>
            <a:ext cx="2016360" cy="1511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470600">
            <a:off x="3654000" y="4898520"/>
            <a:ext cx="8632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492200">
            <a:off x="3924360" y="5013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026600">
            <a:off x="2090160" y="4884840"/>
            <a:ext cx="8632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492200">
            <a:off x="2557440" y="50130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3080" y="515772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40360" y="292572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68720" y="5084640"/>
            <a:ext cx="36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1440" y="335772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4720" y="465300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5440" y="3213000"/>
            <a:ext cx="2016000" cy="201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92360" y="4221000"/>
            <a:ext cx="36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85080" y="436572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3573360"/>
            <a:ext cx="36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92720" y="2492280"/>
            <a:ext cx="36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1989000"/>
            <a:ext cx="36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24360" y="515772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532720" y="400536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532720" y="227664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393372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61080" y="4005360"/>
            <a:ext cx="36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21440" y="1700280"/>
            <a:ext cx="1511280" cy="1512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24360" y="306864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24720" y="22050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97800" y="270828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8000" y="119700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6000" y="342900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574992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a čtverce jsou shodné – délky stran jso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čtverce mají stejný obsa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4645080" y="1557360"/>
            <a:ext cx="44989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vní čtverec je rozdělen n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shodné pravoúhlé trojúhelník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 odvěsnami délek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, b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čtyřúhelník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DEB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stranou délk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0000" y="2060640"/>
            <a:ext cx="4464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hel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EBA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je pravý, protože platí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=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180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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otéž platí pro jeho zbývající úhly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čtyřúhelník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ADEB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 čtverec s obsahem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cs-CZ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707080"/>
            <a:ext cx="9144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dně očíslované pravoúhlé trojúhelníky na obou obrázcích mají sobě rovné obsah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5734080"/>
            <a:ext cx="9144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 jejich odstranění zbudou jen žluté čtverce, pro jejichž obsahy platí: </a:t>
            </a:r>
            <a:r>
              <a:rPr b="1" i="1" lang="en-US" sz="3000" spc="-1" strike="noStrike">
                <a:solidFill>
                  <a:srgbClr val="990000"/>
                </a:solidFill>
                <a:latin typeface="Arial"/>
              </a:rPr>
              <a:t>c</a:t>
            </a:r>
            <a:r>
              <a:rPr b="1" i="1" lang="en-US" sz="3000" spc="-1" strike="noStrike" baseline="30000">
                <a:solidFill>
                  <a:srgbClr val="990000"/>
                </a:solidFill>
                <a:latin typeface="Arial"/>
              </a:rPr>
              <a:t>2 </a:t>
            </a:r>
            <a:r>
              <a:rPr b="1" i="1" lang="en-US" sz="3000" spc="-1" strike="noStrike">
                <a:solidFill>
                  <a:srgbClr val="990000"/>
                </a:solidFill>
                <a:latin typeface="Arial"/>
              </a:rPr>
              <a:t>= a</a:t>
            </a:r>
            <a:r>
              <a:rPr b="1" i="1" lang="en-US" sz="3000" spc="-1" strike="noStrike" baseline="30000">
                <a:solidFill>
                  <a:srgbClr val="990000"/>
                </a:solidFill>
                <a:latin typeface="Arial"/>
              </a:rPr>
              <a:t>2 </a:t>
            </a:r>
            <a:r>
              <a:rPr b="1" i="1" lang="en-US" sz="3000" spc="-1" strike="noStrike">
                <a:solidFill>
                  <a:srgbClr val="990000"/>
                </a:solidFill>
                <a:latin typeface="Arial"/>
              </a:rPr>
              <a:t>+ b</a:t>
            </a:r>
            <a:r>
              <a:rPr b="1" i="1" lang="en-US" sz="3000" spc="-1" strike="noStrike" baseline="30000">
                <a:solidFill>
                  <a:srgbClr val="99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3716280"/>
            <a:ext cx="2016000" cy="1511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358920" y="1952640"/>
            <a:ext cx="2016000" cy="1511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2123640" y="1700280"/>
            <a:ext cx="2016360" cy="1511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9800" y="191772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191772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429264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1440" y="371808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65440" y="465300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557360"/>
            <a:ext cx="4608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uhý čtverec je rozdělen na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shodné pravoúhlé trojúhelníky s odvěsnami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va čtverce s obsahy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6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2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0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8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thagorova vě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1240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V pravoúhlém trojúhelníku je obsah čtverce nad přeponou roven součtu obsahů čtverců nad oběma odvěsna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c</a:t>
            </a:r>
            <a:r>
              <a:rPr b="1" i="1" lang="en-US" sz="3200" spc="-1" strike="noStrike" baseline="30000">
                <a:solidFill>
                  <a:srgbClr val="990000"/>
                </a:solidFill>
                <a:latin typeface="Arial"/>
              </a:rPr>
              <a:t>2 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= a</a:t>
            </a:r>
            <a:r>
              <a:rPr b="1" i="1" lang="en-US" sz="3200" spc="-1" strike="noStrike" baseline="30000">
                <a:solidFill>
                  <a:srgbClr val="990000"/>
                </a:solidFill>
                <a:latin typeface="Arial"/>
              </a:rPr>
              <a:t>2 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+ b</a:t>
            </a:r>
            <a:r>
              <a:rPr b="1" i="1" lang="en-US" sz="3200" spc="-1" strike="noStrike" baseline="30000">
                <a:solidFill>
                  <a:srgbClr val="99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thagoras ze Sam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4897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řecký matemati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80 – 500 př. n. 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oval matematiku a astronomii v Egyptě a v Babylóni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žil v jižní Itálii a na Sicílii, kde založil Pythagorejskou škol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vili např., že součet vnitřních úhlů v trojúhelníku je roven 180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ythagorova věta byla známá již 2 200 let př. n. l. v Číně, ale Pythagorejcům je připisována zřejmě proto, že ji dokázal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5167800" y="6453360"/>
            <a:ext cx="397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upload.wikimedia.org/wikipedia/commons/3/3d/Kapitolinischer_Pythagoras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Zástupný symbol pro text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392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7000"/>
                            </p:stCondLst>
                            <p:childTnLst>
                              <p:par>
                                <p:cTn id="7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7000"/>
                            </p:stCondLst>
                            <p:childTnLst>
                              <p:par>
                                <p:cTn id="7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7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7000"/>
                            </p:stCondLst>
                            <p:childTnLst>
                              <p:par>
                                <p:cTn id="7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rácená Pythagorova vě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7848360" cy="388764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Jestliže v trojúhelníku platí, že součet druhých mocnin délek dvou kratších stran je roven druhé mocnině délky nejdelší strany, potom je tento trojúhelník pravoúhl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a</a:t>
            </a:r>
            <a:r>
              <a:rPr b="1" i="1" lang="en-US" sz="3200" spc="-1" strike="noStrike" baseline="30000">
                <a:solidFill>
                  <a:srgbClr val="990000"/>
                </a:solidFill>
                <a:latin typeface="Arial"/>
              </a:rPr>
              <a:t>2 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+ b</a:t>
            </a:r>
            <a:r>
              <a:rPr b="1" i="1" lang="en-US" sz="3200" spc="-1" strike="noStrike" baseline="30000">
                <a:solidFill>
                  <a:srgbClr val="990000"/>
                </a:solidFill>
                <a:latin typeface="Arial"/>
              </a:rPr>
              <a:t>2 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= c</a:t>
            </a:r>
            <a:r>
              <a:rPr b="1" i="1" lang="en-US" sz="3200" spc="-1" strike="noStrike" baseline="30000">
                <a:solidFill>
                  <a:srgbClr val="990000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844640"/>
            <a:ext cx="8497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 zjištění, zda je trojúhelník pravoúhl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iž bychom jej museli rýsovat), použij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rácenou Pythagorovu vě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7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60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3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3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3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thagorova věta – příklad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97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hodněte, zda je trojúhelník se stranami daných délek pravoúhlý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cm; 6 cm; 7 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; 24 m; 26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dm; 0,9 m; 110 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,25 dm; 15 mm; 2 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3000"/>
                            </p:stCondLst>
                            <p:childTnLst>
                              <p:par>
                                <p:cTn id="8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6000"/>
                            </p:stCondLst>
                            <p:childTnLst>
                              <p:par>
                                <p:cTn id="8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9000"/>
                            </p:stCondLst>
                            <p:childTnLst>
                              <p:par>
                                <p:cTn id="8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thagorova věta – příklad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3889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1916280"/>
            <a:ext cx="30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5 cm, 6 cm, 7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+ 36 = 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 ≠ 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avoúhl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4437000"/>
            <a:ext cx="30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10 m, 24 m, 2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+ 576 = 6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76 = 6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avoúhl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1916280"/>
            <a:ext cx="352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7 dm; 0,9 m; 1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+ 81 = 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 ≠ 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avoúhl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32360" y="443700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0,25 dm; 15 mm; 2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5 + 400 = 6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5 = 6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avoúhl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9:06:38Z</dcterms:created>
  <dc:creator>Kamila Mužíková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7-21T07:08:09Z</dcterms:modified>
  <cp:revision>57</cp:revision>
  <dc:subject/>
  <dc:title>Pythagorova věta</dc:title>
</cp:coreProperties>
</file>