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1E73-056B-4B5A-B2FD-E944529A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C1D-CCBA-4156-91DF-4A947426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060-FC5A-4A10-BA59-EB5D5BBA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C65-EF06-4555-BACA-8DFC49D0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E748-7D7E-41B0-A30A-D1F9E471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E60F-15DC-41FB-B1A7-5A63CA6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B292-DB80-482B-B699-57C491C5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A063-4CF8-467E-855D-261FF47D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4AD-AB96-4E28-A5CE-5CFA0E92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B81C-4800-4A46-B26F-E8168FC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8693-440E-4A03-A170-63792202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314-A858-4F04-B3F1-A43CAC9B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E54A-0596-4C98-99C4-C08C43B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FB94-AC90-49FB-B809-FE9EF6D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96D-3D84-4DF9-97B5-B13D6B6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2D2-68BB-4393-B39D-14EE04FF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00E3-E5AA-4E0C-8FE5-2F6EA377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33A-ED1D-4999-934F-BF96C7D7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502-1DD3-44A6-9ADE-D04CB3F1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523-954B-4A42-A87E-A378D555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528-CDCC-43C8-B0FF-12B0AFE9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679-87AA-4592-824E-AA8BBF2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C5D-8030-4FB0-9E02-96D9CED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3C1-C72C-40BD-A136-66C79EF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5D2D-C6DD-4D26-A07D-4CE2E4B6BE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2F1A-A0A3-456F-AD31-BD3F12E25D6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rvočísla a čísla složená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197000"/>
            <a:ext cx="8136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Jak tedy lze rozdělit 8 jabl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1341360"/>
            <a:ext cx="2246400" cy="1324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38760" y="2651040"/>
            <a:ext cx="1209600" cy="1209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339480" cy="403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1116000" y="198900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1332000" y="1484280"/>
            <a:ext cx="339480" cy="403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1476360" y="191628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1908000" y="206064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908000" y="148428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2268360" y="191628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9"/>
          <a:stretch/>
        </p:blipFill>
        <p:spPr>
          <a:xfrm>
            <a:off x="2340000" y="162864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5929200" y="286380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6361200" y="3224160"/>
            <a:ext cx="339480" cy="403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2"/>
          <a:stretch/>
        </p:blipFill>
        <p:spPr>
          <a:xfrm>
            <a:off x="6340320" y="282096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107120" y="2647800"/>
            <a:ext cx="1209960" cy="12099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7297560" y="286380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7729560" y="322416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7651800" y="280368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68800" y="3948120"/>
            <a:ext cx="1033560" cy="10335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4308480" y="431964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5979960" y="329580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4643280" y="413532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4941720" y="5186520"/>
            <a:ext cx="57168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9"/>
          <a:stretch/>
        </p:blipFill>
        <p:spPr>
          <a:xfrm>
            <a:off x="5065560" y="527220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59320" y="5659560"/>
            <a:ext cx="57168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0"/>
          <a:stretch/>
        </p:blipFill>
        <p:spPr>
          <a:xfrm>
            <a:off x="5468760" y="575460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767560" y="5186520"/>
            <a:ext cx="57132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1"/>
          <a:stretch/>
        </p:blipFill>
        <p:spPr>
          <a:xfrm>
            <a:off x="5881680" y="527220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65720" y="5659560"/>
            <a:ext cx="57168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2"/>
          <a:stretch/>
        </p:blipFill>
        <p:spPr>
          <a:xfrm>
            <a:off x="6275520" y="5745240"/>
            <a:ext cx="339480" cy="40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593040" y="5186520"/>
            <a:ext cx="57132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3"/>
          <a:stretch/>
        </p:blipFill>
        <p:spPr>
          <a:xfrm>
            <a:off x="6723000" y="528624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029360" y="5654520"/>
            <a:ext cx="571680" cy="571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4"/>
          <a:stretch/>
        </p:blipFill>
        <p:spPr>
          <a:xfrm>
            <a:off x="7145280" y="574056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61360" y="5186520"/>
            <a:ext cx="571320" cy="5713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5"/>
          <a:stretch/>
        </p:blipFill>
        <p:spPr>
          <a:xfrm>
            <a:off x="7577280" y="5286240"/>
            <a:ext cx="339480" cy="403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888320" y="5654520"/>
            <a:ext cx="571320" cy="5716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6"/>
          <a:stretch/>
        </p:blipFill>
        <p:spPr>
          <a:xfrm>
            <a:off x="8004240" y="575460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76720" y="1484280"/>
            <a:ext cx="51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chat všechny pohromadě. Udělat jednu hromádku s osmi jabl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7080" y="2781360"/>
            <a:ext cx="532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ozdělit jablka na dvě hromádky po čtyřech jabl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5229360"/>
            <a:ext cx="42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ozdělit jablka po jednom. Udělat osm hromádek po jednom jabl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3640" y="1944720"/>
            <a:ext cx="46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 . 8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3080" y="307008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 . 4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570384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8 . 1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3936960"/>
            <a:ext cx="1033200" cy="10335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7"/>
          <a:stretch/>
        </p:blipFill>
        <p:spPr>
          <a:xfrm>
            <a:off x="798480" y="429408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8"/>
          <a:stretch/>
        </p:blipFill>
        <p:spPr>
          <a:xfrm>
            <a:off x="1185840" y="409248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35280" y="3933720"/>
            <a:ext cx="1033200" cy="10335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9"/>
          <a:stretch/>
        </p:blipFill>
        <p:spPr>
          <a:xfrm>
            <a:off x="1979640" y="431964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0"/>
          <a:stretch/>
        </p:blipFill>
        <p:spPr>
          <a:xfrm>
            <a:off x="2384280" y="4118040"/>
            <a:ext cx="339840" cy="403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03480" y="3933720"/>
            <a:ext cx="1033560" cy="10335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1"/>
          <a:stretch/>
        </p:blipFill>
        <p:spPr>
          <a:xfrm>
            <a:off x="3143160" y="4290840"/>
            <a:ext cx="339840" cy="403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2"/>
          <a:stretch/>
        </p:blipFill>
        <p:spPr>
          <a:xfrm>
            <a:off x="7421400" y="3295800"/>
            <a:ext cx="339840" cy="40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3"/>
          <a:stretch/>
        </p:blipFill>
        <p:spPr>
          <a:xfrm>
            <a:off x="3492360" y="4089240"/>
            <a:ext cx="339840" cy="403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292720" y="4048200"/>
            <a:ext cx="31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Rozdělit jablka na čtyři hromádky po dvou jabl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57680" y="452268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 . 2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4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4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4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6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50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7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1663560" y="242244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527200" y="234936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339084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5"/>
          <a:stretch/>
        </p:blipFill>
        <p:spPr>
          <a:xfrm>
            <a:off x="4255920" y="2421000"/>
            <a:ext cx="690840" cy="819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5119560" y="234936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598320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951200" y="3286080"/>
            <a:ext cx="5184720" cy="2879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56392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1 hromádka se sedmi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8"/>
          <a:stretch/>
        </p:blipFill>
        <p:spPr>
          <a:xfrm>
            <a:off x="6732720" y="2492280"/>
            <a:ext cx="69048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5087E-006 C 1.94444E-006 0.00023 0.04965 0.17317 0.0993 0.34913 E">
                                      <p:cBhvr>
                                        <p:cTn id="1098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222 C 0.02014 0.08347 0.04132 0.14566 0.05157 0.18474 C 0.06111 0.22497 0.06129 0.24162 0.06163 0.25965 E">
                                      <p:cBhvr>
                                        <p:cTn id="1100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5087E-006 C 0.00313 0.0941 0.00625 0.1889 0.01858 0.25248 C 0.03056 0.31583 0.05156 0.34774 0.07257 0.38057 E">
                                      <p:cBhvr>
                                        <p:cTn id="110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0469 0.11654 0.00955 0.23399 E">
                                      <p:cBhvr>
                                        <p:cTn id="1104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C 0.00157 0.02359 0.0033 0.04763 -0.00104 0.07469 C -0.00503 0.10174 -0.0151 0.13226 -0.02465 0.16278 E">
                                      <p:cBhvr>
                                        <p:cTn id="110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0624 C 0.00121 0.10566 -0.01059 0.20554 -0.03056 0.27052 C -0.05035 0.33502 -0.07813 0.36485 -0.10608 0.39537 E">
                                      <p:cBhvr>
                                        <p:cTn id="1108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04046E-006 C -0.00538 0.0504 -0.01007 0.10127 -0.02482 0.13526 C -0.03923 0.16879 -0.06389 0.18543 -0.08802 0.20254 E">
                                      <p:cBhvr>
                                        <p:cTn id="1110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7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368440" y="2060640"/>
            <a:ext cx="690840" cy="819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160800" y="213372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024440" y="206064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4888080" y="213372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5824440" y="220500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6761160" y="206064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8"/>
          <a:stretch/>
        </p:blipFill>
        <p:spPr>
          <a:xfrm>
            <a:off x="7524720" y="213372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39720" y="256536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7 hromádek s jedním jabl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6000" y="5013360"/>
            <a:ext cx="1152360" cy="1152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8000" y="3645000"/>
            <a:ext cx="1152720" cy="1152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03640" y="3139920"/>
            <a:ext cx="1152360" cy="1152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4940280"/>
            <a:ext cx="1152360" cy="11527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4920" y="3429000"/>
            <a:ext cx="1152360" cy="1152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65600" y="4653000"/>
            <a:ext cx="1152720" cy="1152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48360" y="4005360"/>
            <a:ext cx="1152720" cy="11523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2589 C -0.03489 0.05063 -0.07048 0.07699 -0.08785 0.14613 C -0.10469 0.21942 -0.10503 0.40115 -0.10833 0.45225 E">
                                      <p:cBhvr>
                                        <p:cTn id="1162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62428E-006 C -3.33333E-006 0.00024 -0.05607 0.12694 -0.11163 0.2548 E">
                                      <p:cBhvr>
                                        <p:cTn id="1168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0.02104 C 0.02639 0.06682 0.04583 0.11306 0.03368 0.14173 C 0.02153 0.17017 -0.02153 0.18081 -0.06441 0.19214 E">
                                      <p:cBhvr>
                                        <p:cTn id="1174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62428E-006 C -0.00781 0.10983 -0.01475 0.22035 -0.04323 0.29434 C -0.07048 0.36833 -0.11875 0.40555 -0.16666 0.4437 E">
                                      <p:cBhvr>
                                        <p:cTn id="1180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51445E-007 C -2.77778E-006 0.00023 -0.04791 0.10613 -0.09583 0.21295 E">
                                      <p:cBhvr>
                                        <p:cTn id="1186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21387E-006 C 0.0066 0.05988 0.01389 0.12046 -0.00399 0.18913 C -0.02135 0.2578 -0.06285 0.3348 -0.10365 0.41225 E">
                                      <p:cBhvr>
                                        <p:cTn id="119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2428E-006 C -0.00226 0.07422 -0.00434 0.14868 -0.01059 0.19839 C -0.01684 0.24763 -0.02726 0.27191 -0.03767 0.29688 E">
                                      <p:cBhvr>
                                        <p:cTn id="1198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96800" y="1197000"/>
            <a:ext cx="8136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Jak tedy lze rozdělit 7 jabl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844640"/>
            <a:ext cx="2808360" cy="1655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239840" y="217656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1239840" y="268128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835280" y="234936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2340000" y="278136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2239920" y="1887480"/>
            <a:ext cx="424080" cy="5032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032280" y="260820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887560" y="217656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251000" y="494676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9"/>
          <a:stretch/>
        </p:blipFill>
        <p:spPr>
          <a:xfrm>
            <a:off x="1409760" y="5046840"/>
            <a:ext cx="423720" cy="502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692360" y="4221000"/>
            <a:ext cx="71424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1851120" y="43210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057400" y="494676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2216160" y="5046840"/>
            <a:ext cx="423720" cy="502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484360" y="4221000"/>
            <a:ext cx="71460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2643120" y="43210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921040" y="4941720"/>
            <a:ext cx="71424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3"/>
          <a:stretch/>
        </p:blipFill>
        <p:spPr>
          <a:xfrm>
            <a:off x="3079800" y="504180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352680" y="4221000"/>
            <a:ext cx="71460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4"/>
          <a:stretch/>
        </p:blipFill>
        <p:spPr>
          <a:xfrm>
            <a:off x="3511440" y="43210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780000" y="4941720"/>
            <a:ext cx="71424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5"/>
          <a:stretch/>
        </p:blipFill>
        <p:spPr>
          <a:xfrm>
            <a:off x="3938760" y="504180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925800" y="1987560"/>
            <a:ext cx="46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chat všechny pohromadě. Udělat jednu hromádku se sedmi jabl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4920" y="443700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it jablka po jednom. Udělat sedm hromádek po jednom jab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52720" y="2637000"/>
            <a:ext cx="460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 . 7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5229360"/>
            <a:ext cx="43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7 . 1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96800" y="1197000"/>
            <a:ext cx="8136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Co jsme tedy zjistil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1414440"/>
            <a:ext cx="32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 jablek lze rozdělit n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97440" y="170172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 . 9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16000" y="170352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Jednu hromádku se všemi jablk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16000" y="199080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Tři hromádky se třemi jablk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198900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. 3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16000" y="227952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Devět hromádek s jedním jablke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6000" y="227808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9 . 1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35280" y="263844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9 má tři dělitele: 1, 3 a 9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2997360"/>
            <a:ext cx="32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 jablek lze rozdělit n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97440" y="328608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 . 8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16000" y="328788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Jednu hromádku se všemi jablk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57516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Dvě hromádky se čtyřmi jablk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357336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 . 4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16000" y="386388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Čtyři hromádky se dvěma jabl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386244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. 2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415116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Osm hromádek s jedním jablke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35280" y="451008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8 má čtyři dělitele: 1, 2, 4 a 8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414972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 . 1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4943520"/>
            <a:ext cx="32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 jablek lze rozdělit n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7440" y="523080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 . 7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116000" y="523224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Jednu hromádku se všemi jablk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6000" y="551988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 Sedm hromádek s jedním jablke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796000" y="5518080"/>
            <a:ext cx="15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7 . 1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35280" y="5878440"/>
            <a:ext cx="48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Číslo 7 má dva dělitele: 1 a 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54760" y="1700280"/>
            <a:ext cx="315720" cy="936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54760" y="3284640"/>
            <a:ext cx="317520" cy="1224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54760" y="5213520"/>
            <a:ext cx="315720" cy="663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9640" y="1197000"/>
            <a:ext cx="8136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aká čísla podle počtu dělitelů tedy existuj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4120" y="1560600"/>
            <a:ext cx="78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Existují čísla, která mají právě dva různé dělitele – číslo jedna a sama se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43200" y="2494080"/>
            <a:ext cx="48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akovým číslům říkáme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rvočísla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78120" y="2135160"/>
            <a:ext cx="590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3 = 1 .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4120" y="2998800"/>
            <a:ext cx="78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Existují čísla, která mají více než dva různé dělit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82840" y="4438800"/>
            <a:ext cx="5543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akovým číslům říkáme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čísla složená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78120" y="3429000"/>
            <a:ext cx="590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 = 1 . 12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 = 2 . 6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12 = 3 .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4120" y="4943520"/>
            <a:ext cx="78483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Existuje číslo, která má právě jednoho dělitele – samo se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67200" y="5807160"/>
            <a:ext cx="208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 to číslo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1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78120" y="5475240"/>
            <a:ext cx="590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 = 1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fill="hold">
                      <p:stCondLst>
                        <p:cond delay="0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8040" y="404640"/>
            <a:ext cx="6897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981000"/>
            <a:ext cx="65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trhni červeně prvočís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162864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1, 2, 3, 4, 5, 6, 7, 8, 9, 10, 11, 12, 13, 14, 15, 16, 17, 18, 19,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8040" y="404640"/>
            <a:ext cx="6897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9640" y="981000"/>
            <a:ext cx="65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trhni červeně prvočís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1484280"/>
            <a:ext cx="71294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1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4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5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6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7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8, 9, 10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11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12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13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14, 15, 16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17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18, </a:t>
            </a: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19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8040" y="404640"/>
            <a:ext cx="6897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640" y="981000"/>
            <a:ext cx="65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trhni zeleně čísla slože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170028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21, 22, 23, 24, 25, 26, 27, 28, 29, 30, 31, 32, 33, 34, 35, 36, 37, 38, 39, 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38040" y="404640"/>
            <a:ext cx="6897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981000"/>
            <a:ext cx="65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trhni zeleně čísla slože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71640" y="170028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1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2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23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4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5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6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7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28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29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0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31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2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3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4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5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6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37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8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39</a:t>
            </a:r>
            <a:r>
              <a:rPr b="1" lang="en-US" sz="6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6000" spc="-1" strike="noStrike">
                <a:solidFill>
                  <a:srgbClr val="00cc00"/>
                </a:solidFill>
                <a:latin typeface="Trebuchet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9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71640" y="2538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69236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41964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14836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601200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79640" y="3286080"/>
            <a:ext cx="5184720" cy="2879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720" y="256392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1 hromádka s devíti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61160" y="249228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0"/>
          <a:stretch/>
        </p:blipFill>
        <p:spPr>
          <a:xfrm>
            <a:off x="7626240" y="2421000"/>
            <a:ext cx="69084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0925 C -0.04201 0.08995 -0.07604 0.17226 -0.04479 0.22682 C -0.01284 0.28324 0.14202 0.32393 0.18143 0.34405 E">
                                      <p:cBhvr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5087E-006 C -3.05556E-006 4.45087E-006 0.05591 0.12138 0.11181 0.24416 E">
                                      <p:cBhvr>
                                        <p:cTn id="7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1318 C 0.01909 0.06682 0.02864 0.12139 0.04097 0.15144 C 0.05469 0.18104 0.07014 0.18659 0.08732 0.19214 E">
                                      <p:cBhvr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5087E-006 C 0.00313 0.0941 0.00625 0.1889 0.01858 0.25248 C 0.03056 0.31583 0.05156 0.34774 0.07257 0.38057 E">
                                      <p:cBhvr>
                                        <p:cTn id="7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0469 0.11654 0.00955 0.23399 E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C 0.00157 0.02359 0.0033 0.04763 -0.00104 0.07469 C -0.00503 0.10174 -0.0151 0.13226 -0.02465 0.16278 E">
                                      <p:cBhvr>
                                        <p:cTn id="8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0624 C 0.00121 0.10566 -0.01059 0.20554 -0.03056 0.27052 C -0.05035 0.33502 -0.07813 0.36485 -0.10608 0.39537 E">
                                      <p:cBhvr>
                                        <p:cTn id="8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04046E-006 C -0.00538 0.0504 -0.01007 0.10127 -0.02482 0.13526 C -0.03923 0.16879 -0.06389 0.18543 -0.08802 0.20254 E">
                                      <p:cBhvr>
                                        <p:cTn id="8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33526E-006 C -0.01007 0.08209 -0.01962 0.1644 -0.04878 0.21943 C -0.07795 0.27376 -0.12639 0.30081 -0.17482 0.32833 E">
                                      <p:cBhvr>
                                        <p:cTn id="8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20720" y="2131920"/>
            <a:ext cx="698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vočíslo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je číslo, které má právě dva různé dělitele (číslo jedna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 samo seb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1280" y="1125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Druhy čísel podle počtu dělitel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20720" y="3586320"/>
            <a:ext cx="698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ložené číslo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je číslo, které má víc než dva různé dělit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20720" y="5084640"/>
            <a:ext cx="698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Číslo 1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není ani prvočíslo ani číslo složené, neboť má jediného dělitele, samo se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9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2538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9236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55600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41964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514836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01200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9720" y="2779560"/>
            <a:ext cx="7819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3 hromádky se třemi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761160" y="249228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7626240" y="2421000"/>
            <a:ext cx="690840" cy="81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98560" y="3645000"/>
            <a:ext cx="2305080" cy="2305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3645000"/>
            <a:ext cx="2305080" cy="2305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54560" y="3860640"/>
            <a:ext cx="2305080" cy="2305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1434 C -0.01059 0.04787 -0.03281 0.08393 -0.02621 0.14012 C -0.01927 0.19769 0.03698 0.31908 0.04827 0.357 E">
                                      <p:cBhvr>
                                        <p:cTn id="1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5087E-006 C -3.05556E-006 0.00023 -0.00382 0.11606 -0.00764 0.23375 E">
                                      <p:cBhvr>
                                        <p:cTn id="15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0.02243 C 0.0309 0.09064 0.05729 0.16 0.05364 0.20647 C 0.04548 0.25457 0.01076 0.27907 -0.02865 0.3059 E">
                                      <p:cBhvr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4 C 0.01007 0.09664 0.01215 0.18358 0.02049 0.24185 C 0.02847 0.30011 0.04271 0.32924 0.05695 0.35953 E">
                                      <p:cBhvr>
                                        <p:cTn id="16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0469 0.11654 0.00955 0.23399 E">
                                      <p:cBhvr>
                                        <p:cTn id="16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2104 C 0.00157 0.0652 0.00261 0.11075 -0.00052 0.16185 C -0.00399 0.21272 -0.01163 0.27052 -0.01961 0.32832 E">
                                      <p:cBhvr>
                                        <p:cTn id="1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0.00902 C 0.00608 0.10451 0.00364 0.20047 0.01233 0.2659 C 0.02101 0.33064 0.04028 0.36417 0.05955 0.39908 E">
                                      <p:cBhvr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1063 C 0.00521 0.06844 0.00434 0.1274 0.00174 0.16624 C -0.00086 0.20509 -0.00538 0.22451 -0.00937 0.24462 E">
                                      <p:cBhvr>
                                        <p:cTn id="17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33526E-006 C -0.00156 0.08717 -0.00295 0.1748 -0.00712 0.2333 C -0.01128 0.2911 -0.01823 0.32 -0.02517 0.34937 E">
                                      <p:cBhvr>
                                        <p:cTn id="17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9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71640" y="2538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69236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5600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41964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514836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01200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9720" y="256536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9 hromádek s jedním jabl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6761160" y="249228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0"/>
          <a:stretch/>
        </p:blipFill>
        <p:spPr>
          <a:xfrm>
            <a:off x="7626240" y="2421000"/>
            <a:ext cx="690840" cy="81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74760" y="5084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350028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54400" y="4508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49680" y="5084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4076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46760" y="313992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78400" y="486900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3480" y="393372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51840" y="494028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1156 C -0.02743 0.05203 -0.05989 0.09526 -0.05086 0.15792 C -0.04184 0.2222 0.03681 0.35261 0.05504 0.39399 E">
                                      <p:cBhvr>
                                        <p:cTn id="23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8728E-006 C 4.44444E-006 -1.38728E-006 0.00868 0.08994 0.01753 0.18127 E">
                                      <p:cBhvr>
                                        <p:cTn id="24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1364 C 0.0243 0.09202 0.04739 0.17457 0.04583 0.22751 C 0.04774 0.28023 0.02222 0.30636 -0.00643 0.33457 E">
                                      <p:cBhvr>
                                        <p:cTn id="24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08 C 0.00972 0.11745 0.01146 0.21479 0.0184 0.28 C 0.025 0.3452 0.03698 0.37803 0.04896 0.41202 E">
                                      <p:cBhvr>
                                        <p:cTn id="25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1215 0.13711 0.02517 0.27584 E">
                                      <p:cBhvr>
                                        <p:cTn id="26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364 C 0.00834 0.03191 0.00955 0.0511 0.00695 0.0726 C 0.00452 0.0941 -0.00121 0.11838 -0.00625 0.14266 E">
                                      <p:cBhvr>
                                        <p:cTn id="26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2601E-006 C -0.00833 0.09826 -0.01666 0.19653 -0.02604 0.26196 C -0.03541 0.32647 -0.04566 0.35792 -0.05607 0.39005 E">
                                      <p:cBhvr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2081 C 0.0033 0.07376 0.000699999999999999 0.1274 -0.00746 0.163 C -0.01545 0.19838 -0.02899 0.21595 -0.04236 0.23399 E">
                                      <p:cBhvr>
                                        <p:cTn id="27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33526E-006 C -0.00156 0.09781 -0.00295 0.19584 -0.00712 0.26128 C -0.01128 0.32602 -0.01823 0.35839 -0.02517 0.39122 E">
                                      <p:cBhvr>
                                        <p:cTn id="28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96800" y="1197000"/>
            <a:ext cx="8136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Jak tedy lze rozdělit 9 jabl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341360"/>
            <a:ext cx="2808360" cy="16560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30880" y="3000240"/>
            <a:ext cx="1292040" cy="12924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95480" y="167328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95480" y="217800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527120" y="1457280"/>
            <a:ext cx="42408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590840" y="196200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031840" y="2320920"/>
            <a:ext cx="424080" cy="503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095560" y="138420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247840" y="1889280"/>
            <a:ext cx="424080" cy="502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2887560" y="2104920"/>
            <a:ext cx="424080" cy="50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2743200" y="167328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4570560" y="3357720"/>
            <a:ext cx="423720" cy="502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4997520" y="363060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975200" y="3156120"/>
            <a:ext cx="423720" cy="50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9240" y="2997360"/>
            <a:ext cx="1292040" cy="12920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5938920" y="335448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5"/>
          <a:stretch/>
        </p:blipFill>
        <p:spPr>
          <a:xfrm>
            <a:off x="6365880" y="362736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6"/>
          <a:stretch/>
        </p:blipFill>
        <p:spPr>
          <a:xfrm>
            <a:off x="6343560" y="31528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167600" y="2997360"/>
            <a:ext cx="1292040" cy="12920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7307280" y="3354480"/>
            <a:ext cx="42372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7734240" y="3627360"/>
            <a:ext cx="42408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9"/>
          <a:stretch/>
        </p:blipFill>
        <p:spPr>
          <a:xfrm>
            <a:off x="7711920" y="31528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3400" y="465300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0"/>
          <a:stretch/>
        </p:blipFill>
        <p:spPr>
          <a:xfrm>
            <a:off x="992160" y="47530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51000" y="5378400"/>
            <a:ext cx="71424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1"/>
          <a:stretch/>
        </p:blipFill>
        <p:spPr>
          <a:xfrm>
            <a:off x="1409760" y="54784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92360" y="465300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2"/>
          <a:stretch/>
        </p:blipFill>
        <p:spPr>
          <a:xfrm>
            <a:off x="1851120" y="47530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7400" y="5378400"/>
            <a:ext cx="714240" cy="71460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3"/>
          <a:stretch/>
        </p:blipFill>
        <p:spPr>
          <a:xfrm>
            <a:off x="2216160" y="54784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84360" y="4653000"/>
            <a:ext cx="71460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4"/>
          <a:stretch/>
        </p:blipFill>
        <p:spPr>
          <a:xfrm>
            <a:off x="2643120" y="47530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921040" y="537372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5"/>
          <a:stretch/>
        </p:blipFill>
        <p:spPr>
          <a:xfrm>
            <a:off x="3079800" y="547380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352680" y="4653000"/>
            <a:ext cx="71460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6"/>
          <a:stretch/>
        </p:blipFill>
        <p:spPr>
          <a:xfrm>
            <a:off x="3511440" y="4753080"/>
            <a:ext cx="424080" cy="503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80000" y="537372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7"/>
          <a:stretch/>
        </p:blipFill>
        <p:spPr>
          <a:xfrm>
            <a:off x="3938760" y="547380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145040" y="4653000"/>
            <a:ext cx="714240" cy="7142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8"/>
          <a:stretch/>
        </p:blipFill>
        <p:spPr>
          <a:xfrm>
            <a:off x="4303800" y="4753080"/>
            <a:ext cx="423720" cy="503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781440" y="1484280"/>
            <a:ext cx="46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chat všechny pohromadě. Udělat jednu hromádku s devíti jabl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227400"/>
            <a:ext cx="36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it jablka na tři hromádky po třech jablcí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5280" y="486900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it jablka po jednom. Udělat devět hromádek po jednom jab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989000"/>
            <a:ext cx="46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 . 9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730680"/>
            <a:ext cx="43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3 . 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5589720"/>
            <a:ext cx="43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9 . 1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8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989000"/>
            <a:ext cx="8180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60360" y="253836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981080" y="242244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84472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70836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573440" y="2421000"/>
            <a:ext cx="690840" cy="819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437080" y="234936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30072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68360" y="3286080"/>
            <a:ext cx="5185080" cy="28796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8800" y="256392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1 hromádka s osmi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050240" y="2492280"/>
            <a:ext cx="69048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00925 C -0.04201 0.08995 -0.07604 0.17226 -0.04479 0.22682 C -0.01284 0.28324 0.14202 0.32393 0.18143 0.34405 E">
                                      <p:cBhvr>
                                        <p:cTn id="53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45087E-006 C -2.77778E-007 4.45087E-006 0.0441 0.11606 0.08819 0.23375 E">
                                      <p:cBhvr>
                                        <p:cTn id="54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1318 C 0.01909 0.06682 0.02864 0.12139 0.04097 0.15144 C 0.05469 0.18104 0.07014 0.18659 0.08732 0.19214 E">
                                      <p:cBhvr>
                                        <p:cTn id="543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45087E-006 C 0.00313 0.0941 0.00625 0.1889 0.01858 0.25248 C 0.03056 0.31583 0.05156 0.34774 0.07257 0.38057 E">
                                      <p:cBhvr>
                                        <p:cTn id="545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0469 0.11654 0.00955 0.23399 E">
                                      <p:cBhvr>
                                        <p:cTn id="547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104E-006 C 0.00157 0.02359 0.0033 0.04763 -0.00104 0.07469 C -0.00503 0.10174 -0.0151 0.13226 -0.02465 0.16278 E">
                                      <p:cBhvr>
                                        <p:cTn id="54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19 0.00624 C 0.00121 0.10566 -0.01059 0.20554 -0.03056 0.27052 C -0.05035 0.33502 -0.07813 0.36485 -0.10608 0.39537 E">
                                      <p:cBhvr>
                                        <p:cTn id="55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04046E-006 C -0.00538 0.0504 -0.01007 0.10127 -0.02482 0.13526 C -0.03923 0.16879 -0.06389 0.18543 -0.08802 0.20254 E">
                                      <p:cBhvr>
                                        <p:cTn id="55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8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32000" y="2538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05272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291636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378000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464508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550872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637236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9720" y="2779560"/>
            <a:ext cx="7819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2 hromádky se čtyřmi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21520" y="2492280"/>
            <a:ext cx="690480" cy="819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92360" y="3430440"/>
            <a:ext cx="2733480" cy="27338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3427560"/>
            <a:ext cx="2739960" cy="27399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711 C -0.03038 0.07099 -0.06666 0.12694 -0.0493 0.18428 C -0.03142 0.24324 0.08143 0.33781 0.10556 0.37156 E">
                                      <p:cBhvr>
                                        <p:cTn id="61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5087E-006 C -2.77778E-006 0.00023 0.00469 0.12115 0.00955 0.24416 E">
                                      <p:cBhvr>
                                        <p:cTn id="61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52601E-006 C 0.01597 0.0444 0.03264 0.08971 0.03055 0.12 C 0.02569 0.15168 0.00434 0.1674 -0.01962 0.18474 E">
                                      <p:cBhvr>
                                        <p:cTn id="61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1017 C 0.00625 0.09618 0.0033 0.18335 -0.00868 0.24161 C -0.02031 0.29988 -0.04097 0.32901 -0.06128 0.35953 E">
                                      <p:cBhvr>
                                        <p:cTn id="61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2104 C 0.00781 0.02128 0.0467 0.19469 0.08819 0.37041 E">
                                      <p:cBhvr>
                                        <p:cTn id="62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0.01064 C 0.01684 0.03954 0.01737 0.0696 0.01598 0.10312 C 0.01459 0.13665 0.01164 0.1748 0.00851 0.21295 E">
                                      <p:cBhvr>
                                        <p:cTn id="625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C -0.0052 0.09503 -0.01059 0.19052 -0.01111 0.2548 C -0.01145 0.31838 -0.00729 0.35029 -0.00329 0.38312 E">
                                      <p:cBhvr>
                                        <p:cTn id="627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2104 C 0.00209 0.07884 -0.00086 0.1378 -0.01007 0.17665 C -0.01909 0.21549 -0.03489 0.23491 -0.04878 0.25503 E">
                                      <p:cBhvr>
                                        <p:cTn id="62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9680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8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05272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78000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91636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464508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550872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6372360" y="2394000"/>
            <a:ext cx="690480" cy="819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39720" y="2779560"/>
            <a:ext cx="7819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4 hromádky se dvěma jab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7121520" y="2492280"/>
            <a:ext cx="690480" cy="819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4294080"/>
            <a:ext cx="1727280" cy="1727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4290840"/>
            <a:ext cx="1730520" cy="173052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3573360"/>
            <a:ext cx="1727280" cy="17272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3645000"/>
            <a:ext cx="1730520" cy="173016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2428 C -0.02413 0.05272 -0.04618 0.08555 -0.046 0.14335 C -0.04618 0.20324 -0.01111 0.33919 -0.00468 0.38081 E">
                                      <p:cBhvr>
                                        <p:cTn id="68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2104 C -2.77778E-006 0.02127 -0.02257 0.16277 -0.04566 0.30728 E">
                                      <p:cBhvr>
                                        <p:cTn id="68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2335 C 0.01198 0.07422 0.02343 0.12717 0.02343 0.16046 C 0.02239 0.19538 0.01007 0.21087 -0.00452 0.22613 E">
                                      <p:cBhvr>
                                        <p:cTn id="69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54 0.02057 C 0.01597 0.08046 0.01476 0.1415 0.00938 0.18242 C 0.00417 0.22312 -0.00503 0.24346 -0.01389 0.2652 E">
                                      <p:cBhvr>
                                        <p:cTn id="69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2104 C 0.00781 0.02128 0.01615 0.19469 0.02517 0.37041 E">
                                      <p:cBhvr>
                                        <p:cTn id="703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0.02127 C 0.00799 0.06197 0.00955 0.10428 0.00573 0.15168 C 0.00209 0.19931 -0.0059 0.25318 -0.01406 0.30728 E">
                                      <p:cBhvr>
                                        <p:cTn id="7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3 0.00763 C 0.00382 0.07977 0.00226 0.15284 0.01076 0.20278 C 0.01944 0.25203 0.03767 0.27792 0.05486 0.30405 E">
                                      <p:cBhvr>
                                        <p:cTn id="71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1387 C 0.00695 0.06127 0.00729 0.10959 0.00868 0.1415 C 0.0099 0.17341 0.01216 0.18936 0.01424 0.20601 E">
                                      <p:cBhvr>
                                        <p:cTn id="713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8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68360" y="1916280"/>
            <a:ext cx="813600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5320" y="1268280"/>
            <a:ext cx="818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dělte 8 jablek na hromádky o stejném počtu jablek.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-li více možností, ukažte všech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9720" y="2060640"/>
            <a:ext cx="818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 mož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405080" y="2538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125800" y="242244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94480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3852720" y="2422440"/>
            <a:ext cx="690840" cy="819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4718160" y="2421000"/>
            <a:ext cx="690480" cy="819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5624640" y="2349360"/>
            <a:ext cx="690480" cy="819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6445080" y="2394000"/>
            <a:ext cx="690840" cy="819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12800" y="2565360"/>
            <a:ext cx="781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8 hromádek s jedním jabl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7194600" y="2492280"/>
            <a:ext cx="690480" cy="819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08200" y="5084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5800" y="350028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87480" y="4508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83120" y="5084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8160" y="407664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80200" y="3139920"/>
            <a:ext cx="106488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11840" y="486900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76920" y="3933720"/>
            <a:ext cx="1065240" cy="1081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01156 C -0.02743 0.05203 -0.05989 0.09526 -0.05086 0.15792 C -0.04184 0.2222 0.03681 0.35261 0.05504 0.39399 E">
                                      <p:cBhvr>
                                        <p:cTn id="77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38728E-006 C 4.44444E-006 -1.38728E-006 0.00868 0.08994 0.01753 0.18127 E">
                                      <p:cBhvr>
                                        <p:cTn id="77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1364 C 0.0243 0.09202 0.04739 0.17457 0.04583 0.22751 C 0.04774 0.28023 0.02222 0.30636 -0.00643 0.33457 E">
                                      <p:cBhvr>
                                        <p:cTn id="783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208 C 0.00972 0.11745 0.01146 0.21479 0.0184 0.28 C 0.025 0.3452 0.03698 0.37803 0.04896 0.41202 E">
                                      <p:cBhvr>
                                        <p:cTn id="78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33526E-006 C 0 -4.33526E-006 0.01215 0.13711 0.02517 0.27584 E">
                                      <p:cBhvr>
                                        <p:cTn id="79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364 C 0.00834 0.03191 0.00955 0.0511 0.00695 0.0726 C 0.00452 0.0941 -0.00121 0.11838 -0.00625 0.14266 E">
                                      <p:cBhvr>
                                        <p:cTn id="80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2601E-006 C -0.00833 0.09826 -0.01666 0.19653 -0.02604 0.26196 C -0.03541 0.32647 -0.04566 0.35792 -0.05607 0.39005 E">
                                      <p:cBhvr>
                                        <p:cTn id="80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3 0.02081 C 0.0033 0.07376 0.000699999999999999 0.1274 -0.00746 0.163 C -0.01545 0.19838 -0.02899 0.21595 -0.04236 0.23399 E">
                                      <p:cBhvr>
                                        <p:cTn id="813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8T10:17:03Z</dcterms:modified>
  <cp:revision>138</cp:revision>
  <dc:subject/>
  <dc:title>Prvočísla a čísla složená</dc:title>
</cp:coreProperties>
</file>