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26E-D842-4592-A79F-D92807EE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CF1-90E2-476E-AF77-0A923C1B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9AF-F291-4164-912D-AEC13403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1B65-9970-46AE-A14B-37B32D45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01B6-11A1-461B-9838-20B93193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812F-D500-40C0-AB9F-AD555B6C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0DD5-3F21-446E-AE90-2D904554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917C-E8E4-4640-A9B8-9E04EE7A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2C4F-406D-44A5-8C75-D04836BE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9C7B-1146-4701-846F-7DE5E893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7187-92FB-44E1-B6C2-ABFFC243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43E-D717-4BAE-9396-C67BB6C3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7455-B35A-46FD-8D3B-9364E3E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B31B-2DBC-4B97-8D3F-5FDC1BD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BBDD-2708-4582-8304-EC68CD1C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9D4A-DD3F-4B2E-8AC6-5D76EE7F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58A1-0C66-4175-954D-43521E23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270-ECFA-4035-A244-A67345F1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F80-B14C-4BC7-8F6C-E2E59FD7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F22-00A7-459D-8BC7-CCED019B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A70-2DF4-4703-8081-D1A28FBA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D40-4D35-4C58-8145-519582B5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2AD-97F5-48F7-BDE9-42B62D64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810-F34C-4CA6-91FC-EAA5E32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F87A-CFA7-4EC8-9B0B-033E861072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DF99-3342-46E4-94CA-A65E9E1EC89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Postupný poměr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43880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Krácení a rozšiřování </a:t>
            </a:r>
            <a:br>
              <a:rPr sz="3600"/>
            </a:b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ostupného poměr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21300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o je postupný pomě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1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1520" y="1052640"/>
            <a:ext cx="792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484280"/>
            <a:ext cx="287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0 : 15 : 20 : 35</a:t>
            </a: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46640" y="148428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0 : 48 : 24</a:t>
            </a: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38920" y="1484280"/>
            <a:ext cx="2593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,2 : 5,4 : 6 : 2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0" y="-1080"/>
            <a:ext cx="27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0" y="-1080"/>
            <a:ext cx="27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71640" y="3549600"/>
                <a:ext cx="129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468600" y="3535200"/>
                <a:ext cx="12765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099120" y="3535200"/>
                <a:ext cx="10479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784080" y="1859040"/>
            <a:ext cx="288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Zkrátíme číslem 5.</a:t>
            </a:r>
            <a:r>
              <a:rPr b="0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8480" y="2219400"/>
            <a:ext cx="2879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 : 3 : 4 : 7</a:t>
            </a: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3680" y="185904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Zkrátíme např. číslem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48080" y="223344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0 : 12 : 6</a:t>
            </a: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46640" y="263700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Dále zkrátíme číslem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48080" y="298116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0 : 6 : 3</a:t>
            </a: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40360" y="1844640"/>
            <a:ext cx="2594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Rozšíříme číslem 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40360" y="2205000"/>
            <a:ext cx="2594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2 : 54 : 60 :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54760" y="2506680"/>
            <a:ext cx="2593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Zkrátíme číslem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96160" y="2852640"/>
            <a:ext cx="2593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 : 9 : 10 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4299120"/>
            <a:ext cx="230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Rozšíříme číslem 12, tj. společným jmenovate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85680" y="5025960"/>
                <a:ext cx="11430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t xml:space="preserve">7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348000" y="402588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Trebuchet MS"/>
              </a:rPr>
              <a:t>Převedeme smíšená čísla </a:t>
            </a:r>
            <a:br>
              <a:rPr sz="1200"/>
            </a:br>
            <a:r>
              <a:rPr b="1" lang="en-US" sz="1200" spc="-1" strike="noStrike">
                <a:solidFill>
                  <a:srgbClr val="00cc00"/>
                </a:solidFill>
                <a:latin typeface="Trebuchet MS"/>
              </a:rPr>
              <a:t>a desetinné číslo na zlom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478320" y="4514760"/>
                <a:ext cx="10224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348000" y="489744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Trebuchet MS"/>
              </a:rPr>
              <a:t>Zkrátíme třetí člen pomě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476520" y="5310360"/>
                <a:ext cx="93672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348000" y="568944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Trebuchet MS"/>
              </a:rPr>
              <a:t>Rozšíříme číslem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473280" y="6105600"/>
                <a:ext cx="10274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12000" y="4005360"/>
            <a:ext cx="23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Trebuchet MS"/>
              </a:rPr>
              <a:t>Převedeme smíšená čísla </a:t>
            </a:r>
            <a:br>
              <a:rPr sz="1200"/>
            </a:br>
            <a:r>
              <a:rPr b="1" lang="en-US" sz="1200" spc="-1" strike="noStrike">
                <a:solidFill>
                  <a:srgbClr val="00cc00"/>
                </a:solidFill>
                <a:latin typeface="Trebuchet MS"/>
              </a:rPr>
              <a:t>a desetinné číslo na zlom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132600" y="4494240"/>
                <a:ext cx="952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6099120" y="494028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Trebuchet MS"/>
              </a:rPr>
              <a:t>Rozšíříme číslem 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170760" y="5373720"/>
                <a:ext cx="11239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6084720" y="5445000"/>
            <a:ext cx="295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Trebuchet MS"/>
              </a:rPr>
              <a:t>Zkrátíme číslem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237360" y="5877000"/>
                <a:ext cx="990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2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4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1520" y="1052640"/>
            <a:ext cx="792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yjádřete v základním tvaru poměr daných veliči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51120" y="6249960"/>
            <a:ext cx="5112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1701720"/>
            <a:ext cx="287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00 km, 1080 km, 132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7820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5 kg, 35 kg, 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38920" y="1701720"/>
            <a:ext cx="2593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6 min, 20 min, 32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3718080"/>
            <a:ext cx="2378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 km, 0,25 km, 5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78200" y="371808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 kg, 15 dkg, 25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81840" y="3718080"/>
            <a:ext cx="2377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,5 h, 50 min, 120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4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2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1520" y="1052640"/>
            <a:ext cx="792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4360" y="1701720"/>
            <a:ext cx="2950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00 km, 1080 km, 132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7676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5 kg, 35 kg, 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37120" y="1701720"/>
            <a:ext cx="25225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6 min, 20 min, 32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3718080"/>
            <a:ext cx="2232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 km, 0,25 km, 5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371808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 kg, 15 dkg, 25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37120" y="3718080"/>
            <a:ext cx="259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,5 h, 50 min, 1200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4560" y="206208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600 : 1080 : 1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14560" y="242244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60 : 108 : 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14560" y="278280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5 : 27 :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14560" y="314172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5 : 9 :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78200" y="206208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5 : 35 : 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78200" y="242244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3 : 7 :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38920" y="206208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6 : 20 :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38920" y="242244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 : 5 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4078440"/>
            <a:ext cx="2303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1000 m, 250 m, 5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14560" y="443880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000 : 250 :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14560" y="479916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00 : 25 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4560" y="5157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20 : 5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78200" y="407844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4000 g, 150 g, 25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78200" y="443880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0 :  150 :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78200" y="479916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800 : 30 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78200" y="5157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60 : 6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38920" y="4078440"/>
            <a:ext cx="2449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90 min, 50 min, 2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38920" y="443880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90 : 50 :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38920" y="479916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9 : 5 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3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360" y="1125360"/>
            <a:ext cx="7920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Určete, které poměry se sobě rovnají: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:3:5; 3:6:9; 3:7:9; 1,2:2,4:3,6; 1,5:3,5:4,5; 2,8:7:8,4; 6/4:14/4:18/4; 4:10:12; 0,1:0,2:0,3; 4:5:9; 1:7/3:18/6; 8:12: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51120" y="6249960"/>
            <a:ext cx="5112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1773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2349360"/>
            <a:ext cx="3816360" cy="3600720"/>
          </a:xfrm>
          <a:prstGeom prst="cloudCallout">
            <a:avLst>
              <a:gd name="adj1" fmla="val -80407"/>
              <a:gd name="adj2" fmla="val -62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měry, které se sobě rovnají, mají stejný základní tv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šechny zadané poměry tedy nejdříve vyjádří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 základním tva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3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1125360"/>
            <a:ext cx="7920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Řešení: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:3:5; 3:6:9; 3:7:9; 1,2:2,4:3,6; 1,5:3,5:4,5; 2,8:7:8,4; 6/4:14/4:18/4; 4:10:12; 0,1:0,2:0,3; 4:5:9; 1:7/3:18/6; 8:12: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199080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:3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1773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4360" y="235116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:6:9 = 1:2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" y="270972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:7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4360" y="307008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,2:2,4:3,6 = 12:24:36 = 1:2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343044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,5:3,5:4,5 = 15:35:45 = 3:7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379080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,8:7:8,4 = 28:70:84 = 2:5: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415116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6/4:14/4:18/4 = 6:14:18 = 3:7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4360" y="451152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:10:12 = 2:5: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4360" y="487044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0,1:0,2:0,3 = 1:2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4360" y="523080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:5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559116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:7/3:18/6 = 3:7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4360" y="595008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8:12:18 = 4:6: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2637000"/>
            <a:ext cx="72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80000" y="3357720"/>
            <a:ext cx="72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68440" y="5156280"/>
            <a:ext cx="72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27200" y="299736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80000" y="37162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36960" y="44514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09760" y="5877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21160" y="407664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79640" y="48261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5640" y="1844640"/>
            <a:ext cx="3240000" cy="1295280"/>
          </a:xfrm>
          <a:prstGeom prst="cloudCallout">
            <a:avLst>
              <a:gd name="adj1" fmla="val -73125"/>
              <a:gd name="adj2" fmla="val 7438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:6:9 = 1,2:2,4:3,6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0,1:0,2:0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3213000"/>
            <a:ext cx="3240000" cy="1728720"/>
          </a:xfrm>
          <a:prstGeom prst="cloudCallout">
            <a:avLst>
              <a:gd name="adj1" fmla="val -82972"/>
              <a:gd name="adj2" fmla="val -13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:7:9 = 1,5:3,5:4,5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6/4:14/4:18/4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1:7/3:18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5013360"/>
            <a:ext cx="3240000" cy="1224000"/>
          </a:xfrm>
          <a:prstGeom prst="cloudCallout">
            <a:avLst>
              <a:gd name="adj1" fmla="val -66856"/>
              <a:gd name="adj2" fmla="val -1138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,8:7:8,4 = 4:10: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135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076640"/>
            <a:ext cx="82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ostupné poměry krátíme tak, že všechny členy poměru dělíme stejným číslem různým od nuly a jed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7480" y="5013360"/>
            <a:ext cx="800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ostupné poměry rozšiřujeme tak, že všechny členy poměru násobíme stejným číslem různým od nuly 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jed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Název souboru: j0343347.wmf&#13;Klíčová slova: akademici, osoby, školní tabule ...&#13;Velikost souboru: 33 kB"/>
          <p:cNvPicPr/>
          <p:nvPr/>
        </p:nvPicPr>
        <p:blipFill>
          <a:blip r:embed="rId2"/>
          <a:stretch/>
        </p:blipFill>
        <p:spPr>
          <a:xfrm>
            <a:off x="6588000" y="549360"/>
            <a:ext cx="2044800" cy="20444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700200" y="2968560"/>
            <a:ext cx="53719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Postupné poměry se sobě rovnají, rovnají-li se jejich základní tv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2247840"/>
            <a:ext cx="537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ostupný poměr je v základním tvaru, pokud jsou všechny členy poměru vyjádřeny nesoudělnými přirozenými čí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0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907920"/>
            <a:ext cx="7921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347920"/>
            <a:ext cx="76201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 je matematický zápis porovnávaných údajů </a:t>
            </a: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a,b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ve tvaru zlomku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    ,</a:t>
            </a:r>
            <a:br>
              <a:rPr sz="36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padně ve tvaru dělení</a:t>
            </a:r>
            <a:br>
              <a:rPr sz="4400"/>
            </a:br>
            <a:r>
              <a:rPr b="1" lang="en-US" sz="8000" spc="-1" strike="noStrike">
                <a:solidFill>
                  <a:srgbClr val="3333cc"/>
                </a:solidFill>
                <a:latin typeface="Trebuchet MS"/>
              </a:rPr>
              <a:t>a : b</a:t>
            </a:r>
            <a:br>
              <a:rPr sz="44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(čteme </a:t>
            </a: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a ku b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43200">
            <a:off x="1403280" y="202680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3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263000">
            <a:off x="6803640" y="23144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9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886800">
            <a:off x="899640" y="472428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5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443200">
            <a:off x="6659640" y="465264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: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56000" y="2708280"/>
                <a:ext cx="436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50920" y="2203560"/>
            <a:ext cx="2736720" cy="1873080"/>
          </a:xfrm>
          <a:prstGeom prst="cloudCallout">
            <a:avLst>
              <a:gd name="adj1" fmla="val 65601"/>
              <a:gd name="adj2" fmla="val 961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a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první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2133720"/>
            <a:ext cx="2736720" cy="1873080"/>
          </a:xfrm>
          <a:prstGeom prst="cloudCallout">
            <a:avLst>
              <a:gd name="adj1" fmla="val -66763"/>
              <a:gd name="adj2" fmla="val 983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b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druhý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1197000"/>
            <a:ext cx="792144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496800" y="70632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a porovnávané údaje musí být ve stejných jednot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70040" y="2962440"/>
            <a:ext cx="5343480" cy="1752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28800" y="5746680"/>
            <a:ext cx="7388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vě čísla (veličiny) můžeme porovnat poměrem jen tehdy, jsou-li uvedeny ve stejných jednotkách!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640" y="112536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.: Vyjádři poměrem délky úseček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= 50 mm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D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= 5 c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5717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2560" y="1557360"/>
            <a:ext cx="5834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Zadání svádí k rychlému zápisu řešení ve tvar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61080" y="1628640"/>
            <a:ext cx="1150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50: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00" y="2435400"/>
            <a:ext cx="713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Je však tento výsledek správný? Narýsujme si obě zadané úseč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332160"/>
            <a:ext cx="237636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55640" y="4413240"/>
            <a:ext cx="534348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57240" y="4782960"/>
            <a:ext cx="237636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8480" y="3303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3303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3548160"/>
            <a:ext cx="21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AB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 = 5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480" y="4772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4772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4840" y="501660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CD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 = 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61080" y="2075040"/>
            <a:ext cx="1150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10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24360" y="277956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Úsečky jsou stejně dlouhé, což znamená, že jejich délky jsou v poměru 1: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645000"/>
            <a:ext cx="439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Nevyjádřili jsme délky ve stejných jednotkách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a porovnávali je v jednotkách různých. A to není možné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32360" y="1700280"/>
            <a:ext cx="93492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28464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Kde jsme tedy udělali chyb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4451400"/>
            <a:ext cx="24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AB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50 mm=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445140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D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486900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55040" y="486900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22760" y="446580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446580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59480" y="488304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5229360"/>
            <a:ext cx="86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1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2948E-006 L 0.06928 0.06612 E">
                                      <p:cBhvr>
                                        <p:cTn id="20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2948E-006 L -0.07083 0.06612 E">
                                      <p:cBhvr>
                                        <p:cTn id="21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907920"/>
            <a:ext cx="7921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765000"/>
            <a:ext cx="76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měr může mít dva, ale i více členů. Jinými slovy můžeme porovnávat dva, ale i více údaj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98760" y="2635200"/>
            <a:ext cx="1429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3773520"/>
            <a:ext cx="1429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84160" y="4567320"/>
            <a:ext cx="5343480" cy="1752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03640" y="1830240"/>
            <a:ext cx="302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rovnej a zapiš poměr délek různých stran trojúhelní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578400" y="-171360"/>
            <a:ext cx="1752480" cy="5343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841320" y="2766960"/>
            <a:ext cx="3133800" cy="2228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42920" y="1830240"/>
            <a:ext cx="302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rovnej a zapiš poměr délek různých stran obdélní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90760" y="556092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2560" y="5559480"/>
            <a:ext cx="122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450040" y="4465800"/>
            <a:ext cx="5343480" cy="1752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100400" y="3025800"/>
            <a:ext cx="1752840" cy="5343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940360" y="5559480"/>
            <a:ext cx="122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637240" y="3211560"/>
            <a:ext cx="2247840" cy="1657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 rot="2192400">
            <a:off x="4700160" y="4754160"/>
            <a:ext cx="5029200" cy="1123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18320" y="5559480"/>
            <a:ext cx="122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: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07120" y="5559480"/>
            <a:ext cx="122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87440" y="501480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5840" y="501336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5013360"/>
            <a:ext cx="1225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0920" y="501336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501336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5027760"/>
            <a:ext cx="1225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3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6920" y="5013360"/>
            <a:ext cx="1225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30840" y="5013360"/>
            <a:ext cx="1225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907920"/>
            <a:ext cx="7921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00280"/>
            <a:ext cx="76201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á-li poměr více než dva členy, nazýváme ho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poměr postupný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. </a:t>
            </a:r>
            <a:br>
              <a:rPr sz="3600"/>
            </a:br>
            <a:r>
              <a:rPr b="1" lang="en-US" sz="8000" spc="-1" strike="noStrike">
                <a:solidFill>
                  <a:srgbClr val="3333cc"/>
                </a:solidFill>
                <a:latin typeface="Trebuchet MS"/>
              </a:rPr>
              <a:t>a : b : c</a:t>
            </a:r>
            <a:br>
              <a:rPr sz="44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čteme </a:t>
            </a: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a ku b ku 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</a:t>
            </a:r>
            <a:br>
              <a:rPr sz="16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ebo</a:t>
            </a:r>
            <a:br>
              <a:rPr sz="3600"/>
            </a:br>
            <a:r>
              <a:rPr b="1" lang="en-US" sz="8000" spc="-1" strike="noStrike">
                <a:solidFill>
                  <a:srgbClr val="3333cc"/>
                </a:solidFill>
                <a:latin typeface="Trebuchet MS"/>
              </a:rPr>
              <a:t>a:b:c:d</a:t>
            </a:r>
            <a:br>
              <a:rPr sz="8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čteme </a:t>
            </a: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a ku b ku c ku d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</a:t>
            </a:r>
            <a:br>
              <a:rPr sz="16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p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stupný 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9" name=""/>
          <p:cNvSpPr/>
          <p:nvPr/>
        </p:nvSpPr>
        <p:spPr>
          <a:xfrm rot="20443200">
            <a:off x="755280" y="4868640"/>
            <a:ext cx="208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4:3:2: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263000">
            <a:off x="6240240" y="5084280"/>
            <a:ext cx="236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:4:9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886800">
            <a:off x="610920" y="2997360"/>
            <a:ext cx="208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5:13: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443200">
            <a:off x="5866920" y="2924280"/>
            <a:ext cx="251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:3:5:7: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200" y="3932280"/>
            <a:ext cx="2737080" cy="1873080"/>
          </a:xfrm>
          <a:prstGeom prst="cloudCallout">
            <a:avLst>
              <a:gd name="adj1" fmla="val 45069"/>
              <a:gd name="adj2" fmla="val -958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a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první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3640" y="4076640"/>
            <a:ext cx="2736720" cy="1873440"/>
          </a:xfrm>
          <a:prstGeom prst="cloudCallout">
            <a:avLst>
              <a:gd name="adj1" fmla="val -1277"/>
              <a:gd name="adj2" fmla="val -9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b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druhý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99280" y="3789360"/>
            <a:ext cx="2736720" cy="1873080"/>
          </a:xfrm>
          <a:prstGeom prst="cloudCallout">
            <a:avLst>
              <a:gd name="adj1" fmla="val -46865"/>
              <a:gd name="adj2" fmla="val -87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c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třetí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1280" y="1628640"/>
            <a:ext cx="7921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ácení postupného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8" name=""/>
          <p:cNvSpPr/>
          <p:nvPr/>
        </p:nvSpPr>
        <p:spPr>
          <a:xfrm>
            <a:off x="496800" y="95256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I postupný poměr lze krátit, pokud jeho členy jsou soudělná čís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2720" y="3139920"/>
            <a:ext cx="151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40 : 8 =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938320" y="2565360"/>
                <a:ext cx="27957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712800" y="3716280"/>
            <a:ext cx="770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Všechny členy poměru můžeme dělit číslem 8, jinými slovy poměr krátit číslem 8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146400" y="2593440"/>
            <a:ext cx="43200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125960" y="2593440"/>
            <a:ext cx="43164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0920" y="236376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239220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17874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rebuchet MS"/>
              </a:rPr>
              <a:t>Krácení postupného poměru znamená dělení prvního, druhého i třetího (případně dalších členů) poměru stejným číslem různým od nuly a jedné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37080" y="3139920"/>
            <a:ext cx="151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72 : 8 = 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351240" y="4133880"/>
                <a:ext cx="20844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9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971640" y="486900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Po krácení je poměr vyjádřen nesoudělnými přirozenými čísly. Říkáme, že poměr je v základním tvar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558792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Postupný poměr je v základním tvaru, pokud jsou všechny členy poměru vyjádřeny nesoudělnými přirozenými čísl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076720" y="2593440"/>
            <a:ext cx="43200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51480" y="2392200"/>
            <a:ext cx="561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3141720"/>
            <a:ext cx="15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88 : 8 = 1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1557360"/>
            <a:ext cx="792144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postupného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496800" y="96696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ychom vyjádřili postupný poměr v základním tvaru, tzn. pomocí nesoudělných přirozených čísel, potřebujeme často poměr nejdříve rozšíř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20720" y="3198960"/>
            <a:ext cx="16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1,5.10=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770200" y="2679840"/>
                <a:ext cx="33624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5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3,5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755640" y="3673440"/>
            <a:ext cx="7704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Ve dvou členech postupného poměru se potřebujeme zbavit desetinné čárky, potřebujeme ji posunout o jedno místo doprava, tzn. vynásobit všechny členy poměru dese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2060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ozšiřování postupného poměru znamená násobení všech členů poměru stejným číslem různým od nuly a jed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27480" y="3198960"/>
            <a:ext cx="1712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3,5.10=3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525760" y="4522680"/>
                <a:ext cx="3790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971640" y="518652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Po rozšíření je sice již poměr vyjádřen přirozenými čísly, ale zatím ještě ne nesoudělnými. Budeme jej tedy ještě krát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8160" y="1557360"/>
            <a:ext cx="7893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Například, je-li poměr zadán desetinnými čísl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138480" y="5703840"/>
                <a:ext cx="2509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7</m:t>
                    </m:r>
                    <m:r>
                      <m:t xml:space="preserve">: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 flipV="1">
            <a:off x="2655720" y="4538160"/>
            <a:ext cx="43200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02320" y="4538160"/>
            <a:ext cx="43164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00240" y="430848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4336920"/>
            <a:ext cx="4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87640" y="3213000"/>
            <a:ext cx="165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2.10=2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95840" y="3198960"/>
            <a:ext cx="1712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4.10=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665520" y="4536720"/>
            <a:ext cx="43164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10040" y="430704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681520" y="4536720"/>
            <a:ext cx="43200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56280" y="433548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557360"/>
            <a:ext cx="792144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768840" y="4508640"/>
                <a:ext cx="3047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postupného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9" name=""/>
          <p:cNvSpPr/>
          <p:nvPr/>
        </p:nvSpPr>
        <p:spPr>
          <a:xfrm>
            <a:off x="496800" y="96696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ychom vyjádřili postupný poměr v základním tvaru, tzn. pomocí nesoudělných přirozených čísel, potřebujeme často poměr nejdříve rozšíř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710160" y="2565360"/>
                <a:ext cx="15001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755640" y="3573360"/>
            <a:ext cx="7704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Ve všech členech poměru se potřebujeme zbavit tvaru zlomku, potřebujeme se zbavit jmenovatelů, tzn. vynásobit všechny členy poměru nejmenším společným jmenovatelem (v našem případě číslem 1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2060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ozšiřování poměru znamená násobení všech členů postupného poměru stejným číslem různým od nuly a jed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521496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Po rozšíření je sice již poměr vyjádřen přirozenými čísly, ale zatím ještě ne nesoudělnými. Budeme jej tedy ještě krátit, v našem případě číslem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8160" y="1557360"/>
            <a:ext cx="7893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Například, je-li poměr zadán zlomk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639960" y="5703840"/>
                <a:ext cx="18478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272120" y="4394160"/>
            <a:ext cx="330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4600" y="4927680"/>
            <a:ext cx="3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31880" y="4518000"/>
                <a:ext cx="3048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 flipV="1">
            <a:off x="5238720" y="4711680"/>
            <a:ext cx="2095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909960" y="4889520"/>
            <a:ext cx="2095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878360" y="4873680"/>
            <a:ext cx="2095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255920" y="4711680"/>
            <a:ext cx="20988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68960" y="4394160"/>
            <a:ext cx="330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65840" y="4927680"/>
            <a:ext cx="3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827760" y="4695840"/>
                <a:ext cx="12193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7499520" y="4437000"/>
            <a:ext cx="330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342200" y="4716360"/>
            <a:ext cx="2095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753320" y="4714920"/>
            <a:ext cx="2095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13520" y="4437000"/>
            <a:ext cx="330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37360" y="4394160"/>
            <a:ext cx="330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31000" y="4927680"/>
            <a:ext cx="330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864400" y="4902120"/>
            <a:ext cx="2095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213600" y="4711680"/>
            <a:ext cx="2095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75440" y="4437000"/>
            <a:ext cx="330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18480" y="4716360"/>
            <a:ext cx="20952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6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1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1520" y="1052640"/>
            <a:ext cx="792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yjádřete v základním tvaru dané poměr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51120" y="6249960"/>
            <a:ext cx="5112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1701720"/>
            <a:ext cx="287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0 : 15 : 20 : 35</a:t>
            </a: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7820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0 : 48 : 24</a:t>
            </a: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38920" y="1701720"/>
            <a:ext cx="2593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,2 : 5,4 : 6 : 2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0" y="-1080"/>
            <a:ext cx="27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" y="-1080"/>
            <a:ext cx="27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971640" y="3716280"/>
                <a:ext cx="129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0520" y="3701880"/>
                <a:ext cx="1276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477120" y="3701880"/>
                <a:ext cx="10476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3-13T12:19:25Z</dcterms:modified>
  <cp:revision>210</cp:revision>
  <dc:subject/>
  <dc:title>Postupný poměr - základní tvar</dc:title>
</cp:coreProperties>
</file>