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E0A-3F6E-41D9-A59A-7F31144D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6A9-0768-4D7D-B5BF-B25ACAB3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49E-91EB-46D6-9FF1-453212B4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026-C9B2-4621-964C-4A5B8142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468A-E593-4315-B407-E94A30AC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1E45-68EA-4699-A5BF-C23BE406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D2AB-EFA6-4663-A624-F385FE48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89E1-78B7-4DC4-8C1F-19481999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7B13-BFFC-4290-8D9D-47840630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B454-6349-45BB-9B56-11C2EC15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67B1-E7CA-4AD8-A236-A73114B9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413-F10F-485D-84E7-23EADC9F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F07E-CF4B-4E11-BB86-53E3A793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AA5B-489F-49A0-AC3D-8A7E4EE9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F60C-2726-4C90-B59C-EE5876AC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5B67-37AE-4AAB-9E93-6BEF7243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F501-D231-4593-81FC-8629AF67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192-141F-4A30-96CE-2FEF67EC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31F-47B3-43C6-83E7-4262CF1A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FE6-6A91-436C-8B52-DBBB6A0D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B1E-F50B-47BD-9450-6BB4A04F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DAF-A8A3-4E23-B744-253D82A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6EF-57EE-4D92-A263-043B1206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089-100D-4B24-99AA-1E86C0C3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24DE-CA28-434D-B7BE-BF1A5C0267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0766-5C49-45C1-8BF2-A73136B44C25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reeway.cz/obchod" TargetMode="External"/><Relationship Id="rId3" Type="http://schemas.openxmlformats.org/officeDocument/2006/relationships/hyperlink" Target="http://www.aquara.cz/userdata/sirupy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shocart.cz/img/zakazkova-cinnost/plany-mest-prh-trhaci-big.jpg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86244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měna v daném poměr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321300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Co je pomě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5280" y="1125360"/>
            <a:ext cx="828036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Užití poměru: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na v daném poměru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270080"/>
            <a:ext cx="784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V našem příkladu jsme zadanou hodnotu zvětšovali. Samozřejmě bychom mohli zadat příklad i obráceně, potom bychom zadanou hodnotu zmenšova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3080" y="4724280"/>
            <a:ext cx="352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3 díly ... 12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13080" y="5084640"/>
            <a:ext cx="352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1 díl ... 1200 : 3 = 4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13080" y="5445000"/>
            <a:ext cx="374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2 díly ... 400 . 2 = 8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79640" y="5877000"/>
            <a:ext cx="540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Petrova část odměny činila 800,-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1846440"/>
            <a:ext cx="7632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.: Petr a Pavel si rozdělili odměnu za společně vykonaný úkol v poměru 2:3, tedy v poměru odpovídajícím počtu odpracovaných hodin. Kolik korun dostal Petr, činila-li Pavlova odměna 1200,- Kč?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4120" y="263700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7080" y="2781360"/>
            <a:ext cx="187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Petr  :  P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95640" y="3141720"/>
            <a:ext cx="19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2  :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35200" y="2782800"/>
            <a:ext cx="863640" cy="86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3718080"/>
            <a:ext cx="2376720" cy="1223640"/>
          </a:xfrm>
          <a:prstGeom prst="cloudCallout">
            <a:avLst>
              <a:gd name="adj1" fmla="val 77657"/>
              <a:gd name="adj2" fmla="val -673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etrovi tedy přísluší 2 z pěti stejných dílů odmě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5640" y="3141720"/>
            <a:ext cx="863640" cy="504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3280" y="3933720"/>
            <a:ext cx="2376720" cy="1079640"/>
          </a:xfrm>
          <a:prstGeom prst="cloudCallout">
            <a:avLst>
              <a:gd name="adj1" fmla="val -54810"/>
              <a:gd name="adj2" fmla="val -7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lá odměna byla rozdělena n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 stejných dílů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14760" y="2781360"/>
            <a:ext cx="863640" cy="863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2781360"/>
            <a:ext cx="2305080" cy="1224000"/>
          </a:xfrm>
          <a:prstGeom prst="cloudCallout">
            <a:avLst>
              <a:gd name="adj1" fmla="val -85125"/>
              <a:gd name="adj2" fmla="val -187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vel dosta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 z pěti stejných  dílů odměny, což činí 1200,- Kč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95280" y="981000"/>
            <a:ext cx="8280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Užití poměru: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na v daném poměru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1123920"/>
            <a:ext cx="7632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měna v daném poměru tedy znamená zvětšování nebo zmenšování zadané hodnoty (veličin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1700280"/>
            <a:ext cx="7632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 prvním příkladu jsme nejdříve dělili dvojkou a následně násobili trojkou, tzn. využili jsme oba členy poměru v uvedeném pořad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9440" y="213048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2 díly ... 800,- K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9440" y="234648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1 díl ... 800 : 2 = 400,- K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89440" y="256392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3 díly ... 400 . 3 = 1200,- K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4360" y="3789360"/>
            <a:ext cx="7632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e druhém příkladu jsme nejdříve dělili trojkou a následně násobili dvojkou, tzn. využili jsme opět oba členy poměru ovšem v obráceném pořad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4189320"/>
            <a:ext cx="352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3 díly ... 1200,- K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88000" y="4405320"/>
            <a:ext cx="352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1 díl ... 1200 : 3 = 400,- K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88000" y="4622760"/>
            <a:ext cx="280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2 díly ... 400 . 2 = 800,- K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5918040"/>
            <a:ext cx="8064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Nabízí se otázka: Mohli bychom uvedené postupy zapsat v obou příkladech i do jednoho zápisu výpoč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592280" y="2779560"/>
                <a:ext cx="13953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488960" y="4870440"/>
                <a:ext cx="16034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604880" y="3039840"/>
            <a:ext cx="649440" cy="360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619280" y="5143320"/>
            <a:ext cx="649080" cy="360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368440" y="3327120"/>
            <a:ext cx="287280" cy="360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55920" y="5430600"/>
            <a:ext cx="287280" cy="360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65240" y="2665440"/>
            <a:ext cx="64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56000" y="3427560"/>
            <a:ext cx="64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0920" y="4740120"/>
            <a:ext cx="64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41680" y="5502240"/>
            <a:ext cx="64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017880" y="2779560"/>
                <a:ext cx="14238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432320" y="3032280"/>
                <a:ext cx="1363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853240" y="3041640"/>
                <a:ext cx="8888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111480" y="4881600"/>
                <a:ext cx="1424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525920" y="5133960"/>
                <a:ext cx="1363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940360" y="5143680"/>
                <a:ext cx="711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2944800" y="6033960"/>
            <a:ext cx="14400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Ano moh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Užití poměru: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na v daném poměru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1081080"/>
            <a:ext cx="7632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Čím se oba zápisy liší, kromě úvodní zadané hodnoty, která byla v obou příkladech jiná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84280" y="1598760"/>
                <a:ext cx="1395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41600" y="2406600"/>
                <a:ext cx="16034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 flipV="1">
            <a:off x="596880" y="1858680"/>
            <a:ext cx="649440" cy="360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571920" y="2679480"/>
            <a:ext cx="649080" cy="360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360440" y="2145960"/>
            <a:ext cx="287280" cy="360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408560" y="2966760"/>
            <a:ext cx="287280" cy="360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57240" y="1484280"/>
            <a:ext cx="64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47640" y="2246400"/>
            <a:ext cx="6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03560" y="2276640"/>
            <a:ext cx="64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94320" y="3038400"/>
            <a:ext cx="64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09880" y="1598760"/>
                <a:ext cx="142380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24320" y="1851120"/>
                <a:ext cx="1363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844880" y="1860480"/>
                <a:ext cx="8892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064120" y="2417760"/>
                <a:ext cx="1424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478560" y="2670120"/>
                <a:ext cx="1363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7893000" y="2679840"/>
                <a:ext cx="711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611280" y="2276640"/>
            <a:ext cx="574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3097080"/>
            <a:ext cx="7192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3573360"/>
            <a:ext cx="3816360" cy="2016360"/>
          </a:xfrm>
          <a:prstGeom prst="cloudCallout">
            <a:avLst>
              <a:gd name="adj1" fmla="val -22962"/>
              <a:gd name="adj2" fmla="val -99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 prvním příkladu, kdy byla počítaná odměna větší, a tudíž docházelo ke zvětšování, jsme násobili zadanou hodnotu poměrem zapsaným do zlomku tak, aby byl větší než jedna, tzn. čitatel byl větší než jmenovat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3716280"/>
            <a:ext cx="4032360" cy="2017800"/>
          </a:xfrm>
          <a:prstGeom prst="cloudCallout">
            <a:avLst>
              <a:gd name="adj1" fmla="val -49250"/>
              <a:gd name="adj2" fmla="val -650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 druhém příkladu, kdy byla počítaná odměna menší, a tudíž docházelo ke zmenšování, jsme sice opět násobili zadanou hodnotu poměrem zapsaným do zlomku, ale tentokrát tak, aby byl menší než jedna, tzn. čitatel byl menší než jmenovat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9640" y="5862600"/>
            <a:ext cx="8064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Z uvedeného pro nás tedy vyplývá závěr, že pokud násobíme dané číslo číslem větším než jedna, dané číslo zvětšujeme a naopak, pokud násobíme dané číslo číslem menším než jedna, pak dané číslo zmenšujem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95280" y="952560"/>
            <a:ext cx="835344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většování čísla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0" name=""/>
          <p:cNvSpPr/>
          <p:nvPr/>
        </p:nvSpPr>
        <p:spPr>
          <a:xfrm>
            <a:off x="539640" y="1081080"/>
            <a:ext cx="8064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Zvětšit číslo v daném poměru znamená vynásobit toto číslo zlomkem vytvořeným z daného poměru tak, aby byl větší než jedna. To znamená v čitateli větší část poměru a ve jmenovateli část menš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2060640"/>
            <a:ext cx="80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íklad: Zvětšete číslo 24 v poměru 4:3. </a:t>
            </a: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73200" y="2679840"/>
                <a:ext cx="1562040" cy="11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 flipV="1">
            <a:off x="611280" y="3025440"/>
            <a:ext cx="684000" cy="4618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432080" y="3355560"/>
            <a:ext cx="363240" cy="4618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58840" y="259560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92360" y="342900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56000" y="3645000"/>
            <a:ext cx="4248360" cy="2663640"/>
          </a:xfrm>
          <a:prstGeom prst="cloudCallout">
            <a:avLst>
              <a:gd name="adj1" fmla="val -51717"/>
              <a:gd name="adj2" fmla="val -914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většit číslo 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poměru 4:3 tedy znamená vynásobit číslo 24 zlomkem 4/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j. určit 4/3 z čísla 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195640" y="3032280"/>
                <a:ext cx="1220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492360" y="3056040"/>
                <a:ext cx="648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612720" y="4653000"/>
            <a:ext cx="352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Je-li daný poměr větší než jedna, nastane při změně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 daném poměru zvětšení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menšování čísla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3" name=""/>
          <p:cNvSpPr/>
          <p:nvPr/>
        </p:nvSpPr>
        <p:spPr>
          <a:xfrm>
            <a:off x="539640" y="1081080"/>
            <a:ext cx="8064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Zmenšit číslo v daném poměru znamená vynásobit toto číslo zlomkem vytvořeným z daného poměru tak, aby byl menší než jedna. To znamená v čitateli menší část poměru a ve jmenovateli část větš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9640" y="2060640"/>
            <a:ext cx="80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íklad: Zmenšete číslo 24 v poměru 3:4. </a:t>
            </a: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673200" y="2679840"/>
                <a:ext cx="1562040" cy="11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 flipV="1">
            <a:off x="611280" y="3025440"/>
            <a:ext cx="684000" cy="4618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432080" y="3355560"/>
            <a:ext cx="363240" cy="4618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58840" y="259560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92360" y="342900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56000" y="3645000"/>
            <a:ext cx="4248360" cy="2663640"/>
          </a:xfrm>
          <a:prstGeom prst="cloudCallout">
            <a:avLst>
              <a:gd name="adj1" fmla="val -50000"/>
              <a:gd name="adj2" fmla="val -903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menšit číslo 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poměru 3:4 tedy znamená vynásobit číslo 24 zlomkem 3/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j. určit 3/4 z čísla 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195640" y="3032280"/>
                <a:ext cx="1220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419640" y="3056040"/>
                <a:ext cx="6094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612720" y="4653000"/>
            <a:ext cx="352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Je-li daný poměr menší než jedna, nastane při změně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 daném poměru zmenšení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1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5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2720" y="1052640"/>
            <a:ext cx="828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většete v poměru 3:2 čísla 18; 9; 0,12; 1/6.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51120" y="6249960"/>
            <a:ext cx="51120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1413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1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2720" y="1052640"/>
            <a:ext cx="828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většete v poměru 3:2 čísla 18; 9; 0,12; 1/6.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1413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873080" y="1700280"/>
                <a:ext cx="13305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211560" y="1700280"/>
                <a:ext cx="1130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 flipV="1">
            <a:off x="1936800" y="1989000"/>
            <a:ext cx="431640" cy="432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482920" y="2260440"/>
            <a:ext cx="363600" cy="4622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09680" y="155736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233352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336920" y="1982880"/>
                <a:ext cx="1065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364000" y="2004840"/>
                <a:ext cx="567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967040" y="2868480"/>
                <a:ext cx="11318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132000" y="2868480"/>
                <a:ext cx="9302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2205000" y="2725560"/>
            <a:ext cx="820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140360" y="3151080"/>
                <a:ext cx="1331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505480" y="3156120"/>
                <a:ext cx="866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971720" y="4019400"/>
                <a:ext cx="16635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3630600" y="4019400"/>
                <a:ext cx="16621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 flipV="1">
            <a:off x="2166840" y="4308120"/>
            <a:ext cx="432000" cy="431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928960" y="4579560"/>
            <a:ext cx="363600" cy="4618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55920" y="387684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0,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89240" y="465300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349960" y="4311720"/>
                <a:ext cx="15984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020000" y="4309920"/>
                <a:ext cx="866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979640" y="5243400"/>
                <a:ext cx="1197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3184560" y="5243400"/>
                <a:ext cx="1197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 flipV="1">
            <a:off x="2475000" y="5243400"/>
            <a:ext cx="363600" cy="4622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00360" y="531648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427640" y="5243400"/>
                <a:ext cx="431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 flipV="1">
            <a:off x="1979640" y="5829120"/>
            <a:ext cx="363600" cy="4618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05000" y="5902200"/>
            <a:ext cx="820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2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2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720" y="1052640"/>
            <a:ext cx="828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enšete v poměru 2:5 čísla 20; 12; 1,5; 5/12.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51120" y="6249960"/>
            <a:ext cx="51120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1413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2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2720" y="1052640"/>
            <a:ext cx="828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enšete v poměru 2:5 čísla 20; 12; 1,5; 5/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4360" y="1413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873080" y="1711440"/>
                <a:ext cx="133056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211560" y="1700280"/>
                <a:ext cx="1130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 flipV="1">
            <a:off x="1936800" y="1989000"/>
            <a:ext cx="431640" cy="432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482920" y="2260440"/>
            <a:ext cx="363600" cy="4622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155736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233352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336920" y="1998720"/>
                <a:ext cx="10652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479920" y="1989000"/>
                <a:ext cx="333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868400" y="2868480"/>
                <a:ext cx="13305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3179880" y="2868480"/>
                <a:ext cx="9302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2205000" y="2725560"/>
            <a:ext cx="820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124160" y="3151080"/>
                <a:ext cx="13654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605560" y="3156120"/>
                <a:ext cx="666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908000" y="4019400"/>
                <a:ext cx="1398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368520" y="4019400"/>
                <a:ext cx="14288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 flipV="1">
            <a:off x="1971720" y="4308120"/>
            <a:ext cx="431640" cy="431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576520" y="4608360"/>
            <a:ext cx="363600" cy="4622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60440" y="387684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92520" y="465300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881600" y="4311720"/>
                <a:ext cx="1365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321600" y="4309920"/>
                <a:ext cx="666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824120" y="5243400"/>
                <a:ext cx="13968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241800" y="5243400"/>
                <a:ext cx="11300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 flipV="1">
            <a:off x="2533680" y="5243400"/>
            <a:ext cx="363600" cy="4622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59040" y="531648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387680" y="5243400"/>
                <a:ext cx="4003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1979640" y="5829120"/>
            <a:ext cx="363600" cy="4618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303640" y="5902200"/>
            <a:ext cx="820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986120" y="5243400"/>
            <a:ext cx="363240" cy="4622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54320" y="531648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535120" y="5805360"/>
            <a:ext cx="363600" cy="4622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59120" y="587844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3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4360" y="981000"/>
            <a:ext cx="7991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měr chlapců a dívek ve třídě je 5 : 7. Chlapců je 10. Kolik žáků je ve třídě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51120" y="6249960"/>
            <a:ext cx="51120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4360" y="171468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2708280"/>
            <a:ext cx="777708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1052640"/>
            <a:ext cx="818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Pojem poměr nás provází celým životem a setkáváme se s ním prakticky každodenn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2120" y="1641600"/>
            <a:ext cx="818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Vzpomeňme jen na pár ukázkách některé případy, v nichž se v běžném životě s poměrem (pojmem poměr, vyjádřením poměru) setkávám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2120" y="2031840"/>
            <a:ext cx="8183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Tak například poměr ředění sirupů, postřiků, čisticích prostředků, oleje ap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6062760"/>
            <a:ext cx="59119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Obrázky: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freeway.cz/obchod</a:t>
            </a:r>
            <a:r>
              <a:rPr b="0" lang="en-US" sz="1000" spc="-1" strike="noStrike" u="sng">
                <a:solidFill>
                  <a:srgbClr val="284c6a"/>
                </a:solidFill>
                <a:uFillTx/>
                <a:latin typeface="Trebuchet MS"/>
              </a:rPr>
              <a:t>;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aquara.cz/userdata/sirupy</a:t>
            </a:r>
            <a:r>
              <a:rPr b="0" lang="en-US" sz="1000" spc="-1" strike="noStrike" u="sng">
                <a:solidFill>
                  <a:srgbClr val="284c6a"/>
                </a:solidFill>
                <a:uFillTx/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87280" y="3573360"/>
            <a:ext cx="2454480" cy="2602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76600" y="2852640"/>
            <a:ext cx="2579760" cy="2232000"/>
          </a:xfrm>
          <a:prstGeom prst="cloudCallout">
            <a:avLst>
              <a:gd name="adj1" fmla="val -105509"/>
              <a:gd name="adj2" fmla="val 460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079880" y="3225960"/>
            <a:ext cx="1512720" cy="1417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334200" y="3781440"/>
            <a:ext cx="1333440" cy="2095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32720" y="5241960"/>
            <a:ext cx="934920" cy="504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322800"/>
            <a:ext cx="934920" cy="504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3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8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4360" y="981000"/>
            <a:ext cx="7991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měr chlapců a dívek ve třídě je 5 : 7. Chlapců je 10. Kolik žáků je ve třídě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1844640"/>
            <a:ext cx="7720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Nejdříve vypočítáme, kolik je ve třídě dív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4360" y="171468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26920" y="2406600"/>
            <a:ext cx="7720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Vzhledem ke tvaru zápisu poměru je dívek více, a to znamená, že budeme číslo 10 v daném poměru zvětš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332000" y="3103560"/>
                <a:ext cx="172728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 flipV="1">
            <a:off x="1474920" y="3514680"/>
            <a:ext cx="431640" cy="432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209680" y="3874680"/>
            <a:ext cx="363600" cy="4618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78120" y="308304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54120" y="400536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189240" y="3098880"/>
                <a:ext cx="146844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657680" y="3486240"/>
                <a:ext cx="1381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6137280" y="3473280"/>
                <a:ext cx="18111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íve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900000" y="4638600"/>
            <a:ext cx="7720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Nakonec určíme sečtením počtu chlapců a počtu dívek, kolik žáků je ve tříd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137040" y="5127480"/>
                <a:ext cx="2803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900000" y="5862600"/>
            <a:ext cx="7720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Odpověď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e třídě je 24 žá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0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13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amatuj si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445" name="" descr="Název souboru: j0343347.wmf&#13;Klíčová slova: akademici, osoby, školní tabule ...&#13;Velikost souboru: 33 kB"/>
          <p:cNvPicPr/>
          <p:nvPr/>
        </p:nvPicPr>
        <p:blipFill>
          <a:blip r:embed="rId2"/>
          <a:stretch/>
        </p:blipFill>
        <p:spPr>
          <a:xfrm>
            <a:off x="6588000" y="549360"/>
            <a:ext cx="2044800" cy="20444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95280" y="98100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Změna v daném pomě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4211640" y="3500280"/>
            <a:ext cx="915840" cy="9162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5508720" y="3645000"/>
            <a:ext cx="915840" cy="9158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6759720" y="3573360"/>
            <a:ext cx="915840" cy="9162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6688080" y="4581360"/>
            <a:ext cx="916200" cy="9162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7"/>
          <a:stretch/>
        </p:blipFill>
        <p:spPr>
          <a:xfrm>
            <a:off x="5435640" y="4724280"/>
            <a:ext cx="915840" cy="9162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4140360" y="4581360"/>
            <a:ext cx="915840" cy="9162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9"/>
          <a:stretch/>
        </p:blipFill>
        <p:spPr>
          <a:xfrm>
            <a:off x="2916360" y="4653000"/>
            <a:ext cx="915840" cy="9158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10"/>
          <a:stretch/>
        </p:blipFill>
        <p:spPr>
          <a:xfrm>
            <a:off x="2771640" y="3573360"/>
            <a:ext cx="916200" cy="9162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11"/>
          <a:stretch/>
        </p:blipFill>
        <p:spPr>
          <a:xfrm>
            <a:off x="1568520" y="4653000"/>
            <a:ext cx="915840" cy="9158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2"/>
          <a:stretch/>
        </p:blipFill>
        <p:spPr>
          <a:xfrm>
            <a:off x="1568520" y="3500280"/>
            <a:ext cx="915840" cy="9162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09680" y="1455840"/>
            <a:ext cx="6107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menši počet 10 jablek v poměru 2: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25520" y="1830240"/>
            <a:ext cx="5975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měr hovoří o tom, že 10 jablek představuje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5 stejných dílů, z nichž máme určit díly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76360" y="3357720"/>
            <a:ext cx="1081080" cy="24476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70200" y="3357720"/>
            <a:ext cx="1081080" cy="24476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95720" y="3357720"/>
            <a:ext cx="1081080" cy="24476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92800" y="3357720"/>
            <a:ext cx="1081080" cy="24476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59640" y="3357720"/>
            <a:ext cx="1081080" cy="24476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21160" y="2924280"/>
            <a:ext cx="2505240" cy="3311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268000" y="2205000"/>
            <a:ext cx="3311640" cy="1224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492000" y="2205000"/>
            <a:ext cx="2087640" cy="1152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643280" y="2205000"/>
            <a:ext cx="936720" cy="1079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580000" y="2217600"/>
            <a:ext cx="360360" cy="1079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580000" y="2205000"/>
            <a:ext cx="1368360" cy="1152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16360" y="2421000"/>
            <a:ext cx="1008000" cy="8636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12000" y="5734080"/>
            <a:ext cx="1368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4 jab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500"/>
                            </p:stCondLst>
                            <p:childTnLst>
                              <p:par>
                                <p:cTn id="1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500"/>
                            </p:stCondLst>
                            <p:childTnLst>
                              <p:par>
                                <p:cTn id="1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13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amatuj si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473" name="" descr="Název souboru: j0343347.wmf&#13;Klíčová slova: akademici, osoby, školní tabule ...&#13;Velikost souboru: 33 kB"/>
          <p:cNvPicPr/>
          <p:nvPr/>
        </p:nvPicPr>
        <p:blipFill>
          <a:blip r:embed="rId2"/>
          <a:stretch/>
        </p:blipFill>
        <p:spPr>
          <a:xfrm>
            <a:off x="6588000" y="549360"/>
            <a:ext cx="2044800" cy="20444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95280" y="98100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Změna v daném pomě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09680" y="1384200"/>
            <a:ext cx="603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menši počet 10 jablek v poměru 2: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3960" y="1987560"/>
            <a:ext cx="1266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četně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65440" y="2881440"/>
            <a:ext cx="586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 díl … 10 : 5 = 2 jab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63640" y="3370320"/>
            <a:ext cx="4506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 díly … 2 . 2 = 4 jab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41680" y="396072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41680" y="40035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242040" y="57466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42040" y="57895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63640" y="2435400"/>
            <a:ext cx="5861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 dílů … 10 jab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76720" y="4206960"/>
            <a:ext cx="1079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n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476360" y="4773600"/>
                <a:ext cx="172728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1619280" y="5184720"/>
            <a:ext cx="431640" cy="432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354400" y="5544720"/>
            <a:ext cx="363240" cy="4618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022480" y="475308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598840" y="5675400"/>
            <a:ext cx="82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333600" y="4768920"/>
                <a:ext cx="146844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4802040" y="5156280"/>
                <a:ext cx="1381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129360" y="5143680"/>
                <a:ext cx="21146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jablka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500"/>
                            </p:stCondLst>
                            <p:childTnLst>
                              <p:par>
                                <p:cTn id="1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500"/>
                            </p:stCondLst>
                            <p:childTnLst>
                              <p:par>
                                <p:cTn id="1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500"/>
                            </p:stCondLst>
                            <p:childTnLst>
                              <p:par>
                                <p:cTn id="1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13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amatuj si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494" name="" descr="Název souboru: j0343347.wmf&#13;Klíčová slova: akademici, osoby, školní tabule ...&#13;Velikost souboru: 33 kB"/>
          <p:cNvPicPr/>
          <p:nvPr/>
        </p:nvPicPr>
        <p:blipFill>
          <a:blip r:embed="rId2"/>
          <a:stretch/>
        </p:blipFill>
        <p:spPr>
          <a:xfrm>
            <a:off x="6804000" y="404640"/>
            <a:ext cx="1755720" cy="17560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395280" y="1125360"/>
            <a:ext cx="799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Změna v daném poměru (např. 3: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1628640"/>
            <a:ext cx="8569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Trebuchet MS"/>
              </a:rPr>
              <a:t>1. Zvětšení:</a:t>
            </a:r>
            <a:br>
              <a:rPr sz="2200"/>
            </a:br>
            <a:r>
              <a:rPr b="1" lang="cs-CZ" sz="2200" spc="-1" strike="noStrike">
                <a:solidFill>
                  <a:srgbClr val="00cc00"/>
                </a:solidFill>
                <a:latin typeface="Trebuchet MS"/>
              </a:rPr>
              <a:t>Zvětšit číslo v daném poměru znamená vynásobit jej poměrem zapsaným do zlomku tak, aby byl větší než jed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4005360"/>
            <a:ext cx="8351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2. Zmenšení:</a:t>
            </a:r>
            <a:br>
              <a:rPr sz="2200"/>
            </a:br>
            <a:r>
              <a:rPr b="1" lang="en-US" sz="2200" spc="-1" strike="noStrike">
                <a:solidFill>
                  <a:srgbClr val="00cc00"/>
                </a:solidFill>
                <a:latin typeface="Trebuchet MS"/>
              </a:rPr>
              <a:t>Zmenšit číslo v daném poměru znamená vynásobit jej poměrem zapsaným do zlomku tak, aby byl menší než jed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348000" y="3141720"/>
                <a:ext cx="846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4371840" y="3133800"/>
                <a:ext cx="22878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419640" y="5381640"/>
                <a:ext cx="846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446720" y="5373720"/>
                <a:ext cx="2068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Nebo skóre sportovních utkání – např. poměr nastřílených branek domácím </a:t>
            </a:r>
            <a:br>
              <a:rPr sz="1700"/>
            </a:b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a hostujícím týmem, poměr střel, vyloučení ap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19280" y="2117880"/>
            <a:ext cx="5111640" cy="3398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176640" y="5516640"/>
            <a:ext cx="5067360" cy="73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521320" y="2421000"/>
            <a:ext cx="1150920" cy="3024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20800" y="1835280"/>
            <a:ext cx="3895560" cy="65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751040" y="1700280"/>
            <a:ext cx="1079640" cy="4334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65560" y="2060640"/>
            <a:ext cx="647640" cy="287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7480" y="5937120"/>
            <a:ext cx="648000" cy="287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5950080"/>
            <a:ext cx="647640" cy="287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96360" y="5950080"/>
            <a:ext cx="647640" cy="287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341360"/>
            <a:ext cx="792144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514440" y="8366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Případně měřítka map či plánů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5185080" cy="3676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075280" y="3789360"/>
            <a:ext cx="3371760" cy="2448000"/>
          </a:xfrm>
          <a:prstGeom prst="cloudCallout">
            <a:avLst>
              <a:gd name="adj1" fmla="val -26930"/>
              <a:gd name="adj2" fmla="val -125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854680" y="4213080"/>
            <a:ext cx="1728720" cy="1559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30320" y="6093000"/>
            <a:ext cx="4545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284c6a"/>
                </a:solidFill>
                <a:latin typeface="Trebuchet MS"/>
              </a:rPr>
              <a:t>Obázek: </a:t>
            </a:r>
            <a:r>
              <a:rPr b="0" lang="cs-CZ" sz="8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http://www.shocart.cz/img/zakazkova-cinnost/plany-mest-prh-trhaci-big.jpg</a:t>
            </a:r>
            <a:r>
              <a:rPr b="1" lang="cs-CZ" sz="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16720" y="450864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1280" y="1658880"/>
            <a:ext cx="792144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482760" y="79200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o to tedy je ten poměr? Je to způsob porovnání dvou údaj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7417080" cy="107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496800" y="112536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a porovnávané údaje musí být ve stejných jednot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1844640"/>
            <a:ext cx="2581200" cy="1152720"/>
          </a:xfrm>
          <a:prstGeom prst="cloudCallout">
            <a:avLst>
              <a:gd name="adj1" fmla="val 14759"/>
              <a:gd name="adj2" fmla="val 90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čet bran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20880" y="1928880"/>
            <a:ext cx="2282760" cy="1212840"/>
          </a:xfrm>
          <a:prstGeom prst="cloudCallout">
            <a:avLst>
              <a:gd name="adj1" fmla="val 1949"/>
              <a:gd name="adj2" fmla="val 1319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čet stř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4807080"/>
            <a:ext cx="2376720" cy="1430280"/>
          </a:xfrm>
          <a:prstGeom prst="cloudCallout">
            <a:avLst>
              <a:gd name="adj1" fmla="val -39648"/>
              <a:gd name="adj2" fmla="val -764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čet využitých přesilov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941720"/>
            <a:ext cx="2282760" cy="1212840"/>
          </a:xfrm>
          <a:prstGeom prst="cloudCallout">
            <a:avLst>
              <a:gd name="adj1" fmla="val 37620"/>
              <a:gd name="adj2" fmla="val -93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čet vylouč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08240" y="1889280"/>
            <a:ext cx="6035760" cy="4203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55640" y="3284640"/>
            <a:ext cx="4680000" cy="2952720"/>
          </a:xfrm>
          <a:prstGeom prst="cloudCallout">
            <a:avLst>
              <a:gd name="adj1" fmla="val 76018"/>
              <a:gd name="adj2" fmla="val -646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 cm : 17 00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3284640"/>
            <a:ext cx="4680000" cy="2952720"/>
          </a:xfrm>
          <a:prstGeom prst="cloudCallout">
            <a:avLst>
              <a:gd name="adj1" fmla="val 76018"/>
              <a:gd name="adj2" fmla="val -646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zdále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907920"/>
            <a:ext cx="7921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268280"/>
            <a:ext cx="76201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 porovnávaných údajů </a:t>
            </a: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a,b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 zapisujeme</a:t>
            </a:r>
            <a:br>
              <a:rPr sz="4400"/>
            </a:br>
            <a:r>
              <a:rPr b="1" lang="en-US" sz="8000" spc="-1" strike="noStrike">
                <a:solidFill>
                  <a:srgbClr val="3333cc"/>
                </a:solidFill>
                <a:latin typeface="Trebuchet MS"/>
              </a:rPr>
              <a:t>a : b</a:t>
            </a:r>
            <a:br>
              <a:rPr sz="4400"/>
            </a:b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čteme </a:t>
            </a: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a ku b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443200">
            <a:off x="1403280" y="2026800"/>
            <a:ext cx="12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3: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263000">
            <a:off x="6803640" y="23144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9: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886800">
            <a:off x="895320" y="3357720"/>
            <a:ext cx="158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15: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443200">
            <a:off x="6300720" y="3322440"/>
            <a:ext cx="12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1: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4120" y="436572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oměr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a : b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můžeme zapsat ve tvaru zlom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753000" y="5195880"/>
                <a:ext cx="16110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755640" y="4365720"/>
            <a:ext cx="2736720" cy="1873080"/>
          </a:xfrm>
          <a:prstGeom prst="cloudCallout">
            <a:avLst>
              <a:gd name="adj1" fmla="val 50870"/>
              <a:gd name="adj2" fmla="val -1098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Číslo a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0 nazýváme první člen po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4363920"/>
            <a:ext cx="2737080" cy="1873440"/>
          </a:xfrm>
          <a:prstGeom prst="cloudCallout">
            <a:avLst>
              <a:gd name="adj1" fmla="val -55222"/>
              <a:gd name="adj2" fmla="val -1105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Číslo b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0 nazýváme druhý člen po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125360"/>
            <a:ext cx="828036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Užití poměru: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na v daném poměru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1150920"/>
            <a:ext cx="763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.: Petr a Pavel si rozdělili odměnu za společně vykonaný úkol v poměru 2:3, tedy v poměru odpovídajícím počtu odpracovaných hodin. Kolik korun dostal Pavel, činila-li Petrova odměna 800,- Kč?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55640" y="227808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405080" y="2278080"/>
            <a:ext cx="576000" cy="431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182680" y="226692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901960" y="225252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55640" y="270972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1405080" y="2709720"/>
            <a:ext cx="576000" cy="43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2195640" y="2684520"/>
            <a:ext cx="576000" cy="431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2914560" y="2671920"/>
            <a:ext cx="576360" cy="431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317600" y="3025800"/>
            <a:ext cx="168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8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14560" y="3287880"/>
            <a:ext cx="32418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rebuchet MS"/>
              </a:rPr>
              <a:t>2 :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4084560" y="229068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4803840" y="227664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4097160" y="270828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3"/>
          <a:stretch/>
        </p:blipFill>
        <p:spPr>
          <a:xfrm>
            <a:off x="4816440" y="269568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>
            <a:off x="5568840" y="229068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5"/>
          <a:stretch/>
        </p:blipFill>
        <p:spPr>
          <a:xfrm>
            <a:off x="6288120" y="227664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6"/>
          <a:stretch/>
        </p:blipFill>
        <p:spPr>
          <a:xfrm>
            <a:off x="5581800" y="2708280"/>
            <a:ext cx="576000" cy="431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7"/>
          <a:stretch/>
        </p:blipFill>
        <p:spPr>
          <a:xfrm>
            <a:off x="6300720" y="269568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8"/>
          <a:stretch/>
        </p:blipFill>
        <p:spPr>
          <a:xfrm>
            <a:off x="7020000" y="229068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9"/>
          <a:stretch/>
        </p:blipFill>
        <p:spPr>
          <a:xfrm>
            <a:off x="7738920" y="227664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0"/>
          <a:stretch/>
        </p:blipFill>
        <p:spPr>
          <a:xfrm>
            <a:off x="7032600" y="270828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1"/>
          <a:stretch/>
        </p:blipFill>
        <p:spPr>
          <a:xfrm>
            <a:off x="7751880" y="2695680"/>
            <a:ext cx="576000" cy="431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4292640"/>
            <a:ext cx="2664000" cy="2232000"/>
          </a:xfrm>
          <a:prstGeom prst="cloudCallout">
            <a:avLst>
              <a:gd name="adj1" fmla="val 74671"/>
              <a:gd name="adj2" fmla="val -376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etrova odměna odpovídá dvěma dílům z celkového počtu 5 stejných dílů, na které byla vzhledem k danému poměru odměna rozděle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8400" y="1989000"/>
            <a:ext cx="1366920" cy="1195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8400" y="1989000"/>
            <a:ext cx="1366920" cy="1195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1859040"/>
            <a:ext cx="11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1844640"/>
            <a:ext cx="11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5320" y="1944720"/>
            <a:ext cx="2953080" cy="15127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4365720"/>
            <a:ext cx="2735280" cy="2087640"/>
          </a:xfrm>
          <a:prstGeom prst="cloudCallout">
            <a:avLst>
              <a:gd name="adj1" fmla="val -74435"/>
              <a:gd name="adj2" fmla="val -38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 Pavla z daného poměru plyne, že mu náleží tři díly (tzn. třikrá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0,- Kč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78320" y="4842000"/>
            <a:ext cx="216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 díly … 8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515772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 díl … 800:2 = 4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54320" y="1974960"/>
            <a:ext cx="1366920" cy="1195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83200" y="1844640"/>
            <a:ext cx="11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37160" y="1974960"/>
            <a:ext cx="1366920" cy="1195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65680" y="1844640"/>
            <a:ext cx="11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07400" y="1974960"/>
            <a:ext cx="1366560" cy="1195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35920" y="1844640"/>
            <a:ext cx="11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5589720"/>
            <a:ext cx="33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 díly … 400.3 =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200,-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35640" y="3011400"/>
            <a:ext cx="168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12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1600" y="1930320"/>
            <a:ext cx="4478040" cy="151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50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5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6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000"/>
                            </p:stCondLst>
                            <p:childTnLst>
                              <p:par>
                                <p:cTn id="5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7500"/>
                            </p:stCondLst>
                            <p:childTnLst>
                              <p:par>
                                <p:cTn id="5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8500"/>
                            </p:stCondLst>
                            <p:childTnLst>
                              <p:par>
                                <p:cTn id="5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0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5280" y="1125360"/>
            <a:ext cx="828036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Užití poměru: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na v daném poměru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1150920"/>
            <a:ext cx="763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.: Petr a Pavel si rozdělili odměnu za společně vykonaný úkol v poměru 2:3, tedy v poměru odpovídajícím počtu odpracovaných hodin. Kolik korun dostal Pavel, činila-li Petrova odměna 800,- Kč?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239220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405080" y="2392200"/>
            <a:ext cx="576000" cy="432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182680" y="238140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901960" y="236700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755640" y="282420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1405080" y="2824200"/>
            <a:ext cx="576000" cy="431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2195640" y="2798640"/>
            <a:ext cx="576000" cy="43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2914560" y="2786040"/>
            <a:ext cx="576360" cy="432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317600" y="3139920"/>
            <a:ext cx="168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8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4084560" y="240516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1"/>
          <a:stretch/>
        </p:blipFill>
        <p:spPr>
          <a:xfrm>
            <a:off x="4803840" y="239076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2"/>
          <a:stretch/>
        </p:blipFill>
        <p:spPr>
          <a:xfrm>
            <a:off x="4097160" y="282240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3"/>
          <a:stretch/>
        </p:blipFill>
        <p:spPr>
          <a:xfrm>
            <a:off x="4816440" y="280980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4"/>
          <a:stretch/>
        </p:blipFill>
        <p:spPr>
          <a:xfrm>
            <a:off x="5568840" y="240516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5"/>
          <a:stretch/>
        </p:blipFill>
        <p:spPr>
          <a:xfrm>
            <a:off x="6288120" y="239076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6"/>
          <a:stretch/>
        </p:blipFill>
        <p:spPr>
          <a:xfrm>
            <a:off x="5581800" y="2822400"/>
            <a:ext cx="576000" cy="43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7"/>
          <a:stretch/>
        </p:blipFill>
        <p:spPr>
          <a:xfrm>
            <a:off x="6300720" y="280980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8"/>
          <a:stretch/>
        </p:blipFill>
        <p:spPr>
          <a:xfrm>
            <a:off x="7020000" y="240516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9"/>
          <a:stretch/>
        </p:blipFill>
        <p:spPr>
          <a:xfrm>
            <a:off x="7738920" y="239076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0"/>
          <a:stretch/>
        </p:blipFill>
        <p:spPr>
          <a:xfrm>
            <a:off x="7032600" y="2822400"/>
            <a:ext cx="576360" cy="43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1"/>
          <a:stretch/>
        </p:blipFill>
        <p:spPr>
          <a:xfrm>
            <a:off x="7751880" y="2809800"/>
            <a:ext cx="576000" cy="432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8400" y="2103480"/>
            <a:ext cx="1366920" cy="1195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8400" y="2103480"/>
            <a:ext cx="1366920" cy="1195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1973160"/>
            <a:ext cx="11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68360" y="1959120"/>
            <a:ext cx="115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5320" y="2058840"/>
            <a:ext cx="2953080" cy="151308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6400" y="3846600"/>
            <a:ext cx="216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54320" y="2089080"/>
            <a:ext cx="1366920" cy="1195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83200" y="1959120"/>
            <a:ext cx="1150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37160" y="2089080"/>
            <a:ext cx="1366920" cy="1195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65680" y="1959120"/>
            <a:ext cx="1150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07400" y="2089080"/>
            <a:ext cx="1366560" cy="1195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35920" y="1959120"/>
            <a:ext cx="1150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5157720"/>
            <a:ext cx="80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Provedeme si nyní zkoušku správnosti našeho výpočtu.</a:t>
            </a:r>
            <a:br>
              <a:rPr sz="2400"/>
            </a:b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Budeme při ní vycházet z toho, že odměny by měly být v poměru, který odpovídá poměru odpracovaných hodin danému v zadání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35640" y="3125880"/>
            <a:ext cx="1684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1200,-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81600" y="2044800"/>
            <a:ext cx="4478040" cy="1512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4120" y="191628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16080" y="4322880"/>
            <a:ext cx="259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00 : 1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16080" y="4653000"/>
            <a:ext cx="25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 :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87640" y="5027760"/>
            <a:ext cx="25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2 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2760" y="566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dměny jsou ve stejném poměru jako odpracovaný počet hodin,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to znamená, že jsou vypočítány správn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12000" y="4437000"/>
            <a:ext cx="2376360" cy="1079640"/>
          </a:xfrm>
          <a:prstGeom prst="cloudCallout">
            <a:avLst>
              <a:gd name="adj1" fmla="val -95291"/>
              <a:gd name="adj2" fmla="val -35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měr můžeme krátit číslem 1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4360" y="4797360"/>
            <a:ext cx="2160360" cy="936720"/>
          </a:xfrm>
          <a:prstGeom prst="cloudCallout">
            <a:avLst>
              <a:gd name="adj1" fmla="val 98495"/>
              <a:gd name="adj2" fmla="val -310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následně ještě číslem 4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51445E-007 L 0.16945 0.1052 E">
                                      <p:cBhvr>
                                        <p:cTn id="560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7341E-007 L -0.16285 0.10728 E">
                                      <p:cBhvr>
                                        <p:cTn id="56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5280" y="1125360"/>
            <a:ext cx="828036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Užití poměru: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na v daném poměru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1150920"/>
            <a:ext cx="763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.: Petr a Pavel si rozdělili odměnu za společně vykonaný úkol v poměru 2:3, tedy v poměru odpovídajícím počtu odpracovaných hodin. Kolik korun dostal Pavel, činila-li Petrova odměna 800,-  Kč?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4120" y="191628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8400" y="1887480"/>
            <a:ext cx="431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Tak tedy ještě jednou a už jen početně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37080" y="2276640"/>
            <a:ext cx="187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Petr  :  Pa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95640" y="2637000"/>
            <a:ext cx="19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2  :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5200" y="2278080"/>
            <a:ext cx="863640" cy="86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3213000"/>
            <a:ext cx="2664000" cy="1224000"/>
          </a:xfrm>
          <a:prstGeom prst="cloudCallout">
            <a:avLst>
              <a:gd name="adj1" fmla="val 63884"/>
              <a:gd name="adj2" fmla="val -673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etr dosta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 z pěti stejných  dílů odměny, což činí 800,- Kč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95640" y="2637000"/>
            <a:ext cx="863640" cy="504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3280" y="3429000"/>
            <a:ext cx="2376720" cy="1079640"/>
          </a:xfrm>
          <a:prstGeom prst="cloudCallout">
            <a:avLst>
              <a:gd name="adj1" fmla="val -54810"/>
              <a:gd name="adj2" fmla="val -7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lá odměna byla rozdělena n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 stejných dílů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450864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2 díly ... 8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14760" y="2276640"/>
            <a:ext cx="863640" cy="86328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00720" y="2276640"/>
            <a:ext cx="2232000" cy="1079280"/>
          </a:xfrm>
          <a:prstGeom prst="cloudCallout">
            <a:avLst>
              <a:gd name="adj1" fmla="val -89546"/>
              <a:gd name="adj2" fmla="val -14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vlovi tedy přísluší 3 z pěti stejných dílů odměn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84360" y="486900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1 díl ... 800 : 2 = 4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5229360"/>
            <a:ext cx="374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3 díly ... 400 . 3 = 12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0920" y="5661000"/>
            <a:ext cx="540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Pavlova část odměny činila 1200,-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3-10T11:16:11Z</dcterms:modified>
  <cp:revision>195</cp:revision>
  <dc:subject/>
  <dc:title>Poměr - změna v daném poměru</dc:title>
</cp:coreProperties>
</file>