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7F3-5445-44EC-90D4-2DD83143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7F5-DCD1-48BF-9082-31894065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DE4-76C2-4412-9C6A-3252700B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AF2-DC17-4FC4-898E-69E2DA54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E568-7475-4444-8745-0CD84E26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3BB5-BC16-453E-B0AF-382338AA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1527-DF13-48D0-A6DB-E62D0531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40F1-3616-4352-9438-361E4EA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D478-99BF-4CC2-86AF-C6AC202B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6699-B58C-428F-9984-087C36E9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F149-D6FA-4847-A43E-521F546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0FB-7B75-48E7-B819-B903BB56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F164-5095-416B-ADD1-67C4100E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8876-D123-4A76-B210-75934E1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9BE6-2F77-41FB-A8CB-03974480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3D19-F94B-42A4-862E-6493D3FD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B994-F7B7-4DA6-AEEE-C239A7FD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83C-991C-4C25-91A5-5A1032A6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12A-C0CE-457B-8AB2-71D34834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29E-F0CC-4C51-B7E7-59F1615D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3DF-16F1-4899-96AF-55C8A6BD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ED0-D8E3-4E60-B002-84E53D43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88C-407C-4849-BEBF-95A4A45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57B-5EE1-400F-936C-95D72599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0CA4-C853-4948-A05A-D0009E6321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968-7BF4-4004-9D00-AF493D31DD3D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way.cz/obchod" TargetMode="External"/><Relationship Id="rId3" Type="http://schemas.openxmlformats.org/officeDocument/2006/relationships/hyperlink" Target="http://www.aquara.cz/userdata/sirupy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shocart.cz/img/zakazkova-cinnost/plany-mest-prh-trhaci-big.jp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86244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Dělení v daném poměr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21300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Co je pomě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1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272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12 000 Kč mezi dvě osoby v poměru 3:5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960" y="170172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2 000,- Kč musíme rozdělit na osm stejných dílů … 3 + 5 =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2104920"/>
            <a:ext cx="799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12 000 : 8 = 1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1360" y="2709720"/>
            <a:ext cx="7921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 díl … 1 500,-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3400560"/>
            <a:ext cx="7991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První osoba dostane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 díly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:</a:t>
            </a:r>
            <a:br>
              <a:rPr sz="1800"/>
            </a:b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1 500 . 3 =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4 500,-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4479840"/>
            <a:ext cx="799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Druhá osoba dostane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 dílů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1 500 . 5 =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7 500,-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1360" y="537372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Zkouška: 4 500 + 7 500 = 12 000,-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2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4360" y="1125360"/>
            <a:ext cx="7991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ška z bronzu má hmotnost 0,5 kg. Bronz je slitina cínu a mědi v poměru 1 : 4. Kolik gramů cínu a kolik gramů mědi obsahuje soška?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48000" y="6237360"/>
            <a:ext cx="54151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,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2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125360"/>
            <a:ext cx="7991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ška z bronzu má hmotnost 0,5 kg. Bronz je slitina cínu a mědi v poměru 1 : 4. Kolik gramů cínu a kolik gramů mědi obsahuje soška?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068640"/>
            <a:ext cx="7921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00 g musíme rozdělit na pět stejných dílů … 1 + 4 =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1800" y="3402000"/>
            <a:ext cx="799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500 : 5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28800" y="393372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 díl … 1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1800" y="4265640"/>
            <a:ext cx="799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Cín  … 100 . 1 = 1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1800" y="4768920"/>
            <a:ext cx="799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Měď … 100 . 4 = 4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98560" y="537372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Zkouška: 100 + 400 = 500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1800" y="242100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rotože otázka se ptá na gramy, převedeme si hned na začátku hmotnost sošky … 0,5 kg = 500 g … a dále tedy již budeme počítat 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s gr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573732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Soška obsahuje 100 gramů cínu a 400 gramů mě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3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1125360"/>
            <a:ext cx="7991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va kamarádi David a Petr si vydělali na letní brigádě 1 500 Kč. Tuto částku si rozdělili v poměru 12 : 13. O kolik více peněz dostal Pet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48000" y="6237360"/>
            <a:ext cx="54151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,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3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1125360"/>
            <a:ext cx="7991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va kamarádi David a Petr si vydělali na letní brigádě 1 500 Kč. Tuto částku si rozdělili v poměru 12 : 13. O kolik více peněz dostal Pet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2322360"/>
            <a:ext cx="7921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 500 Kč musíme rozdělit na 25 stejných dílů … 12 + 13 =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1800" y="2655720"/>
            <a:ext cx="799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1 500 : 25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28800" y="318780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 díl … 60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800" y="3519360"/>
            <a:ext cx="799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David dostal … 60 . 12 = 72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1800" y="4022640"/>
            <a:ext cx="799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Petr dostal … 60 . 13 = 78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8560" y="4627440"/>
            <a:ext cx="7921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Zkouška: 720 + 780 = 1 500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499104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O kolik více dostal Petr … 780 – 720 = 6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548964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Petr dostal o 60 Kč více než Dav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4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413000"/>
            <a:ext cx="7991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řemílek a Vochomůrka si rozdělili nasbírané jedlé kaštany nejprve v poměru 7 : 4, ale potom poměr dělení změnili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rozdělili si kaštany v poměru 6 : 5. O kolik kaštanů si Vochomůrka v druhém dělení polepšil, byl-li celkový počet nasbíraných kaštanů 242?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8000" y="6237360"/>
            <a:ext cx="54151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,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4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1125360"/>
            <a:ext cx="7991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řemílek a Vochomůrka si rozdělili nasbírané jedlé kaštany nejprve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 poměru 7 : 4, ale potom poměr dělení změnili a rozdělili si kaštany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 poměru 6 : 5. O kolik kaštanů si Vochomůrka v druhém dělení polepšil, byl-li celkový počet nasbíraných kaštanů 242?</a:t>
            </a:r>
            <a:r>
              <a:rPr b="0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104920"/>
            <a:ext cx="7921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42 rozdělíme nejdříve na 11 stejných dílů … 7 + 4 =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5840" y="226224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242 : 11 = 22 …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 díl … 22 kašta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28800" y="297036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30240" y="265104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Křemílek by měl … 22 . 7 = 154 kašta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30240" y="296856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ochomůrka by měl … 22 . 4 = 88 kašta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41400" y="340056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Zkouška: 154 + 88 = 242 kašta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30240" y="544500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O kolik si Vochomůrka polepšil … 110 – 88 = 22 kašta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587700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Vochomůrka si v druhém dělení polepšil o 22 kašta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3862440"/>
            <a:ext cx="7921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I ve druhém dělení se 242 rozdělí na 11 stejných dílů … 6 + 5 =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5840" y="401940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242 : 11 = 22 …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 díl … 22 kašta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28800" y="472752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30240" y="440856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Křemílek by měl … 22 . 6 = 132 kašta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30240" y="472608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ochomůrka by měl … 22 . 5 = 110 kašta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41400" y="5157720"/>
            <a:ext cx="7921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Zkouška: 132 + 110 = 242 kašta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42" name="" descr="Název souboru: j0343347.wmf&#13;Klíčová slova: akademici, osoby, školní tabule ...&#13;Velikost souboru: 33 kB"/>
          <p:cNvPicPr/>
          <p:nvPr/>
        </p:nvPicPr>
        <p:blipFill>
          <a:blip r:embed="rId2"/>
          <a:stretch/>
        </p:blipFill>
        <p:spPr>
          <a:xfrm>
            <a:off x="6588000" y="549360"/>
            <a:ext cx="2044800" cy="2044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5280" y="98100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Dělení v daném pomě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211640" y="3500280"/>
            <a:ext cx="915840" cy="916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915840" cy="915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6759720" y="3573360"/>
            <a:ext cx="915840" cy="916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688080" y="4581360"/>
            <a:ext cx="916200" cy="916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5435640" y="4724280"/>
            <a:ext cx="915840" cy="916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140360" y="4581360"/>
            <a:ext cx="915840" cy="916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2916360" y="4653000"/>
            <a:ext cx="915840" cy="915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2771640" y="3573360"/>
            <a:ext cx="916200" cy="916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1568520" y="4653000"/>
            <a:ext cx="915840" cy="915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1568520" y="3500280"/>
            <a:ext cx="915840" cy="916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09680" y="1384200"/>
            <a:ext cx="396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Rozděl 10 jablek v poměru 3: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5520" y="1830240"/>
            <a:ext cx="597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měr hovoří o třech a dvou stejných dílech,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j. dohromady o pěti stejných dí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7636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020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9572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280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46040" y="2709720"/>
            <a:ext cx="3946680" cy="374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21160" y="2924280"/>
            <a:ext cx="2505240" cy="3311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050920" y="2492280"/>
            <a:ext cx="144720" cy="792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95640" y="2492280"/>
            <a:ext cx="863640" cy="865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95640" y="2492280"/>
            <a:ext cx="201600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95640" y="2492280"/>
            <a:ext cx="3384360" cy="936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95640" y="2492280"/>
            <a:ext cx="4681440" cy="936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2162160"/>
            <a:ext cx="287280" cy="57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48000" y="2162160"/>
            <a:ext cx="2519280" cy="10080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27280" y="5805360"/>
            <a:ext cx="1368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 jab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2000" y="5734080"/>
            <a:ext cx="1368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 jab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73" name="" descr="Název souboru: j0343347.wmf&#13;Klíčová slova: akademici, osoby, školní tabule ...&#13;Velikost souboru: 33 kB"/>
          <p:cNvPicPr/>
          <p:nvPr/>
        </p:nvPicPr>
        <p:blipFill>
          <a:blip r:embed="rId2"/>
          <a:stretch/>
        </p:blipFill>
        <p:spPr>
          <a:xfrm>
            <a:off x="6588000" y="549360"/>
            <a:ext cx="2044800" cy="2044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98100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Dělení v daném pomě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9680" y="1384200"/>
            <a:ext cx="55306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Rozděl 10 jablek v poměru 3: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3960" y="1987560"/>
            <a:ext cx="1266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čet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15920" y="2563920"/>
            <a:ext cx="5861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:2 … 3 + 2 = 5 stejných d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2720" y="3284640"/>
            <a:ext cx="586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 díl … 10 : 5 = 2 jab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4076640"/>
            <a:ext cx="4506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 díly … 3 . 2 = 6 jab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62400" y="4653000"/>
            <a:ext cx="4506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 díly … 2 . 2 = 4 jab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90840" y="5589720"/>
            <a:ext cx="586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kouška: 6 + 4 = 10 jab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97600" y="46814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9760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12000" y="52578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2000" y="530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708280"/>
            <a:ext cx="777708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1052640"/>
            <a:ext cx="818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Pojem poměr nás provází celým životem a setkáváme se s ním prakticky každodenn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2120" y="1641600"/>
            <a:ext cx="818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zpomeňme jen na pár ukázkách některé případy, v nichž se v běžném životě s poměrem (pojmem poměr, vyjádřením poměru) setkávám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2120" y="2031840"/>
            <a:ext cx="8183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ak například poměr ředění sirupů, postřiků, čisticích prostředků, oleje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6062760"/>
            <a:ext cx="59119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Obrázky: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freeway.cz/obchod</a:t>
            </a:r>
            <a:r>
              <a:rPr b="0" lang="en-US" sz="1000" spc="-1" strike="noStrike" u="sng">
                <a:solidFill>
                  <a:srgbClr val="284c6a"/>
                </a:solidFill>
                <a:uFillTx/>
                <a:latin typeface="Trebuchet MS"/>
              </a:rPr>
              <a:t>;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aquara.cz/userdata/sirupy</a:t>
            </a:r>
            <a:r>
              <a:rPr b="0" lang="en-US" sz="1000" spc="-1" strike="noStrike" u="sng">
                <a:solidFill>
                  <a:srgbClr val="284c6a"/>
                </a:solidFill>
                <a:uFillTx/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87280" y="3573360"/>
            <a:ext cx="2454480" cy="2602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76600" y="2852640"/>
            <a:ext cx="2579760" cy="2232000"/>
          </a:xfrm>
          <a:prstGeom prst="cloudCallout">
            <a:avLst>
              <a:gd name="adj1" fmla="val -105509"/>
              <a:gd name="adj2" fmla="val 46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079880" y="3225960"/>
            <a:ext cx="1512720" cy="141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334200" y="3781440"/>
            <a:ext cx="1333440" cy="209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32720" y="5241960"/>
            <a:ext cx="934920" cy="504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322800"/>
            <a:ext cx="934920" cy="504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Nebo skóre sportovních utkání – např. poměr nastřílených branek domácím </a:t>
            </a:r>
            <a:br>
              <a:rPr sz="1700"/>
            </a:b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a hostujícím týmem, poměr střel, vyloučení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2117880"/>
            <a:ext cx="5111640" cy="339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176640" y="5516640"/>
            <a:ext cx="5067360" cy="73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521320" y="2421000"/>
            <a:ext cx="1150920" cy="3024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0800" y="1835280"/>
            <a:ext cx="3895560" cy="65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751040" y="1700280"/>
            <a:ext cx="1079640" cy="4334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65560" y="206064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7480" y="5937120"/>
            <a:ext cx="648000" cy="287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595008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595008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341360"/>
            <a:ext cx="792144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514440" y="836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Případně měřítka map či plán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5185080" cy="3676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75280" y="3789360"/>
            <a:ext cx="3371760" cy="2448000"/>
          </a:xfrm>
          <a:prstGeom prst="cloudCallout">
            <a:avLst>
              <a:gd name="adj1" fmla="val -26930"/>
              <a:gd name="adj2" fmla="val -125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854680" y="4213080"/>
            <a:ext cx="1728720" cy="1559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30320" y="6093000"/>
            <a:ext cx="4545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284c6a"/>
                </a:solidFill>
                <a:latin typeface="Trebuchet MS"/>
              </a:rPr>
              <a:t>Obázek: </a:t>
            </a:r>
            <a:r>
              <a:rPr b="0" lang="cs-CZ" sz="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http://www.shocart.cz/img/zakazkova-cinnost/plany-mest-prh-trhaci-big.jpg</a:t>
            </a:r>
            <a:r>
              <a:rPr b="1" lang="cs-CZ" sz="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450864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1658880"/>
            <a:ext cx="792144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482760" y="7920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o to tedy je ten poměr? Je to způsob porovnání dvou údaj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7417080" cy="107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96800" y="112536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a porovnávané údaje musí být ve stejných jednot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1844640"/>
            <a:ext cx="2581200" cy="1152720"/>
          </a:xfrm>
          <a:prstGeom prst="cloudCallout">
            <a:avLst>
              <a:gd name="adj1" fmla="val 14759"/>
              <a:gd name="adj2" fmla="val 90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bra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20880" y="1928880"/>
            <a:ext cx="2282760" cy="1212840"/>
          </a:xfrm>
          <a:prstGeom prst="cloudCallout">
            <a:avLst>
              <a:gd name="adj1" fmla="val 1949"/>
              <a:gd name="adj2" fmla="val 131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stř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4807080"/>
            <a:ext cx="2376720" cy="1430280"/>
          </a:xfrm>
          <a:prstGeom prst="cloudCallout">
            <a:avLst>
              <a:gd name="adj1" fmla="val -39648"/>
              <a:gd name="adj2" fmla="val -76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využitých přesilov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941720"/>
            <a:ext cx="2282760" cy="1212840"/>
          </a:xfrm>
          <a:prstGeom prst="cloudCallout">
            <a:avLst>
              <a:gd name="adj1" fmla="val 37620"/>
              <a:gd name="adj2" fmla="val -93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vylouč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08240" y="1889280"/>
            <a:ext cx="6035760" cy="4203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3284640"/>
            <a:ext cx="4680000" cy="2952720"/>
          </a:xfrm>
          <a:prstGeom prst="cloudCallout">
            <a:avLst>
              <a:gd name="adj1" fmla="val 76018"/>
              <a:gd name="adj2" fmla="val -64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 mm : 17 0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 cm : 17 0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 dm : 17 000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 m : 17 0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 km : 17 0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3284640"/>
            <a:ext cx="4680000" cy="2952720"/>
          </a:xfrm>
          <a:prstGeom prst="cloudCallout">
            <a:avLst>
              <a:gd name="adj1" fmla="val 76018"/>
              <a:gd name="adj2" fmla="val -64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zdále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907920"/>
            <a:ext cx="7921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268280"/>
            <a:ext cx="76201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 porovnávaných údajů </a:t>
            </a: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,b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zapisujeme</a:t>
            </a:r>
            <a:br>
              <a:rPr sz="4400"/>
            </a:br>
            <a:r>
              <a:rPr b="1" lang="en-US" sz="8000" spc="-1" strike="noStrike">
                <a:solidFill>
                  <a:srgbClr val="3333cc"/>
                </a:solidFill>
                <a:latin typeface="Trebuchet MS"/>
              </a:rPr>
              <a:t>a : b</a:t>
            </a:r>
            <a:br>
              <a:rPr sz="44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čteme </a:t>
            </a: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 ku b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443200">
            <a:off x="1403280" y="202680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3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263000">
            <a:off x="6803640" y="23144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9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886800">
            <a:off x="895320" y="335772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5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443200">
            <a:off x="6300720" y="332244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4120" y="436572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oměr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a : b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můžeme zapsat ve tvaru zlom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753000" y="5195880"/>
                <a:ext cx="16110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55640" y="4365720"/>
            <a:ext cx="2736720" cy="1873080"/>
          </a:xfrm>
          <a:prstGeom prst="cloudCallout">
            <a:avLst>
              <a:gd name="adj1" fmla="val 50870"/>
              <a:gd name="adj2" fmla="val -1098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a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první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4363920"/>
            <a:ext cx="2737080" cy="1873440"/>
          </a:xfrm>
          <a:prstGeom prst="cloudCallout">
            <a:avLst>
              <a:gd name="adj1" fmla="val -55222"/>
              <a:gd name="adj2" fmla="val -110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b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druhý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907920"/>
            <a:ext cx="7921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907920"/>
            <a:ext cx="7632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apište poměr chlapců a dívek ve vaší tříd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4120" y="5229360"/>
            <a:ext cx="78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áleží na pořadí členů v poměru!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Hovoříme o navzájem převrácených poměr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854440"/>
            <a:ext cx="763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apište poměr dívek a chlapců ve vaší tříd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60720" y="1701720"/>
            <a:ext cx="2879640" cy="12956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718080"/>
            <a:ext cx="2879640" cy="1295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1520" y="5734080"/>
            <a:ext cx="78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oměr </a:t>
            </a:r>
            <a:r>
              <a:rPr b="1" i="1" lang="en-US" sz="2400" spc="-1" strike="noStrike">
                <a:solidFill>
                  <a:srgbClr val="3333cc"/>
                </a:solidFill>
                <a:latin typeface="Trebuchet MS"/>
              </a:rPr>
              <a:t>b:a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je převráceným poměrem k poměru </a:t>
            </a:r>
            <a:r>
              <a:rPr b="1" i="1" lang="en-US" sz="2400" spc="-1" strike="noStrike">
                <a:solidFill>
                  <a:srgbClr val="3333cc"/>
                </a:solidFill>
                <a:latin typeface="Trebuchet MS"/>
              </a:rPr>
              <a:t>a: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1125360"/>
            <a:ext cx="828036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Užití poměru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ělení v daném poměru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63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.: Částka 800,- Kč se má rozdělit mezi dva pracovníky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 poměru 3 : 1. Vypočtěte, kolik Kč dostane každ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4927680"/>
            <a:ext cx="784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den díl … 800 : 4 = 200,-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4292640"/>
            <a:ext cx="792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Poměr 3 : 1 znamená, že jeden pracovník dostane </a:t>
            </a: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3 stejné díly</a:t>
            </a: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a druhý </a:t>
            </a: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1 stejný díl</a:t>
            </a: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 z 800,- Kč. Celkem tedy jde o </a:t>
            </a: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čtyři stejné díly</a:t>
            </a: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1520" y="5302080"/>
            <a:ext cx="784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rvní pracovník 3 díly … 3.200=600,- Kč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Druhý pracovník 1 díl … 1.200=200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32000" y="214164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060720" y="213516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859280" y="212724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588000" y="2112840"/>
            <a:ext cx="1295640" cy="971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332000" y="291924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3060720" y="296244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4859280" y="296244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6589800" y="291924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844640"/>
            <a:ext cx="8137800" cy="2305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2840" y="3416400"/>
            <a:ext cx="7632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800,- K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73240" y="1987560"/>
            <a:ext cx="1584360" cy="201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3287880"/>
            <a:ext cx="129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01960" y="1989000"/>
            <a:ext cx="1584360" cy="201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60720" y="3289320"/>
            <a:ext cx="129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6480" y="1989000"/>
            <a:ext cx="1584000" cy="201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44880" y="3289320"/>
            <a:ext cx="1297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15200" y="1989000"/>
            <a:ext cx="1584360" cy="201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73960" y="3289320"/>
            <a:ext cx="1296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2800" y="5964120"/>
            <a:ext cx="784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kouška: 600 + 200 = 800,-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44440" y="1844640"/>
            <a:ext cx="5185080" cy="2305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3632040"/>
            <a:ext cx="129672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6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1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272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12 000 Kč mezi dvě osoby v poměru 3:5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3640" y="6237360"/>
            <a:ext cx="5256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,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2-24T11:58:24Z</dcterms:modified>
  <cp:revision>173</cp:revision>
  <dc:subject/>
  <dc:title>Poměr - dělení v daném poměru</dc:title>
</cp:coreProperties>
</file>