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9C1-0992-44E4-A553-4FF53AE7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954-CEE5-40CE-B713-76576B6A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065-8FA5-4ADD-A809-6827188D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51E-518C-4F02-BC88-24B0DB85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974D-2F4E-40F3-954D-042D46AB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AFE2-EEC6-4C45-9E02-8A1443A1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FC11-7955-403E-85D2-37366B47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A072-D76A-45F0-AD2C-9DEC9397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3496-191C-4FF7-AAB1-CA78D1D6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D2F2-0503-45CF-8423-974857C0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15CA-403E-4006-94DD-9B700460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95E-8FFD-4D7A-AF1C-A020067B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2904-FCF5-474E-8E73-EE6FBFFB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8DEA-D450-4F20-A64E-708B8634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EFA1-5E42-48BB-A40A-1081251B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2C24-E3E9-4DEE-BF49-38641F86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F517-A1D3-46B7-A2D8-156A3668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378-7EA8-42AC-9DE2-B201F8FD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CC4-F7E4-44E9-8503-13EB7C85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F9A-4065-485F-ADA2-9EB8D743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BE2-E557-4010-9BA1-B6EF8BCF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17F-0FE8-4074-A347-D95E08EB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E1E-2017-48BB-B232-FDE5D4D0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272-1969-4B07-B401-42A3C840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327F-A1A2-4D29-BCE2-4D05CDBEB3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C0F3-ABED-4B63-9C6E-403D3893E77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reeway.cz/obchod" TargetMode="External"/><Relationship Id="rId3" Type="http://schemas.openxmlformats.org/officeDocument/2006/relationships/hyperlink" Target="http://www.aquara.cz/userdata/sirupy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shocart.cz/img/zakazkova-cinnost/plany-mest-prh-trhaci-big.jpg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4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862440"/>
            <a:ext cx="784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Poměr v základním tvar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321300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Co je pomě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1280" y="1628640"/>
            <a:ext cx="7921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ácení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496800" y="95256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84c6a"/>
                </a:solidFill>
                <a:latin typeface="Trebuchet MS"/>
              </a:rPr>
              <a:t>Poměr lze krátit, pokud členy poměru jsou soudělná čís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1640" y="3139920"/>
            <a:ext cx="151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40 : 8 = 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506760" y="2565360"/>
                <a:ext cx="1800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971640" y="3716280"/>
            <a:ext cx="770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Oba členy poměru můžeme dělit číslem 8, jinými slovy poměr krátit číslem 8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22760" y="2593440"/>
            <a:ext cx="43164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702320" y="2593440"/>
            <a:ext cx="43164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236376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76720" y="2392200"/>
            <a:ext cx="4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4360" y="178740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Krácení poměru znamená dělení prvního i druhého členu poměru stejným číslem různým od nuly a jedn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14760" y="3139920"/>
            <a:ext cx="1511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72 : 8 = 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28960" y="4133880"/>
                <a:ext cx="11844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971640" y="486900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Po krácení je poměr vyjádřen nesoudělnými přirozenými čísly. Říkáme, že poměr je v základním tvar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558792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Trebuchet MS"/>
              </a:rPr>
              <a:t>Poměr je v základním tvaru, pokud jsou oba členy poměru vyjádřeny nesoudělnými přirozenými čísl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11280" y="1557360"/>
            <a:ext cx="792144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šiřování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0" name=""/>
          <p:cNvSpPr/>
          <p:nvPr/>
        </p:nvSpPr>
        <p:spPr>
          <a:xfrm>
            <a:off x="496800" y="96696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Abychom vyjádřili poměr v základním tvaru, tzn. pomocí nesoudělných přirozených čísel, potřebujeme často poměr rozšíř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27200" y="3198960"/>
            <a:ext cx="16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1,5 . 10 = 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456000" y="2679840"/>
                <a:ext cx="19890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5</m:t>
                    </m:r>
                    <m:r>
                      <m:t xml:space="preserve">:</m:t>
                    </m:r>
                    <m:r>
                      <m:t xml:space="preserve">3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755640" y="3673440"/>
            <a:ext cx="7704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V obou členech poměru se potřebujeme zbavit desetinné čárky, potřebujeme ji posunout o jedno místo doprava, tzn. vynásobit oba členy poměru dese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20606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Rozšiřování poměru znamená násobení prvního i druhého členu poměru stejným číslem různým od nuly a jedn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87840" y="3198960"/>
            <a:ext cx="1712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3,5 . 10 = 3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21160" y="4522680"/>
                <a:ext cx="18000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971640" y="518652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Po rozšíření je sice již poměr vyjádřen přirozenými čísly, ale zatím ještě ne nesoudělnými. Budeme jej tedy ještě krát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8160" y="1557360"/>
            <a:ext cx="7893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Například, je-li poměr zadán desetinnými čísly nebo zlomk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824280" y="5703840"/>
                <a:ext cx="11365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 flipV="1">
            <a:off x="3722760" y="4538160"/>
            <a:ext cx="43164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702320" y="4538160"/>
            <a:ext cx="431640" cy="57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67280" y="430848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76720" y="4336920"/>
            <a:ext cx="4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11280" y="1557360"/>
            <a:ext cx="792144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Rozšiřování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6" name=""/>
          <p:cNvSpPr/>
          <p:nvPr/>
        </p:nvSpPr>
        <p:spPr>
          <a:xfrm>
            <a:off x="496800" y="96696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Abychom vyjádřili poměr v základním tvaru, tzn. pomocí nesoudělných přirozených čísel, potřebujeme často poměr rozšíř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986280" y="2565360"/>
                <a:ext cx="94608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755640" y="3573360"/>
            <a:ext cx="7704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V obou členech poměru se potřebujeme zbavit tvaru zlomku, potřebujeme se zbavit jmenovatelů, tzn. vynásobit oba členy poměru nejmenším společným jmenovatelem (v našem případě číslem 1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20606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Rozšiřování poměru znamená násobení prvního i druhého členu poměru stejným číslem různým od nuly a jedn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521496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Po rozšíření je sice již poměr vyjádřen přirozenými čísly, ale zatím ještě ne nesoudělnými. Budeme jej tedy ještě krátit, v našem případě číslem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8160" y="1557360"/>
            <a:ext cx="7893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Například, je-li poměr zadán desetinnými čísly nebo zlomk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95640" y="5703840"/>
                <a:ext cx="11368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952800" y="4303800"/>
                <a:ext cx="28195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4816440" y="430704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479736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258920" y="4292640"/>
                <a:ext cx="270972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 flipV="1">
            <a:off x="5983200" y="4365360"/>
            <a:ext cx="273240" cy="336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40360" y="4826160"/>
            <a:ext cx="272880" cy="336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479920" y="4824000"/>
            <a:ext cx="273240" cy="336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43280" y="4365360"/>
            <a:ext cx="273240" cy="336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41960" y="430704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479736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804000" y="4568760"/>
                <a:ext cx="1022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7062840" y="429264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05520" y="4595400"/>
            <a:ext cx="273240" cy="336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466040" y="4593960"/>
            <a:ext cx="272880" cy="3366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6240" y="429264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5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4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11280" y="1197000"/>
            <a:ext cx="792144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0" name=""/>
          <p:cNvSpPr/>
          <p:nvPr/>
        </p:nvSpPr>
        <p:spPr>
          <a:xfrm>
            <a:off x="496800" y="70632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ba porovnávané údaje musí být ve stejných jednot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70040" y="2962440"/>
            <a:ext cx="534348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28800" y="5746680"/>
            <a:ext cx="7388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vě čísla (veličiny) můžeme porovnat poměrem jen tehdy, jsou-li uvedeny ve stejných jednotkách!</a:t>
            </a: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2640" y="112536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.: Vyjádři poměrem délky úseček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B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= 50 mm a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CD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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= 5 c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5717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2560" y="1557360"/>
            <a:ext cx="5834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Zadání svádí k rychlému zápisu řešení ve tvar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61080" y="1628640"/>
            <a:ext cx="1150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50: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3200" y="2435400"/>
            <a:ext cx="7138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rebuchet MS"/>
              </a:rPr>
              <a:t>Je však tento výsledek správný? Narýsujme si obě zadané úseč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3332160"/>
            <a:ext cx="237636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55640" y="4413240"/>
            <a:ext cx="5343480" cy="1752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57240" y="4782960"/>
            <a:ext cx="237636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8480" y="3303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3640" y="3303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60360" y="3548160"/>
            <a:ext cx="18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AB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=5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8480" y="47721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3640" y="47721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4840" y="5016600"/>
            <a:ext cx="18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CD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=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61080" y="2075040"/>
            <a:ext cx="1150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10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277956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Úsečky jsou stejně dlouhé, což znamená, že jejich délky jsou v poměru 1: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24360" y="3645000"/>
            <a:ext cx="439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Nevyjádřili jsme si délky ve stejných jednotkách </a:t>
            </a:r>
            <a:br>
              <a:rPr sz="1400"/>
            </a:b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a porovnávali je v jednotkách různých. A to není možné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932360" y="1700280"/>
            <a:ext cx="93492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24360" y="3284640"/>
            <a:ext cx="43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rebuchet MS"/>
              </a:rPr>
              <a:t>Kde jsme tedy udělali chybu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95640" y="4451400"/>
            <a:ext cx="24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AB</a:t>
            </a:r>
            <a:r>
              <a:rPr b="1" lang="en-US" sz="19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= 50 mm = 5 c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04000" y="4451400"/>
            <a:ext cx="18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CD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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= 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96000" y="486900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55040" y="486900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22760" y="446580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65960" y="446580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59480" y="488304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27640" y="5229360"/>
            <a:ext cx="86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1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2948E-006 L 0.06928 0.06612 E">
                                      <p:cBhvr>
                                        <p:cTn id="83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2948E-006 L -0.07083 0.06612 E">
                                      <p:cBhvr>
                                        <p:cTn id="833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5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1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1520" y="1052640"/>
            <a:ext cx="792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yjádřete v základním tvaru poměr první veličiny ke druhé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92360" y="6237360"/>
            <a:ext cx="527076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,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1701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960 km, 1320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78200" y="1701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0 kg, 45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38920" y="1701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6 min, 36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16000" y="371808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 km, 5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78200" y="371808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 kg, 25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38920" y="371808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,5 h, 5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0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1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1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1520" y="1052640"/>
            <a:ext cx="792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Vyjádřete v základním tvaru poměr první veličiny ke druhé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4560" y="1701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960 km, 1320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76760" y="1701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0 kg, 45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37120" y="1701720"/>
            <a:ext cx="208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6 min, 36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4560" y="371808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 km, 5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76760" y="371808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 kg, 25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37120" y="3718080"/>
            <a:ext cx="2089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,5 h, 5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4560" y="206208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960 : 1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14560" y="242244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96 : 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14560" y="278280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24 :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4560" y="314172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8 :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78200" y="206208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0 : 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78200" y="242244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2 :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38920" y="206208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6 : 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38920" y="242244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 :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14560" y="407844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1000 m, 5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14560" y="443880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000 :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4560" y="479916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00 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14560" y="5157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20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78200" y="407844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4000 g, 25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78200" y="443880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000 :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78200" y="479916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800 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78200" y="5157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160 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38920" y="407844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90 min, 5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38920" y="443880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90 :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38920" y="4799160"/>
            <a:ext cx="2089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9 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2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1520" y="1052640"/>
            <a:ext cx="792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jděte neznámý člen v rovnosti poměr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51120" y="6249960"/>
            <a:ext cx="5112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1701720"/>
            <a:ext cx="208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4 : x  =  11 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60600" y="1700280"/>
            <a:ext cx="2089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n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: 40  =  9 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22920" y="1701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: 4  =  49 :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3718080"/>
            <a:ext cx="2089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7 : 12  =  28 :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60600" y="3716280"/>
            <a:ext cx="208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4 : 8  =  33 :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38880" y="3573360"/>
                <a:ext cx="7542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2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1520" y="1052640"/>
            <a:ext cx="792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jděte neznámý člen v rovnosti poměr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00000" y="1701720"/>
            <a:ext cx="208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4 : x  =  11 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60600" y="1700280"/>
            <a:ext cx="2089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n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 : 40  =  9 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22920" y="170172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: 4  =  49 :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00000" y="3718080"/>
            <a:ext cx="2089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7 : 12  =  28 :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60600" y="3716280"/>
            <a:ext cx="208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4 : 8  =  33 : </a:t>
            </a:r>
            <a:r>
              <a:rPr b="1" i="1" lang="en-US" sz="1600" spc="-1" strike="noStrike">
                <a:solidFill>
                  <a:srgbClr val="284c6a"/>
                </a:solidFill>
                <a:latin typeface="Trebuchet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338880" y="3564000"/>
                <a:ext cx="7542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900000" y="2060640"/>
            <a:ext cx="23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11 je zvětšena na 4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2421000"/>
            <a:ext cx="23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Kolikrát? 44 : 11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2781360"/>
            <a:ext cx="23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4 x zvětšíme i číslo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3141720"/>
            <a:ext cx="23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4 : 24  =  11 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35400" y="2060640"/>
            <a:ext cx="23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10 je zvětšena na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35400" y="2421000"/>
            <a:ext cx="23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Kolikrát? 40 : 10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35400" y="2781360"/>
            <a:ext cx="23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4 x zvětšíme i číslo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35400" y="3141720"/>
            <a:ext cx="237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36 : 40  =  9 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76840" y="2060640"/>
            <a:ext cx="23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28 je zmenšena na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76840" y="2421000"/>
            <a:ext cx="23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Kolikrát? 28 : 4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76840" y="2781360"/>
            <a:ext cx="2567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7 x zmenšíme i číslo 4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76840" y="3141720"/>
            <a:ext cx="237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7 : 4  =  49 :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4076640"/>
            <a:ext cx="237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7 je zvětšena na 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00000" y="4437000"/>
            <a:ext cx="237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Kolikrát? 28 : 7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0000" y="4797360"/>
            <a:ext cx="244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4 x zvětšíme i číslo 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5157720"/>
            <a:ext cx="237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7 : 12  =  28 :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19640" y="4076640"/>
            <a:ext cx="237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44 je změněna na 3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19640" y="4437000"/>
            <a:ext cx="288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Jak? Děleno 4, násobeno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19640" y="4797360"/>
            <a:ext cx="28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Provedeme to i s číslem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19640" y="5157720"/>
            <a:ext cx="237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rebuchet MS"/>
              </a:rPr>
              <a:t>44 : 8  =  33 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00720" y="4076640"/>
            <a:ext cx="237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5 je zvětšena na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00720" y="4437000"/>
            <a:ext cx="237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Kolikrát? 40 : 5 =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00720" y="4797360"/>
            <a:ext cx="244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8 x zvětšíme i číslo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372360" y="5157720"/>
                <a:ext cx="7538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3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4360" y="1125360"/>
            <a:ext cx="7920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Určete, které poměry se sobě rovnají: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 : 3; 3 : 6; 3 : 7; 1,2 : 2,4; 1,5 : 3,5; 2,8 : 7; 6/4 :14/4; 4 : 10; 0,1 : 0,2; 4 : 5; 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 : 7/3; 8 :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51120" y="6249960"/>
            <a:ext cx="51120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Až budete hotovi nebo když si nebudete vědět rady, klikněte a ukážu vám post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1773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4330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ár příkladů k procvičení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– list č. 3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981000"/>
            <a:ext cx="813744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4360" y="1125360"/>
            <a:ext cx="7920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Určete, které poměry se sobě rovnají: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 : 3; 3 : 6; 3 : 7; 1,2 : 2,4; 1,5 : 3,5; 2,8 : 7; 6/4 :14/4; 4 : 10; 0,1 : 0,2; 4 : 5; 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 : 7/3; 8 :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199080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17733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235116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 : 6 = 1 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270972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3 :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4360" y="307008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,2 : 2,4 = 12 : 24 = 1 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43044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,5 : 3,5 = 15 : 35 = 3 :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4360" y="379080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2,8 : 7 = 28 : 70 = 2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15116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6/4 : 14/4 = 6 : 14 = 3 :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4360" y="4511520"/>
            <a:ext cx="4221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 : 10 = 2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487044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0,1 : 0,2 = 1 :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523080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4 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559116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1 : 7/3 = 3 :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5950080"/>
            <a:ext cx="4221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8 : 18 = 4 :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47640" y="2637000"/>
            <a:ext cx="72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73400" y="3357720"/>
            <a:ext cx="72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36880" y="5156280"/>
            <a:ext cx="72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82560" y="299736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74840" y="37162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89240" y="44514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92440" y="5877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14560" y="407664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692360" y="48261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76720" y="1916280"/>
            <a:ext cx="3240360" cy="1223640"/>
          </a:xfrm>
          <a:prstGeom prst="cloudCallout">
            <a:avLst>
              <a:gd name="adj1" fmla="val -78958"/>
              <a:gd name="adj2" fmla="val 7581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: 6 = 1,2 : 2,4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0,1 : 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3429000"/>
            <a:ext cx="3240000" cy="1224000"/>
          </a:xfrm>
          <a:prstGeom prst="cloudCallout">
            <a:avLst>
              <a:gd name="adj1" fmla="val -82972"/>
              <a:gd name="adj2" fmla="val -15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: 7 = 1,5 : 3,5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6/4 : 14/4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1 : 7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32360" y="5013360"/>
            <a:ext cx="3240000" cy="1224000"/>
          </a:xfrm>
          <a:prstGeom prst="cloudCallout">
            <a:avLst>
              <a:gd name="adj1" fmla="val -76703"/>
              <a:gd name="adj2" fmla="val -11264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,8 : 7 = 4 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59280" y="2349360"/>
            <a:ext cx="3816360" cy="3600720"/>
          </a:xfrm>
          <a:prstGeom prst="cloudCallout">
            <a:avLst>
              <a:gd name="adj1" fmla="val -70509"/>
              <a:gd name="adj2" fmla="val -695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měry, které se sobě rovnají, mají stejný základní tv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šechny zadané poměry tedy nejdříve vyjádří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 základním tva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0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2708280"/>
            <a:ext cx="777708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1052640"/>
            <a:ext cx="818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Pojem poměr nás provází celým životem a setkáváme se s ním prakticky každodenn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2120" y="1641600"/>
            <a:ext cx="818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Vzpomeňme jen na pár ukázkách některé případy, v nichž se v běžném životě s poměrem (pojmem poměr, vyjádřením poměru) setkávám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2120" y="2031840"/>
            <a:ext cx="8183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Tak například poměr ředění sirupů, postřiků, čisticích prostředků, oleje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6062760"/>
            <a:ext cx="59119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Obrázky: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www.freeway.cz/obchod</a:t>
            </a:r>
            <a:r>
              <a:rPr b="0" lang="en-US" sz="1000" spc="-1" strike="noStrike" u="sng">
                <a:solidFill>
                  <a:srgbClr val="284c6a"/>
                </a:solidFill>
                <a:uFillTx/>
                <a:latin typeface="Trebuchet MS"/>
              </a:rPr>
              <a:t>;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aquara.cz/userdata/sirupy</a:t>
            </a:r>
            <a:r>
              <a:rPr b="0" lang="en-US" sz="1000" spc="-1" strike="noStrike" u="sng">
                <a:solidFill>
                  <a:srgbClr val="284c6a"/>
                </a:solidFill>
                <a:uFillTx/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87280" y="3573360"/>
            <a:ext cx="2454480" cy="2602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76600" y="2852640"/>
            <a:ext cx="2579760" cy="2232000"/>
          </a:xfrm>
          <a:prstGeom prst="cloudCallout">
            <a:avLst>
              <a:gd name="adj1" fmla="val -105509"/>
              <a:gd name="adj2" fmla="val 46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079880" y="3225960"/>
            <a:ext cx="1512720" cy="1417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334200" y="3781440"/>
            <a:ext cx="1333440" cy="2095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32720" y="5241960"/>
            <a:ext cx="934920" cy="504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322800"/>
            <a:ext cx="934920" cy="504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135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amatuj si!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6" name=""/>
          <p:cNvSpPr/>
          <p:nvPr/>
        </p:nvSpPr>
        <p:spPr>
          <a:xfrm>
            <a:off x="684360" y="4076640"/>
            <a:ext cx="82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Poměry krátíme tak, že první i druhý člen poměru dělíme stejným číslem různým od nuly a jed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7480" y="5013360"/>
            <a:ext cx="800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Poměry rozšiřujeme tak, že první i druhý člen poměru násobíme stejným číslem různým od nuly a jed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Název souboru: j0343347.wmf&#13;Klíčová slova: akademici, osoby, školní tabule ...&#13;Velikost souboru: 33 kB"/>
          <p:cNvPicPr/>
          <p:nvPr/>
        </p:nvPicPr>
        <p:blipFill>
          <a:blip r:embed="rId2"/>
          <a:stretch/>
        </p:blipFill>
        <p:spPr>
          <a:xfrm>
            <a:off x="6588000" y="549360"/>
            <a:ext cx="2044800" cy="20444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00200" y="2752560"/>
            <a:ext cx="537192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Poměry se sobě rovnají, rovnají-li se jejich základní tv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2031840"/>
            <a:ext cx="537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Poměr je v základním tvaru, pokud jsou oba členy poměru vyjádřeny nesoudělnými přirozenými čí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0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1628640"/>
            <a:ext cx="777708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98100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Nebo skóre sportovních utkání – např. poměr nastřílených branek domácím </a:t>
            </a:r>
            <a:br>
              <a:rPr sz="1700"/>
            </a:b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a hostujícím týmem, poměr střel, vyloučení ap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619280" y="2117880"/>
            <a:ext cx="5111640" cy="3398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176640" y="5516640"/>
            <a:ext cx="5067360" cy="73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521320" y="2421000"/>
            <a:ext cx="1150920" cy="3024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20800" y="1835280"/>
            <a:ext cx="3895560" cy="657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751040" y="1700280"/>
            <a:ext cx="1079640" cy="4334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65560" y="206064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7480" y="5937120"/>
            <a:ext cx="648000" cy="287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595008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96360" y="5950080"/>
            <a:ext cx="647640" cy="287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341360"/>
            <a:ext cx="7921440" cy="50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514440" y="8366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284c6a"/>
                </a:solidFill>
                <a:latin typeface="Trebuchet MS"/>
              </a:rPr>
              <a:t>Případně měřítka map či plánů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5185080" cy="3676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75280" y="3789360"/>
            <a:ext cx="3371760" cy="2448000"/>
          </a:xfrm>
          <a:prstGeom prst="cloudCallout">
            <a:avLst>
              <a:gd name="adj1" fmla="val -26930"/>
              <a:gd name="adj2" fmla="val -125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854680" y="4213080"/>
            <a:ext cx="1728720" cy="1559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30320" y="6093000"/>
            <a:ext cx="4545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284c6a"/>
                </a:solidFill>
                <a:latin typeface="Trebuchet MS"/>
              </a:rPr>
              <a:t>Obázek: </a:t>
            </a:r>
            <a:r>
              <a:rPr b="0" lang="cs-CZ" sz="800" spc="-1" strike="noStrike" u="sng">
                <a:solidFill>
                  <a:srgbClr val="ccccff"/>
                </a:solidFill>
                <a:uFillTx/>
                <a:latin typeface="Trebuchet MS"/>
                <a:hlinkClick r:id="rId4"/>
              </a:rPr>
              <a:t>http://www.shocart.cz/img/zakazkova-cinnost/plany-mest-prh-trhaci-big.jpg</a:t>
            </a:r>
            <a:r>
              <a:rPr b="1" lang="cs-CZ" sz="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16720" y="4508640"/>
            <a:ext cx="93492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1280" y="1658880"/>
            <a:ext cx="7921440" cy="47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měr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482760" y="79200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o to tedy je ten poměr? Je to způsob porovnání dvou údaj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7417080" cy="107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5796000" y="1844640"/>
            <a:ext cx="2581200" cy="1152720"/>
          </a:xfrm>
          <a:prstGeom prst="cloudCallout">
            <a:avLst>
              <a:gd name="adj1" fmla="val 14759"/>
              <a:gd name="adj2" fmla="val 903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bran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0880" y="1928880"/>
            <a:ext cx="2282760" cy="1212840"/>
          </a:xfrm>
          <a:prstGeom prst="cloudCallout">
            <a:avLst>
              <a:gd name="adj1" fmla="val 1949"/>
              <a:gd name="adj2" fmla="val 1319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stř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24360" y="4807080"/>
            <a:ext cx="2376720" cy="1430280"/>
          </a:xfrm>
          <a:prstGeom prst="cloudCallout">
            <a:avLst>
              <a:gd name="adj1" fmla="val -39648"/>
              <a:gd name="adj2" fmla="val -764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využitých přesilov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941720"/>
            <a:ext cx="2282760" cy="1212840"/>
          </a:xfrm>
          <a:prstGeom prst="cloudCallout">
            <a:avLst>
              <a:gd name="adj1" fmla="val 37620"/>
              <a:gd name="adj2" fmla="val -93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čet vylouč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208240" y="1889280"/>
            <a:ext cx="6035760" cy="4203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5640" y="3284640"/>
            <a:ext cx="4680000" cy="2952720"/>
          </a:xfrm>
          <a:prstGeom prst="cloudCallout">
            <a:avLst>
              <a:gd name="adj1" fmla="val 76018"/>
              <a:gd name="adj2" fmla="val -646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zdále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3284640"/>
            <a:ext cx="4680000" cy="2952720"/>
          </a:xfrm>
          <a:prstGeom prst="cloudCallout">
            <a:avLst>
              <a:gd name="adj1" fmla="val 76018"/>
              <a:gd name="adj2" fmla="val -646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 cm na mapě představ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17 000 cm ve skuteč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1280" y="1844640"/>
            <a:ext cx="79214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působy porovnávání údaj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2" name=""/>
          <p:cNvSpPr/>
          <p:nvPr/>
        </p:nvSpPr>
        <p:spPr>
          <a:xfrm>
            <a:off x="482760" y="7430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 můžeme dva údaje porovnáva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6800" y="119556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. Pomocí rozdílu údajů na základě otázky „o kolik více“ nebo „o kolik méně“ … </a:t>
            </a:r>
            <a:r>
              <a:rPr b="1" i="1" lang="en-US" sz="2000" spc="-1" strike="noStrike">
                <a:solidFill>
                  <a:srgbClr val="ff0000"/>
                </a:solidFill>
                <a:latin typeface="Trebuchet MS"/>
              </a:rPr>
              <a:t>a 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1360" y="2014560"/>
            <a:ext cx="7605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Př.: Ve třídě je 24 dívek a 12 chlapců. O kolik více je ve třídě dívek než chlapců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2800" y="259380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Úlohu „o kolik více“ řešíme rozdílem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2800" y="3027240"/>
            <a:ext cx="777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24 – 12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63700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2800" y="34592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Ve třídě je o 12 dívek více než chlapců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2800" y="4390920"/>
            <a:ext cx="760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Př.: Ve třídě je 12 dívek a 24 chlapců. O kolik méně je ve třídě dívek než chlapců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8720" y="5013360"/>
            <a:ext cx="74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00" y="501336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Úlohu „o kolik méně“ řešíme také rozdílem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7200" y="5445000"/>
            <a:ext cx="777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24 – 12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7200" y="587700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Ve třídě je o 12 dívek méně než chlapců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11280" y="1844640"/>
            <a:ext cx="79214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působy porovnávání údaj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496800" y="10526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 Pomocí podílu údajů na základě otázky „kolikrát více“ nebo „kolikrát méně“ … </a:t>
            </a:r>
            <a:r>
              <a:rPr b="1" i="1" lang="en-US" sz="2000" spc="-1" strike="noStrike">
                <a:solidFill>
                  <a:srgbClr val="ff0000"/>
                </a:solidFill>
                <a:latin typeface="Trebuchet MS"/>
              </a:rPr>
              <a:t>a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1360" y="2014560"/>
            <a:ext cx="7605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Př.: Ve třídě je 24 dívek a 12 chlapců. Kolikrát více je ve třídě dívek než chlapců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2800" y="259380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Úlohu „kolikrát více“ řešíme podílem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2800" y="3027240"/>
            <a:ext cx="777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24 : 12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63700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2800" y="34592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Ve třídě je dvakrát více dívek než chlapců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2800" y="4390920"/>
            <a:ext cx="760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Př.: Ve třídě je 12 dívek a 24 chlapců. Kolikrát méně je ve třídě dívek než chlapců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8720" y="5013360"/>
            <a:ext cx="748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7200" y="501336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Úlohu „kolikrát méně“ řešíme také podílem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7200" y="5445000"/>
            <a:ext cx="777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24 : 12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7200" y="587700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Ve třídě je dvakrát méně dívek než chlapců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1268280"/>
            <a:ext cx="792144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efinice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9" name=""/>
          <p:cNvSpPr/>
          <p:nvPr/>
        </p:nvSpPr>
        <p:spPr>
          <a:xfrm>
            <a:off x="496800" y="76500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raťme se ještě jednou k předcházejícímu příkla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1360" y="1413000"/>
            <a:ext cx="7605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Př.: Ve třídě je 24 dívek a 12 chlapců. Kolikrát více je ve třídě dívek než chlapců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2800" y="19922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Úlohu „kolikrát více“ řešíme podílem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2800" y="2425680"/>
            <a:ext cx="777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24 : 12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0350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2800" y="285264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Ve třídě je dvakrát více dívek než chlapců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2800" y="3525840"/>
            <a:ext cx="7746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Říkáme, že počty dívek a chlapců jsou v poměr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7200" y="4363920"/>
            <a:ext cx="7732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Čteme dvacet čtyři ku dvanáct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3932280"/>
            <a:ext cx="777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24 :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720" y="4941720"/>
            <a:ext cx="7834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Podílu </a:t>
            </a:r>
            <a:r>
              <a:rPr b="1" i="1" lang="cs-CZ" sz="2200" spc="-1" strike="noStrike">
                <a:solidFill>
                  <a:srgbClr val="ff0000"/>
                </a:solidFill>
                <a:latin typeface="Trebuchet MS"/>
              </a:rPr>
              <a:t>a : b</a:t>
            </a: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, kde </a:t>
            </a:r>
            <a:r>
              <a:rPr b="1" i="1" lang="cs-CZ" sz="22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0, </a:t>
            </a:r>
            <a:r>
              <a:rPr b="1" i="1" lang="cs-CZ" sz="22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0, říkáme poměr a čteme </a:t>
            </a:r>
            <a:r>
              <a:rPr b="1" i="1" lang="cs-CZ" sz="22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 ku </a:t>
            </a:r>
            <a:r>
              <a:rPr b="1" i="1" lang="cs-CZ" sz="22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.</a:t>
            </a:r>
            <a:br>
              <a:rPr sz="2200"/>
            </a:b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Čísla </a:t>
            </a:r>
            <a:r>
              <a:rPr b="1" i="1" lang="cs-CZ" sz="22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, </a:t>
            </a:r>
            <a:r>
              <a:rPr b="1" i="1" lang="cs-CZ" sz="22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 nazýváme členy poměru.</a:t>
            </a:r>
            <a:br>
              <a:rPr sz="2200"/>
            </a:b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Číslo </a:t>
            </a:r>
            <a:r>
              <a:rPr b="1" i="1" lang="cs-CZ" sz="2200" spc="-1" strike="noStrike">
                <a:solidFill>
                  <a:srgbClr val="ff0000"/>
                </a:solidFill>
                <a:latin typeface="Trebuchet MS"/>
              </a:rPr>
              <a:t>a</a:t>
            </a: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 je první člen poměru, číslo </a:t>
            </a:r>
            <a:r>
              <a:rPr b="1" i="1" lang="cs-CZ" sz="2200" spc="-1" strike="noStrike">
                <a:solidFill>
                  <a:srgbClr val="ff0000"/>
                </a:solidFill>
                <a:latin typeface="Trebuchet MS"/>
              </a:rPr>
              <a:t>b</a:t>
            </a:r>
            <a:r>
              <a:rPr b="1" lang="cs-CZ" sz="2200" spc="-1" strike="noStrike">
                <a:solidFill>
                  <a:srgbClr val="ff0000"/>
                </a:solidFill>
                <a:latin typeface="Trebuchet MS"/>
              </a:rPr>
              <a:t> druhý člen poměr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11280" y="1268280"/>
            <a:ext cx="792144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pis poměr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1" name=""/>
          <p:cNvSpPr/>
          <p:nvPr/>
        </p:nvSpPr>
        <p:spPr>
          <a:xfrm>
            <a:off x="496800" y="76500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měr (podíl) můžeme zapsat také ve tvaru zlom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2800" y="2535120"/>
            <a:ext cx="7893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Konkrétně v našem předcházejícím příkladu můžeme výsledný poměr zapsat následovně: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243036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7200" y="5084640"/>
            <a:ext cx="7732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24 : 12 = 2 : 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9720" y="5662440"/>
            <a:ext cx="78343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Krácení poměru znamená dělení prvního i druhého členu poměru stejným číslem různým od nuly a jedn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753000" y="1308240"/>
                <a:ext cx="1611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: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94160" y="3068640"/>
                <a:ext cx="218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4360" y="4292640"/>
            <a:ext cx="78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cc00"/>
                </a:solidFill>
                <a:latin typeface="Trebuchet MS"/>
              </a:rPr>
              <a:t>Ze znalosti zlomků z toho pro nás plyne, že poměry můžeme stejně tak jako zlomky krátit a rozšiřovat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33960" y="3082680"/>
            <a:ext cx="431640" cy="431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48360" y="3673440"/>
            <a:ext cx="431640" cy="432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08720" y="285264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720" y="378792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rebuchet MS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2-24T09:46:35Z</dcterms:modified>
  <cp:revision>193</cp:revision>
  <dc:subject/>
  <dc:title>Poměr - základní tvar</dc:title>
</cp:coreProperties>
</file>