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0BF-9E39-400B-99AC-BC6A72BD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E97-5A5E-4E05-89CA-2E3B91DD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E90-38EF-4FAE-A3AA-307609C2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DB7-C075-4B94-BC29-B35D9AC2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1272-007F-49BC-9637-A8784E04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0C7D-B324-4F70-AAA9-8D266AC0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D073-BE36-4AF4-9279-A3322A9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95BB-7558-4222-9E8D-287AAB24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0659-8B78-43E5-8E48-1A326A3B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ED7-3019-4874-BCCB-BE6C02C0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78B2-41D4-47C9-B421-42176AB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4B3-F7F2-48A3-AACE-9A735B10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4B03-3ADA-4E07-8E16-CA9AE75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C58F-F13D-4685-AB92-BF09C0AF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CD14-B050-410D-BF5A-D345C69D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AF2F-81B0-47E8-86C4-2B5841F0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86F-A22F-4928-BDDB-8022D9B2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3E8-97A7-48A2-A626-E0E21E0C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EC3-7C16-42E7-B456-4490F3D1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727-65EC-4014-8523-BFC7D83B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828-F93F-4302-A14E-D95A4DD1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A03-A30D-432D-9F21-1605934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B12-C3E8-488F-B434-B8C48A9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AA1-1D32-443D-BB42-47234C57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24A1-71FD-4C39-BAF1-4D47DFA874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48320"/>
            <a:ext cx="75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1AC4-14F5-4E8E-9BE1-B6B5144A2F3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900000" y="6448320"/>
            <a:ext cx="757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84c6a"/>
                </a:solidFill>
                <a:latin typeface="Trebuchet MS"/>
              </a:rPr>
              <a:t>Nerovnice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373068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Ekvivalentní úpravy - 2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4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násobte levou i pravou stranu rovnice klad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171880"/>
            <a:ext cx="12254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32000" y="3716280"/>
            <a:ext cx="2808360" cy="1728720"/>
          </a:xfrm>
          <a:prstGeom prst="cloudCallout">
            <a:avLst>
              <a:gd name="adj1" fmla="val -3870"/>
              <a:gd name="adj2" fmla="val -107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chom se zbavili dvojky ve jmenovateli zlomku s proměnnou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 čitateli, musíme nerovnici vynásobit právě číslem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544500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4. Kořeny nerovnice se nezmění, jestliže obě strany nerovnice vynásobíme stejným kladným číslem nebo mnohočle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408400" y="1812960"/>
                <a:ext cx="8618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13320" y="1816200"/>
                <a:ext cx="1535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408640" y="2651040"/>
                <a:ext cx="15890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141960" y="4076640"/>
            <a:ext cx="2376720" cy="1440000"/>
          </a:xfrm>
          <a:prstGeom prst="cloudCallout">
            <a:avLst>
              <a:gd name="adj1" fmla="val -63625"/>
              <a:gd name="adj2" fmla="val -1019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úpravě na násobení zlomků můžeme využít krácení do kříž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435640" y="314172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53240" y="267984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854680" y="3716280"/>
                <a:ext cx="808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4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násobte levou i pravou stranu rovnice klad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23840" y="1844640"/>
                <a:ext cx="8128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610160" y="1844640"/>
                <a:ext cx="890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971640" y="3716280"/>
                <a:ext cx="917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532400" y="3716280"/>
                <a:ext cx="1047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4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násobte levou i pravou stranu rovnice klad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023840" y="1844640"/>
                <a:ext cx="8128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638600" y="1844640"/>
                <a:ext cx="890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971640" y="3716280"/>
                <a:ext cx="917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60840" y="3716280"/>
                <a:ext cx="10479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498760" y="2071800"/>
                <a:ext cx="108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138720" y="2075040"/>
                <a:ext cx="1160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481120" y="420048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060960" y="4251240"/>
                <a:ext cx="1278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465280" y="2719440"/>
                <a:ext cx="1122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808360" y="3440160"/>
                <a:ext cx="6112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8200" y="2722680"/>
                <a:ext cx="1238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480000" y="3460680"/>
                <a:ext cx="58896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454120" y="4881600"/>
                <a:ext cx="124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771640" y="5673600"/>
                <a:ext cx="5907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066000" y="4861080"/>
                <a:ext cx="1315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378480" y="5675400"/>
                <a:ext cx="7272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4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0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te levou i pravou stranu rovnice klad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2171880"/>
            <a:ext cx="12254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3716280"/>
            <a:ext cx="2808360" cy="1728720"/>
          </a:xfrm>
          <a:prstGeom prst="cloudCallout">
            <a:avLst>
              <a:gd name="adj1" fmla="val -3870"/>
              <a:gd name="adj2" fmla="val -107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chom se zbavili dvojky před proměnnou, musíme nerovnici vydělit právě číslem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36720" y="479736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4. ekvivalentní úprava:</a:t>
            </a:r>
            <a:br>
              <a:rPr sz="18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ořeny nerovnice se nezmění, jestliže obě strany nerovnice vydělíme stejným kladným číslem nebo mnohočlen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08400" y="2066760"/>
                <a:ext cx="86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07120" y="2044800"/>
                <a:ext cx="17492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89640" y="2651040"/>
                <a:ext cx="14270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8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141960" y="4076640"/>
            <a:ext cx="2376720" cy="1440000"/>
          </a:xfrm>
          <a:prstGeom prst="cloudCallout">
            <a:avLst>
              <a:gd name="adj1" fmla="val -55078"/>
              <a:gd name="adj2" fmla="val -1039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úpravě na zlomek můžeme využít znalosti krácení zlom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622840" y="315612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94320" y="26938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3500280"/>
            <a:ext cx="2376360" cy="1440000"/>
          </a:xfrm>
          <a:prstGeom prst="cloudCallout">
            <a:avLst>
              <a:gd name="adj1" fmla="val 15199"/>
              <a:gd name="adj2" fmla="val -120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ělení přepíšeme do zlomku, přičemž využíváme znalosti, že zlomek je jiným zápisem děl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842080" y="3728880"/>
                <a:ext cx="8348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4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4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te levou i pravou stranu rovnice klad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023840" y="2120760"/>
                <a:ext cx="11001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70560" y="2066760"/>
                <a:ext cx="9698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919080" y="3716280"/>
                <a:ext cx="1022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45000" y="3716280"/>
                <a:ext cx="1020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4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1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te levou i pravou stranu rovnice klad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023840" y="2120760"/>
                <a:ext cx="110016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570560" y="2066760"/>
                <a:ext cx="9698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919080" y="3716280"/>
                <a:ext cx="1022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45000" y="3716280"/>
                <a:ext cx="1020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322360" y="2238480"/>
                <a:ext cx="14367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392200" y="4200480"/>
                <a:ext cx="1339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598840" y="2719440"/>
                <a:ext cx="1181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08360" y="3449520"/>
                <a:ext cx="6112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22520" y="4881600"/>
                <a:ext cx="1103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862360" y="5554800"/>
                <a:ext cx="630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070680" y="2241720"/>
                <a:ext cx="1298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041880" y="4251240"/>
                <a:ext cx="1317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334200" y="2722680"/>
                <a:ext cx="806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16720" y="3324240"/>
                <a:ext cx="647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183360" y="4861080"/>
                <a:ext cx="1079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372360" y="5557680"/>
                <a:ext cx="628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5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0" name=""/>
          <p:cNvSpPr/>
          <p:nvPr/>
        </p:nvSpPr>
        <p:spPr>
          <a:xfrm>
            <a:off x="480960" y="1052640"/>
            <a:ext cx="866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násobte levou i pravou stranu rovnice zápor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2171880"/>
            <a:ext cx="12254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3716280"/>
            <a:ext cx="2808360" cy="1728720"/>
          </a:xfrm>
          <a:prstGeom prst="cloudCallout">
            <a:avLst>
              <a:gd name="adj1" fmla="val 763"/>
              <a:gd name="adj2" fmla="val -1259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chom se zbavili „znaménka minus“ na obou stranách nerovnice, musíme ji vynásobit číslem -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36720" y="481968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5. ekvivalentní úprava: </a:t>
            </a:r>
            <a:br>
              <a:rPr sz="18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ořeny nerovnice se nezmění, jestliže obě strany nerovnice vynásobíme stejným záporným číslem nebo mnohočlenem a zároveň obrátíme znaménko nero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6000" y="3718080"/>
            <a:ext cx="2722680" cy="1942920"/>
          </a:xfrm>
          <a:prstGeom prst="cloudCallout">
            <a:avLst>
              <a:gd name="adj1" fmla="val -9708"/>
              <a:gd name="adj2" fmla="val -111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Z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smíte zapomenout na obrácení znaménk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1917720"/>
            <a:ext cx="15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64000" y="1916280"/>
            <a:ext cx="3025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.(– 1)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.(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1916280"/>
            <a:ext cx="30258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.(– 1)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.(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30840" y="1916280"/>
            <a:ext cx="36036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2421000"/>
            <a:ext cx="11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3860640"/>
            <a:ext cx="3024360" cy="2016360"/>
          </a:xfrm>
          <a:prstGeom prst="cloudCallout">
            <a:avLst>
              <a:gd name="adj1" fmla="val -5537"/>
              <a:gd name="adj2" fmla="val -973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ště pořád se vám zdá, že jsme nutnost obrácení znaménka dokonale nedokázali? Tak to zkusíme ještě jednou a ji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67280" y="2997360"/>
            <a:ext cx="4033800" cy="2519280"/>
          </a:xfrm>
          <a:prstGeom prst="cloudCallout">
            <a:avLst>
              <a:gd name="adj1" fmla="val -77273"/>
              <a:gd name="adj2" fmla="val -741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budeme nerovnici upravovat pomocí ekvivalentní úpravy č. 5, ale pomocí úpravy č. 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zn. díky přičtení potřebných čísel či výrazů převedeme proměnnou vprav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číselnou hodnotu vlev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349360"/>
            <a:ext cx="29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- 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x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3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54400" y="2781360"/>
            <a:ext cx="21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0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3 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5280" y="3213000"/>
            <a:ext cx="2751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0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 3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- 3 + x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09840" y="364644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4797360"/>
            <a:ext cx="2808360" cy="1152720"/>
          </a:xfrm>
          <a:prstGeom prst="cloudCallout">
            <a:avLst>
              <a:gd name="adj1" fmla="val 11106"/>
              <a:gd name="adj2" fmla="val -114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teme-li tedy zprava plat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je menší než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3573360"/>
            <a:ext cx="2808000" cy="1152720"/>
          </a:xfrm>
          <a:prstGeom prst="cloudCallout">
            <a:avLst>
              <a:gd name="adj1" fmla="val -6245"/>
              <a:gd name="adj2" fmla="val -109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dy totéž jako zde, při čtení zle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je menší než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97240" y="4791240"/>
            <a:ext cx="446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Tak už jsem Vás přesvědčil, že při násobení obou stran nerovnice stejným záporným číslem nebo výrazem musíme obrátit znaménko nerovnost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5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1" name=""/>
          <p:cNvSpPr/>
          <p:nvPr/>
        </p:nvSpPr>
        <p:spPr>
          <a:xfrm>
            <a:off x="480960" y="1052640"/>
            <a:ext cx="866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násobte levou i pravou stranu rovnice zápor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79480" y="1785960"/>
                <a:ext cx="1316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19440" y="1844640"/>
                <a:ext cx="1073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96840" y="3716280"/>
                <a:ext cx="1127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322880" y="3716280"/>
                <a:ext cx="1468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5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8" name=""/>
          <p:cNvSpPr/>
          <p:nvPr/>
        </p:nvSpPr>
        <p:spPr>
          <a:xfrm>
            <a:off x="480960" y="1052640"/>
            <a:ext cx="866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násobte levou i pravou stranu rovnice zápor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79480" y="1785960"/>
                <a:ext cx="13161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9440" y="1844640"/>
                <a:ext cx="1073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996840" y="3716280"/>
                <a:ext cx="1127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322880" y="3716280"/>
                <a:ext cx="1468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316240" y="2071800"/>
                <a:ext cx="196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301840" y="4200480"/>
                <a:ext cx="190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195640" y="2690640"/>
                <a:ext cx="149688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103560" y="3449520"/>
                <a:ext cx="6112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68640" y="4853160"/>
                <a:ext cx="21873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25560" y="5673600"/>
                <a:ext cx="76680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978520" y="2075040"/>
                <a:ext cx="1906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989680" y="4251240"/>
                <a:ext cx="21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813280" y="2693880"/>
                <a:ext cx="2200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688080" y="3460680"/>
                <a:ext cx="7272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051600" y="4832280"/>
                <a:ext cx="14731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935760" y="5675400"/>
                <a:ext cx="5889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5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7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te levou i pravou stranu rovnice zápor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2233440"/>
            <a:ext cx="122580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3716280"/>
            <a:ext cx="3313080" cy="1368360"/>
          </a:xfrm>
          <a:prstGeom prst="cloudCallout">
            <a:avLst>
              <a:gd name="adj1" fmla="val -2611"/>
              <a:gd name="adj2" fmla="val -1438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chom vyjádřili proměnnou x samostatně, musíme nerovnici vydělit „záporným výrazem“ (–2x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36720" y="4724280"/>
            <a:ext cx="788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5. ekvivalentní úprava: </a:t>
            </a:r>
            <a:br>
              <a:rPr sz="18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Kořeny nerovnice se nezmění, jestliže obě strany nerovnice vydělíme stejným záporným číslem nebo mnohočlenem a zároveň obrátíme znaménko nero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604880" y="1944720"/>
                <a:ext cx="1722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859280" y="1990800"/>
                <a:ext cx="3659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821200" y="2624040"/>
                <a:ext cx="19688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6084720" y="4292640"/>
            <a:ext cx="2376720" cy="1440000"/>
          </a:xfrm>
          <a:prstGeom prst="cloudCallout">
            <a:avLst>
              <a:gd name="adj1" fmla="val -15731"/>
              <a:gd name="adj2" fmla="val -1088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úpravě na zlomky můžeme využít znalosti krácení zlomk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41960" y="318456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084720" y="27226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3280" y="3500280"/>
            <a:ext cx="2376720" cy="1440000"/>
          </a:xfrm>
          <a:prstGeom prst="cloudCallout">
            <a:avLst>
              <a:gd name="adj1" fmla="val -2972"/>
              <a:gd name="adj2" fmla="val -120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ělení přepíšeme do zlomku, přičemž využíváme znalosti, že zlomek je jiným zápisem děl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435720" y="3573360"/>
                <a:ext cx="10191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 flipV="1">
            <a:off x="7236000" y="317016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120080" y="270828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372360" y="317016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15280" y="2679480"/>
            <a:ext cx="1746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481880" y="317016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365960" y="27082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989680" y="3238560"/>
            <a:ext cx="146160" cy="20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32440" y="2806200"/>
            <a:ext cx="130320" cy="1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236000" y="2536920"/>
                <a:ext cx="17280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971640" y="2708280"/>
            <a:ext cx="3313080" cy="2808360"/>
          </a:xfrm>
          <a:prstGeom prst="cloudCallout">
            <a:avLst>
              <a:gd name="adj1" fmla="val 85648"/>
              <a:gd name="adj2" fmla="val -27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ozřejmě nesmíme zapomenout na určení podmínek řešitelnosti. V našem případě tedy na to, že výraz, kterým dělíme, se nesmí rovnat nule, neboť nulou nelze děl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6529320" y="4005360"/>
                <a:ext cx="6494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41240" y="1006560"/>
            <a:ext cx="79218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2520" y="1123920"/>
            <a:ext cx="7574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Rovnice je zápis rovnosti dvou výrazů, ve kterém máme najít neznámé číslo (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neznámou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) tak, aby po jeho dosazení za proměnnou daná rovnost platila. </a:t>
            </a:r>
            <a:br>
              <a:rPr sz="2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Existuje-li takové číslo, nazývá se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řešení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 nebo také </a:t>
            </a:r>
            <a:r>
              <a:rPr b="1" i="1" lang="en-US" sz="2000" spc="-1" strike="noStrike">
                <a:solidFill>
                  <a:srgbClr val="284c6a"/>
                </a:solidFill>
                <a:latin typeface="Trebuchet MS"/>
              </a:rPr>
              <a:t>kořen rovnice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Zopakujme si nejdříve, čemu říkáme rov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89600" y="2779560"/>
            <a:ext cx="309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ravá strana 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31800" y="2735280"/>
            <a:ext cx="2952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x + 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evá strana 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3240" y="2692440"/>
            <a:ext cx="64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=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=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4200" y="4219560"/>
            <a:ext cx="79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yní se tedy naskýtá otázka. Jaké číslo můžeme dosadit do našeho příkladu za proměnnou, aby nastala rovn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4080" y="5068800"/>
            <a:ext cx="3773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ešením je tedy číslo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8480" y="5516640"/>
            <a:ext cx="777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Zdá se to být jednoduché, že? Ovšem my už víme, že rovnice nejsou vždy tak jednoduché a že u složitějších rovnic a při jejich řešení nám musí pomoci ekvivalentní úpr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521160" y="2778120"/>
            <a:ext cx="50472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17960" y="2506680"/>
            <a:ext cx="2447640" cy="820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80160" y="2951280"/>
            <a:ext cx="863640" cy="1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16680" y="274968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6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81600" y="5054760"/>
            <a:ext cx="27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Zapíšeme:   x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78400" y="2462040"/>
            <a:ext cx="35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79840" y="246060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1457 L 0.20538 0.36855 E">
                                      <p:cBhvr>
                                        <p:cTn id="8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5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2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te levou i pravou stranu rovnice zápor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023840" y="2160720"/>
                <a:ext cx="110016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361040" y="2066760"/>
                <a:ext cx="1388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26920" y="3716280"/>
                <a:ext cx="1441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427640" y="3716280"/>
                <a:ext cx="1255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755640" y="1700280"/>
            <a:ext cx="7920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3254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Procvičení úpravy č. 5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9" name=""/>
          <p:cNvSpPr/>
          <p:nvPr/>
        </p:nvSpPr>
        <p:spPr>
          <a:xfrm>
            <a:off x="480960" y="1052640"/>
            <a:ext cx="8412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dělte levou i pravou stranu rovnice záporným číslem (výraz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23840" y="2160720"/>
                <a:ext cx="110016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732200" y="2066760"/>
                <a:ext cx="13892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826920" y="3716280"/>
                <a:ext cx="1441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799160" y="3716280"/>
                <a:ext cx="1255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224080" y="2219400"/>
                <a:ext cx="22035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397240" y="4200480"/>
                <a:ext cx="2246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68760" y="2719440"/>
                <a:ext cx="108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132000" y="3440160"/>
                <a:ext cx="73044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340000" y="4853160"/>
                <a:ext cx="18320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117960" y="5587920"/>
                <a:ext cx="630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329520" y="2222640"/>
                <a:ext cx="22032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303960" y="4251240"/>
                <a:ext cx="2084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832440" y="2722680"/>
                <a:ext cx="905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170840" y="3500280"/>
                <a:ext cx="56988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6883560" y="4832280"/>
                <a:ext cx="1649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7237440" y="5557680"/>
                <a:ext cx="804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" y="1052640"/>
            <a:ext cx="7777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a závěr shrňme všechny ekvivalentní úpravy platné pro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0160" y="148428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Kořeny nerovnice se nezmění, jestliže zaměníme levou 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pravou stranu nerovnice a zároveň obrátíme znaménko nerovnosti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0160" y="227664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Kořeny nerovnice se nezmění, jestliže k oběma stranám nerovnice při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5080" y="3068640"/>
            <a:ext cx="759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Kořeny nerovnice se nezmění, jestliže od obou stran nerovnice odečteme stejné číslo nebo mnohoč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58960" y="4003560"/>
            <a:ext cx="788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ořeny nerovnice se nezmění, jestliže obě strany nerovnice vynásobíme či vydělíme stejným kladným číslem nebo mnohočle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95320" y="4941720"/>
            <a:ext cx="7602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ořeny nerovnice se nezmění, jestliže obě strany nerovnice vynásobíme či vydělíme stejným záporným číslem nebo mnohočlenem a zároveň obrátíme znaménko nerovn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98560" y="5970600"/>
            <a:ext cx="7777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Teorii máme za sebou a teď už tedy vzhůru na složitější </a:t>
            </a:r>
            <a:br>
              <a:rPr sz="1800"/>
            </a:b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komplikovanější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0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1240" y="1006560"/>
            <a:ext cx="79218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9840" y="213372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12520" y="1195200"/>
            <a:ext cx="75740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Nerovnice je zápis nerovnosti dvou výrazů, ve kterém máme najít všechna čísla dané množiny (</a:t>
            </a:r>
            <a:r>
              <a:rPr b="0" i="1" lang="en-US" sz="2000" spc="-1" strike="noStrike">
                <a:solidFill>
                  <a:srgbClr val="284c6a"/>
                </a:solidFill>
                <a:latin typeface="Trebuchet MS"/>
              </a:rPr>
              <a:t>neznámé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), po jejichž dosazení za proměnnou bude daná nerovnost platit. </a:t>
            </a:r>
            <a:br>
              <a:rPr sz="2000"/>
            </a:b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3336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 nyní tedy, co je to nerovn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89600" y="2452680"/>
            <a:ext cx="3398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ravá strana ne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408400"/>
            <a:ext cx="34416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x + 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evá strana nerovnice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240" y="2365200"/>
            <a:ext cx="64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&gt;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4200" y="3645000"/>
            <a:ext cx="792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yní se tedy naskýtá otázka. Jaké číslo můžeme dosadit do našeho příkladu za proměnnou, aby vzniklá nerovnost plati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1480" y="4465800"/>
            <a:ext cx="509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ešením může být tedy číslo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8480" y="476244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Je to jediné číslo, které můžeme dosad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21160" y="2451240"/>
            <a:ext cx="50472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17960" y="2179800"/>
            <a:ext cx="2447640" cy="820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80160" y="2623680"/>
            <a:ext cx="863640" cy="1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16680" y="242244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78400" y="2135160"/>
            <a:ext cx="358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1720" y="5576760"/>
            <a:ext cx="77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Samozřejmě, že ne. Takových čísel, která můžeme dosadit za proměnnou, aby vzniklá nerovnost platila, je mnoho, lépe řečeno nekonečně mnoho. Říkáme, že jde o množinu čísel, množinu ře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860640"/>
            <a:ext cx="4895640" cy="2521080"/>
          </a:xfrm>
          <a:prstGeom prst="cloudCallout">
            <a:avLst>
              <a:gd name="adj1" fmla="val 25939"/>
              <a:gd name="adj2" fmla="val -90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ísto znaménka = (rovná se) se v nerovnicích objevují znamén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ž)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ž),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bo rovno) nebo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bo rov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23699E-006 L 0.34879 0.33041 E">
                                      <p:cBhvr>
                                        <p:cTn id="17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052640"/>
            <a:ext cx="777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ice řešíme podobně jako rovnice, to znamená pomocí ekvivalentních úprav, pomocí kterých převádíme nerovnice na jednodušší tvar, z něhož jsme schopni určit řešení ne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154240"/>
            <a:ext cx="7777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opakujme si tedy, které ekvivalentní úpravy nerovnic již zn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0160" y="270828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1. Kořeny nerovnice se nezmění, jestliže zaměníme levou a pravou stranu nerovnice a zároveň obrátíme znaménko nero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160" y="402732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. Kořeny nerovnice se nezmění, jestliže k oběma stranám nerovnice přičteme stejné číslo nebo mnohoč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5080" y="5322960"/>
            <a:ext cx="759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3. Kořeny nerovnice se nezmění, jestliže od obou stran nerovnice odečteme stejné číslo nebo mnohoč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Dnes se tedy podíváme na 4. ekvivalentní úpravu a opět budeme vycházet ze srovnání s ekvivalentními úpravami rov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ořeny rovnice se nezmění, jestliže obě strany rovnice vynásobíme stejným číslem nebo mnohočlenem (různým od nu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4160" y="249408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.(x + 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479736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platí, a tak by se mohlo zdát, že i 4. ekvivalentní úprava platí ve stejném znění jako pro 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080" y="206064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/ 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2017800"/>
            <a:ext cx="3240000" cy="2376360"/>
          </a:xfrm>
          <a:prstGeom prst="cloudCallout">
            <a:avLst>
              <a:gd name="adj1" fmla="val -103013"/>
              <a:gd name="adj2" fmla="val -109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díme jedno z možných řešení, tedy číslo 5 a ověříme, zda nerovnost i po provedené úpravě pla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84160" y="29401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.(5 + 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0640" y="3373560"/>
            <a:ext cx="1989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.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3080" y="2133720"/>
            <a:ext cx="2879640" cy="1584360"/>
          </a:xfrm>
          <a:prstGeom prst="cloudCallout">
            <a:avLst>
              <a:gd name="adj1" fmla="val -100055"/>
              <a:gd name="adj2" fmla="val -26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ynásobíme obě strany nerovnice číslem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20960" y="3805200"/>
            <a:ext cx="198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1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51808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atím jsme si ji však vyzkoušeli jen s kladným číslem. Podívejme se tedy ještě na to, jestli bude platit i s čísly záporný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kračujeme 4. ekvivalentní úpra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ořeny rovnice se nezmění, jestliže obě strany rovnice vynásobíme stejným číslem nebo mnohočlenem (různým od nu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2494080"/>
            <a:ext cx="3168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−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.(x + 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−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5080" y="206064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/ . (−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2720" y="2017800"/>
            <a:ext cx="3240000" cy="2376360"/>
          </a:xfrm>
          <a:prstGeom prst="cloudCallout">
            <a:avLst>
              <a:gd name="adj1" fmla="val -97180"/>
              <a:gd name="adj2" fmla="val -103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díme jedno z možných řešení, tedy číslo 5 a ověříme, zda nerovnost i po provedené úpravě pla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940120"/>
            <a:ext cx="3168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−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.(5 + 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−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76440" y="3373560"/>
            <a:ext cx="24192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−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.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−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3080" y="2133720"/>
            <a:ext cx="2879640" cy="1584360"/>
          </a:xfrm>
          <a:prstGeom prst="cloudCallout">
            <a:avLst>
              <a:gd name="adj1" fmla="val -86439"/>
              <a:gd name="adj2" fmla="val -2434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ynásobíme tedy obě strany nerovnice číslem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3805200"/>
            <a:ext cx="22906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−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21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−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869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neplatí, a tudíž ani 4. ekvivalentní úprava tak, jak jsme ji používali u rovnic, neplatí, respektive platí jen při násobení kladným číslem nebo mnohočle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66100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by nadále platila i při násobení číslem záporným, kdybychom zároveň zaměnili (otočili) i znaménko nerovno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5680" y="2631960"/>
            <a:ext cx="3319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Arial"/>
              </a:rPr>
              <a:t>&lt;&lt;&lt;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nyní se podíváme ještě na 5. ekvivalentní úpra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ořeny rovnice se nezmění, jestliže obě strany rovnice vydělíme stejným číslem nebo mnohočlenem (různým od nu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8560" y="249408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(x + 2):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79736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platí, a tak by se i nyní mohlo zdát, že i 5. ekvivalentní úprava platí ve stejném znění jako pro rov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5080" y="206064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/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017800"/>
            <a:ext cx="3240000" cy="2376360"/>
          </a:xfrm>
          <a:prstGeom prst="cloudCallout">
            <a:avLst>
              <a:gd name="adj1" fmla="val -103013"/>
              <a:gd name="adj2" fmla="val -109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díme jedno z možných řešení, tedy číslo 5 a ověříme, zda nerovnost i po provedené úpravě pla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8560" y="2940120"/>
            <a:ext cx="316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(5 + 2):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5040" y="3373560"/>
            <a:ext cx="198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: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2133720"/>
            <a:ext cx="2879640" cy="1584360"/>
          </a:xfrm>
          <a:prstGeom prst="cloudCallout">
            <a:avLst>
              <a:gd name="adj1" fmla="val -100055"/>
              <a:gd name="adj2" fmla="val -261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ydělíme obě strany nerovnice číslem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19440" y="3805200"/>
            <a:ext cx="198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,5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66100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Zatím jsme si ji však vyzkoušeli opět jen s kladným číslem. Podívejme se tedy ještě i tentokrát na to, jestli bude platit i s čísly záporný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1052640"/>
            <a:ext cx="777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A nyní se podíváme ještě na 5. ekvivalentní úprav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160" y="13413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ořeny rovnice se nezmění, jestliže obě strany rovnice vydělíme stejným číslem nebo mnohočlenem (různým od nu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06208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+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8400" y="2494080"/>
            <a:ext cx="374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(x + 2):(−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:(−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206064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/ : (−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017800"/>
            <a:ext cx="3240000" cy="2376360"/>
          </a:xfrm>
          <a:prstGeom prst="cloudCallout">
            <a:avLst>
              <a:gd name="adj1" fmla="val -83314"/>
              <a:gd name="adj2" fmla="val -1038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ět dosadíme jedno z možných řešení, tedy číslo 5 a ověříme, zda nerovnost i po provedené úpravě pla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2940120"/>
            <a:ext cx="396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(5 + 2):(−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:(−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76440" y="3373560"/>
            <a:ext cx="27669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:(−2)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6:(−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3080" y="2133720"/>
            <a:ext cx="2879640" cy="1584360"/>
          </a:xfrm>
          <a:prstGeom prst="cloudCallout">
            <a:avLst>
              <a:gd name="adj1" fmla="val -87430"/>
              <a:gd name="adj2" fmla="val -280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ydělíme obě strany nerovnice číslem -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9600" y="3805200"/>
            <a:ext cx="1989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− 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,5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−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869000"/>
            <a:ext cx="763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neplatí, a tudíž ani 5. ekvivalentní úprava tak, jak jsme ji používali u rovnic, neplatí, respektive platí jen při dělení kladným číslem nebo mnohočle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5661000"/>
            <a:ext cx="763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rovnost by nadále platila i při dělení číslem záporným, kdybychom zároveň zaměnili (obrátili) i znaménko nerovnost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98920" y="2631960"/>
            <a:ext cx="3315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  <a:ea typeface="Arial"/>
              </a:rPr>
              <a:t>&lt;&lt;&lt;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41240" y="981000"/>
            <a:ext cx="79218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0304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Ekvivalentní úpravy nerovnic.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1125360"/>
            <a:ext cx="777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ak se tedy změní znění ekvivalentních úprav číslo 4 a 5 pro nerovn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1916280"/>
            <a:ext cx="763272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4. Kořeny nerovnice se nezmění, jestliže obě strany nerovnice vynásobíme či vydělíme stejným kladným číslem nebo mnohočlen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4365720"/>
            <a:ext cx="7632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5. Kořeny nerovnice se nezmění, jestliže obě strany nerovnice vynásobíme či vydělíme stejným záporným číslem nebo mnohočlenem a zároveň obrátíme znaménko nerovnos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5-11T08:00:26Z</dcterms:modified>
  <cp:revision>84</cp:revision>
  <dc:subject/>
  <dc:title>Nerovnice - ekvivalentní úpravy 2</dc:title>
</cp:coreProperties>
</file>