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A30-D903-4635-ABD1-41A11AFB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61A-CB62-487D-9A42-14DCD81F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508-49B6-41C9-B844-9325C077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11D-6B5D-4BBD-AB39-624FB514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DF5-AF83-4290-AEE2-0E7A7BBD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E30E-C360-4724-A8F4-8561B85A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29A-DBE7-49B7-A809-96DEF96A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4D96-1248-4C1B-A36D-2037924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26F-1148-4861-8A3F-F0A0385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4523-0548-4162-96B2-C34D140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1206-AEA3-4787-8B54-C2F73CD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553-5783-4BEF-A2E0-5E2D1F0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EC7-42EE-4D14-9FB4-F9C2E398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3C6-CF9D-4161-A6D7-A24D5DB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4286-7A7E-41D0-9BD9-C8E39FA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CED7-173F-43D8-9E89-C9B94673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FFF7-C03D-403E-994D-AA914EE7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5BB-A3B3-4CC0-9E00-106B0D50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1C9-618E-4CE4-84DD-512FE965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0D0-7DAC-4440-A4C4-BCAEBF4F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81D-A1C8-4550-88EE-C984E37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739-4ED9-479E-9C0A-BEDCFA9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DBC-F10C-4275-9ED5-2C14BA5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50E-2DFE-4D58-A803-4DFCEBC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3444-7D1C-42C7-A9D4-34FBAA3DEE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48320"/>
            <a:ext cx="75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261-B77A-46DD-85A0-D8D7FFD5581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900000" y="6448320"/>
            <a:ext cx="757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84c6a"/>
                </a:solidFill>
                <a:latin typeface="Trebuchet MS"/>
              </a:rPr>
              <a:t>Ne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Ekvivalentní úpravy - 1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měňte levou a pravou stranu nerov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2720" y="191772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1916280"/>
            <a:ext cx="144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79640" y="328608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1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-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x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.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4726080"/>
            <a:ext cx="33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3.(x + 1)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(4x – 2)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9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aměňte levou a pravou stranu nerov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2720" y="191772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1916280"/>
            <a:ext cx="144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79640" y="328608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1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-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x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.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4726080"/>
            <a:ext cx="33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3.(x + 1)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(4x – 2)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78040" y="234936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−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12000" y="234792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7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4200" y="3718080"/>
            <a:ext cx="144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4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3716280"/>
            <a:ext cx="223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x − 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2 -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1480" y="515772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.(x – 1)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32360" y="5157720"/>
            <a:ext cx="331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(4x – 2):2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3.(x +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čtěte k oběma stranám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1917720"/>
            <a:ext cx="15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–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6920" y="1916280"/>
            <a:ext cx="288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–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3716280"/>
            <a:ext cx="3097440" cy="1728720"/>
          </a:xfrm>
          <a:prstGeom prst="cloudCallout">
            <a:avLst>
              <a:gd name="adj1" fmla="val 9097"/>
              <a:gd name="adj2" fmla="val -117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osamostatnili proměnnou, mus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řičíst k oběma stranám nerovnice číslo 3.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36720" y="544500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2. Kořeny nerovnice se nezmění, jestliže k oběma stranám nerovnice při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249228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0400" y="1916280"/>
            <a:ext cx="100944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00720" y="3716280"/>
            <a:ext cx="2879640" cy="1081080"/>
          </a:xfrm>
          <a:prstGeom prst="cloudCallout">
            <a:avLst>
              <a:gd name="adj1" fmla="val 9814"/>
              <a:gd name="adj2" fmla="val -160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dy je vidět, proč se přičítalo právě číslo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čtěte k oběma stranám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9280" y="1917720"/>
            <a:ext cx="187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−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1916280"/>
            <a:ext cx="194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328608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- 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2 +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272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2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–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1800" y="472608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-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 – 2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2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čtěte k oběma stranám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917720"/>
            <a:ext cx="187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−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1916280"/>
            <a:ext cx="194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328608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- 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2 +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092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2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–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1800" y="472608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-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 – 2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0160" y="2278080"/>
            <a:ext cx="33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−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−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76800" y="2276640"/>
            <a:ext cx="324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7,5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2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x – 2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57400" y="3646440"/>
            <a:ext cx="266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– 5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5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- 4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73600" y="364500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 2 +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2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9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60440" y="508644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 2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x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 – 3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0864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- x - 3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+ 3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2 – 2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66840" y="263844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38760" y="263844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9,5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6840" y="4019400"/>
            <a:ext cx="118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68880" y="40194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55920" y="5459400"/>
            <a:ext cx="12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40520" y="5330880"/>
            <a:ext cx="1600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- x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5 –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22840" y="55753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- 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+ 2x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5 – 2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+ 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29520" y="5850000"/>
            <a:ext cx="118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těte od obou stran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47640" y="1917720"/>
            <a:ext cx="20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+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4000" y="1916280"/>
            <a:ext cx="3097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– 2x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+ 2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–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284640"/>
            <a:ext cx="3168720" cy="2160360"/>
          </a:xfrm>
          <a:prstGeom prst="cloudCallout">
            <a:avLst>
              <a:gd name="adj1" fmla="val -10120"/>
              <a:gd name="adj2" fmla="val -89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převedli všechny čle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proměnnou na jednu stranu, musí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dečíst od obou stran nerovnice výraz 2x.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36720" y="544500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2. Kořeny nerovnice se nezmění, jestliže od obou stran nerovnice ode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84800" y="249228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8200" y="1916280"/>
            <a:ext cx="144144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3933720"/>
            <a:ext cx="2879640" cy="1081080"/>
          </a:xfrm>
          <a:prstGeom prst="cloudCallout">
            <a:avLst>
              <a:gd name="adj1" fmla="val 23263"/>
              <a:gd name="adj2" fmla="val -180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dy je vidět, proč se odečítá právě výraz 2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8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těte od obou stran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19280" y="1917720"/>
            <a:ext cx="187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24360" y="1916280"/>
            <a:ext cx="194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328608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+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272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+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1800" y="472608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x +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3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7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těte od obou stran nerovnice stejné číslo (výra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1917720"/>
            <a:ext cx="1874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916280"/>
            <a:ext cx="19432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7,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2360" y="328608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+ 5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3284640"/>
            <a:ext cx="223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2 +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2720" y="4726080"/>
            <a:ext cx="201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1 +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1800" y="4726080"/>
            <a:ext cx="273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4x + 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2 + 3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1600" y="2278080"/>
            <a:ext cx="33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+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− 3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−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−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8440" y="2276640"/>
            <a:ext cx="324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7,5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x + 2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30480" y="3646440"/>
            <a:ext cx="266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+ 5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5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- 4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30840" y="364500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 +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9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32080" y="508644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x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 + 2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78480" y="5086440"/>
            <a:ext cx="252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x + 3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- 3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2 + 3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66840" y="263844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−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38760" y="263844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5,5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38480" y="4019400"/>
            <a:ext cx="118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38840" y="401940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54320" y="5459400"/>
            <a:ext cx="12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56440" y="5330880"/>
            <a:ext cx="167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x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- 1 +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81600" y="5575320"/>
            <a:ext cx="283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4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- 3x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- 1 + 3x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-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5835600"/>
            <a:ext cx="1181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&lt;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1125360"/>
            <a:ext cx="7777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hrňme si tedy první trojici ekvivalentních úprav platných pro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0160" y="216864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 Kořeny nerovnice se nezmění, jestliže zaměníme levou a pravou stranu nerovnice a zároveň obrátíme znaménko nerovnos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0160" y="35226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 Kořeny nerovnice se nezmění, jestliže k oběma stranám nerovnice při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5080" y="5035680"/>
            <a:ext cx="759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. Kořeny nerovnice se nezmění, jestliže od obou stran nerovnice ode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2520" y="1123920"/>
            <a:ext cx="7574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Rovnice je zápis rovnosti dvou výrazů, ve kterém máme najít neznámé číslo (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neznámou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) tak, aby po jeho dosazení za proměnnou daná rovnost platila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Existuje-li takové číslo, nazývá se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řešení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nebo také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kořen rovnice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Zopakujme si nejdříve, čemu říkáme rovn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89600" y="2779560"/>
            <a:ext cx="309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ra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31800" y="2735280"/>
            <a:ext cx="295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x + 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e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3240" y="2692440"/>
            <a:ext cx="64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=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200" y="421956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yní se tedy naskýtá otázka. Jaké číslo můžeme dosadit do našeho příkladu za proměnnou, aby nastala rovn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4080" y="5068800"/>
            <a:ext cx="3773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ešením je tedy číslo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8480" y="5516640"/>
            <a:ext cx="77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dá se to být jednoduché, že? Ovšem my už víme, že rovnice nejsou vždy tak jednoduché a že u složitějších rovnic a při jejich řešení nám musí pomoci ekvivalentní úpr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21160" y="2778120"/>
            <a:ext cx="50472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2506680"/>
            <a:ext cx="2447640" cy="8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80160" y="2951280"/>
            <a:ext cx="863640" cy="1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16680" y="274968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6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81600" y="5054760"/>
            <a:ext cx="27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apíšeme:   x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8400" y="2462040"/>
            <a:ext cx="35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79840" y="246060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457 L 0.20538 0.36855 E">
                                      <p:cBhvr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9840" y="213372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12520" y="1195200"/>
            <a:ext cx="7574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erovnice je obdobně zápis nerovnosti dvou výrazů, ve kterém máme najít všechna čísla dané množiny (</a:t>
            </a:r>
            <a:r>
              <a:rPr b="0" i="1" lang="en-US" sz="2000" spc="-1" strike="noStrike">
                <a:solidFill>
                  <a:srgbClr val="284c6a"/>
                </a:solidFill>
                <a:latin typeface="Trebuchet MS"/>
              </a:rPr>
              <a:t>neznámé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), po jejichž dosazení za proměnnou bude daná nerovnost platit. </a:t>
            </a:r>
            <a:br>
              <a:rPr sz="2000"/>
            </a:b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 nyní tedy, co je to nerov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89600" y="2452680"/>
            <a:ext cx="3398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ravá strana ne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408400"/>
            <a:ext cx="3441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x + 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evá strana ne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2365200"/>
            <a:ext cx="6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gt;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4200" y="364500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yní se tedy naskýtá otázka. Jaké číslo můžeme dosadit do našeho příkladu za proměnnou, aby vzniklá nerovnost plati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1480" y="4465800"/>
            <a:ext cx="509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ešením může být tedy číslo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8480" y="476244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to jediné číslo, které můžeme dosad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21160" y="2451240"/>
            <a:ext cx="50472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7960" y="2179800"/>
            <a:ext cx="2447640" cy="820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80160" y="2623680"/>
            <a:ext cx="863640" cy="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6680" y="242244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78400" y="2135160"/>
            <a:ext cx="35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720" y="55767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amozřejmě, že ne. Takových čísel, která můžeme dosadit za proměnnou, aby vzniklá nerovnost platila, je mnoho, lépe řečeno nekonečně mnoho. Říkáme, že jde o množinu čísel, množinu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789360"/>
            <a:ext cx="4751280" cy="2592360"/>
          </a:xfrm>
          <a:prstGeom prst="cloudCallout">
            <a:avLst>
              <a:gd name="adj1" fmla="val 25208"/>
              <a:gd name="adj2" fmla="val -86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ísto znaménka = (rovná se) se v nerovnicích objevují znamén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ž)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ž),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bo rovno) nebo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bo rov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3699E-006 L 0.34879 0.33041 E">
                                      <p:cBhvr>
                                        <p:cTn id="17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05264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ice se snažíme řešit podobně jako rovnice, to znamená pomocí ekvivalentních úprav je převést na jednodušší tvar, z něhož jsme schopni určit řešení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1989000"/>
            <a:ext cx="7777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opakujme si tedy, které ekvivalentní úpravy rovnic 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160" y="227664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ořeny rovnice se nezmění, jestliže zaměníme levou a pravou stranu 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160" y="306864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ořeny rovnice se nezmění, jestliže k oběma stranám rovnice při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5080" y="3860640"/>
            <a:ext cx="759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ořeny rovnice se nezmění, jestliže od obou stran rovnice ode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8960" y="4795920"/>
            <a:ext cx="788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ořeny rovnice se nezmění, jestliže obě strany rovnice vynásob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5320" y="5646600"/>
            <a:ext cx="7602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ořeny rovnice se nezmění, jestliže obě strany rovnice vyděl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ak se změní ekvivalentní úpravy při řešení nerovn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ořeny rovnice se nezmění, jestliže zaměníme levou a pravou stranu 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1989000"/>
            <a:ext cx="3671640" cy="2087640"/>
          </a:xfrm>
          <a:prstGeom prst="cloudCallout">
            <a:avLst>
              <a:gd name="adj1" fmla="val -92194"/>
              <a:gd name="adj2" fmla="val -236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k jsme si řekli již na jedn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předcházejících snímků, řešením této nerovnice by mohlo být číslo 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494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5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93760" y="2938320"/>
            <a:ext cx="129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09960" y="3718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502080"/>
            <a:ext cx="633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aměňme nyní tedy levou a pravou stranu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149720"/>
            <a:ext cx="3529080" cy="1800360"/>
          </a:xfrm>
          <a:prstGeom prst="cloudCallout">
            <a:avLst>
              <a:gd name="adj1" fmla="val -78699"/>
              <a:gd name="adj2" fmla="val -507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ďme číslo 5 a ověřme, zda bude nerovnost platit i po provedené záměně str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415116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5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458316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30064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neplatí, a tudíž ani 1. ekvivalentní úprava tak, jak jsme ji používali u rovnic, nepla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877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by však platila, kdybychom kromě záměny levé a pravé strany nerovnice, zaměnili (otočili) i znaménko nerovno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25680" y="3860640"/>
            <a:ext cx="331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Arial"/>
              </a:rPr>
              <a:t>&lt;&lt;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052640"/>
            <a:ext cx="7705800" cy="55411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ro nerovnice tedy platí, 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ořeny nerovnice se nezmění, jestliže zaměníme levou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pravou stranu nerovnice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 zároveň obrátíme znaménko nerovnost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yní se podívejme na 2. ekvivalentní úpra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ořeny rovnice se nezmění, jestliže k oběma stranám rovnice při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2133720"/>
            <a:ext cx="2879640" cy="1584360"/>
          </a:xfrm>
          <a:prstGeom prst="cloudCallout">
            <a:avLst>
              <a:gd name="adj1" fmla="val -100055"/>
              <a:gd name="adj2" fmla="val -26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ičteme k oběma stranám nerovnice čísl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5720" y="249408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+ 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14972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 tomto případě nerovnost platí, a tudíž 2. ekvivalentní úprava platí i u nerov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724280"/>
            <a:ext cx="763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Kořeny nerovnice se nezmění, jestliže k oběma stranám nerovnice přičteme stejné číslo nebo mnohoč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1773360"/>
            <a:ext cx="3240000" cy="2376360"/>
          </a:xfrm>
          <a:prstGeom prst="cloudCallout">
            <a:avLst>
              <a:gd name="adj1" fmla="val -94486"/>
              <a:gd name="adj2" fmla="val -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41320" y="29401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5 + 2 + 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3373560"/>
            <a:ext cx="14986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10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 řadě je 3. ekvivalentní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ořeny rovnice se nezmění, jestliže od obou stran rovnice ode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5720" y="249408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− 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 −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414972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 tomto případě nerovnost také platí, a tudíž 3. ekvivalentní úprava platí i u nerov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4724280"/>
            <a:ext cx="763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Kořeny nerovnice se nezmění, jestliže od obou stran nerovnice odečteme stejné číslo nebo mnohoč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−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1773360"/>
            <a:ext cx="3240000" cy="2376360"/>
          </a:xfrm>
          <a:prstGeom prst="cloudCallout">
            <a:avLst>
              <a:gd name="adj1" fmla="val -94486"/>
              <a:gd name="adj2" fmla="val -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1320" y="29401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5 + 2 − 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 −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09960" y="3373560"/>
            <a:ext cx="14983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3080" y="2133720"/>
            <a:ext cx="2879640" cy="1584360"/>
          </a:xfrm>
          <a:prstGeom prst="cloudCallout">
            <a:avLst>
              <a:gd name="adj1" fmla="val -100055"/>
              <a:gd name="adj2" fmla="val -26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dečteme od obou stran nerovnice čísl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125360"/>
            <a:ext cx="7777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 závěr si tedy ještě jednou shrňme trojici prvních ekvivalentních úprav platných pro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0160" y="216864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 Kořeny nerovnice se nezmění, jestliže zaměníme levou a pravou stranu nerovnice a zároveň obrátíme znaménko nerovnosti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0160" y="35226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 Kořeny nerovnice se nezmění, jestliže k oběma stranám nerovnice při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5080" y="5035680"/>
            <a:ext cx="759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. Kořeny nerovnice se nezmění, jestliže od obou stran nerovnice ode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1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480960" y="1052640"/>
            <a:ext cx="746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měňte levou a pravou stranu ne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1917720"/>
            <a:ext cx="11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3860640"/>
            <a:ext cx="3024360" cy="1368720"/>
          </a:xfrm>
          <a:prstGeom prst="cloudCallout">
            <a:avLst>
              <a:gd name="adj1" fmla="val 8111"/>
              <a:gd name="adj2" fmla="val -151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leva dopra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je větší než 3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6920" y="1916280"/>
            <a:ext cx="1152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21440" y="3860640"/>
            <a:ext cx="3022560" cy="1513080"/>
          </a:xfrm>
          <a:prstGeom prst="cloudCallout">
            <a:avLst>
              <a:gd name="adj1" fmla="val -20902"/>
              <a:gd name="adj2" fmla="val -1450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leva dopra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je menší než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prava dole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je větší než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3024360" cy="1368720"/>
          </a:xfrm>
          <a:prstGeom prst="cloudCallout">
            <a:avLst>
              <a:gd name="adj1" fmla="val 8111"/>
              <a:gd name="adj2" fmla="val -151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leva dopra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je větší než 3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3860640"/>
            <a:ext cx="3022560" cy="1513080"/>
          </a:xfrm>
          <a:prstGeom prst="cloudCallout">
            <a:avLst>
              <a:gd name="adj1" fmla="val -20902"/>
              <a:gd name="adj2" fmla="val -1450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leva dopra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je menší než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ři čtení zprava dole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je větší než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36720" y="544500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1. Kořeny nerovnice se nezmění, jestliže zaměníme levou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a pravou stranu nerovnice a zároveň obrátíme znaménko nerov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4-21T08:00:33Z</dcterms:modified>
  <cp:revision>74</cp:revision>
  <dc:subject/>
  <dc:title>Nerovnice - ekvivalentní úpravy 1</dc:title>
</cp:coreProperties>
</file>