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959-2F30-4484-B881-E40A27C8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FF6-F3D3-47C1-9343-FED2004B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BB6-6DB9-4F8E-983E-8177A892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051-5DE5-4AF0-8650-B65311B0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FAB6-FE05-4B9D-B55A-4FE7C438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C5C0-54E1-4B6B-9F2A-34C3F4BD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6114-8779-4C83-9D51-377AA74C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42D1-D771-4AA2-84FA-5B5E591C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715E-F1C5-46CC-98A9-54786D67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452D-11D4-4B7E-9466-CBA1C049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366D-265C-4B24-B435-B9542F6C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11B-3726-41B4-B142-403E70E6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EA24-9415-4F44-832D-43AA3648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5C64-3D4D-4F26-A43E-BF21EFFD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CDE5-7850-40E5-90B5-99DE1E3E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92E7-A42D-4197-8B95-036A3602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6568-4EDD-429F-85DA-1575EA99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494-64D7-48F0-9096-A703FC8F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3B3-2BEC-4EA8-9D9D-3622BAFB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4C3-63CB-4C4E-B5AF-526260AA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C73-7C14-45EC-907C-A6EC376B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2D2-5713-4029-9A4C-531A7845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3F1-A755-4DF6-A26D-6F013EDD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587-35D5-4DB0-9504-0CF8E6E9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AFD6-D9B4-4FF0-AF71-13D714ABBE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8B5B-3974-4B51-A49B-09588EA62165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Dělitelnost přirozených čísel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Největší společný dělitel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Název souboru: j0429829.wmf&#13;Klí&amp;ccaron;ová slova: &amp;ccaron;íslo jedna, emoce, emotikony ...&#13;Velikost souboru: 36 kB"/>
          <p:cNvPicPr/>
          <p:nvPr/>
        </p:nvPicPr>
        <p:blipFill>
          <a:blip r:embed="rId2"/>
          <a:stretch/>
        </p:blipFill>
        <p:spPr>
          <a:xfrm>
            <a:off x="7451640" y="1268280"/>
            <a:ext cx="1379520" cy="13795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611280" y="549360"/>
            <a:ext cx="835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ostup hledání největšího společného děli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1280" y="836640"/>
            <a:ext cx="820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 č. 3: Najděte všechny dělitele čísel 18, 70 a 7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96000" y="5157720"/>
            <a:ext cx="4140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D(18, 70, 75) = 1</a:t>
            </a:r>
            <a:br>
              <a:rPr sz="2400"/>
            </a:br>
            <a:r>
              <a:rPr b="1" lang="en-US" sz="2300" spc="-1" strike="noStrike">
                <a:solidFill>
                  <a:srgbClr val="284c6a"/>
                </a:solidFill>
                <a:latin typeface="Trebuchet MS"/>
              </a:rPr>
              <a:t>Největší společný dělitel čísel 18, 70 a 75 je číslo 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4360" y="3500280"/>
            <a:ext cx="39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18 = 2 . 3 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84360" y="3932280"/>
            <a:ext cx="39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70 = 2 .           5 .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41240" y="4938480"/>
            <a:ext cx="3759480" cy="140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85960" y="4924440"/>
            <a:ext cx="1238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D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47640" y="1614600"/>
            <a:ext cx="6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39920" y="1685880"/>
            <a:ext cx="1800" cy="174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311560" y="16146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49600" y="2001960"/>
            <a:ext cx="502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1560" y="20034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749600" y="2390760"/>
            <a:ext cx="43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325600" y="23907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49600" y="2809800"/>
            <a:ext cx="488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68360" y="1643040"/>
            <a:ext cx="503280" cy="14256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76520" y="16146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83200" y="1685880"/>
            <a:ext cx="1440" cy="172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54480" y="16146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76520" y="20019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254480" y="20034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664080" y="2390760"/>
            <a:ext cx="43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68880" y="23907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706920" y="2809800"/>
            <a:ext cx="345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11640" y="1643040"/>
            <a:ext cx="503280" cy="14256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92880" y="1614600"/>
            <a:ext cx="72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99200" y="1685880"/>
            <a:ext cx="1440" cy="17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270480" y="1614600"/>
            <a:ext cx="6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492880" y="20019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70480" y="2003400"/>
            <a:ext cx="6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08520" y="2390760"/>
            <a:ext cx="4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84880" y="23907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694480" y="2809800"/>
            <a:ext cx="417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227640" y="1643040"/>
            <a:ext cx="503280" cy="14256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4360" y="4363920"/>
            <a:ext cx="39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75 =      3 .      5 .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71640" y="5373720"/>
            <a:ext cx="4032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astala nová situace. Žádný sloupeček není plně obsazen ve všech řádcích. Co to znamená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897440" y="3933720"/>
            <a:ext cx="403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84c6a"/>
                </a:solidFill>
                <a:latin typeface="Trebuchet MS"/>
              </a:rPr>
              <a:t>Jediným společným dělitelem všech čísel je </a:t>
            </a:r>
            <a:br>
              <a:rPr sz="2300"/>
            </a:br>
            <a:r>
              <a:rPr b="1" lang="en-US" sz="2300" spc="-1" strike="noStrike">
                <a:solidFill>
                  <a:srgbClr val="284c6a"/>
                </a:solidFill>
                <a:latin typeface="Trebuchet MS"/>
              </a:rPr>
              <a:t>v takovém případě číslo 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0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500"/>
                            </p:stCondLst>
                            <p:childTnLst>
                              <p:par>
                                <p:cTn id="1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Název souboru: j0428123.wmf&#13;Klí&amp;ccaron;ová slova: emoce, emotikony, gesta ...&#13;Velikost souboru: 52 kB"/>
          <p:cNvPicPr/>
          <p:nvPr/>
        </p:nvPicPr>
        <p:blipFill>
          <a:blip r:embed="rId2"/>
          <a:stretch/>
        </p:blipFill>
        <p:spPr>
          <a:xfrm>
            <a:off x="7020000" y="447840"/>
            <a:ext cx="1901880" cy="19015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Čísla soudělná a nesoudělná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6920" y="2927520"/>
            <a:ext cx="82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Číslům, která nemají žádného společného dělitele kromě čísla 1, říkám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čísla nesoudělná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26920" y="1631880"/>
            <a:ext cx="7705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D(18, 70, 75) = 1</a:t>
            </a:r>
            <a:br>
              <a:rPr sz="2400"/>
            </a:br>
            <a:r>
              <a:rPr b="1" lang="en-US" sz="2300" spc="-1" strike="noStrike">
                <a:solidFill>
                  <a:srgbClr val="284c6a"/>
                </a:solidFill>
                <a:latin typeface="Trebuchet MS"/>
              </a:rPr>
              <a:t>Největší společný dělitel čísel 18, 70 a 75 je číslo 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26920" y="5230800"/>
            <a:ext cx="82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Číslům, která mají i většího společného dělitele, než číslo 1, říkám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čísla soudělná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26920" y="3935520"/>
            <a:ext cx="7705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D(24, 36, 60) = 12</a:t>
            </a:r>
            <a:br>
              <a:rPr sz="2400"/>
            </a:br>
            <a:r>
              <a:rPr b="1" lang="en-US" sz="2300" spc="-1" strike="noStrike">
                <a:solidFill>
                  <a:srgbClr val="284c6a"/>
                </a:solidFill>
                <a:latin typeface="Trebuchet MS"/>
              </a:rPr>
              <a:t>Největší společný dělitel čísel 24, 36 a 60 je číslo 12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00"/>
                            </p:stCondLst>
                            <p:childTnLst>
                              <p:par>
                                <p:cTn id="13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Název souboru: j0432640.png&#13;Klí&amp;ccaron;ová slova: &amp;ccaron;ervené pastelky, ikony, kancelá&amp;rcaron;e ...&#13;Velikost souboru: 32 kB"/>
          <p:cNvPicPr/>
          <p:nvPr/>
        </p:nvPicPr>
        <p:blipFill>
          <a:blip r:embed="rId2"/>
          <a:stretch/>
        </p:blipFill>
        <p:spPr>
          <a:xfrm>
            <a:off x="6732720" y="44085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pr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39640" y="981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hodněte, zda se jedná o čísla soudělná či nesoudělná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877080" y="1413000"/>
            <a:ext cx="187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65, 1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88000" y="5646600"/>
            <a:ext cx="187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508720" y="1844640"/>
            <a:ext cx="324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(Až budeš hotov, klikni, zkontrolujeme výsledek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dru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981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hodněte, zda se jedná o čísla soudělná či nesoudělná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659640" y="1484280"/>
            <a:ext cx="180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69, 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Název souboru: j0432640.png&#13;Klí&amp;ccaron;ová slova: &amp;ccaron;ervené pastelky, ikony, kancelá&amp;rcaron;e ...&#13;Velikost souboru: 32 kB"/>
          <p:cNvPicPr/>
          <p:nvPr/>
        </p:nvPicPr>
        <p:blipFill>
          <a:blip r:embed="rId2"/>
          <a:stretch/>
        </p:blipFill>
        <p:spPr>
          <a:xfrm>
            <a:off x="6732720" y="44085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6732720" y="5646600"/>
            <a:ext cx="187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08720" y="1916280"/>
            <a:ext cx="32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(Až budeš hotov, klikni, zkontrolujeme výsledek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500"/>
                            </p:stCondLst>
                            <p:childTnLst>
                              <p:par>
                                <p:cTn id="1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Název souboru: j0432663.png&#13;Klí&amp;ccaron;ová slova: ikony, kancelá&amp;rcaron;e, kancelá&amp;rcaron;ské pot&amp;rcaron;eby ...&#13;Velikost souboru: 30 kB"/>
          <p:cNvPicPr/>
          <p:nvPr/>
        </p:nvPicPr>
        <p:blipFill>
          <a:blip r:embed="rId2"/>
          <a:stretch/>
        </p:blipFill>
        <p:spPr>
          <a:xfrm>
            <a:off x="673272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tře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981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lezněte největšího společného dělitele čís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27640" y="950760"/>
            <a:ext cx="18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35, 5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88000" y="5705640"/>
            <a:ext cx="2923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(135, 525)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508720" y="1384200"/>
            <a:ext cx="324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(Až budeš hotov, klikni, zkontrolujeme výsledek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0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Název souboru: j0432663.png&#13;Klí&amp;ccaron;ová slova: ikony, kancelá&amp;rcaron;e, kancelá&amp;rcaron;ské pot&amp;rcaron;eby ...&#13;Velikost souboru: 30 kB"/>
          <p:cNvPicPr/>
          <p:nvPr/>
        </p:nvPicPr>
        <p:blipFill>
          <a:blip r:embed="rId2"/>
          <a:stretch/>
        </p:blipFill>
        <p:spPr>
          <a:xfrm>
            <a:off x="673272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čtvr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9640" y="981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lezněte největšího společného dělitele čís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141960" y="98100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175, 450, 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356000" y="5734080"/>
            <a:ext cx="3270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(175, 450, 225) =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508720" y="1398600"/>
            <a:ext cx="324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(Až budeš hotov, klikni, zkontrolujeme výsledek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0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Úvodní opak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1700280"/>
            <a:ext cx="7561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Dělitelem daného čísla označujeme takové číslo, které dělí dané číslo beze zbytku, tzn. číslo, jímž je dané číslo dělitelné.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1253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Děli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293688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20 : 5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79920" y="322272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2720" y="35258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62520" y="29368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3843360"/>
            <a:ext cx="360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Číslo 120 je dělitelné číslem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4148280"/>
            <a:ext cx="360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Číslo 5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je dělitelem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čísla 1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48280" y="293832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4360" y="4740120"/>
            <a:ext cx="39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20 = 24 .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5229360"/>
            <a:ext cx="2162520" cy="1152360"/>
          </a:xfrm>
          <a:prstGeom prst="cloudCallout">
            <a:avLst>
              <a:gd name="adj1" fmla="val 67328"/>
              <a:gd name="adj2" fmla="val -53305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ásobek čísel 5 a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67280" y="5516640"/>
            <a:ext cx="1871640" cy="863640"/>
          </a:xfrm>
          <a:prstGeom prst="cloudCallout">
            <a:avLst>
              <a:gd name="adj1" fmla="val -19550"/>
              <a:gd name="adj2" fmla="val -89337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dělitel čísla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0360" y="5084640"/>
            <a:ext cx="1798560" cy="865440"/>
          </a:xfrm>
          <a:prstGeom prst="cloudCallout">
            <a:avLst>
              <a:gd name="adj1" fmla="val -87069"/>
              <a:gd name="adj2" fmla="val -37708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dělitel čísla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polečný děl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2565360"/>
            <a:ext cx="820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3 je dělitelem čísla 24 a současně je dělitelem čísla 36. Můžeme proto říci, že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číslo 3 je společným dělitelem čísel 24 a 36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253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Mějme čísla 24 a 3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08080" y="155736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4 : 3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184320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15573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16440" y="155736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6 : 3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30840" y="18432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18040" y="21463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70600" y="15573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155880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64320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Obdobně to platí pro jakýkoliv počet přirozených čísel. Mějme čísla 24, 36 a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5227560"/>
            <a:ext cx="7705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3 je dělitelem čísel 24 i 36 a současně je i dělitelem čísla 60. Můžeme proto říci, že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číslo 3 je společným dělitelem čísel 24, 36 a 60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421956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4 : 3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7560" y="450540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95560" y="42195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21956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6 : 3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22760" y="45054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09960" y="48085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62520" y="42195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48280" y="422100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3640" y="421956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0 : 3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58040" y="450540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45240" y="48085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97800" y="42195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83560" y="422100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polečný děl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1125360"/>
            <a:ext cx="777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Přirozené číslo se nazývá společný dělitel daných přirozených čísel, právě když dělí všechna daná čísla beze zbyt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2349360"/>
            <a:ext cx="777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Jinými slovy: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Společný dělitel dvou (nebo více) přirozených čísel je každé číslo, jímž jsou všechna daná čísla dělitel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3933720"/>
            <a:ext cx="777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Existuje společný dělitel dvou a více čísel vž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4365720"/>
            <a:ext cx="7777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i odpovědi nám pomůže odpověď na jinou otázku: Existuje číslo, které je dělitelem všech číse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4941720"/>
            <a:ext cx="7777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Každé číslo je dělitelné číslem 1 a samo seb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5229360"/>
            <a:ext cx="777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Daná přirozená čísla mají tedy vždy alespoň jednoho společného dělitele. Je jím číslo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68800" y="4968720"/>
            <a:ext cx="289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polečný děl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1168560"/>
            <a:ext cx="835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1: </a:t>
            </a: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Najděte všechny společné dělitele čísel 18 a 3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71720" y="2031840"/>
            <a:ext cx="692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03720" y="244944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27280" y="24494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40080" y="2478240"/>
            <a:ext cx="1439640" cy="1873080"/>
            <a:chOff x="2440080" y="2478240"/>
            <a:chExt cx="1439640" cy="1873080"/>
          </a:xfrm>
        </p:grpSpPr>
        <p:sp>
          <p:nvSpPr>
            <p:cNvPr id="141" name=""/>
            <p:cNvSpPr/>
            <p:nvPr/>
          </p:nvSpPr>
          <p:spPr>
            <a:xfrm>
              <a:off x="2440080" y="247824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59000" y="2478240"/>
              <a:ext cx="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11280" y="1700280"/>
            <a:ext cx="741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Rozložíme čísla na všechny možné kombinace součinu dvou čís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76520" y="29401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9401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76520" y="34434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34434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30840" y="2031840"/>
            <a:ext cx="691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24494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86400" y="244944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398840" y="2478240"/>
            <a:ext cx="1439640" cy="1873080"/>
            <a:chOff x="4398840" y="2478240"/>
            <a:chExt cx="1439640" cy="1873080"/>
          </a:xfrm>
        </p:grpSpPr>
        <p:sp>
          <p:nvSpPr>
            <p:cNvPr id="152" name=""/>
            <p:cNvSpPr/>
            <p:nvPr/>
          </p:nvSpPr>
          <p:spPr>
            <a:xfrm>
              <a:off x="4398840" y="247824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17760" y="2478240"/>
              <a:ext cx="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262480" y="29401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86400" y="294012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76880" y="34434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86400" y="344340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39322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86400" y="393228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12880" y="25081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9920" y="250812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12880" y="30052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9920" y="300528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8840" y="350820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65520" y="350820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62480" y="350208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29160" y="3998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451008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Čísla 18 a 30 mají 4 společné dělitele: 1, 2, 3 a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494172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jvětší společný dělitel je číslo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5589720"/>
            <a:ext cx="784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Číslo 6 je dělitelné všemi ostatními společnými dělite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polečný děl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052640"/>
            <a:ext cx="835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2: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jděte všechny společné dělitele čísel 24, 36 a 6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19360" y="1887480"/>
            <a:ext cx="692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1360" y="2305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74920" y="2305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087720" y="2333520"/>
            <a:ext cx="1439640" cy="1873440"/>
            <a:chOff x="3087720" y="2333520"/>
            <a:chExt cx="1439640" cy="1873440"/>
          </a:xfrm>
        </p:grpSpPr>
        <p:sp>
          <p:nvSpPr>
            <p:cNvPr id="177" name=""/>
            <p:cNvSpPr/>
            <p:nvPr/>
          </p:nvSpPr>
          <p:spPr>
            <a:xfrm>
              <a:off x="3087720" y="233352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6640" y="2333520"/>
              <a:ext cx="0" cy="18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11280" y="1555920"/>
            <a:ext cx="8208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Opět rozložíme čísla na všechny možné kombinace součinu dvou čís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0" y="27957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4920" y="27957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24160" y="329868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4920" y="329868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78480" y="1887480"/>
            <a:ext cx="692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2305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34040" y="2305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046840" y="2333520"/>
            <a:ext cx="1439640" cy="2390400"/>
            <a:chOff x="5046840" y="2333520"/>
            <a:chExt cx="1439640" cy="2390400"/>
          </a:xfrm>
        </p:grpSpPr>
        <p:sp>
          <p:nvSpPr>
            <p:cNvPr id="188" name=""/>
            <p:cNvSpPr/>
            <p:nvPr/>
          </p:nvSpPr>
          <p:spPr>
            <a:xfrm>
              <a:off x="5046840" y="233352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65760" y="2333520"/>
              <a:ext cx="0" cy="23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910120" y="27957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34040" y="27957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24520" y="329868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34040" y="329868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83280" y="37879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34040" y="37879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60880" y="23637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27560" y="23637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60880" y="28605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27560" y="286056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60880" y="33638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27560" y="336384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62320" y="38577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34040" y="38545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4941720"/>
            <a:ext cx="58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Čísla 24, 36 a 60 mají 6 společných dělitelů: 1, 2, 3, 4, 6 a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554508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jvětší společný dělitel je číslo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596412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Číslo 12 je dělitelné všemi ostatními společnými dělite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51560" y="1887480"/>
            <a:ext cx="692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783560" y="2305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07120" y="23050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919920" y="2333520"/>
            <a:ext cx="1439640" cy="2895480"/>
            <a:chOff x="6919920" y="2333520"/>
            <a:chExt cx="1439640" cy="2895480"/>
          </a:xfrm>
        </p:grpSpPr>
        <p:sp>
          <p:nvSpPr>
            <p:cNvPr id="211" name=""/>
            <p:cNvSpPr/>
            <p:nvPr/>
          </p:nvSpPr>
          <p:spPr>
            <a:xfrm>
              <a:off x="6919920" y="233352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38840" y="233352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783560" y="27957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07120" y="27957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797960" y="3298680"/>
            <a:ext cx="57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07120" y="329868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797960" y="378792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07120" y="37879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01000" y="23637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01000" y="28605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01000" y="33638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07120" y="38545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24160" y="37879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74920" y="37879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83280" y="42642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34040" y="42498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97960" y="426420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07120" y="42642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0" y="47689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21520" y="47689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24160" y="386064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34040" y="432900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07120" y="48481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51440" y="28605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8120" y="336384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91560" y="433548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Největší společný děl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1052640"/>
            <a:ext cx="820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ak jsme viděli v příkladech na předcházejících snímcích, společných dělitelů mohou mít daná čísla i několi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1901880"/>
            <a:ext cx="82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jvětšímu ze všech společných dělitelů několika čísel říkáme největší společný dělitel těchto čí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2622600"/>
            <a:ext cx="820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aždý jiný společný dělitel je jeho dělite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71640" y="3357720"/>
            <a:ext cx="2415960" cy="1223640"/>
            <a:chOff x="971640" y="3357720"/>
            <a:chExt cx="2415960" cy="1223640"/>
          </a:xfrm>
        </p:grpSpPr>
        <p:sp>
          <p:nvSpPr>
            <p:cNvPr id="242" name=""/>
            <p:cNvSpPr/>
            <p:nvPr/>
          </p:nvSpPr>
          <p:spPr>
            <a:xfrm>
              <a:off x="1266840" y="3357720"/>
              <a:ext cx="474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63840" y="3570120"/>
              <a:ext cx="39528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18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00160" y="3570120"/>
              <a:ext cx="39528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971640" y="3584520"/>
              <a:ext cx="987480" cy="954000"/>
              <a:chOff x="971640" y="3584520"/>
              <a:chExt cx="987480" cy="954000"/>
            </a:xfrm>
          </p:grpSpPr>
          <p:sp>
            <p:nvSpPr>
              <p:cNvPr id="246" name=""/>
              <p:cNvSpPr/>
              <p:nvPr/>
            </p:nvSpPr>
            <p:spPr>
              <a:xfrm>
                <a:off x="971640" y="3584520"/>
                <a:ext cx="98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464480" y="3584520"/>
                <a:ext cx="0" cy="9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1682640" y="3819600"/>
              <a:ext cx="3938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9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00160" y="3819600"/>
              <a:ext cx="3952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82640" y="4075200"/>
              <a:ext cx="3938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6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00160" y="4075200"/>
              <a:ext cx="3952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10000" y="3357720"/>
              <a:ext cx="474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06640" y="3570120"/>
              <a:ext cx="393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3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43320" y="3570120"/>
              <a:ext cx="39348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2314440" y="3584520"/>
              <a:ext cx="986040" cy="954000"/>
              <a:chOff x="2314440" y="3584520"/>
              <a:chExt cx="986040" cy="954000"/>
            </a:xfrm>
          </p:grpSpPr>
          <p:sp>
            <p:nvSpPr>
              <p:cNvPr id="256" name=""/>
              <p:cNvSpPr/>
              <p:nvPr/>
            </p:nvSpPr>
            <p:spPr>
              <a:xfrm>
                <a:off x="2314440" y="3584520"/>
                <a:ext cx="98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06560" y="3584520"/>
                <a:ext cx="0" cy="9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2906640" y="3819600"/>
              <a:ext cx="3938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15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43320" y="3819600"/>
              <a:ext cx="393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16360" y="4075200"/>
              <a:ext cx="393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1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43320" y="4075200"/>
              <a:ext cx="393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92320" y="4324320"/>
              <a:ext cx="3952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6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43320" y="4324320"/>
              <a:ext cx="393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90440" y="3600360"/>
              <a:ext cx="260640" cy="193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38280" y="3600360"/>
              <a:ext cx="260640" cy="193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90440" y="3852720"/>
              <a:ext cx="260640" cy="193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38280" y="3852720"/>
              <a:ext cx="260640" cy="193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81080" y="4108320"/>
              <a:ext cx="260280" cy="193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28920" y="4108320"/>
              <a:ext cx="260280" cy="193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71480" y="4105440"/>
              <a:ext cx="262080" cy="193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87640" y="4359240"/>
              <a:ext cx="262080" cy="193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743360" y="3357720"/>
            <a:ext cx="3500280" cy="1726560"/>
            <a:chOff x="4743360" y="3357720"/>
            <a:chExt cx="3500280" cy="1726560"/>
          </a:xfrm>
        </p:grpSpPr>
        <p:sp>
          <p:nvSpPr>
            <p:cNvPr id="273" name=""/>
            <p:cNvSpPr/>
            <p:nvPr/>
          </p:nvSpPr>
          <p:spPr>
            <a:xfrm>
              <a:off x="5028120" y="3357720"/>
              <a:ext cx="4572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13600" y="357048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24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66840" y="357048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743360" y="3584880"/>
              <a:ext cx="950760" cy="955080"/>
              <a:chOff x="4743360" y="3584880"/>
              <a:chExt cx="950760" cy="955080"/>
            </a:xfrm>
          </p:grpSpPr>
          <p:sp>
            <p:nvSpPr>
              <p:cNvPr id="277" name=""/>
              <p:cNvSpPr/>
              <p:nvPr/>
            </p:nvSpPr>
            <p:spPr>
              <a:xfrm>
                <a:off x="4743360" y="3584880"/>
                <a:ext cx="95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218200" y="3584880"/>
                <a:ext cx="0" cy="9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5314680" y="382068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1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66840" y="382068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27720" y="407736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8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66840" y="407736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21960" y="3357720"/>
              <a:ext cx="4572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3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07080" y="357048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36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60680" y="357048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6037200" y="3584880"/>
              <a:ext cx="950760" cy="955080"/>
              <a:chOff x="6037200" y="3584880"/>
              <a:chExt cx="950760" cy="955080"/>
            </a:xfrm>
          </p:grpSpPr>
          <p:sp>
            <p:nvSpPr>
              <p:cNvPr id="287" name=""/>
              <p:cNvSpPr/>
              <p:nvPr/>
            </p:nvSpPr>
            <p:spPr>
              <a:xfrm>
                <a:off x="6037200" y="3584880"/>
                <a:ext cx="95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512040" y="3584880"/>
                <a:ext cx="0" cy="9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6607080" y="382068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18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60680" y="382068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16800" y="407736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1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60680" y="407736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21560" y="432684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9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60680" y="432684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57480" y="3600360"/>
              <a:ext cx="251280" cy="194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56360" y="3600360"/>
              <a:ext cx="251640" cy="194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57480" y="3853800"/>
              <a:ext cx="251280" cy="194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56360" y="3853800"/>
              <a:ext cx="251640" cy="194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57480" y="4110480"/>
              <a:ext cx="251280" cy="194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56360" y="4110480"/>
              <a:ext cx="251640" cy="194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8560" y="4362120"/>
              <a:ext cx="251280" cy="194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60680" y="4360680"/>
              <a:ext cx="251280" cy="194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59280" y="3357720"/>
              <a:ext cx="4572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4400" y="357048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6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97640" y="357048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7274160" y="3584880"/>
              <a:ext cx="950760" cy="955080"/>
              <a:chOff x="7274160" y="3584880"/>
              <a:chExt cx="950760" cy="955080"/>
            </a:xfrm>
          </p:grpSpPr>
          <p:sp>
            <p:nvSpPr>
              <p:cNvPr id="307" name=""/>
              <p:cNvSpPr/>
              <p:nvPr/>
            </p:nvSpPr>
            <p:spPr>
              <a:xfrm>
                <a:off x="7274160" y="3584880"/>
                <a:ext cx="95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749000" y="3584880"/>
                <a:ext cx="0" cy="9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7844400" y="382068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3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97640" y="382068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54120" y="4077360"/>
              <a:ext cx="3801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2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97640" y="407736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54120" y="4326840"/>
              <a:ext cx="3801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15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97640" y="432684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3680" y="3600360"/>
              <a:ext cx="251280" cy="194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93680" y="3853800"/>
              <a:ext cx="251280" cy="194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93680" y="4110480"/>
              <a:ext cx="251280" cy="194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97640" y="4360680"/>
              <a:ext cx="251640" cy="194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27720" y="432684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6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66840" y="432684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21560" y="456948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6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60680" y="456228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54120" y="4569480"/>
              <a:ext cx="3801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1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97640" y="456948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63120" y="482688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1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07360" y="4826880"/>
              <a:ext cx="3805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00"/>
                  </a:solidFill>
                  <a:latin typeface="Trebuchet MS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27720" y="4363920"/>
              <a:ext cx="251640" cy="194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60680" y="4602960"/>
              <a:ext cx="251280" cy="194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97640" y="4867560"/>
              <a:ext cx="251640" cy="194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79840" y="3853800"/>
              <a:ext cx="251280" cy="194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78360" y="4110480"/>
              <a:ext cx="251640" cy="194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15680" y="4606200"/>
              <a:ext cx="251280" cy="194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54200" y="4581360"/>
            <a:ext cx="388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apisujeme: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D(18, 30)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4200" y="5315040"/>
            <a:ext cx="3889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Čteme: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Největší společný dělitel čísel 18 a 30 je číslo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27640" y="4984920"/>
            <a:ext cx="4716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apisujeme: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D(24, 36, 60)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27640" y="5545080"/>
            <a:ext cx="453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Čteme: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Největší společný dělitel čísel 18, 36 a 60 je číslo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11280" y="549360"/>
            <a:ext cx="835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ostup hledání největšího společného děli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1280" y="1168560"/>
            <a:ext cx="820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dávno jsme se učili rozklad čísla na součin prvočísel. Nyní si ukážeme, jak pro nás může být užitečný například při hledání největšího společného děli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198900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Jak za chvíli uvidíme na příkladu, tak největší společný dělitel je takové číslo, jehož rozklad obsahuje právě ta prvočísla, která jsou v rozkladech všech daných čís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11280" y="2708280"/>
            <a:ext cx="820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 č. 1: Najděte největšího společného dělitele čísel 18 a 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5587920"/>
            <a:ext cx="439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D(18, 30) = 6 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… Největší společný dělitel čísel 18 a 30 je číslo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00000" y="34146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06680" y="3486240"/>
            <a:ext cx="1440" cy="18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677960" y="34146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01600" y="3801960"/>
            <a:ext cx="50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77960" y="38037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16000" y="4191120"/>
            <a:ext cx="43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2360" y="419112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31840" y="4610160"/>
            <a:ext cx="344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35120" y="3443400"/>
            <a:ext cx="503280" cy="14256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43040" y="3414600"/>
            <a:ext cx="7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62320" y="3486240"/>
            <a:ext cx="1440" cy="18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33600" y="3414600"/>
            <a:ext cx="6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56000" y="38019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333600" y="3803760"/>
            <a:ext cx="6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71640" y="4191120"/>
            <a:ext cx="4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48000" y="419112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87480" y="4610160"/>
            <a:ext cx="414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90760" y="3443400"/>
            <a:ext cx="503280" cy="14256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067280" y="3141720"/>
            <a:ext cx="48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yní zapíšeme rozklady čísel vedle sebe tak, abychom stejné číslice psali pod sebe!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356000" y="4005360"/>
            <a:ext cx="396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18 = 2 . 3 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56000" y="4437000"/>
            <a:ext cx="39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0 = 2 . 3 .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20000" y="2637000"/>
            <a:ext cx="2039760" cy="1800000"/>
          </a:xfrm>
          <a:custGeom>
            <a:avLst/>
            <a:gdLst/>
            <a:ahLst/>
            <a:rect l="l" t="t" r="r" b="b"/>
            <a:pathLst>
              <a:path w="1285" h="1134">
                <a:moveTo>
                  <a:pt x="907" y="0"/>
                </a:moveTo>
                <a:cubicBezTo>
                  <a:pt x="1096" y="268"/>
                  <a:pt x="1285" y="536"/>
                  <a:pt x="1134" y="725"/>
                </a:cubicBezTo>
                <a:cubicBezTo>
                  <a:pt x="983" y="914"/>
                  <a:pt x="189" y="1066"/>
                  <a:pt x="0" y="113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26920" y="5084640"/>
            <a:ext cx="3240360" cy="1368720"/>
          </a:xfrm>
          <a:prstGeom prst="cloudCallout">
            <a:avLst>
              <a:gd name="adj1" fmla="val 84050"/>
              <a:gd name="adj2" fmla="val -6380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Tím jsou myšlena ta čísla, která tvoří zcela zaplněné sloupeč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13240" y="4998960"/>
            <a:ext cx="288144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57600" y="497052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D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97052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2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38760" y="497052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41960" y="497052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=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19640" y="4033800"/>
            <a:ext cx="360360" cy="9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53160" y="4048200"/>
            <a:ext cx="360360" cy="9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3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0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40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70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Název souboru: j0428065.wmf&#13;Klí&amp;ccaron;ová slova: ano, emoce, emotikony ...&#13;Velikost souboru: 40 kB"/>
          <p:cNvPicPr/>
          <p:nvPr/>
        </p:nvPicPr>
        <p:blipFill>
          <a:blip r:embed="rId2"/>
          <a:stretch/>
        </p:blipFill>
        <p:spPr>
          <a:xfrm>
            <a:off x="7180200" y="1125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611280" y="549360"/>
            <a:ext cx="835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ostup hledání největšího společného děli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1052640"/>
            <a:ext cx="82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 č. 2: Najděte největšího společného dělitele čísel 24, 36 a 6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59280" y="4078440"/>
            <a:ext cx="414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D(24, 36, 60) = 12</a:t>
            </a:r>
            <a:br>
              <a:rPr sz="2400"/>
            </a:br>
            <a:r>
              <a:rPr b="1" lang="en-US" sz="2300" spc="-1" strike="noStrike">
                <a:solidFill>
                  <a:srgbClr val="284c6a"/>
                </a:solidFill>
                <a:latin typeface="Trebuchet MS"/>
              </a:rPr>
              <a:t>Největší společný dělitel čísel 24, 36 a 60 je číslo 12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84360" y="3949560"/>
            <a:ext cx="39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24 = 2 . 2 . 2 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4360" y="4381560"/>
            <a:ext cx="39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6 = 2 . 2 .      3 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741240" y="5387760"/>
            <a:ext cx="3759480" cy="140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85960" y="537372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D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33600" y="537372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2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66760" y="537372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2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74840" y="537372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547640" y="3992400"/>
            <a:ext cx="360360" cy="1366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95560" y="3990960"/>
            <a:ext cx="360360" cy="136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62040" y="16146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54320" y="1685880"/>
            <a:ext cx="1440" cy="21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25600" y="16146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47640" y="2001960"/>
            <a:ext cx="6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25600" y="20034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63640" y="2390760"/>
            <a:ext cx="4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340000" y="23907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63640" y="2809800"/>
            <a:ext cx="488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340000" y="28098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78040" y="31971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82760" y="1643040"/>
            <a:ext cx="503280" cy="18572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490920" y="16146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97240" y="1685880"/>
            <a:ext cx="1800" cy="21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68880" y="16146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90920" y="20019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68880" y="20034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678120" y="2390760"/>
            <a:ext cx="4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82920" y="2390760"/>
            <a:ext cx="6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20960" y="2809800"/>
            <a:ext cx="346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2920" y="2809800"/>
            <a:ext cx="6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20960" y="3197160"/>
            <a:ext cx="6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26040" y="1643040"/>
            <a:ext cx="503280" cy="18572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6920" y="1614600"/>
            <a:ext cx="72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213600" y="1685880"/>
            <a:ext cx="1440" cy="21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284880" y="16146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06920" y="20019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284880" y="20034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06920" y="23907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99280" y="23907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708520" y="2809800"/>
            <a:ext cx="417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99280" y="28098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08520" y="3197160"/>
            <a:ext cx="6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42040" y="1643040"/>
            <a:ext cx="503280" cy="18572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4813200"/>
            <a:ext cx="39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60 = 2 . 2 .      3 .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89240" y="3992400"/>
            <a:ext cx="360360" cy="136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564000" y="5373720"/>
            <a:ext cx="109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= 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28000" y="5141880"/>
            <a:ext cx="93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84c6a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8-18T12:35:00Z</dcterms:modified>
  <cp:revision>183</cp:revision>
  <dc:subject/>
  <dc:title>Největší společný dělitel</dc:title>
</cp:coreProperties>
</file>