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C04-DEA9-4100-B5EE-994FCAC2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59F-AEB0-48E1-8B9E-297B55FE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C5A-A426-478B-9E8A-9AA8A74B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A88B-C305-4FFD-A1EE-71E8960B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6C61-42BD-450B-9A8C-512662EC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7814-5B3B-42D3-989D-8313F5C6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531B-1384-409B-9116-86410758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9948-CDE2-4756-B4EC-AF2230FA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4E2F-6C08-43DA-9B3E-55791CB9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6252-F845-42D0-A0E9-3B9D1D17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D157-FF80-4A67-BA02-EA5C39A8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825-0BB0-47C0-8960-F8E8ED51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6DEF-1545-4EBE-88DF-DB5DF965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F548-CD3D-4C73-A9F5-E8D61F77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66DA-C906-444D-A7EA-70FEC842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F82E-DD39-4A20-8E53-4D653A2B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86DA-D19E-4FFD-BB99-0D1B372F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EF0-BB09-437B-8563-09BC3682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01E-FF03-4AA3-BB24-9036DAB2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92C-67A9-48F7-AA72-520821A7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432-244B-44EC-888F-AAEA25F3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591-82BA-4267-8027-2C54C17B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F4F-952A-4639-B325-D96F9D2F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88A-D9E3-49FB-BCD3-DF46ECF4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8A23-D325-4DE6-BFB2-A9C9DBF66F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191C-6D58-4BDC-B1FB-CAA8B7296872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Dělitelnost přirozených čísel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Nejmenší společný násobek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2565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Název souboru: j0428065.wmf&#13;Klí&amp;ccaron;ová slova: ano, emoce, emotikony ...&#13;Velikost souboru: 40 kB"/>
          <p:cNvPicPr/>
          <p:nvPr/>
        </p:nvPicPr>
        <p:blipFill>
          <a:blip r:embed="rId2"/>
          <a:stretch/>
        </p:blipFill>
        <p:spPr>
          <a:xfrm>
            <a:off x="7180200" y="1125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1280" y="549360"/>
            <a:ext cx="835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ostup hledání nejmenšího společného nás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836640"/>
            <a:ext cx="820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 č. 2: Najděte nejmenší společný násobek čísel 24, 36 a 6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76720" y="407844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n(24, 36, 60) = 360</a:t>
            </a:r>
            <a:br>
              <a:rPr sz="24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jvětší společný násobek čísel 24, 36 a 60 je číslo 36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3949560"/>
            <a:ext cx="39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24 = 2 . 2 . 2 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4381560"/>
            <a:ext cx="39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6 = 2 . 2 .      3 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41240" y="5387760"/>
            <a:ext cx="3759480" cy="140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85960" y="537372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33600" y="537372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2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66760" y="537372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2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27280" y="537372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2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3992400"/>
            <a:ext cx="360360" cy="1366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95560" y="3990960"/>
            <a:ext cx="360360" cy="136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62040" y="16146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54320" y="1685880"/>
            <a:ext cx="1440" cy="21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25600" y="16146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47640" y="2001960"/>
            <a:ext cx="6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25600" y="20034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63640" y="2390760"/>
            <a:ext cx="4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40000" y="23907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63640" y="2809800"/>
            <a:ext cx="488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40000" y="28098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78040" y="31971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2760" y="1643040"/>
            <a:ext cx="503280" cy="18572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90920" y="16146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97240" y="1685880"/>
            <a:ext cx="1800" cy="218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268880" y="16146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0920" y="20019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8880" y="20034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78120" y="2390760"/>
            <a:ext cx="4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82920" y="2390760"/>
            <a:ext cx="6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20960" y="2809800"/>
            <a:ext cx="346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82920" y="2809800"/>
            <a:ext cx="6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20960" y="3197160"/>
            <a:ext cx="6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26040" y="1643040"/>
            <a:ext cx="503280" cy="18572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06920" y="1614600"/>
            <a:ext cx="72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13600" y="1685880"/>
            <a:ext cx="1440" cy="21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84880" y="16146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06920" y="20019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84880" y="20034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06920" y="23907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99280" y="23907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08520" y="2809800"/>
            <a:ext cx="417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99280" y="28098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08520" y="3197160"/>
            <a:ext cx="6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42040" y="1643040"/>
            <a:ext cx="503280" cy="18572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4360" y="4813200"/>
            <a:ext cx="39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60 = 2 . 2 .      3 .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41680" y="3992400"/>
            <a:ext cx="360360" cy="136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14840" y="5373720"/>
            <a:ext cx="139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= 36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28000" y="5141880"/>
            <a:ext cx="93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84c6a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59000" y="5372280"/>
            <a:ext cx="735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73400" y="3990960"/>
            <a:ext cx="360360" cy="136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92520" y="5372280"/>
            <a:ext cx="735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06920" y="3990960"/>
            <a:ext cx="360360" cy="136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38640" y="5372280"/>
            <a:ext cx="735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53040" y="3990960"/>
            <a:ext cx="360360" cy="136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19200" y="5459400"/>
            <a:ext cx="43200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66760" y="5459400"/>
            <a:ext cx="43200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54320" y="5459400"/>
            <a:ext cx="43200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13080" y="5459400"/>
            <a:ext cx="43200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11280" y="587700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60 </a:t>
            </a:r>
            <a:r>
              <a:rPr b="1" lang="en-US" sz="2300" spc="-1" strike="noStrike">
                <a:solidFill>
                  <a:srgbClr val="284c6a"/>
                </a:solidFill>
                <a:latin typeface="Trebuchet MS"/>
              </a:rPr>
              <a:t>.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12880" y="5459400"/>
            <a:ext cx="432000" cy="4316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79920" y="5459400"/>
            <a:ext cx="431640" cy="4316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59280" y="587700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6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0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0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4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60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80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9000"/>
                            </p:stCondLst>
                            <p:childTnLst>
                              <p:par>
                                <p:cTn id="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500"/>
                            </p:stCondLst>
                            <p:childTnLst>
                              <p:par>
                                <p:cTn id="8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000"/>
                            </p:stCondLst>
                            <p:childTnLst>
                              <p:par>
                                <p:cTn id="9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Název souboru: j0432640.png&#13;Klí&amp;ccaron;ová slova: &amp;ccaron;ervené pastelky, ikony, kancelá&amp;rcaron;e ...&#13;Velikost souboru: 32 kB"/>
          <p:cNvPicPr/>
          <p:nvPr/>
        </p:nvPicPr>
        <p:blipFill>
          <a:blip r:embed="rId2"/>
          <a:stretch/>
        </p:blipFill>
        <p:spPr>
          <a:xfrm>
            <a:off x="6732720" y="44085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prv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1052640"/>
            <a:ext cx="14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6,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000" y="5734080"/>
            <a:ext cx="25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(16, 18)=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98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lezněte nejmenší společný násobek čís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92720" y="1484280"/>
            <a:ext cx="324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(Až budeš hotov, klikni, zkontrolujeme výsledek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dru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96000" y="98100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, 10,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Název souboru: j0432640.png&#13;Klí&amp;ccaron;ová slova: &amp;ccaron;ervené pastelky, ikony, kancelá&amp;rcaron;e ...&#13;Velikost souboru: 32 kB"/>
          <p:cNvPicPr/>
          <p:nvPr/>
        </p:nvPicPr>
        <p:blipFill>
          <a:blip r:embed="rId2"/>
          <a:stretch/>
        </p:blipFill>
        <p:spPr>
          <a:xfrm>
            <a:off x="6732720" y="44085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364000" y="5734080"/>
            <a:ext cx="223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(2, 10, 64)=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98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lezněte nejmenší společný násobek čís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1484280"/>
            <a:ext cx="324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(Až budeš hotov, klikni, zkontrolujeme výsledek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96800" y="907920"/>
            <a:ext cx="813600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Název souboru: j0432663.png&#13;Klí&amp;ccaron;ová slova: ikony, kancelá&amp;rcaron;e, kancelá&amp;rcaron;ské pot&amp;rcaron;eby ...&#13;Velikost souboru: 30 kB"/>
          <p:cNvPicPr/>
          <p:nvPr/>
        </p:nvPicPr>
        <p:blipFill>
          <a:blip r:embed="rId2"/>
          <a:stretch/>
        </p:blipFill>
        <p:spPr>
          <a:xfrm>
            <a:off x="6746760" y="4437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38040" y="404640"/>
            <a:ext cx="75470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yní něco na procvičení - potře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65320" y="950760"/>
            <a:ext cx="2374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n(12, 28,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59280" y="573408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(12, 28, 32)=6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981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alezně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92720" y="1125360"/>
            <a:ext cx="324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(Až budeš hotov, klikni, zkontrolujeme výsledek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0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00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3059280" y="3500280"/>
            <a:ext cx="936360" cy="2232000"/>
            <a:chOff x="3059280" y="3500280"/>
            <a:chExt cx="936360" cy="2232000"/>
          </a:xfrm>
        </p:grpSpPr>
        <p:sp>
          <p:nvSpPr>
            <p:cNvPr id="303" name=""/>
            <p:cNvSpPr/>
            <p:nvPr/>
          </p:nvSpPr>
          <p:spPr>
            <a:xfrm>
              <a:off x="3059280" y="3500280"/>
              <a:ext cx="936360" cy="11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00"/>
                  </a:solidFill>
                  <a:latin typeface="Trebuchet MS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59280" y="3571560"/>
              <a:ext cx="93636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00"/>
                  </a:solidFill>
                  <a:latin typeface="Trebuchet MS"/>
                </a:rPr>
                <a:t>_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59280" y="4622400"/>
              <a:ext cx="93636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00"/>
                  </a:solidFill>
                  <a:latin typeface="Trebuchet MS"/>
                </a:rPr>
                <a:t>7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25320" y="736560"/>
            <a:ext cx="79790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Doporučení závě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516720" y="4076640"/>
            <a:ext cx="936360" cy="2232000"/>
            <a:chOff x="6516720" y="4076640"/>
            <a:chExt cx="936360" cy="2232000"/>
          </a:xfrm>
        </p:grpSpPr>
        <p:sp>
          <p:nvSpPr>
            <p:cNvPr id="308" name=""/>
            <p:cNvSpPr/>
            <p:nvPr/>
          </p:nvSpPr>
          <p:spPr>
            <a:xfrm>
              <a:off x="6516720" y="4076640"/>
              <a:ext cx="936360" cy="11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00"/>
                  </a:solidFill>
                  <a:latin typeface="Trebuchet MS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16720" y="4147920"/>
              <a:ext cx="93636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00"/>
                  </a:solidFill>
                  <a:latin typeface="Trebuchet MS"/>
                </a:rPr>
                <a:t>_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6720" y="5198760"/>
              <a:ext cx="93636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00"/>
                  </a:solidFill>
                  <a:latin typeface="Trebuchet MS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596360" y="549360"/>
            <a:ext cx="936360" cy="2232000"/>
            <a:chOff x="7596360" y="549360"/>
            <a:chExt cx="936360" cy="2232000"/>
          </a:xfrm>
        </p:grpSpPr>
        <p:sp>
          <p:nvSpPr>
            <p:cNvPr id="312" name=""/>
            <p:cNvSpPr/>
            <p:nvPr/>
          </p:nvSpPr>
          <p:spPr>
            <a:xfrm>
              <a:off x="7596360" y="549360"/>
              <a:ext cx="936360" cy="11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00"/>
                  </a:solidFill>
                  <a:latin typeface="Trebuchet MS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96360" y="620640"/>
              <a:ext cx="93636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00"/>
                  </a:solidFill>
                  <a:latin typeface="Trebuchet MS"/>
                </a:rPr>
                <a:t>_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96360" y="1671480"/>
              <a:ext cx="93636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00"/>
                  </a:solidFill>
                  <a:latin typeface="Trebuchet MS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643280" y="1773360"/>
            <a:ext cx="936360" cy="2232000"/>
            <a:chOff x="4643280" y="1773360"/>
            <a:chExt cx="936360" cy="2232000"/>
          </a:xfrm>
        </p:grpSpPr>
        <p:sp>
          <p:nvSpPr>
            <p:cNvPr id="316" name=""/>
            <p:cNvSpPr/>
            <p:nvPr/>
          </p:nvSpPr>
          <p:spPr>
            <a:xfrm>
              <a:off x="4643280" y="1773360"/>
              <a:ext cx="936360" cy="11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00"/>
                  </a:solidFill>
                  <a:latin typeface="Trebuchet MS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3280" y="1844640"/>
              <a:ext cx="93636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00"/>
                  </a:solidFill>
                  <a:latin typeface="Trebuchet MS"/>
                </a:rPr>
                <a:t>_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43280" y="2895480"/>
              <a:ext cx="93636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00"/>
                  </a:solidFill>
                  <a:latin typeface="Trebuchet MS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55640" y="1268280"/>
            <a:ext cx="936360" cy="2232000"/>
            <a:chOff x="755640" y="1268280"/>
            <a:chExt cx="936360" cy="2232000"/>
          </a:xfrm>
        </p:grpSpPr>
        <p:sp>
          <p:nvSpPr>
            <p:cNvPr id="320" name=""/>
            <p:cNvSpPr/>
            <p:nvPr/>
          </p:nvSpPr>
          <p:spPr>
            <a:xfrm>
              <a:off x="755640" y="1268280"/>
              <a:ext cx="936360" cy="11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00"/>
                  </a:solidFill>
                  <a:latin typeface="Trebuchet MS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5640" y="1339560"/>
              <a:ext cx="93636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00"/>
                  </a:solidFill>
                  <a:latin typeface="Trebuchet MS"/>
                </a:rPr>
                <a:t>_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5640" y="2390400"/>
              <a:ext cx="93636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00"/>
                  </a:solidFill>
                  <a:latin typeface="Trebuchet MS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476360" y="2176560"/>
            <a:ext cx="763272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obře se nauč určovat nejmenší společné násobky. Budeš je velice často vyhledávat při počítání se zlomk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76360" y="4695840"/>
            <a:ext cx="7632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Tak ať pak nemáš problé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Úvodní opak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1700280"/>
            <a:ext cx="7561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ásobkem daného čísla označujeme takové číslo, které vznikne vynásobením daného čísla jakýmkoliv jiným čís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1253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Násob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293688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5 . 24 = 1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62520" y="293688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386160"/>
            <a:ext cx="360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Číslo 120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je násobkem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čísla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3716280"/>
            <a:ext cx="360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Číslo 120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je násobkem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čísla 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3080" y="4221000"/>
            <a:ext cx="39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20 = 24 .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4941720"/>
            <a:ext cx="2162160" cy="1152720"/>
          </a:xfrm>
          <a:prstGeom prst="cloudCallout">
            <a:avLst>
              <a:gd name="adj1" fmla="val 74009"/>
              <a:gd name="adj2" fmla="val -73416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ásobek čísel 5 a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5373720"/>
            <a:ext cx="1871640" cy="863640"/>
          </a:xfrm>
          <a:prstGeom prst="cloudCallout">
            <a:avLst>
              <a:gd name="adj1" fmla="val 7337"/>
              <a:gd name="adj2" fmla="val -132902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Dělitel čísla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4869000"/>
            <a:ext cx="1798920" cy="865080"/>
          </a:xfrm>
          <a:prstGeom prst="cloudCallout">
            <a:avLst>
              <a:gd name="adj1" fmla="val -86981"/>
              <a:gd name="adj2" fmla="val -72750"/>
            </a:avLst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Dělitel čísla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polečný náso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3080" y="2276640"/>
            <a:ext cx="8136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Číslo 120 je násobkem čísla 20 a současně je násobkem čísla 24. Můžeme proto říci, že číslo 120 je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polečným násobkem čísel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0 a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3413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ějme čísla 20 a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08080" y="177336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0 . 6 = 1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16440" y="177336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4 . 5 =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dobně pak platí pro jakýkoliv počet přirozených čísel. Mějme například čísla 20, 24, 30, 40 a 6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69840" y="5227560"/>
            <a:ext cx="7850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Číslo 120 je současně násobkem čísel 20, 24, 30, 40 a 60. Můžeme proto říci, že číslo 120 je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polečným násobkem čísel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20, 24, 30, 40 a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36572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0 . 6 =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472428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4 . 5 =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436572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0 . 4 =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75280" y="472428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40 . 3 =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436572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60 . 2 =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polečný náso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981000"/>
            <a:ext cx="777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řirozené číslo se nazývá společný násobek daných přirozených čísel, právě když je násobkem všech daných čí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1916280"/>
            <a:ext cx="777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xistuje společný násobek dvou a více čísel vž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41320" y="2205000"/>
            <a:ext cx="7777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no. Každá dvě i více čísel můžeme vynásobit spolu, a tak získat jejich násobek, společný násob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5589720"/>
            <a:ext cx="7777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Tzn., že daná přirozená čísla mají vždy nekonečně mnoho společných násob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4968720"/>
            <a:ext cx="777744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Každý další násobek společného násobku je opět společným násobkem daných čí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55720" y="2997360"/>
            <a:ext cx="2347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6 . 78 = 43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2997360"/>
            <a:ext cx="3529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6 . 78 . 139 = 607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573360"/>
            <a:ext cx="2087280" cy="1441440"/>
          </a:xfrm>
          <a:prstGeom prst="cloudCallout">
            <a:avLst>
              <a:gd name="adj1" fmla="val -64370"/>
              <a:gd name="adj2" fmla="val -569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Číslo 4368 je násobkem čísel 56 a 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6720" y="3571920"/>
            <a:ext cx="2087640" cy="1441440"/>
          </a:xfrm>
          <a:prstGeom prst="cloudCallout">
            <a:avLst>
              <a:gd name="adj1" fmla="val -67490"/>
              <a:gd name="adj2" fmla="val -571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Číslo 607152 je násobkem čísel 56,78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13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polečný náso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105264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1: Najděte společné násobky čísel 12 a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285264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12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… 12, 24, 36, 48, 60, 72, 84, 96, 108, 120, 132, 144, 156, 168, 180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555920"/>
            <a:ext cx="8208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ejrychleji najdeme společný násobek jako součin obou daných čís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422100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Čísla 12 a 15 mají nekonečně mnoho společných násobků: 60, 120, 180, …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4869000"/>
            <a:ext cx="784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jmenší společný násobek je číslo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551664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aždý další násobek nejmenšího společného násobku je také společný násobek daných čí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03720" y="1773360"/>
            <a:ext cx="3139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2 . 15 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227664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Můžeme si také udělat řadu násobků jednotlivých čísel a vyhledat stejné násobky, tzn. společné násob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335592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15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… 15, 30, 45, 60, 75, 90, 105, 120, 135, 150, 165, 180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32280" y="2948040"/>
            <a:ext cx="403200" cy="40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0800" y="3436920"/>
            <a:ext cx="403560" cy="40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42040" y="2954160"/>
            <a:ext cx="403200" cy="403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3443400"/>
            <a:ext cx="403200" cy="40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086680" y="2954160"/>
            <a:ext cx="403200" cy="403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3920" y="3443400"/>
            <a:ext cx="403200" cy="40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polečný náso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1339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íklad č. 2: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ajděte společné násobky čísel 3, 4 a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4869000"/>
            <a:ext cx="784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jmenší společný násobek čísel 3, 4 a 5 je číslo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551664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aždý další násobek čísla 60 je také společným násobkem čísel 3, 4 a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392200"/>
            <a:ext cx="856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… </a:t>
            </a:r>
            <a:r>
              <a:rPr b="1" lang="en-US" sz="1700" spc="-1" strike="noStrike">
                <a:solidFill>
                  <a:srgbClr val="00cc00"/>
                </a:solidFill>
                <a:latin typeface="Trebuchet MS"/>
              </a:rPr>
              <a:t>3, 6, 9, 12, 15, 18, 21, 24, 27, 30, 33, 36, 39, 42, 45, 48, 51, 54, 57, 60, 63, 66, 69, 72, 75, 78, 81, 84, 87, 90, 93, 96, 99, 102, 105, 108, 111, 114, 117, 120, 123, 126, 129, 132, 135, 138, 141, 143, 147,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86760" y="2235240"/>
            <a:ext cx="403200" cy="40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18240" y="3286080"/>
            <a:ext cx="403200" cy="40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4040" y="2795760"/>
            <a:ext cx="403200" cy="40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76800" y="3587760"/>
            <a:ext cx="403200" cy="40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3327480"/>
            <a:ext cx="856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4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… 4, 8, 12, 16, 20, 24, 28, 32, 36, 40, 44, 48, 52, 56, 60</a:t>
            </a:r>
            <a:r>
              <a:rPr b="1" lang="en-US" sz="1700" spc="-1" strike="noStrike">
                <a:solidFill>
                  <a:srgbClr val="00cc00"/>
                </a:solidFill>
                <a:latin typeface="Trebuchet MS"/>
              </a:rPr>
              <a:t>, 64, 68, 72, 76, 80, 84, 88, 92, 96, 100, 104, 108, 112, 116, 120, 124, 128, 132, 140, 144, 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4149720"/>
            <a:ext cx="856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5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… 5, 10, 15, 20, 25, 30, 35, 40, 45, 50, 55, 60, 65, 70, 75, 80, 85, 90, 95, 100, 105, 110, 115, 120, 125, 130, 135, 140, 145, </a:t>
            </a:r>
            <a:r>
              <a:rPr b="1" lang="en-US" sz="1700" spc="-1" strike="noStrike">
                <a:solidFill>
                  <a:srgbClr val="00cc00"/>
                </a:solidFill>
                <a:latin typeface="Trebuchet MS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94320" y="4106880"/>
            <a:ext cx="403200" cy="40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4394160"/>
            <a:ext cx="403200" cy="40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Nejmenší společný násobek - shrnu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1125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ak jsme viděli v příkladech na předcházejících snímcích, společných násobků mají daná čísla několik, respektive nekonečně mno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973160"/>
            <a:ext cx="82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jmenšímu ze všech společných násobků dvou a více čísel říkáme nejmenší společný násobek těchto čí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2997360"/>
            <a:ext cx="8208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aždý násobek společného násobku je také společným násobkem daných čí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6200" y="4998960"/>
            <a:ext cx="56545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apisujeme: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n(12, 15) =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6200" y="5516640"/>
            <a:ext cx="8389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Čteme: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Nejmenší společný násobek čísel 12 a 15 je číslo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9640" y="4005360"/>
            <a:ext cx="8424720" cy="1008000"/>
            <a:chOff x="539640" y="4005360"/>
            <a:chExt cx="8424720" cy="1008000"/>
          </a:xfrm>
        </p:grpSpPr>
        <p:sp>
          <p:nvSpPr>
            <p:cNvPr id="156" name=""/>
            <p:cNvSpPr/>
            <p:nvPr/>
          </p:nvSpPr>
          <p:spPr>
            <a:xfrm>
              <a:off x="539640" y="4005360"/>
              <a:ext cx="842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00"/>
                  </a:solidFill>
                  <a:latin typeface="Trebuchet MS"/>
                </a:rPr>
                <a:t>12</a:t>
              </a:r>
              <a:r>
                <a:rPr b="1" lang="en-US" sz="1800" spc="-1" strike="noStrike">
                  <a:solidFill>
                    <a:srgbClr val="00cc00"/>
                  </a:solidFill>
                  <a:latin typeface="Trebuchet MS"/>
                </a:rPr>
                <a:t> … 12, 24, 36, 48, 60, 72, 84, 96, 108, 120, 132, 144, 156, 168, 180,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9640" y="4508640"/>
              <a:ext cx="842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00"/>
                  </a:solidFill>
                  <a:latin typeface="Trebuchet MS"/>
                </a:rPr>
                <a:t>15</a:t>
              </a:r>
              <a:r>
                <a:rPr b="1" lang="en-US" sz="1800" spc="-1" strike="noStrike">
                  <a:solidFill>
                    <a:srgbClr val="00cc00"/>
                  </a:solidFill>
                  <a:latin typeface="Trebuchet MS"/>
                </a:rPr>
                <a:t> … 15, 30, 45, 60, 75, 90, 105, 120, 135, 150, 165, 180,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60640" y="4100760"/>
              <a:ext cx="403200" cy="403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49160" y="4589640"/>
              <a:ext cx="403560" cy="403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70400" y="4106880"/>
              <a:ext cx="403200" cy="403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29080" y="4596120"/>
              <a:ext cx="403200" cy="403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15040" y="4106880"/>
              <a:ext cx="403200" cy="403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32280" y="4596120"/>
              <a:ext cx="403200" cy="403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54936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Nejmenší společný náso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125360"/>
            <a:ext cx="820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dobn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9800" y="4697280"/>
            <a:ext cx="8602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Zapisujeme: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n(3, 4, 5) =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5229360"/>
            <a:ext cx="8424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Čteme: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Nejmenší společný násobek čísel 3, 4 a 5 je číslo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073240"/>
            <a:ext cx="856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… </a:t>
            </a:r>
            <a:r>
              <a:rPr b="1" lang="en-US" sz="1700" spc="-1" strike="noStrike">
                <a:solidFill>
                  <a:srgbClr val="00cc00"/>
                </a:solidFill>
                <a:latin typeface="Trebuchet MS"/>
              </a:rPr>
              <a:t>3, 6, 9, 12, 15, 18, 21, 24, 27, 30, 33, 36, 39, 42, 45, 48, 51, 54, 57, 60, 63, 66, 69, 72, 75, 78, 81, 84, 87, 90, 93, 96, 99, 102, 105, 108, 111, 114, 117, 120, 123, 126, 129, 132, 135, 138, 141, 143, 147,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01160" y="1916280"/>
            <a:ext cx="403200" cy="40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18240" y="2967120"/>
            <a:ext cx="403200" cy="40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4040" y="2476440"/>
            <a:ext cx="403200" cy="40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91200" y="3268800"/>
            <a:ext cx="403200" cy="40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3008160"/>
            <a:ext cx="856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4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… 4, 8, 12, 16, 20, 24, 28, 32, 36, 40, 44, 48, 52, 56, 60</a:t>
            </a:r>
            <a:r>
              <a:rPr b="1" lang="en-US" sz="1700" spc="-1" strike="noStrike">
                <a:solidFill>
                  <a:srgbClr val="00cc00"/>
                </a:solidFill>
                <a:latin typeface="Trebuchet MS"/>
              </a:rPr>
              <a:t>, 64, 68, 72, 76, 80, 84, 88, 92, 96, 100, 104, 108, 112, 116, 120, 124, 128, 132, 140, 144,  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830760"/>
            <a:ext cx="856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5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… 5, 10, 15, 20, 25, 30, 35, 40, 45, 50, 55, 60, 65, 70, 75, 80, 85, 90, 95, 100, 105, 110, 115, 120, 125, 130, 135, 140, 145, </a:t>
            </a:r>
            <a:r>
              <a:rPr b="1" lang="en-US" sz="1700" spc="-1" strike="noStrike">
                <a:solidFill>
                  <a:srgbClr val="00cc00"/>
                </a:solidFill>
                <a:latin typeface="Trebuchet MS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08720" y="3787920"/>
            <a:ext cx="403200" cy="40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4075200"/>
            <a:ext cx="403200" cy="40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1280" y="549360"/>
            <a:ext cx="835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ostup hledání nejmenšího společného nás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1052640"/>
            <a:ext cx="82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dávno jsme se učili rozklad čísla na součin prvočísel. Nyní si ukážeme, jak pro nás může být užitečný při hledání nejmenšího společného násob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1628640"/>
            <a:ext cx="820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 č. 1: Najděte nejmenší společný násobek čísel 18 a 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5429160"/>
            <a:ext cx="439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n(18, 30) = 90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… 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Nejmenší společný násobek čísel 18 a 30 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je číslo 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22050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6680" y="2276640"/>
            <a:ext cx="1440" cy="18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7960" y="220500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01600" y="2592360"/>
            <a:ext cx="50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77960" y="2593800"/>
            <a:ext cx="6476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981160"/>
            <a:ext cx="43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2360" y="29811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31840" y="3400560"/>
            <a:ext cx="344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35120" y="2233440"/>
            <a:ext cx="503280" cy="14256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43040" y="2205000"/>
            <a:ext cx="7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62320" y="2276640"/>
            <a:ext cx="1440" cy="18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33600" y="2205000"/>
            <a:ext cx="64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25923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33600" y="2593800"/>
            <a:ext cx="6480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71640" y="2981160"/>
            <a:ext cx="4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2981160"/>
            <a:ext cx="64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87480" y="3400560"/>
            <a:ext cx="4143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90760" y="2233440"/>
            <a:ext cx="503280" cy="14256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11640" y="2422440"/>
            <a:ext cx="48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yní zapíšeme rozklady čísel do řádků, ale tak, abychom stejné číslice psali pod seb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45080" y="3359160"/>
            <a:ext cx="39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18 = 2 . 3 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3790800"/>
            <a:ext cx="39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0 = 2 . 3 .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4149720"/>
            <a:ext cx="3743280" cy="2158920"/>
          </a:xfrm>
          <a:prstGeom prst="cloudCallout">
            <a:avLst>
              <a:gd name="adj1" fmla="val 87615"/>
              <a:gd name="adj2" fmla="val -45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ejmenší společný násobek určíme jako součin prvočísel tvořících všechny sloupeč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02320" y="4352760"/>
            <a:ext cx="28810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46680" y="432432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n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94320" y="432432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2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27840" y="432432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83400" y="4324320"/>
            <a:ext cx="94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= 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94320" y="3387600"/>
            <a:ext cx="36036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41880" y="3402000"/>
            <a:ext cx="36036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02400" y="3416400"/>
            <a:ext cx="360360" cy="93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03840" y="433692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3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35920" y="3416400"/>
            <a:ext cx="360360" cy="93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49960" y="433692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5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6168960" y="4226040"/>
            <a:ext cx="106560" cy="1366560"/>
          </a:xfrm>
          <a:custGeom>
            <a:avLst/>
            <a:gdLst>
              <a:gd name="textAreaLeft" fmla="*/ 68040 w 106560"/>
              <a:gd name="textAreaRight" fmla="*/ 106920 w 106560"/>
              <a:gd name="textAreaTop" fmla="*/ 35640 h 1366560"/>
              <a:gd name="textAreaBottom" fmla="*/ 13309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83200" y="4869000"/>
            <a:ext cx="735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8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3343320"/>
            <a:ext cx="165564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500"/>
                            </p:stCondLst>
                            <p:childTnLst>
                              <p:par>
                                <p:cTn id="5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8-25T12:42:20Z</dcterms:modified>
  <cp:revision>188</cp:revision>
  <dc:subject/>
  <dc:title>Nejmenší společný násobek</dc:title>
</cp:coreProperties>
</file>