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611-4D04-4423-8464-0DA15264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66C-417F-49B2-9483-C152D599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B9A-0F4C-414A-81F2-EAE27B5C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C68-D6EB-4706-8FEB-4129C227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ABBD-58DE-4267-BA7D-13FDBAF5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4195-B018-46A9-9C63-1ADDB692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234A-CFA1-4C4D-B133-56667571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4DEA-1E50-4525-B57D-E5F14A8D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15FA-EBFE-42CA-B074-D9C7A8AB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F0D6-2710-45EC-8320-A791B0D6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FDDD-DC4A-4A2B-BCC4-23A45FE2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9E9-0E0F-478B-A9FB-DD3D7570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73C7-661A-4521-AE48-D3457FC0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5929-AF9B-4B56-AF95-8D8B835C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E870-5D5B-4173-AE3E-9BBAF3F6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14BF-14F6-4AEF-B1DF-BD940694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CA45-42D6-45BA-B2BC-DF1B3224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A7E-6501-42D7-A07D-32F03CA0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C1E-7560-408C-B0EA-D8BDCEFE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79C-E5D0-4972-8CB5-BAD931DF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9E0-5D85-48B4-9FBC-73CC7AC8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D37-645A-4289-8D7A-D05074F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65E-908A-45B6-912A-8CDF1A11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8C9-B6E1-4636-8FCF-CFEC1B2F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A8BE-64FE-4607-AAB1-C15CD978AE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97A7-551E-4FA5-9A7C-E03FE4B3EE85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Dělitelnost přirozených čísel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Násobek a dělitel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1484280"/>
            <a:ext cx="820728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89000"/>
            <a:ext cx="820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irozená čís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1844640"/>
            <a:ext cx="504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836640"/>
            <a:ext cx="741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 jakých druzích čísel už jsme něco slyšel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65680" y="2276640"/>
            <a:ext cx="3895560" cy="173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6920" y="4363920"/>
            <a:ext cx="741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řirozená čís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4869000"/>
            <a:ext cx="741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Celá čís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5372280"/>
            <a:ext cx="741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Desetinná čís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5877000"/>
            <a:ext cx="741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Zlom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836640"/>
            <a:ext cx="784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84c6a"/>
                </a:solidFill>
                <a:latin typeface="Trebuchet MS"/>
              </a:rPr>
              <a:t>Výborně. A nyní nám pár čísel „spadne z nebe“ a naším úkolem bude je poznat a správně zařadi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1989000"/>
            <a:ext cx="649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,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2205000"/>
            <a:ext cx="649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/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3213000"/>
            <a:ext cx="649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3213000"/>
            <a:ext cx="93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0,3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80360" y="2349360"/>
            <a:ext cx="11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5/1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844640"/>
            <a:ext cx="11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7/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421000"/>
            <a:ext cx="649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3357720"/>
            <a:ext cx="649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96360" y="1628640"/>
            <a:ext cx="863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25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170028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12,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2492280"/>
            <a:ext cx="100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5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2492280"/>
            <a:ext cx="649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220500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1628640"/>
            <a:ext cx="720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700280"/>
            <a:ext cx="741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terá čísla se tedy nazývají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přirozená čísla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2133720"/>
            <a:ext cx="799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sou to čísla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, 2, 3, 4, 5, 6, 7, 8, 9, 10, 11, 12, 13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637000"/>
            <a:ext cx="36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sou to celá kladná čísla.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nula mezi ně nepatř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355920"/>
            <a:ext cx="36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V celé této prezentaci budeme počítat jen s přirozenými čís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4.39306E-006 L 0.2717 0.36716 E">
                                      <p:cBhvr>
                                        <p:cTn id="6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05556E-006 3.93064E-006 L -0.31093 0.49294 E">
                                      <p:cBhvr>
                                        <p:cTn id="7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-2.42775E-006 L 0.0276 0.22012 E">
                                      <p:cBhvr>
                                        <p:cTn id="9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88889E-006 -1.15607E-006 L -0.07482 0.5348 E">
                                      <p:cBhvr>
                                        <p:cTn id="10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1.96532E-006 L 0.07483 0.16786 E">
                                      <p:cBhvr>
                                        <p:cTn id="11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-5.20231E-007 L -0.37014 0.47191 E">
                                      <p:cBhvr>
                                        <p:cTn id="12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-1.96532E-006 L 0.36615 0.31468 E">
                                      <p:cBhvr>
                                        <p:cTn id="14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11111E-006 -1.6185E-006 L -0.40955 0.51376 E">
                                      <p:cBhvr>
                                        <p:cTn id="15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66667E-006 4.39306E-006 L 0.2283 0.58728 E">
                                      <p:cBhvr>
                                        <p:cTn id="16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3.75723E-006 L 0.42934 0.28323 E">
                                      <p:cBhvr>
                                        <p:cTn id="18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16667E-006 -1.15607E-006 L 0.06303 0.38798 E">
                                      <p:cBhvr>
                                        <p:cTn id="19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6 4.85549E-006 L 0.45677 0.53502 E">
                                      <p:cBhvr>
                                        <p:cTn id="20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E-006 -8.67052E-007 L 0.71667 0.27283 E">
                                      <p:cBhvr>
                                        <p:cTn id="22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2222E-006 -5.20231E-007 L 0.18888 0.61873 E">
                                      <p:cBhvr>
                                        <p:cTn id="23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66667E-006 -8.67052E-007 L 0.35052 0.34613 E">
                                      <p:cBhvr>
                                        <p:cTn id="24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5280" y="189000"/>
            <a:ext cx="820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ásobek a děl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836640"/>
            <a:ext cx="741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.: Jedna zmrzlina stojí 8 Kč. Kolik Kč budou stát dvě, tři, čtyři, … zmrzlin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1339920"/>
            <a:ext cx="784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84c6a"/>
                </a:solidFill>
                <a:latin typeface="Trebuchet MS"/>
              </a:rPr>
              <a:t>Cenu jednotlivých množství zmrzlin udává následující tabulka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4000" y="1773360"/>
          <a:ext cx="8496000" cy="319716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079640"/>
                <a:gridCol w="1081080"/>
                <a:gridCol w="1079640"/>
                <a:gridCol w="1079280"/>
                <a:gridCol w="1368360"/>
              </a:tblGrid>
              <a:tr h="576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11280" y="2924280"/>
            <a:ext cx="365400" cy="814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365040" cy="814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356000" y="2708280"/>
            <a:ext cx="365400" cy="81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635280" y="3068640"/>
            <a:ext cx="365400" cy="81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572000" y="3284640"/>
            <a:ext cx="365040" cy="814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4716360" y="2565360"/>
            <a:ext cx="365400" cy="814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5435640" y="2421000"/>
            <a:ext cx="365040" cy="814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5867280" y="2565360"/>
            <a:ext cx="365400" cy="814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5508720" y="3213000"/>
            <a:ext cx="365040" cy="814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5867280" y="3429000"/>
            <a:ext cx="365400" cy="814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2"/>
          <a:stretch/>
        </p:blipFill>
        <p:spPr>
          <a:xfrm>
            <a:off x="6531120" y="2422440"/>
            <a:ext cx="365040" cy="814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6962760" y="2363760"/>
            <a:ext cx="365040" cy="814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4"/>
          <a:stretch/>
        </p:blipFill>
        <p:spPr>
          <a:xfrm>
            <a:off x="6732720" y="2940120"/>
            <a:ext cx="365040" cy="814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5"/>
          <a:stretch/>
        </p:blipFill>
        <p:spPr>
          <a:xfrm>
            <a:off x="6458040" y="3502080"/>
            <a:ext cx="365040" cy="814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6"/>
          <a:stretch/>
        </p:blipFill>
        <p:spPr>
          <a:xfrm>
            <a:off x="7034040" y="3430440"/>
            <a:ext cx="365400" cy="814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340000" y="5013360"/>
            <a:ext cx="59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a 8, 16, 24, 32, 40, 48, 56, 64, 72 atd. js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5516640"/>
            <a:ext cx="59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násobky čísla 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67640" y="4264200"/>
            <a:ext cx="934920" cy="865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75480" y="5157720"/>
            <a:ext cx="1511280" cy="647640"/>
          </a:xfrm>
          <a:custGeom>
            <a:avLst/>
            <a:gdLst/>
            <a:ahLst/>
            <a:rect l="l" t="t" r="r" b="b"/>
            <a:pathLst>
              <a:path w="922" h="453">
                <a:moveTo>
                  <a:pt x="907" y="0"/>
                </a:moveTo>
                <a:cubicBezTo>
                  <a:pt x="914" y="98"/>
                  <a:pt x="922" y="197"/>
                  <a:pt x="771" y="272"/>
                </a:cubicBezTo>
                <a:cubicBezTo>
                  <a:pt x="620" y="347"/>
                  <a:pt x="310" y="400"/>
                  <a:pt x="0" y="453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040" y="1916280"/>
            <a:ext cx="194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čet zmrz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200" y="4508640"/>
            <a:ext cx="1484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ena (K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24240" y="1887480"/>
            <a:ext cx="492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25680" y="4522680"/>
            <a:ext cx="492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3520" y="1887480"/>
            <a:ext cx="492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49520" y="4522680"/>
            <a:ext cx="492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99000" y="1887480"/>
            <a:ext cx="492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4535640"/>
            <a:ext cx="492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78640" y="1887480"/>
            <a:ext cx="492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92600" y="4522680"/>
            <a:ext cx="492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43880" y="1887480"/>
            <a:ext cx="492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521240"/>
            <a:ext cx="492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6720" y="1887480"/>
            <a:ext cx="492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42240" y="4508640"/>
            <a:ext cx="647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8.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ásobky čísla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463840"/>
            <a:ext cx="18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62040" y="2463840"/>
            <a:ext cx="18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2463840"/>
            <a:ext cx="18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2463840"/>
            <a:ext cx="18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98840" y="246384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9920" y="1971720"/>
            <a:ext cx="1508400" cy="1581840"/>
            <a:chOff x="619920" y="1971720"/>
            <a:chExt cx="1508400" cy="1581840"/>
          </a:xfrm>
        </p:grpSpPr>
        <p:sp>
          <p:nvSpPr>
            <p:cNvPr id="159" name=""/>
            <p:cNvSpPr/>
            <p:nvPr/>
          </p:nvSpPr>
          <p:spPr>
            <a:xfrm rot="19005600">
              <a:off x="852120" y="22518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16000" y="19717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554840" y="1973160"/>
            <a:ext cx="1508400" cy="1581840"/>
            <a:chOff x="1554840" y="1973160"/>
            <a:chExt cx="1508400" cy="1581840"/>
          </a:xfrm>
        </p:grpSpPr>
        <p:sp>
          <p:nvSpPr>
            <p:cNvPr id="162" name=""/>
            <p:cNvSpPr/>
            <p:nvPr/>
          </p:nvSpPr>
          <p:spPr>
            <a:xfrm rot="19005600">
              <a:off x="1787040" y="22532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50920" y="19731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91560" y="1973160"/>
            <a:ext cx="1508400" cy="1581840"/>
            <a:chOff x="2491560" y="1973160"/>
            <a:chExt cx="1508400" cy="1581840"/>
          </a:xfrm>
        </p:grpSpPr>
        <p:sp>
          <p:nvSpPr>
            <p:cNvPr id="165" name=""/>
            <p:cNvSpPr/>
            <p:nvPr/>
          </p:nvSpPr>
          <p:spPr>
            <a:xfrm rot="19005600">
              <a:off x="2723760" y="22532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87640" y="19731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426480" y="1974960"/>
            <a:ext cx="1508400" cy="1581840"/>
            <a:chOff x="3426480" y="1974960"/>
            <a:chExt cx="1508400" cy="1581840"/>
          </a:xfrm>
        </p:grpSpPr>
        <p:sp>
          <p:nvSpPr>
            <p:cNvPr id="168" name=""/>
            <p:cNvSpPr/>
            <p:nvPr/>
          </p:nvSpPr>
          <p:spPr>
            <a:xfrm rot="19005600">
              <a:off x="3658680" y="2255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22560" y="1974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365360" y="1973160"/>
            <a:ext cx="1508040" cy="1581480"/>
            <a:chOff x="4365360" y="1973160"/>
            <a:chExt cx="1508040" cy="1581480"/>
          </a:xfrm>
        </p:grpSpPr>
        <p:sp>
          <p:nvSpPr>
            <p:cNvPr id="171" name=""/>
            <p:cNvSpPr/>
            <p:nvPr/>
          </p:nvSpPr>
          <p:spPr>
            <a:xfrm rot="19005600">
              <a:off x="4597560" y="225324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1080" y="197316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299920" y="1974960"/>
            <a:ext cx="1508400" cy="1581840"/>
            <a:chOff x="5299920" y="1974960"/>
            <a:chExt cx="1508400" cy="1581840"/>
          </a:xfrm>
        </p:grpSpPr>
        <p:sp>
          <p:nvSpPr>
            <p:cNvPr id="174" name=""/>
            <p:cNvSpPr/>
            <p:nvPr/>
          </p:nvSpPr>
          <p:spPr>
            <a:xfrm rot="19005600">
              <a:off x="5532120" y="2255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6000" y="1974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237000" y="1969920"/>
            <a:ext cx="1508040" cy="1581480"/>
            <a:chOff x="6237000" y="1969920"/>
            <a:chExt cx="1508040" cy="1581480"/>
          </a:xfrm>
        </p:grpSpPr>
        <p:sp>
          <p:nvSpPr>
            <p:cNvPr id="177" name=""/>
            <p:cNvSpPr/>
            <p:nvPr/>
          </p:nvSpPr>
          <p:spPr>
            <a:xfrm rot="19005600">
              <a:off x="6469200" y="225000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32720" y="196992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171560" y="1971720"/>
            <a:ext cx="1508400" cy="1581840"/>
            <a:chOff x="7171560" y="1971720"/>
            <a:chExt cx="1508400" cy="1581840"/>
          </a:xfrm>
        </p:grpSpPr>
        <p:sp>
          <p:nvSpPr>
            <p:cNvPr id="180" name=""/>
            <p:cNvSpPr/>
            <p:nvPr/>
          </p:nvSpPr>
          <p:spPr>
            <a:xfrm rot="19005600">
              <a:off x="7403760" y="225180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67640" y="197172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307120" y="246384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84880" y="246384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92800" y="246384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28000" y="246384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200" y="2852640"/>
            <a:ext cx="64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60600" y="2852640"/>
            <a:ext cx="64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8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2852640"/>
            <a:ext cx="64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76520" y="2852640"/>
            <a:ext cx="64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8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3240" y="2852640"/>
            <a:ext cx="64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8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19720" y="2852640"/>
            <a:ext cx="64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8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84880" y="2852640"/>
            <a:ext cx="64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8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92800" y="2852640"/>
            <a:ext cx="64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8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1268280"/>
            <a:ext cx="7820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ásobky čísla 8 dostaneme násobením přirozených čísel osmi, nebo postupným přičítáním čísla 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3429000"/>
            <a:ext cx="782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Každý násobek osmi se dá rozložit na součin, jehož jeden činitel bude číslo 8 a druhý činitel libovolné přirozené čís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4581360"/>
            <a:ext cx="7820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z toho pro nás plyne? Jak poznáme, zda je číslo násobkem čísla 8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4998960"/>
            <a:ext cx="7775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Chceme-li zjistit, zda je dané číslo násobkem čísla 8, dělíme jej číslem 8. Vyjde-li dělení se zbytkem nula, je číslo násobkem osmi. Jestliže nevyjde dělení se zbytkem nula, není číslo násobkem osm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4005360"/>
            <a:ext cx="597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16 = 8 . 27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200 = 8 .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ásobek a děl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2276640"/>
            <a:ext cx="360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Číslo 536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je násobkem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os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115416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36 : 8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06480" y="1440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17431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9440" y="115416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97440" y="1154160"/>
            <a:ext cx="2446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39 : 8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85000" y="144144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6600" y="174312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65800" y="11541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2708280"/>
            <a:ext cx="360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Číslo 536 je dělitelné číslem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3141720"/>
            <a:ext cx="360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Číslo 8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je dělitelem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čísla 53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8360" y="2276640"/>
            <a:ext cx="36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Číslo 539 není násobkem os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8360" y="2708280"/>
            <a:ext cx="38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Číslo 539 není dělitelné číslem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3141720"/>
            <a:ext cx="37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Číslo 8 není dělitelem čísla 53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716280"/>
            <a:ext cx="39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36 = 8 . 6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4653000"/>
            <a:ext cx="2376360" cy="1368360"/>
          </a:xfrm>
          <a:prstGeom prst="cloudCallout">
            <a:avLst>
              <a:gd name="adj1" fmla="val 63962"/>
              <a:gd name="adj2" fmla="val -82828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ásobek čísel 8 a 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80000" y="4869000"/>
            <a:ext cx="2376360" cy="1368360"/>
          </a:xfrm>
          <a:prstGeom prst="cloudCallout">
            <a:avLst>
              <a:gd name="adj1" fmla="val -9120"/>
              <a:gd name="adj2" fmla="val -97564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dělitel čísla 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43640" y="4581360"/>
            <a:ext cx="2376360" cy="1368720"/>
          </a:xfrm>
          <a:prstGeom prst="cloudCallout">
            <a:avLst>
              <a:gd name="adj1" fmla="val -91347"/>
              <a:gd name="adj2" fmla="val -79814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dělitel čísla 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74840" y="11415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53360" y="11541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348000" y="3789360"/>
            <a:ext cx="259236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ásobek a děl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1268280"/>
            <a:ext cx="39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36 = 8 . 6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58920" y="1700280"/>
            <a:ext cx="727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Číslo 536 lze rozložit i na součin jiných čísel: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90840" y="2205000"/>
            <a:ext cx="2950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36 = 2 . 26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43280" y="2205000"/>
            <a:ext cx="273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36 = 4 . 13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3640" y="3932280"/>
            <a:ext cx="287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36 = 1 . 536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226044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ne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2781360"/>
            <a:ext cx="792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Číslo 536 je také násobkem čísel 2, 4, 67, 134, 2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3284640"/>
            <a:ext cx="792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le i čísel 1 a 5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7280" y="4651200"/>
            <a:ext cx="7705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Každé číslo je násobkem čísla 1 a svým vlastním násob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5516640"/>
            <a:ext cx="7705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Každé číslo větší než 1 má aspoň dva různé dělitele: jedničku a samo se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98100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1.) Urči prvních deset násobků čísl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98560" y="134136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6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98560" y="170028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14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8560" y="206064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23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8200" y="263700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2.) Zjistěte všechny dělitele čís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299736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36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335592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50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371628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120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4221000"/>
            <a:ext cx="756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3.) Zjistěte dělením, která z čísel 42, 134, 144, 268, 402 jsou dělitelná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465444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čtyřmi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01336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šesti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537372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sedmi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5734080"/>
            <a:ext cx="36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osmi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7-23T10:10:36Z</dcterms:modified>
  <cp:revision>126</cp:revision>
  <dc:subject/>
  <dc:title>Dělitelnost přirozených čísel - násobek a dělitel</dc:title>
</cp:coreProperties>
</file>