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EDF-7399-4244-9A4B-F976F0BA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F17-F3FD-4AF9-97CA-61D233E1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1B1-419F-4C22-B267-5C8B0BD8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00D-C244-4219-9E7F-34CACE24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306-ED9E-4AD6-9569-6891FB06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CB5A-F41D-469B-95CF-F3F6B24C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7251-9234-40A3-92BA-613BC79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9E8-C14C-4D4D-85D3-405FFC8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462-1F47-4B23-B212-7AB43524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F494-4510-42D2-BC22-1E1E98EE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E3CC-0EBC-4572-A7CC-B8EBE38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47A-5DA8-48B9-AD25-340B5F37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B263-8F8A-4B6A-8A6C-28813FB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2CD8-AAED-4067-9AB1-D80CE0C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CD3D-8D41-4381-B4C2-E7748ED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B79-B3DB-4885-8DDC-3BAF6413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4BA6-8E9A-4257-A3BB-CCBCE6F1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7F0-8AE0-454F-85F4-F09537D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B2C-2FC1-4861-9943-263044B1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D83-ABF4-4DAA-AA3D-23874C0D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622-1D96-462F-BD68-F3DAA404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62C-88F5-4ECC-BA7E-AEA0D7F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8CB-C415-4352-ADE8-8862AFE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CFB-268D-4C53-8774-14D0F74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50E9-CFC2-4C15-B9C8-F43DB466B6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098-8F5B-4777-8A9F-6E132D5BDFC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istoteles.cz/matematika/vyrazy/vyrazy-slozene-zlomky-resene-priklady.php#Slide 87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istoteles.cz/matematika/vyrazy/vyrazy-slozene-zlomky-resene-priklady.php#Slide 87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Složené lomené výrazy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6920" y="1201680"/>
                <a:ext cx="9590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12000" y="2328840"/>
                <a:ext cx="17715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08760" y="3089160"/>
                <a:ext cx="2421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53040" y="3807000"/>
                <a:ext cx="874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 flipV="1">
            <a:off x="7453440" y="3514320"/>
            <a:ext cx="71892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667640" y="3170160"/>
            <a:ext cx="13032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61080" y="3173040"/>
            <a:ext cx="719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00720" y="3514680"/>
            <a:ext cx="1000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004080" y="4854600"/>
                <a:ext cx="14191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7719840" y="4869000"/>
                <a:ext cx="10432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8109000" y="5157720"/>
                <a:ext cx="6890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24880" y="5452920"/>
                <a:ext cx="10411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120160" y="5756400"/>
                <a:ext cx="8366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8105760" y="6107040"/>
                <a:ext cx="6462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32520" y="1197000"/>
                <a:ext cx="12034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84360" y="1143000"/>
                <a:ext cx="1796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983200" y="241920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983200" y="3170160"/>
                <a:ext cx="19764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 flipV="1">
            <a:off x="6630840" y="3192120"/>
            <a:ext cx="648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005520" y="3827520"/>
                <a:ext cx="98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064200" y="4956120"/>
                <a:ext cx="13161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456320" y="4941720"/>
                <a:ext cx="908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797960" y="5229360"/>
                <a:ext cx="71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472520" y="5603760"/>
                <a:ext cx="9093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7797960" y="5905440"/>
                <a:ext cx="579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 flipV="1">
            <a:off x="7610400" y="3529080"/>
            <a:ext cx="7308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978520" y="1249200"/>
                <a:ext cx="17748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31880" y="1190520"/>
                <a:ext cx="10317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012000" y="2244600"/>
                <a:ext cx="156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2000" y="2890800"/>
                <a:ext cx="2112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 flipV="1">
            <a:off x="7278840" y="324144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9640" y="2938320"/>
            <a:ext cx="576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040440" y="3581280"/>
                <a:ext cx="801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6141960" y="4390920"/>
                <a:ext cx="123840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24720" y="4430880"/>
                <a:ext cx="94788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870680" y="4740120"/>
                <a:ext cx="7448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550280" y="5157720"/>
                <a:ext cx="9284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867800" y="5443560"/>
                <a:ext cx="6188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945560" y="5835600"/>
                <a:ext cx="5461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989680" y="1125360"/>
                <a:ext cx="1174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6213600" y="3227040"/>
            <a:ext cx="172800" cy="244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380360" y="2923920"/>
            <a:ext cx="172800" cy="244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2492280"/>
            <a:ext cx="7559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Složený výraz vypočítáme tak, že součin vnějších členů lomíme součinem vnitřních čle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Název souboru: j0398159.wmf&#13;Klíčová slova: akademikové, děti, dívky ...&#13;Velikost souboru: 20 kB"/>
          <p:cNvPicPr/>
          <p:nvPr/>
        </p:nvPicPr>
        <p:blipFill>
          <a:blip r:embed="rId2"/>
          <a:stretch/>
        </p:blipFill>
        <p:spPr>
          <a:xfrm>
            <a:off x="6775560" y="447840"/>
            <a:ext cx="2044440" cy="204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002040" y="4264200"/>
                <a:ext cx="158112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6" name=""/>
          <p:cNvGrpSpPr/>
          <p:nvPr/>
        </p:nvGrpSpPr>
        <p:grpSpPr>
          <a:xfrm>
            <a:off x="2268360" y="3686040"/>
            <a:ext cx="690480" cy="2406600"/>
            <a:chOff x="2268360" y="3686040"/>
            <a:chExt cx="690480" cy="2406600"/>
          </a:xfrm>
        </p:grpSpPr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76280" y="3686040"/>
                  <a:ext cx="682560" cy="24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D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2268360" y="489744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0" y="4869000"/>
                <a:ext cx="425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032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ložené lomené výrazy -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definice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opět zavzpomínejme, tentokrát na složené zlomky a možnost zápisu podílu čí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91628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íme, že podíl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9:7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můžeme zapsat ve tvaru zlomku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948360" y="1844640"/>
                <a:ext cx="268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116000" y="2638440"/>
            <a:ext cx="7632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ejně tak podíl dvou zlomků           můžeme zapsat ve tvaru složeného zlomku    </a:t>
            </a: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75040" y="2637000"/>
                <a:ext cx="6480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492360" y="3081240"/>
                <a:ext cx="3128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16000" y="4479840"/>
            <a:ext cx="78487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A opět stejně můžeme zapsat i podíl lomených výrazů          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tvaru    </a:t>
            </a:r>
            <a:r>
              <a:rPr b="1" lang="en-US" sz="5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65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kterému říkáme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ložený lomený výraz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43960" y="4421160"/>
                <a:ext cx="1004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7440" y="4897440"/>
                <a:ext cx="51444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4032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ložené lomené výrazy -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výpočet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981000"/>
            <a:ext cx="7993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již zaznělo, složené lomené výrazy můžeme upravit tak,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že hlavní zlomkovou čáru nahradíme znakem pro dělen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788000" y="2262240"/>
                <a:ext cx="12240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16000" y="1930320"/>
                <a:ext cx="35568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511280" y="2281320"/>
                <a:ext cx="900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32160" y="2276640"/>
                <a:ext cx="8586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971640" y="1498680"/>
            <a:ext cx="799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pak postupujeme jako při dělení lomen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62400" y="1916280"/>
                <a:ext cx="5256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00840" y="2313000"/>
                <a:ext cx="1177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178760" y="2319480"/>
                <a:ext cx="9046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89920" y="2319480"/>
                <a:ext cx="7016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 flipV="1">
            <a:off x="6429240" y="22903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75360" y="2695320"/>
            <a:ext cx="1288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34240" y="2290320"/>
            <a:ext cx="216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443640" y="2707920"/>
            <a:ext cx="1285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23120" y="3132000"/>
                <a:ext cx="7700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101080" y="3132000"/>
                <a:ext cx="70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71640" y="3516480"/>
            <a:ext cx="799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stup se však dá i urychlit, vypustíme-li krok nahrazení hlavní zlomkové čáry dělením a zapamatujeme-li si, že vnější členy složeného lomeného výrazu vynásobíme do čitatele a vnitřní členy do jmenovatele upraveného zlom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35280" y="4710240"/>
                <a:ext cx="3553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30560" y="5060880"/>
                <a:ext cx="900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51080" y="5056200"/>
                <a:ext cx="858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690560" y="4984920"/>
            <a:ext cx="216000" cy="100800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152880" y="5056200"/>
                <a:ext cx="817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317760" y="5057640"/>
            <a:ext cx="720720" cy="35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2174760" y="5244840"/>
            <a:ext cx="92160" cy="43164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17760" y="5491080"/>
            <a:ext cx="72072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0560" y="5229360"/>
            <a:ext cx="424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jednodušeně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„Vnější spolu vynásobíme nahoru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nitřní spolu dolů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40320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ložené lomené výrazy -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podmínky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3789360"/>
            <a:ext cx="6624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ýrazy, které se během úprav a výpočtů vyskytují ve jmenovateli, se nesmí rovnat 0 (nulou nelze dělit!)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79480" y="2031840"/>
                <a:ext cx="33242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2147760" y="2709720"/>
            <a:ext cx="633600" cy="60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2709720"/>
            <a:ext cx="633240" cy="60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11520" y="2709720"/>
            <a:ext cx="633600" cy="605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167800">
            <a:off x="2594520" y="318456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67800">
            <a:off x="3349080" y="319248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167800">
            <a:off x="4944240" y="319212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071720" y="1454040"/>
            <a:ext cx="690480" cy="2406600"/>
            <a:chOff x="1071720" y="1454040"/>
            <a:chExt cx="690480" cy="240660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079640" y="1454040"/>
                  <a:ext cx="682560" cy="24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f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B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D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1071720" y="266544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124000" y="4695840"/>
            <a:ext cx="66247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obrá rada: Podmínky, pro něž mají dané výrazy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úpravy s nimi prováděné smysl, je vhodné určovat až po provedení úprav – po rozkladu výrazů na součin.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mínky totiž snadněji určíme, jsou-li výrazy ve tvaru souč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Název souboru: j0429829.wmf&#13;Klíčová slova: číslo jedna, emoce, emotikony ...&#13;Velikost souboru: 36 kB"/>
          <p:cNvPicPr/>
          <p:nvPr/>
        </p:nvPicPr>
        <p:blipFill>
          <a:blip r:embed="rId2"/>
          <a:stretch/>
        </p:blipFill>
        <p:spPr>
          <a:xfrm>
            <a:off x="6659640" y="1197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ložené lomené výrazy -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příklad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60360" y="5013360"/>
            <a:ext cx="7704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hrňme postup: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Odstraníme složený lomený výraz, rozložíme výrazy na součin, zkrátíme, upravíme … a nezapomeneme na podmínky.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jsme hotovi. Nic složitého, že? Tak jdeme na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414972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41480" y="1484280"/>
                <a:ext cx="13539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b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b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1906560" y="2927520"/>
          <a:ext cx="5330880" cy="1004760"/>
        </p:xfrm>
        <a:graphic>
          <a:graphicData uri="http://schemas.openxmlformats.org/drawingml/2006/table">
            <a:tbl>
              <a:tblPr/>
              <a:tblGrid>
                <a:gridCol w="482760"/>
                <a:gridCol w="48481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56000" y="1887480"/>
                <a:ext cx="23605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00000" y="1700280"/>
            <a:ext cx="216000" cy="129708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2334960" y="2161800"/>
            <a:ext cx="91800" cy="43164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855880" y="2405160"/>
                <a:ext cx="2016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6760" y="1887480"/>
                <a:ext cx="2793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56000" y="3054240"/>
                <a:ext cx="26226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3132000" y="3096720"/>
            <a:ext cx="144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232080" y="360180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928960" y="311256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032280" y="3601800"/>
            <a:ext cx="144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92520" y="3111120"/>
            <a:ext cx="10954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592440" y="3602160"/>
            <a:ext cx="109548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57600" y="3732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789360"/>
            <a:ext cx="2881440" cy="1511280"/>
          </a:xfrm>
          <a:prstGeom prst="cloudCallout">
            <a:avLst>
              <a:gd name="adj1" fmla="val -51981"/>
              <a:gd name="adj2" fmla="val -1171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užijeme komutativní zákon pro záměnu činite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4437000"/>
            <a:ext cx="2376720" cy="863640"/>
          </a:xfrm>
          <a:prstGeom prst="cloudCallout">
            <a:avLst>
              <a:gd name="adj1" fmla="val 47796"/>
              <a:gd name="adj2" fmla="val -1115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krátí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205240" y="3054240"/>
                <a:ext cx="374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21160" y="4264200"/>
                <a:ext cx="835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546960" y="4264200"/>
                <a:ext cx="1554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51840" y="4667400"/>
                <a:ext cx="1266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95640" y="3213000"/>
            <a:ext cx="2374920" cy="1152720"/>
          </a:xfrm>
          <a:prstGeom prst="cloudCallout">
            <a:avLst>
              <a:gd name="adj1" fmla="val -68115"/>
              <a:gd name="adj2" fmla="val -1223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pravíme čitatele do tvaru zlom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ložené lomené výrazy - </a:t>
            </a:r>
            <a:r>
              <a:rPr b="1" lang="en-US" sz="3600" spc="-1" strike="noStrike">
                <a:solidFill>
                  <a:srgbClr val="00cc00"/>
                </a:solidFill>
                <a:latin typeface="Trebuchet MS"/>
              </a:rPr>
              <a:t>příklad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2560" y="473868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ávěr: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Každé číslo i výraz se dá zapsat ve tvaru zlomku se jmenovatelem 1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414972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11240" y="2124000"/>
                <a:ext cx="15112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b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906560" y="3071880"/>
          <a:ext cx="5330880" cy="1004760"/>
        </p:xfrm>
        <a:graphic>
          <a:graphicData uri="http://schemas.openxmlformats.org/drawingml/2006/table">
            <a:tbl>
              <a:tblPr/>
              <a:tblGrid>
                <a:gridCol w="482760"/>
                <a:gridCol w="484812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95720" y="2046240"/>
                <a:ext cx="21589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27200" y="1987560"/>
            <a:ext cx="216000" cy="108108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3573360" y="2306520"/>
            <a:ext cx="92160" cy="43200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635"/>
                </a:moveTo>
                <a:cubicBezTo>
                  <a:pt x="68" y="529"/>
                  <a:pt x="0" y="424"/>
                  <a:pt x="0" y="318"/>
                </a:cubicBezTo>
                <a:cubicBezTo>
                  <a:pt x="0" y="212"/>
                  <a:pt x="68" y="106"/>
                  <a:pt x="1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300720" y="2046240"/>
                <a:ext cx="23036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765600" y="3133800"/>
                <a:ext cx="23922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V="1">
            <a:off x="4083120" y="3190680"/>
            <a:ext cx="447480" cy="33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3213000"/>
            <a:ext cx="2448000" cy="1584360"/>
          </a:xfrm>
          <a:prstGeom prst="cloudCallout">
            <a:avLst>
              <a:gd name="adj1" fmla="val -79574"/>
              <a:gd name="adj2" fmla="val -9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tkneme číslo 2 ze závor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 čitat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4437000"/>
            <a:ext cx="2376720" cy="863640"/>
          </a:xfrm>
          <a:prstGeom prst="cloudCallout">
            <a:avLst>
              <a:gd name="adj1" fmla="val 42717"/>
              <a:gd name="adj2" fmla="val -104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krátí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číslo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183360" y="3133800"/>
                <a:ext cx="1066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21160" y="4264200"/>
                <a:ext cx="835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546960" y="4264200"/>
                <a:ext cx="1554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236000" y="4653000"/>
                <a:ext cx="1266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55640" y="708120"/>
            <a:ext cx="820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co když čitatel nebo jmenovatel složeného zlomku není zlom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666880" y="1787400"/>
                <a:ext cx="135900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b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 flipV="1">
            <a:off x="4645080" y="3666960"/>
            <a:ext cx="447480" cy="33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68360" y="5516640"/>
                <a:ext cx="1008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378240" y="5516640"/>
                <a:ext cx="11224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91080" y="5516640"/>
                <a:ext cx="149364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189840" y="5516640"/>
                <a:ext cx="19825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5640" y="1168560"/>
                <a:ext cx="8222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173640" y="2612880"/>
                <a:ext cx="106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156360" y="3260880"/>
                <a:ext cx="97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164280" y="3962520"/>
                <a:ext cx="49536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 flipV="1">
            <a:off x="6659640" y="3271680"/>
            <a:ext cx="71280" cy="23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526160" y="4521240"/>
                <a:ext cx="5511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1720" y="4797360"/>
                <a:ext cx="5302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62760" y="4522680"/>
                <a:ext cx="1245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 flipV="1">
            <a:off x="6602400" y="3603240"/>
            <a:ext cx="712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789600" y="3271680"/>
            <a:ext cx="71640" cy="230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732720" y="3603240"/>
            <a:ext cx="712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402240" y="3269880"/>
            <a:ext cx="7164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72080" y="3603240"/>
            <a:ext cx="7164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284880" y="3241800"/>
                <a:ext cx="130320" cy="16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99120" y="1413000"/>
                <a:ext cx="5288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55640" y="1219320"/>
                <a:ext cx="127800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84720" y="1197000"/>
                <a:ext cx="1190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q</m:t>
                            </m:r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95880" y="2522520"/>
                <a:ext cx="15717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84720" y="3166920"/>
                <a:ext cx="17272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3936960"/>
                <a:ext cx="5652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 flipV="1">
            <a:off x="6473880" y="3198960"/>
            <a:ext cx="1569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889680" y="354348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073920" y="4646520"/>
                <a:ext cx="15224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599240" y="5645160"/>
                <a:ext cx="90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888320" y="5937120"/>
                <a:ext cx="70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897680" y="4683240"/>
                <a:ext cx="5860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913520" y="5173560"/>
                <a:ext cx="5875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 flipV="1">
            <a:off x="6443640" y="3529080"/>
            <a:ext cx="187200" cy="303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734160" y="3212640"/>
            <a:ext cx="719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Upravte složený lomený výraz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84360" y="1197000"/>
                <a:ext cx="12650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072120" y="1341360"/>
                <a:ext cx="2052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60960" y="2073240"/>
                <a:ext cx="2614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059520" y="2738520"/>
                <a:ext cx="384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 flipV="1">
            <a:off x="7902720" y="243504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305400" y="217764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305400" y="245088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931160" y="216180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986440" y="4508640"/>
                <a:ext cx="1192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491240" y="4525920"/>
                <a:ext cx="82404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804080" y="4815000"/>
                <a:ext cx="5428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16800" y="5237280"/>
                <a:ext cx="84312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834320" y="5524560"/>
                <a:ext cx="646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V="1">
            <a:off x="6996240" y="245088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81840" y="213336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9-02T08:40:02Z</dcterms:modified>
  <cp:revision>205</cp:revision>
  <dc:subject/>
  <dc:title>Složené lomené výrazy</dc:title>
</cp:coreProperties>
</file>