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588-9077-4D90-BA3C-7CE8F515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504-78D3-48C4-A6F5-870BA7DF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C15-81DC-49E7-9DFE-E92901BB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FF6-DFAB-401D-8B81-1EF4BDF1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DD2D-23EA-4441-A9D8-DAAC78FD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BB96-BAFD-406E-9CE5-8F86D353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E789-9BD8-4380-847B-EB2665E3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88CD-28FF-42DF-BCB8-E0831E13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9F07-B39C-482E-B420-2C923C7F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9A89-3ED6-44F4-B86D-DF2AF194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7955-D764-46F6-B506-31874114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164-85DC-418F-A86E-D76CD9B2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F1A0-3E6A-4249-8DDE-74B94E9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6754-1EC5-43B5-A0B9-DC48F07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6BAA-4FD5-4DCA-9E2D-D16A98A9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BB90-F388-4496-8029-07794FAE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AE44-35AB-4DA9-89F5-6F771052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401-F013-4670-9E54-4C2615B2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92B-B5AA-408C-B956-D4811B29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213-7F5C-43BD-89D4-EA2BDAF6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CC1-8E0C-472B-94E8-79856FE3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2A6-6E31-4B75-87C7-FAA6A2E3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DC9-F1BA-4278-AFD1-0495CC2E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E8C-46E9-441E-9BB7-B205AA0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69E1-47FF-44FA-B236-C9F77207F3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FD84-3C84-43D9-ACFC-60D195CF09E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Lomené 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Rozšiřování lomených výraz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6560" y="274680"/>
            <a:ext cx="849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Rozšiřov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Rozšiř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229440" y="4702320"/>
                <a:ext cx="718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332840" y="4702320"/>
                <a:ext cx="13190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084720" y="1268280"/>
                <a:ext cx="10573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56360" y="1998720"/>
                <a:ext cx="2203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84800" y="2806560"/>
                <a:ext cx="1843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751880" y="5062680"/>
                <a:ext cx="911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920000" y="5413320"/>
                <a:ext cx="792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01640" y="1268280"/>
                <a:ext cx="14763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213600" y="3716280"/>
                <a:ext cx="1641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66560" y="27468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Rozšiřov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oplňte, aby platila rovnost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60960" y="4341960"/>
                <a:ext cx="11988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076800" y="1324080"/>
                <a:ext cx="2743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264360" y="4784760"/>
                <a:ext cx="958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84360" y="1268280"/>
                <a:ext cx="202716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084720" y="2187720"/>
                <a:ext cx="2743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399360" y="3030480"/>
                <a:ext cx="21142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694640" y="4336920"/>
                <a:ext cx="11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980480" y="4780080"/>
                <a:ext cx="79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6560" y="27468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Rozšiřov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oplňte, aby platila rovnost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002280" y="5405400"/>
                <a:ext cx="1317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87880" y="1346040"/>
                <a:ext cx="29228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575400" y="5697360"/>
                <a:ext cx="982800" cy="7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647120" y="5400720"/>
                <a:ext cx="1293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217000" y="5692680"/>
                <a:ext cx="792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92280" y="1268280"/>
                <a:ext cx="3232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997600" y="2116080"/>
                <a:ext cx="2203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991120" y="2881440"/>
                <a:ext cx="3059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991120" y="3645000"/>
                <a:ext cx="3059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012000" y="4365720"/>
                <a:ext cx="29239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6560" y="27468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Rozšiřov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ajděte společného jmenovatele a rozšiřte.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227640" y="5234040"/>
                <a:ext cx="7430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084720" y="1341360"/>
                <a:ext cx="2159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680240" y="5229360"/>
                <a:ext cx="11034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8039160" y="5668920"/>
                <a:ext cx="6951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107040" y="2116080"/>
                <a:ext cx="2136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943280" y="1268280"/>
                <a:ext cx="900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79320" y="1268280"/>
                <a:ext cx="990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084720" y="3195720"/>
                <a:ext cx="2384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084720" y="3987720"/>
                <a:ext cx="2384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66560" y="27468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Rozšiřov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ajděte společného jmenovatele a rozšiřte.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00840" y="5521320"/>
                <a:ext cx="9000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938920" y="1195560"/>
                <a:ext cx="1873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632720" y="5516640"/>
                <a:ext cx="900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091360" y="5851440"/>
                <a:ext cx="72072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938920" y="1771560"/>
                <a:ext cx="1873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44560" y="1268280"/>
                <a:ext cx="8114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38360" y="1268280"/>
                <a:ext cx="8982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897520" y="2492280"/>
                <a:ext cx="25621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897520" y="3068640"/>
                <a:ext cx="25621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889600" y="3860640"/>
                <a:ext cx="20671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889600" y="4437000"/>
                <a:ext cx="20671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6459480" y="5851440"/>
                <a:ext cx="593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66560" y="27468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Rozšiřov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ajděte společného jmenovatele a rozšiřte.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954760" y="1263600"/>
                <a:ext cx="561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645320" y="5600880"/>
                <a:ext cx="8812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956720" y="5937120"/>
                <a:ext cx="58392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925960" y="1774800"/>
                <a:ext cx="2203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84360" y="1219320"/>
                <a:ext cx="6984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455840" y="1197000"/>
                <a:ext cx="124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945040" y="2600280"/>
                <a:ext cx="2575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889600" y="3141720"/>
                <a:ext cx="2600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940360" y="4040280"/>
                <a:ext cx="20304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940360" y="4560840"/>
                <a:ext cx="2600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66560" y="54936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vě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4560" y="1630440"/>
            <a:ext cx="7975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Rozšiřování, stejně tak jako krácení lomených výrazů využijeme především při jejich zjednodušování, sčítání, odčítání, násobení a děl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55720" y="2854440"/>
            <a:ext cx="5084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o je důkladně procvičuj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57160" y="4078440"/>
            <a:ext cx="80359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ipomínám ještě jednu velmi důležitou věc. </a:t>
            </a:r>
            <a:br>
              <a:rPr sz="2400"/>
            </a:b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Uvádění podmínek, pro které mají lomené výrazy smysl, jsou nezbytnou a nutnou součástí řešen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, i když to v zadání příkladu nemusí být výslovně uveden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šiřov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68280"/>
            <a:ext cx="8280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 pojmem rozšiřování jsme se seznámili již při početních operacích se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5516640"/>
            <a:ext cx="7272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ozšířit lomený výraz znamená vynásobit čitatele i jmenovatele stejným výrazem, různým od n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2133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Rozšíření znamená násobení čitatele i jmenovatele stejným číslem, různým od n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468680" y="2913120"/>
                <a:ext cx="390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67280" y="2924280"/>
                <a:ext cx="10746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192720" y="2927520"/>
                <a:ext cx="684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37465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obně postupujeme i u lomených výraz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573360" y="4430880"/>
                <a:ext cx="682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484520" y="4454640"/>
                <a:ext cx="19227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450120" y="4406760"/>
                <a:ext cx="1172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07160" y="4738680"/>
                <a:ext cx="1141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551560" y="2909880"/>
            <a:ext cx="504720" cy="504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5600" y="3471840"/>
            <a:ext cx="505080" cy="504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2560" y="4465800"/>
            <a:ext cx="1081080" cy="504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8200" y="5011560"/>
            <a:ext cx="1081080" cy="505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šiřov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541520"/>
            <a:ext cx="540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ak tedy ještě jednou. Rozšíříme lomený vý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594400" y="2349360"/>
                <a:ext cx="9986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76720" y="2408400"/>
                <a:ext cx="22032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627280" y="2408400"/>
                <a:ext cx="617400" cy="96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997600" y="1349280"/>
                <a:ext cx="5634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11280" y="3718080"/>
            <a:ext cx="828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U lomených výrazů nesmíte nikdy zapomenout na určení podmínek řešitelnosti (tedy kdy má výraz smysl)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202280" y="4559400"/>
                <a:ext cx="1469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24160" y="5337000"/>
                <a:ext cx="90828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313240" y="5265720"/>
                <a:ext cx="10573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464080" y="5695920"/>
                <a:ext cx="908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 flipH="1">
            <a:off x="3649320" y="4991040"/>
            <a:ext cx="863640" cy="43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4991040"/>
            <a:ext cx="1081080" cy="43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5280" y="1541520"/>
            <a:ext cx="237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ýraz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745400" y="1584360"/>
                <a:ext cx="6969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šiřov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05264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šiřování lomených výrazů budeme potřebovat především při převádění výrazů na společného jmenov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917720"/>
            <a:ext cx="828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Vyzkoušejme si tedy příklad rozšíření lomeného výrazu na požadovaného jmenov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84800" y="2637000"/>
                <a:ext cx="441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611280" y="2637000"/>
            <a:ext cx="828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Rozšiřte lomený výr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2637000"/>
            <a:ext cx="4176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ak, aby jeho jmenovatel byl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6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979640" y="3357720"/>
                <a:ext cx="1530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510000" y="3406680"/>
                <a:ext cx="511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4284720" y="3573360"/>
            <a:ext cx="93492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518080" y="3330720"/>
                <a:ext cx="19335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2268360" y="3789360"/>
            <a:ext cx="504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Daný výraz tedy rozšíříme výrazem 2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21120" y="4438800"/>
                <a:ext cx="907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954600" y="4437000"/>
                <a:ext cx="15429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26000" y="4440240"/>
                <a:ext cx="846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11280" y="5445000"/>
            <a:ext cx="835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Zapomenout nesmíme na podmínky, pro které proměnné nemá výraz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138560" y="5919840"/>
                <a:ext cx="938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šiřov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19700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 řešení předcházejícího příkladu je zřejmé, že známe-li jmenovatele, na kterého musíme lomený výraz převést, musíme zjistit, čím budeme lomený výraz rozšiř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5518080"/>
            <a:ext cx="7848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Jak je vidět, tak ze součinového tvaru snadno určíme, čím budeme lomený výraz rozšiřovat, stejně jako podmínky, pro které má výraz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227664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tomu nám pomůže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rozložení jmenovatele lomeného výrazu na součin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v základním tva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44520" y="3573360"/>
                <a:ext cx="1419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068720" y="2852640"/>
                <a:ext cx="652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612720" y="284940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: Rozšiřte lomený vý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32200" y="2851200"/>
            <a:ext cx="43768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ak, aby jeho jmenovatel byl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7xy+21y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78040" y="3573360"/>
                <a:ext cx="1247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118040" y="3757680"/>
            <a:ext cx="79200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1120" y="3427560"/>
            <a:ext cx="3584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ýraz rozšíříme výrazem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7y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30480" y="4089240"/>
                <a:ext cx="11476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351240" y="4091040"/>
                <a:ext cx="1932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367240" y="4089240"/>
                <a:ext cx="1652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65400" y="5133960"/>
                <a:ext cx="1063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82960" y="5141880"/>
                <a:ext cx="868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 flipH="1">
            <a:off x="3564000" y="4941720"/>
            <a:ext cx="287280" cy="28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4941720"/>
            <a:ext cx="289080" cy="28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81320" y="3184560"/>
            <a:ext cx="64944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3557520"/>
            <a:ext cx="64908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šiřov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2682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ak již bylo řečeno, rozšiřování lomených výrazů budeme potřebovat především při převádění výrazů na společného jmeno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184464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Společného jmenovatele výrazů musíme nejdříve zjistit. K tomu opět napomůže rozložení jmenovatelů na součin v základním tva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392120" y="3616200"/>
                <a:ext cx="1138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067280" y="3040200"/>
                <a:ext cx="1766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12720" y="256536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: Rozšiřte lomené výrazy tak, aby měly stejného jmenovatele a aby to byl co nejjednodušší výra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516040" y="3664080"/>
                <a:ext cx="111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029200" y="5776920"/>
                <a:ext cx="455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H="1">
            <a:off x="3635280" y="3616200"/>
            <a:ext cx="432000" cy="1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24440" y="3616200"/>
            <a:ext cx="433440" cy="1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291360" y="3616200"/>
                <a:ext cx="944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227720" y="3664080"/>
                <a:ext cx="1592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116000" y="4076640"/>
            <a:ext cx="795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společný jmenovatel by tedy mohl být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x.(x+3).(x+3).(x-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65444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To by ale nebyl jmenovatel v co nejjednodušším tvaru. Proto člen, který se vyskytuje v obou jmenovatelích, vezmeme vždy do společného jmenovatele jen jed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3160" y="3976560"/>
            <a:ext cx="21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397656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64440" y="397656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435640" y="5699160"/>
                <a:ext cx="155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8070840" y="397656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937200" y="5697360"/>
                <a:ext cx="1522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šiřov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067280" y="1625760"/>
                <a:ext cx="1766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612720" y="115092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: Rozšiřte lomené výrazy tak, aby měly stejného jmenovatele a aby to byl co nejjednodušší výra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276640"/>
            <a:ext cx="705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ejjednodušší společný jmenovatel tedy je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x.(x+3).(x-3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36880" y="2832120"/>
                <a:ext cx="42274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757840" y="2838600"/>
                <a:ext cx="39852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268360" y="3571920"/>
            <a:ext cx="626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Ve jmenovateli „přibyl“ člen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(x-3)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, tudíž aby došlo k rozšíření lomeného výrazu, musí tentýž člen „přibýt“ i v čitateli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48360" y="2997360"/>
            <a:ext cx="2208240" cy="936360"/>
          </a:xfrm>
          <a:custGeom>
            <a:avLst/>
            <a:gdLst/>
            <a:ahLst/>
            <a:rect l="l" t="t" r="r" b="b"/>
            <a:pathLst>
              <a:path w="1391" h="590">
                <a:moveTo>
                  <a:pt x="725" y="590"/>
                </a:moveTo>
                <a:cubicBezTo>
                  <a:pt x="1058" y="502"/>
                  <a:pt x="1391" y="415"/>
                  <a:pt x="1270" y="317"/>
                </a:cubicBezTo>
                <a:cubicBezTo>
                  <a:pt x="1149" y="219"/>
                  <a:pt x="574" y="109"/>
                  <a:pt x="0" y="0"/>
                </a:cubicBezTo>
              </a:path>
            </a:pathLst>
          </a:custGeom>
          <a:noFill/>
          <a:ln w="1908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08840" y="2846520"/>
                <a:ext cx="8395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757600" y="4149720"/>
                <a:ext cx="45860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156360" y="4187880"/>
                <a:ext cx="25092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2268360" y="4889520"/>
            <a:ext cx="626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Ve jmenovateli „přibyl“ člen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, tudíž aby došlo k rozšíření lomeného výrazu, musí tentýž člen „přibýt“ i v čitateli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8360" y="4314960"/>
            <a:ext cx="2208240" cy="936360"/>
          </a:xfrm>
          <a:custGeom>
            <a:avLst/>
            <a:gdLst/>
            <a:ahLst/>
            <a:rect l="l" t="t" r="r" b="b"/>
            <a:pathLst>
              <a:path w="1391" h="590">
                <a:moveTo>
                  <a:pt x="725" y="590"/>
                </a:moveTo>
                <a:cubicBezTo>
                  <a:pt x="1058" y="502"/>
                  <a:pt x="1391" y="415"/>
                  <a:pt x="1270" y="317"/>
                </a:cubicBezTo>
                <a:cubicBezTo>
                  <a:pt x="1149" y="219"/>
                  <a:pt x="574" y="109"/>
                  <a:pt x="0" y="0"/>
                </a:cubicBezTo>
              </a:path>
            </a:pathLst>
          </a:custGeom>
          <a:noFill/>
          <a:ln w="1908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370560" y="4162320"/>
                <a:ext cx="3142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268360" y="5587920"/>
            <a:ext cx="626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Obě rovnosti platí, jestliž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76720" y="5661000"/>
                <a:ext cx="6526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043680" y="5661000"/>
                <a:ext cx="101124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400800" y="5978520"/>
                <a:ext cx="8017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75680" y="5646600"/>
                <a:ext cx="101268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710480" y="5964120"/>
                <a:ext cx="6541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6560" y="274680"/>
            <a:ext cx="849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Rozšiřov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Rozšiř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877080" y="4941720"/>
                <a:ext cx="7192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732720" y="1700280"/>
                <a:ext cx="793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789600" y="2685960"/>
                <a:ext cx="1508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845400" y="3622680"/>
                <a:ext cx="11113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20720" y="1285920"/>
                <a:ext cx="1114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6560" y="274680"/>
            <a:ext cx="849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Rozšiřov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300720" y="1268280"/>
                <a:ext cx="935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Rozšiř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37440" y="1900080"/>
                <a:ext cx="1752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96120" y="3213000"/>
                <a:ext cx="9367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510240" y="4724280"/>
                <a:ext cx="1073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58880" y="1312920"/>
                <a:ext cx="1581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p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372360" y="2550960"/>
                <a:ext cx="1292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438960" y="3875040"/>
                <a:ext cx="9367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678720" y="5084640"/>
                <a:ext cx="1033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846840" y="5445000"/>
                <a:ext cx="7351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977160" y="5727600"/>
                <a:ext cx="635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14T11:37:21Z</dcterms:modified>
  <cp:revision>156</cp:revision>
  <dc:subject/>
  <dc:title>Lomené výrazy - rozšiřování</dc:title>
</cp:coreProperties>
</file>