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5D8F-EBE8-4B76-B99C-C305739D6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75A0-B7E3-4A26-8D62-6C1B21D8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C766-9BAD-4A33-8536-FC652BE6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F963-44A8-45B6-981A-3E6B62DA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2B44-0CDF-4349-AB57-71DC0670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0253-E509-4374-8C9F-10DDC971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7102-1D70-4204-A3EE-B4C201D3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B0E6-AECA-4556-85BD-A1434F55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3791-533A-4876-842D-AB1A837F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602D-F161-4D3E-B860-4BEC2647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55E7-E1D6-4F37-B54D-A089FDEA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189A-9A93-428C-A34F-6CCAB663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C5C0-5756-4793-A617-E83EA24B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6577-6924-4B8B-B570-0E684A79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4288-559B-480C-9FEC-B95AF4A1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C1C1-5FF1-4880-ACE4-C66CCC74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02B1-A189-45C6-AF3A-D7DBD58D3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33E6-E0A2-44FB-B605-6CC9C939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A7B9-8A4B-4BE6-B79E-752296D5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B9C3-B200-4938-9F4C-A72DE200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9AE9-F252-40B3-BBCF-838B7CBA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03CC-5AC6-4E40-9A18-88E4E9F1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4DD4-DE6E-41F0-97E1-1434E7B2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2140-0923-4E16-A402-5B3072FD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679C-7BC9-45B8-A9CF-AFA2A8AA317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DFC7-1AB3-4787-85C8-C4A0468455A4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zshorakhk.cz/tvorba/ucitele/LV/LV_nasobeni.php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Lomené algebraické výrazy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3860640"/>
            <a:ext cx="80773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Násobení lomených výrazů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66560" y="27468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Násobení lomených výrazů – 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1197000"/>
            <a:ext cx="525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3280" y="63504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Vynásobte lomené výrazy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684360" y="1197000"/>
                <a:ext cx="20667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012000" y="1328760"/>
                <a:ext cx="136836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012000" y="2060640"/>
                <a:ext cx="28242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6026040" y="2708280"/>
                <a:ext cx="16304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 flipV="1">
            <a:off x="7812000" y="2420640"/>
            <a:ext cx="50508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6846840" y="2118960"/>
            <a:ext cx="50472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6559560" y="2420640"/>
            <a:ext cx="50472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7539120" y="2118960"/>
            <a:ext cx="50472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6032520" y="3284640"/>
                <a:ext cx="156060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6037200" y="3645000"/>
                <a:ext cx="159552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6040440" y="4005360"/>
                <a:ext cx="113976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986440" y="4508640"/>
                <a:ext cx="119232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dmínky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7518240" y="4525920"/>
                <a:ext cx="77184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7778880" y="4805280"/>
                <a:ext cx="59508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7543800" y="5237280"/>
                <a:ext cx="78912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7850160" y="5506920"/>
                <a:ext cx="488880" cy="2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500"/>
                            </p:stCondLst>
                            <p:childTnLst>
                              <p:par>
                                <p:cTn id="8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466560" y="27468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Násobení lomených výrazů – 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11280" y="1197000"/>
            <a:ext cx="525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3280" y="63504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Vynásobte lomené výrazy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684360" y="1268280"/>
                <a:ext cx="239868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6012000" y="1268280"/>
                <a:ext cx="239868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6026040" y="1895400"/>
                <a:ext cx="26496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6051600" y="2612880"/>
                <a:ext cx="10843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 flipV="1">
            <a:off x="6458040" y="2276640"/>
            <a:ext cx="718920" cy="28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7669080" y="1929960"/>
            <a:ext cx="719280" cy="28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443640" y="1916280"/>
            <a:ext cx="719280" cy="28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7669080" y="2276640"/>
            <a:ext cx="719280" cy="28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6056280" y="3300480"/>
                <a:ext cx="9176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 flipV="1">
            <a:off x="6300720" y="2665440"/>
            <a:ext cx="142920" cy="21600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6675480" y="3025800"/>
            <a:ext cx="142920" cy="21600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6300720" y="2997000"/>
            <a:ext cx="142920" cy="2156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6673680" y="2665440"/>
            <a:ext cx="142920" cy="21600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6070680" y="4005360"/>
                <a:ext cx="4586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7740720" y="4889520"/>
                <a:ext cx="100152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8129520" y="5157720"/>
                <a:ext cx="64764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≠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7729560" y="5594400"/>
                <a:ext cx="1001520" cy="29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8128080" y="5877000"/>
                <a:ext cx="793800" cy="29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227640" y="4941720"/>
                <a:ext cx="122400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dmínky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500"/>
                            </p:stCondLst>
                            <p:childTnLst>
                              <p:par>
                                <p:cTn id="9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500"/>
                            </p:stCondLst>
                            <p:childTnLst>
                              <p:par>
                                <p:cTn id="9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000"/>
                            </p:stCondLst>
                            <p:childTnLst>
                              <p:par>
                                <p:cTn id="9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500"/>
                            </p:stCondLst>
                            <p:childTnLst>
                              <p:par>
                                <p:cTn id="9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500"/>
                            </p:stCondLst>
                            <p:childTnLst>
                              <p:par>
                                <p:cTn id="9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1000"/>
                            </p:stCondLst>
                            <p:childTnLst>
                              <p:par>
                                <p:cTn id="9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500"/>
                            </p:stCondLst>
                            <p:childTnLst>
                              <p:par>
                                <p:cTn id="9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5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66560" y="27468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Násobení lomených výrazů – 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1280" y="1197000"/>
            <a:ext cx="525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03280" y="63504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Vynásobte lomené výrazy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665280" y="1211400"/>
                <a:ext cx="225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6012000" y="1341360"/>
                <a:ext cx="20160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005520" y="2060640"/>
                <a:ext cx="28875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 flipV="1">
            <a:off x="6559560" y="2075040"/>
            <a:ext cx="647640" cy="28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7337520" y="2405160"/>
            <a:ext cx="647640" cy="28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6372360" y="2075040"/>
            <a:ext cx="144360" cy="28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6804000" y="2377800"/>
            <a:ext cx="73080" cy="15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6040440" y="2824200"/>
                <a:ext cx="19573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 flipV="1">
            <a:off x="6531120" y="2376000"/>
            <a:ext cx="144360" cy="2890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7581960" y="2060640"/>
            <a:ext cx="144360" cy="2887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6862680" y="3213000"/>
            <a:ext cx="71928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7093080" y="2867040"/>
            <a:ext cx="71892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6084720" y="3592440"/>
                <a:ext cx="716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7829640" y="4456080"/>
                <a:ext cx="56016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7466040" y="4941720"/>
                <a:ext cx="88884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7807320" y="5229360"/>
                <a:ext cx="69516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7481880" y="5603760"/>
                <a:ext cx="88884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7807320" y="5905440"/>
                <a:ext cx="560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156360" y="4508640"/>
                <a:ext cx="12240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dmínky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500"/>
                            </p:stCondLst>
                            <p:childTnLst>
                              <p:par>
                                <p:cTn id="10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500"/>
                            </p:stCondLst>
                            <p:childTnLst>
                              <p:par>
                                <p:cTn id="10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466560" y="27468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Násobení lomených výrazů – 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11280" y="1197000"/>
            <a:ext cx="525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03280" y="63504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Vynásobte lomené výrazy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684360" y="1255680"/>
                <a:ext cx="17269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6083280" y="1268280"/>
                <a:ext cx="15843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091200" y="1971720"/>
                <a:ext cx="24415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 flipV="1">
            <a:off x="7885080" y="2377800"/>
            <a:ext cx="21600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6948360" y="2031480"/>
            <a:ext cx="7164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6114960" y="2735280"/>
                <a:ext cx="2806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 flipV="1">
            <a:off x="6977160" y="3068640"/>
            <a:ext cx="57600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8128080" y="2766960"/>
            <a:ext cx="57636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6156360" y="3429000"/>
                <a:ext cx="855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6141960" y="4378320"/>
                <a:ext cx="123840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dmínky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7580160" y="4400640"/>
                <a:ext cx="83844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7843680" y="4710240"/>
                <a:ext cx="65592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7596360" y="5135400"/>
                <a:ext cx="838080" cy="2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7870680" y="5445000"/>
                <a:ext cx="528840" cy="2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0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466560" y="27468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Násobení lomených výrazů – 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11280" y="1197000"/>
            <a:ext cx="525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3280" y="63504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Vynásobte lomené výrazy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655560" y="1239840"/>
                <a:ext cx="25923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5940360" y="1268280"/>
                <a:ext cx="244800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5916600" y="1828800"/>
                <a:ext cx="31482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 flipV="1">
            <a:off x="6862680" y="2147760"/>
            <a:ext cx="64764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7223040" y="1887480"/>
            <a:ext cx="64764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5940360" y="2451240"/>
                <a:ext cx="23526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5943600" y="3062160"/>
                <a:ext cx="286236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s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5983200" y="3645000"/>
                <a:ext cx="21621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s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 flipV="1">
            <a:off x="6227640" y="3948120"/>
            <a:ext cx="50508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7365960" y="3687840"/>
            <a:ext cx="50472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6012000" y="4287960"/>
                <a:ext cx="412560" cy="2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6012000" y="4773600"/>
                <a:ext cx="107928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dmínky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7427880" y="4813200"/>
                <a:ext cx="841320" cy="2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7821720" y="5113440"/>
                <a:ext cx="682560" cy="2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7451640" y="5516640"/>
                <a:ext cx="841320" cy="2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s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7815240" y="5816520"/>
                <a:ext cx="571680" cy="2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≠</m:t>
                    </m:r>
                    <m:r>
                      <m:t xml:space="preserve">3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0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500"/>
                            </p:stCondLst>
                            <p:childTnLst>
                              <p:par>
                                <p:cTn id="12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500"/>
                            </p:stCondLst>
                            <p:childTnLst>
                              <p:par>
                                <p:cTn id="12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500"/>
                            </p:stCondLst>
                            <p:childTnLst>
                              <p:par>
                                <p:cTn id="1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66560" y="27468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Násobení lomených výrazů – 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11280" y="1197000"/>
            <a:ext cx="525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03280" y="63504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Vynásobte lomené výrazy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684360" y="1241280"/>
                <a:ext cx="244764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6012000" y="1268280"/>
                <a:ext cx="244764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6012000" y="1844640"/>
                <a:ext cx="19476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s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s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 flipV="1">
            <a:off x="6227640" y="2204640"/>
            <a:ext cx="72072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6875640" y="1885680"/>
            <a:ext cx="144360" cy="7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6041880" y="2436840"/>
                <a:ext cx="17226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6040440" y="2982960"/>
                <a:ext cx="185112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6040440" y="3436920"/>
                <a:ext cx="109548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6012000" y="4292640"/>
                <a:ext cx="109512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dmínky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7372440" y="4325760"/>
                <a:ext cx="96660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s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7758000" y="4653000"/>
                <a:ext cx="78912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r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7862760" y="4950000"/>
                <a:ext cx="75564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0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500"/>
                            </p:stCondLst>
                            <p:childTnLst>
                              <p:par>
                                <p:cTn id="1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500"/>
                            </p:stCondLst>
                            <p:childTnLst>
                              <p:par>
                                <p:cTn id="13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500"/>
                            </p:stCondLst>
                            <p:childTnLst>
                              <p:par>
                                <p:cTn id="1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466560" y="27468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Násobení lomených výrazů – 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11280" y="1197000"/>
            <a:ext cx="525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03280" y="63504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Vynásobte lomené výrazy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684360" y="1197000"/>
                <a:ext cx="22320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6012000" y="1197000"/>
                <a:ext cx="22320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5925960" y="1916280"/>
                <a:ext cx="31831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 flipV="1">
            <a:off x="6084720" y="1944720"/>
            <a:ext cx="574920" cy="21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8172360" y="2217240"/>
            <a:ext cx="574920" cy="217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372360" y="2205000"/>
            <a:ext cx="574560" cy="21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8346960" y="1944720"/>
            <a:ext cx="574920" cy="21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6659640" y="1944720"/>
            <a:ext cx="574560" cy="21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7236000" y="2217240"/>
            <a:ext cx="574560" cy="217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6084720" y="2581200"/>
                <a:ext cx="13399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 flipV="1">
            <a:off x="7524720" y="1930320"/>
            <a:ext cx="142920" cy="21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8029440" y="2203560"/>
            <a:ext cx="142920" cy="21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6084720" y="3278160"/>
                <a:ext cx="11559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6084720" y="3675240"/>
                <a:ext cx="806760" cy="25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6062760" y="4149720"/>
                <a:ext cx="124596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dmínky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7728120" y="4186080"/>
                <a:ext cx="549000" cy="2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7451640" y="4600440"/>
                <a:ext cx="806400" cy="2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7737480" y="4816440"/>
                <a:ext cx="49536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7394400" y="5176800"/>
                <a:ext cx="84312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7711920" y="5392800"/>
                <a:ext cx="53208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7408800" y="5753160"/>
                <a:ext cx="84312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7713720" y="5969160"/>
                <a:ext cx="66024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0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500"/>
                            </p:stCondLst>
                            <p:childTnLst>
                              <p:par>
                                <p:cTn id="1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500"/>
                            </p:stCondLst>
                            <p:childTnLst>
                              <p:par>
                                <p:cTn id="13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500"/>
                            </p:stCondLst>
                            <p:childTnLst>
                              <p:par>
                                <p:cTn id="1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755640" y="83664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a závěr vyzkoušej, jak ti to j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255760" y="4708440"/>
            <a:ext cx="49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http://www.zshorakhk.cz/tvorba/ucitele/LV/LV_nasobeni.p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8360" y="3860640"/>
            <a:ext cx="8209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55640" y="1844640"/>
            <a:ext cx="820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 testu pod následujícím odkazem najdeš příklady jak na násobení lomených výrazů, tak na jejich dělení. Vyzkoušej si jen prvních pět příkladů na násobení. Dělení nás teprve čeká. </a:t>
            </a:r>
            <a:r>
              <a:rPr b="1" lang="en-US" sz="2000" spc="-1" strike="noStrike">
                <a:solidFill>
                  <a:srgbClr val="284c6a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3" dur="indefinite" restart="never" nodeType="tmRoot">
          <p:childTnLst>
            <p:seq>
              <p:cTn id="1454" dur="indefinite" nodeType="mainSeq">
                <p:childTnLst>
                  <p:par>
                    <p:cTn id="1455" fill="hold">
                      <p:stCondLst>
                        <p:cond delay="0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500"/>
                            </p:stCondLst>
                            <p:childTnLst>
                              <p:par>
                                <p:cTn id="1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Násobení lomen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41300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Opět zavzpomínejme na násobení zlom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2205000"/>
            <a:ext cx="8280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Násobení zlomků spočívá v tom, že zvlášť vynásobíme čitatele zlomků, čímž zjistíme čitatele výsledného zlomku a zvlášť vynásobíme jmenovatele zlomků, čímž zjistíme jmenovatele výsledného zlom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214800" y="3787920"/>
                <a:ext cx="9349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319640" y="3781440"/>
                <a:ext cx="8827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398920" y="3776760"/>
                <a:ext cx="44136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476360" y="2822400"/>
            <a:ext cx="2808360" cy="1008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99120" y="3745080"/>
            <a:ext cx="647640" cy="43164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932000" y="3211560"/>
            <a:ext cx="1079640" cy="1081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13160" y="4221000"/>
            <a:ext cx="647640" cy="4320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97480" y="4230720"/>
                <a:ext cx="44136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 flipH="1">
            <a:off x="5651640" y="2852640"/>
            <a:ext cx="288720" cy="935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87640" y="3571920"/>
            <a:ext cx="2448000" cy="720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4870440"/>
            <a:ext cx="8280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Jinými slovy: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Součinem dvou zlomků je zlomek, jehož čitatel je roven součinu čitatelů obou zlomků a jmenovatel je roven součinu jmenovatelů obou zlom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Násobení lomen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4560" y="1341360"/>
            <a:ext cx="748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Během násobení můžeme často s výhodou využít krácení zlomků, ať už nad sebou či do kříž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556000" y="2739960"/>
                <a:ext cx="138096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 flipV="1">
            <a:off x="2627280" y="2781000"/>
            <a:ext cx="43200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655720" y="3341160"/>
            <a:ext cx="43200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602080" y="2565360"/>
                <a:ext cx="21240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990880" y="3673440"/>
                <a:ext cx="2127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 flipH="1">
            <a:off x="3058920" y="1989000"/>
            <a:ext cx="1944360" cy="935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106880" y="2749680"/>
                <a:ext cx="115740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 flipV="1">
            <a:off x="4054320" y="2781000"/>
            <a:ext cx="43200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557600" y="3341160"/>
            <a:ext cx="43200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033800" y="2565360"/>
                <a:ext cx="1713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849920" y="3664080"/>
                <a:ext cx="2127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 flipH="1">
            <a:off x="4500360" y="1989000"/>
            <a:ext cx="2189160" cy="9352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423040" y="2760840"/>
                <a:ext cx="109368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618240" y="2739960"/>
                <a:ext cx="5461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1116000" y="3932280"/>
            <a:ext cx="748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ro zajímavost tentýž příklad bez průběžného krác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597040" y="4610160"/>
                <a:ext cx="138132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006800" y="4616280"/>
                <a:ext cx="1285920" cy="106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357880" y="4605480"/>
                <a:ext cx="90000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330960" y="4610160"/>
                <a:ext cx="5461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 flipV="1">
            <a:off x="5450040" y="4654080"/>
            <a:ext cx="43164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478480" y="5214600"/>
            <a:ext cx="43164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354640" y="4437000"/>
                <a:ext cx="23328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699160" y="5545080"/>
                <a:ext cx="3207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1116000" y="5803920"/>
            <a:ext cx="784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ávěr: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 Díky postupnému krácení počítáme s „menšími čísly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Násobení lomen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119700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o jsme si ukázali se zlomky, platí i při násobení lomených výraz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1773360"/>
            <a:ext cx="8280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Součinem lomených výrazů je lomený výraz, jehož čitatel je součin čitatelů a jmenovatel součin jmenovatelů násobených lomených výraz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71640" y="3789360"/>
                <a:ext cx="13780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3635280" y="2565360"/>
            <a:ext cx="720720" cy="1079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11640" y="3673440"/>
            <a:ext cx="993600" cy="5317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235400" y="3789360"/>
                <a:ext cx="12733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619280" y="2924280"/>
            <a:ext cx="2592360" cy="1368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11640" y="4221000"/>
            <a:ext cx="1008000" cy="5032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573880" y="3789360"/>
                <a:ext cx="72684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611280" y="4795920"/>
            <a:ext cx="828036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I u lomených výrazů můžeme s výhodou během násobení krátit „nad sebou“ i do kříže. Možnost krácení můžeme i podpořit rozkladem čitatelů a jmenovatelů výrazů na souč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48000" y="5950080"/>
            <a:ext cx="532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amatuj: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Nikdy nekrátíme „vedle sebe“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Násobení lomen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119700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íklad: Vynásob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132000" y="1268280"/>
                <a:ext cx="241308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611280" y="3933720"/>
            <a:ext cx="82803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tejně jako u všech výpočtů s lomenými výrazy, tak ani u násobení lomených výrazů nesmíme zapomenout na určení podmínek, kdy mají výrazy smys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65440" y="5877000"/>
            <a:ext cx="532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amatuj: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Nezapomínej na podmínky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41520" y="2565360"/>
                <a:ext cx="26431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2916360" y="3573360"/>
            <a:ext cx="2520720" cy="1800360"/>
          </a:xfrm>
          <a:prstGeom prst="cloudCallout">
            <a:avLst>
              <a:gd name="adj1" fmla="val -57365"/>
              <a:gd name="adj2" fmla="val -8183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Rozložíme na součin vytknutím čísl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4292640"/>
            <a:ext cx="2520720" cy="1800360"/>
          </a:xfrm>
          <a:prstGeom prst="cloudCallout">
            <a:avLst>
              <a:gd name="adj1" fmla="val -13981"/>
              <a:gd name="adj2" fmla="val -1010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Rozložíme na součin vytknutím proměnné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348000" y="2565360"/>
                <a:ext cx="297648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5508720" y="3645000"/>
            <a:ext cx="2520720" cy="1800000"/>
          </a:xfrm>
          <a:prstGeom prst="cloudCallout">
            <a:avLst>
              <a:gd name="adj1" fmla="val -78527"/>
              <a:gd name="adj2" fmla="val -7548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rovedeme krác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759200" y="2652840"/>
            <a:ext cx="28908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160960" y="3098880"/>
            <a:ext cx="28908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729320" y="2463840"/>
                <a:ext cx="160200" cy="2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316480" y="3333600"/>
                <a:ext cx="20016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 flipV="1">
            <a:off x="3822840" y="2665440"/>
            <a:ext cx="2887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376960" y="3096720"/>
            <a:ext cx="288720" cy="28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226040" y="2622240"/>
            <a:ext cx="14436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362400" y="3125880"/>
            <a:ext cx="2887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708360" y="3141720"/>
            <a:ext cx="9349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076720" y="2695680"/>
            <a:ext cx="93528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396120" y="2622600"/>
                <a:ext cx="112860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7561440" y="2622600"/>
                <a:ext cx="5396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780000" y="5013360"/>
                <a:ext cx="7966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359320" y="5016600"/>
                <a:ext cx="79704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7031160" y="5021280"/>
                <a:ext cx="12859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7524720" y="5398920"/>
                <a:ext cx="8492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50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4500"/>
                            </p:stCondLst>
                            <p:childTnLst>
                              <p:par>
                                <p:cTn id="3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Násobení lomen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184464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íklad: Vynásob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132000" y="1916280"/>
                <a:ext cx="24130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3564000" y="3860640"/>
            <a:ext cx="2520720" cy="1800360"/>
          </a:xfrm>
          <a:prstGeom prst="cloudCallout">
            <a:avLst>
              <a:gd name="adj1" fmla="val -96851"/>
              <a:gd name="adj2" fmla="val -486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Rozložíme na součin vytknutím čísl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16000" y="4724280"/>
            <a:ext cx="2521080" cy="1657440"/>
          </a:xfrm>
          <a:prstGeom prst="cloudCallout">
            <a:avLst>
              <a:gd name="adj1" fmla="val -45907"/>
              <a:gd name="adj2" fmla="val -7097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Rozložíme na součin vytknutím proměnné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51640" y="4508640"/>
            <a:ext cx="2520720" cy="1800000"/>
          </a:xfrm>
          <a:prstGeom prst="cloudCallout">
            <a:avLst>
              <a:gd name="adj1" fmla="val -87592"/>
              <a:gd name="adj2" fmla="val -771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rovedeme krác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1280" y="126828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 co když se objeví násobení lomeného výrazu normálním „nelomeným“ výraz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642960" y="3500280"/>
                <a:ext cx="24969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611280" y="283860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Lehce upravíme na násobení dvou lomených výraz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203640" y="3486240"/>
                <a:ext cx="306396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353280" y="3498840"/>
                <a:ext cx="59508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020000" y="3755880"/>
                <a:ext cx="282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 flipV="1">
            <a:off x="3722760" y="3573360"/>
            <a:ext cx="35856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205080" y="4049640"/>
            <a:ext cx="3589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003640" y="3573360"/>
            <a:ext cx="9367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592440" y="4064040"/>
            <a:ext cx="9367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80000" y="4724280"/>
            <a:ext cx="273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odmínk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580000" y="4941720"/>
                <a:ext cx="87624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7524720" y="5300640"/>
                <a:ext cx="8193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089840" y="4941720"/>
                <a:ext cx="129852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50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Násobení lomen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184464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íklad: Vynásob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174840" y="1960560"/>
                <a:ext cx="23274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3564000" y="3860640"/>
            <a:ext cx="2520720" cy="1800360"/>
          </a:xfrm>
          <a:prstGeom prst="cloudCallout">
            <a:avLst>
              <a:gd name="adj1" fmla="val -99180"/>
              <a:gd name="adj2" fmla="val -5511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Upravíme na součin pomocí vz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4508640"/>
            <a:ext cx="2520720" cy="1657080"/>
          </a:xfrm>
          <a:prstGeom prst="cloudCallout">
            <a:avLst>
              <a:gd name="adj1" fmla="val -18513"/>
              <a:gd name="adj2" fmla="val -10086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dečteme lomené výra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4005360"/>
            <a:ext cx="3816360" cy="1727280"/>
          </a:xfrm>
          <a:prstGeom prst="cloudCallout">
            <a:avLst>
              <a:gd name="adj1" fmla="val -51000"/>
              <a:gd name="adj2" fmla="val -8777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tkneme (-1), aby došlo k záměně znamének v celém čl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126828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 příklady mohou být ještě složitější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80000" y="4724280"/>
            <a:ext cx="273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odmínk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5580000" y="4941720"/>
                <a:ext cx="87624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7524720" y="5300640"/>
                <a:ext cx="8193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7089840" y="4941720"/>
                <a:ext cx="129852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09760" y="2997360"/>
                <a:ext cx="25304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106800" y="2997360"/>
                <a:ext cx="18968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070600" y="2997360"/>
                <a:ext cx="25970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4356000" y="4149720"/>
            <a:ext cx="2664000" cy="1079640"/>
          </a:xfrm>
          <a:prstGeom prst="cloudCallout">
            <a:avLst>
              <a:gd name="adj1" fmla="val 21810"/>
              <a:gd name="adj2" fmla="val -107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okrátí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637240" y="3443400"/>
            <a:ext cx="2887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977160" y="3040200"/>
            <a:ext cx="142920" cy="14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651640" y="3083040"/>
            <a:ext cx="7207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221600" y="3457080"/>
            <a:ext cx="216000" cy="86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7702560" y="3041640"/>
                <a:ext cx="8589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500"/>
                            </p:stCondLst>
                            <p:childTnLst>
                              <p:par>
                                <p:cTn id="6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000"/>
                            </p:stCondLst>
                            <p:childTnLst>
                              <p:par>
                                <p:cTn id="6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5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66560" y="27468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Násobení lomených výrazů – 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1280" y="1197000"/>
            <a:ext cx="525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3280" y="63504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Vynásobte lomené výrazy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82560" y="1268280"/>
                <a:ext cx="28098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b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6084720" y="1268280"/>
                <a:ext cx="19447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b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940360" y="1916280"/>
                <a:ext cx="304488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6002280" y="2565360"/>
                <a:ext cx="14493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084720" y="3213000"/>
                <a:ext cx="8622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 flipV="1">
            <a:off x="6170760" y="1974600"/>
            <a:ext cx="72072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028000" y="2262240"/>
            <a:ext cx="72072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730920" y="2262240"/>
            <a:ext cx="72072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899480" y="1958760"/>
            <a:ext cx="72072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7488360" y="4551480"/>
                <a:ext cx="53172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7466040" y="4983120"/>
                <a:ext cx="86184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7810560" y="5241960"/>
                <a:ext cx="55080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7402680" y="5646600"/>
                <a:ext cx="990360" cy="2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b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7867800" y="5905440"/>
                <a:ext cx="80784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062760" y="4522680"/>
                <a:ext cx="124596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dmínky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6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500"/>
                            </p:stCondLst>
                            <p:childTnLst>
                              <p:par>
                                <p:cTn id="6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66560" y="27468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Násobení lomených výrazů – 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1280" y="1197000"/>
            <a:ext cx="525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3280" y="63504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Vynásobte lomené výrazy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698400" y="1197000"/>
                <a:ext cx="25052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5940360" y="1197000"/>
                <a:ext cx="223200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996160" y="1967040"/>
                <a:ext cx="26794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u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035760" y="2781360"/>
                <a:ext cx="9842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053040" y="3500280"/>
                <a:ext cx="492120" cy="70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 flipV="1">
            <a:off x="6502320" y="2045880"/>
            <a:ext cx="719280" cy="28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7669080" y="2421000"/>
            <a:ext cx="719280" cy="28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6645240" y="2421000"/>
            <a:ext cx="21744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7392960" y="2421000"/>
            <a:ext cx="21744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7754760" y="2019240"/>
            <a:ext cx="21780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6472080" y="2406600"/>
            <a:ext cx="217800" cy="2872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242040" y="2017800"/>
            <a:ext cx="217440" cy="2872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6002280" y="4462560"/>
                <a:ext cx="15224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dmínky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7877160" y="4473720"/>
                <a:ext cx="67140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7885080" y="4984920"/>
                <a:ext cx="67140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7466040" y="5516640"/>
                <a:ext cx="10508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7853400" y="5827680"/>
                <a:ext cx="693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≠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000"/>
                            </p:stCondLst>
                            <p:childTnLst>
                              <p:par>
                                <p:cTn id="7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500"/>
                            </p:stCondLst>
                            <p:childTnLst>
                              <p:par>
                                <p:cTn id="7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8-08-15T10:52:02Z</dcterms:modified>
  <cp:revision>165</cp:revision>
  <dc:subject/>
  <dc:title>Lomené výrazy - násobení</dc:title>
</cp:coreProperties>
</file>