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74B-43FC-4C24-815C-E65A0E3C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CB3-5677-4830-ADCF-5E325C2B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F9B-4BA9-4479-9A4D-480931ED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6A1-8485-4886-81C3-61B11431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EF08-94B7-4B10-A8B5-772611AC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2F60-F962-4DA6-8A81-6E446056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D27D-17ED-4E6A-952E-FA54C11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4BE-2CD8-4C62-8F84-52A35A6D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6D1-E499-415C-887D-D041686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FF1-55CC-467B-A534-C8D260FA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2D96-133C-46F2-9346-6E932D21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E63-0BEE-4FD2-A23E-89B7379D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C38-42F2-45D8-8FB2-B30912B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92EE-7E7E-411E-ACAD-5FC39E6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09CB-7821-4B09-BAD3-290F61C5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992F-3A72-4BBD-A275-3774172F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C46-A738-430E-92A6-0CD2B57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A3E-FE0F-4836-983A-7EAD0C66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2F6-0E9A-4E0E-B38D-2B41FFBD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8D3-2D90-4F0E-8DD4-15C7E1ED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51D-D8D1-4499-95AA-A2FC7C67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F6B-2A31-4811-B5B5-AF3512A8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018-429A-4EAB-8F3B-7DFD5ED1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5BA-C71F-4A22-A016-2DF21262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662-65D0-48EC-8AD2-A7521E8167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A7E7-69D0-486D-8109-3F31C748A41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shorakhk.cz/tvorba/ucitele/LV/LV_kraceni.php" TargetMode="External"/><Relationship Id="rId3" Type="http://schemas.openxmlformats.org/officeDocument/2006/relationships/hyperlink" Target="http://www.zshorakhk.cz/tvorba/ucitele/LV/LV_kraceni.php" TargetMode="External"/><Relationship Id="rId4" Type="http://schemas.openxmlformats.org/officeDocument/2006/relationships/hyperlink" Target="http://www.zshorakhk.cz/tvorba/ucitele/LV/LV_kraceni.php" TargetMode="External"/><Relationship Id="rId5" Type="http://schemas.openxmlformats.org/officeDocument/2006/relationships/hyperlink" Target="http://www.zshorakhk.cz/tvorba/ucitele/LV/LV_kraceni.php" TargetMode="External"/><Relationship Id="rId6" Type="http://schemas.openxmlformats.org/officeDocument/2006/relationships/hyperlink" Target="http://www.zshorakhk.cz/tvorba/ucitele/LV/LV_kraceni.php" TargetMode="External"/><Relationship Id="rId7" Type="http://schemas.openxmlformats.org/officeDocument/2006/relationships/hyperlink" Target="http://www.zshorakhk.cz/tvorba/ucitele/LV/LV_kraceni.php" TargetMode="External"/><Relationship Id="rId8" Type="http://schemas.openxmlformats.org/officeDocument/2006/relationships/hyperlink" Target="http://www.zshorakhk.cz/tvorba/ucitele/LV/LV_kraceni.php" TargetMode="External"/><Relationship Id="rId9" Type="http://schemas.openxmlformats.org/officeDocument/2006/relationships/hyperlink" Target="http://www.zshorakhk.cz/tvorba/ucitele/LV/LV_kraceni.php" TargetMode="External"/><Relationship Id="rId10" Type="http://schemas.openxmlformats.org/officeDocument/2006/relationships/hyperlink" Target="http://www.zshorakhk.cz/tvorba/ucitele/LV/LV_kraceni.php" TargetMode="External"/><Relationship Id="rId11" Type="http://schemas.openxmlformats.org/officeDocument/2006/relationships/hyperlink" Target="http://www.zshorakhk.cz/tvorba/ucitele/LV/LV_kraceni.php" TargetMode="External"/><Relationship Id="rId12" Type="http://schemas.openxmlformats.org/officeDocument/2006/relationships/hyperlink" Target="http://www.zshorakhk.cz/tvorba/ucitele/LV/LV_kraceni.php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Kráce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194520" y="4437000"/>
                <a:ext cx="7905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308720" y="4437000"/>
                <a:ext cx="13669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84360" y="1268280"/>
                <a:ext cx="1439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432480" y="1828800"/>
                <a:ext cx="1641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481800" y="2598840"/>
                <a:ext cx="19778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04120" y="3457440"/>
                <a:ext cx="1123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535880" y="4797360"/>
                <a:ext cx="13431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732800" y="5157720"/>
                <a:ext cx="9586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885080" y="5516640"/>
                <a:ext cx="863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732720" y="4829040"/>
                <a:ext cx="11509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372360" y="1806480"/>
                <a:ext cx="12142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404040" y="2692440"/>
                <a:ext cx="21351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6443640" y="3529080"/>
                <a:ext cx="9208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151760" y="5200560"/>
                <a:ext cx="7430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39720" y="1236600"/>
                <a:ext cx="9525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254640" y="4437000"/>
                <a:ext cx="669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453440" y="4437000"/>
                <a:ext cx="1077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43640" y="1828800"/>
                <a:ext cx="1146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448320" y="2620800"/>
                <a:ext cx="20462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443640" y="3429000"/>
                <a:ext cx="853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870680" y="4797360"/>
                <a:ext cx="671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38280" y="1246320"/>
                <a:ext cx="9554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243480" y="4437000"/>
                <a:ext cx="6937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345440" y="4437000"/>
                <a:ext cx="1293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199200" y="1828800"/>
                <a:ext cx="2044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z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227640" y="2598840"/>
                <a:ext cx="16858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251400" y="3457440"/>
                <a:ext cx="10573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763040" y="4797360"/>
                <a:ext cx="887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57080" y="1270080"/>
                <a:ext cx="1943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927920" y="5067360"/>
                <a:ext cx="7905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197000"/>
            <a:ext cx="792144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84080" y="5413320"/>
                <a:ext cx="17002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76160" y="3684600"/>
                <a:ext cx="113184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793800" y="2924280"/>
                <a:ext cx="13492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68240" y="4538520"/>
                <a:ext cx="150012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55640" y="1341360"/>
                <a:ext cx="9399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76160" y="2079720"/>
                <a:ext cx="11318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55640" y="62064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a závěr vyzkoušej, jak ti to j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94720" y="3916440"/>
            <a:ext cx="46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zshorakhk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z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tvorba/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ucitele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LV/LV_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kraceni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cs-CZ" sz="1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hp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306864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ccff"/>
                </a:solidFill>
                <a:uFillTx/>
                <a:latin typeface="Trebuchet MS"/>
                <a:hlinkClick r:id="rId12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68280"/>
            <a:ext cx="828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 pojmem krácení jsme se seznámili již při početních operacích se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5516640"/>
            <a:ext cx="7488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rátit lomený výraz znamená vydělit čitatele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 jmenovatele stejným výrazem, různým od n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1337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Krácení znamená dělení čitatele i jmenovatele stejným číslem, různým od n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468680" y="2913120"/>
                <a:ext cx="390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917960" y="2927520"/>
                <a:ext cx="1173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192720" y="2927520"/>
                <a:ext cx="684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37465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u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492360" y="4370400"/>
                <a:ext cx="8463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6000" y="4379760"/>
                <a:ext cx="21830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546960" y="4467240"/>
                <a:ext cx="97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07160" y="4738680"/>
                <a:ext cx="1141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551560" y="2909880"/>
            <a:ext cx="50472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65600" y="3500280"/>
            <a:ext cx="505080" cy="505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21240" y="4465800"/>
            <a:ext cx="1081080" cy="504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011560"/>
            <a:ext cx="1081080" cy="5050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26828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Tak tedy ještě jednou. Kraťte lomený výr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5157720"/>
            <a:ext cx="806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Při krácení dochází k dělení. A jak již dlouho víme, nelze dělit nulou. Proto podobně jako výraz ve jmenovateli, který nesmí být roven nule, nesmí být roven nule ani výraz, kterým při krácení lomeného výrazu dělí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03560" y="4132440"/>
                <a:ext cx="998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55840" y="4132440"/>
                <a:ext cx="24084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724360" y="4189320"/>
                <a:ext cx="882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433760" y="4200480"/>
            <a:ext cx="1231920" cy="466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308720" y="620640"/>
                <a:ext cx="1106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11280" y="1628640"/>
            <a:ext cx="82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U lomených výrazů nesmíte nikdy zapomenout na určení podmínek řešitelnosti (kdy má výraz smysl)! Je dobré s nimi proto začí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28960" y="2349360"/>
                <a:ext cx="14702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851200" y="3127320"/>
                <a:ext cx="907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940280" y="3056040"/>
                <a:ext cx="10573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91120" y="3486240"/>
                <a:ext cx="907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27640" y="4705200"/>
            <a:ext cx="1231920" cy="466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76360" y="2781360"/>
            <a:ext cx="863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7640" y="2781360"/>
            <a:ext cx="108108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ak zjistíme výraz, kterým při krácení dělit?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ýraz, kterým se krát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4680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jistili jsme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84480" y="2622600"/>
                <a:ext cx="998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132000" y="2708280"/>
                <a:ext cx="22320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508720" y="2693880"/>
                <a:ext cx="882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11280" y="1846440"/>
            <a:ext cx="82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Podíváme se ještě jednou na předcházející příklad, ale využijeme při tom znalosti rozkladu výrazu na souč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51200" y="273672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51200" y="325584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273672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325584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6120" y="273672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6120" y="325584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189160" y="4105440"/>
                <a:ext cx="9986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137040" y="4191120"/>
                <a:ext cx="22320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327640" y="4176720"/>
                <a:ext cx="1647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755880" y="421956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5880" y="473868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5040" y="421956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5040" y="473868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60800" y="421956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60800" y="4738680"/>
            <a:ext cx="360360" cy="360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502080"/>
            <a:ext cx="784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948360" y="4189320"/>
                <a:ext cx="882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 flipV="1">
            <a:off x="3780000" y="2665440"/>
            <a:ext cx="360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765600" y="318240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2679840"/>
            <a:ext cx="360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25960" y="3197160"/>
            <a:ext cx="360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89600" y="2665440"/>
            <a:ext cx="360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75200" y="318240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227640" y="4220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227640" y="472392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112920" y="5440320"/>
                <a:ext cx="998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121280" y="5513400"/>
                <a:ext cx="882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75280" y="544680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tato rovnost platí, je-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707160" y="5911920"/>
                <a:ext cx="1825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 řešení předcházejícího příkladu je zřejmé, že abychom mohli krátit, musíme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rozložit výrazy v čitateli i jmenovateli lomeného výrazu na součin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95640" y="2604960"/>
                <a:ext cx="1790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67200" y="2604960"/>
                <a:ext cx="2114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21320" y="4370400"/>
                <a:ext cx="1063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84360" y="3718080"/>
            <a:ext cx="7848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ak je vidět, tak ze součinového tvaru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určíme mnohem snadněji i podmínky, pro které má výraz smysl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60960" y="2678040"/>
                <a:ext cx="261468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724360" y="4756320"/>
                <a:ext cx="892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093080" y="4367160"/>
                <a:ext cx="13809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580160" y="4764240"/>
                <a:ext cx="10954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684360" y="5229360"/>
            <a:ext cx="784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Lomený výraz má tedy smysl, pokud se x ≠ 0 a x ≠ -4. Za tohoto předpokladu můžeme krátit výrazem x+4, jelikož máme zajištěno, že není nulový (nulou nelze dělit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56000" y="2997360"/>
            <a:ext cx="3240360" cy="1439640"/>
          </a:xfrm>
          <a:prstGeom prst="cloudCallout">
            <a:avLst>
              <a:gd name="adj1" fmla="val -69694"/>
              <a:gd name="adj2" fmla="val -572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vytknout čísl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508640"/>
            <a:ext cx="3240360" cy="1439640"/>
          </a:xfrm>
          <a:prstGeom prst="cloudCallout">
            <a:avLst>
              <a:gd name="adj1" fmla="val 13546"/>
              <a:gd name="adj2" fmla="val -114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vytknout člen 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716280"/>
            <a:ext cx="3240000" cy="1440000"/>
          </a:xfrm>
          <a:prstGeom prst="cloudCallout">
            <a:avLst>
              <a:gd name="adj1" fmla="val -56416"/>
              <a:gd name="adj2" fmla="val -97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3933720"/>
            <a:ext cx="25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Zjisti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2603520"/>
                <a:ext cx="17910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2603520"/>
                <a:ext cx="2114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43280" y="4051440"/>
                <a:ext cx="349416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289320" y="5410080"/>
            <a:ext cx="33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a tato rovnost platí, je-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486480" y="5641920"/>
                <a:ext cx="22622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618080" y="2676600"/>
                <a:ext cx="28796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755640" y="1484280"/>
            <a:ext cx="784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Můžeme tedy krátit výrazem x+4, jelikož máme zajištěno, že není nulový (nulou nelze dělit!). A samozřejmě vykrátit můžeme i číslo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466040" y="2678040"/>
                <a:ext cx="93960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6127920" y="273492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0320" y="325260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29240" y="27496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032440" y="326880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rác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5877000"/>
            <a:ext cx="838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vnost mezi daným a upraveným výrazem platí, je-li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 ≠ 0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a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 ≠ y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33680" y="1484280"/>
                <a:ext cx="1908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755640" y="119700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elý postup krácení si projdeme ještě jednou na jiném příklad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249228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dříve rozložíme výraz do součinového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15920" y="2781360"/>
                <a:ext cx="2173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222720" y="2838600"/>
                <a:ext cx="22017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425920" y="2852640"/>
                <a:ext cx="29354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635280" y="2852640"/>
            <a:ext cx="2808360" cy="1079640"/>
          </a:xfrm>
          <a:prstGeom prst="cloudCallout">
            <a:avLst>
              <a:gd name="adj1" fmla="val -85388"/>
              <a:gd name="adj2" fmla="val -266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kneme člen 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437000"/>
            <a:ext cx="2808360" cy="1079640"/>
          </a:xfrm>
          <a:prstGeom prst="cloudCallout">
            <a:avLst>
              <a:gd name="adj1" fmla="val -18907"/>
              <a:gd name="adj2" fmla="val -116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kneme člen 3x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924280"/>
            <a:ext cx="2808360" cy="1079280"/>
          </a:xfrm>
          <a:prstGeom prst="cloudCallout">
            <a:avLst>
              <a:gd name="adj1" fmla="val -86856"/>
              <a:gd name="adj2" fmla="val -292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kneme číslo (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16360" y="3902040"/>
                <a:ext cx="29955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954160" y="4910040"/>
                <a:ext cx="25545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580000" y="4925880"/>
                <a:ext cx="8794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531120" y="4941720"/>
                <a:ext cx="8506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403280" y="4149720"/>
            <a:ext cx="3814920" cy="2087640"/>
          </a:xfrm>
          <a:prstGeom prst="cloudCallout">
            <a:avLst>
              <a:gd name="adj1" fmla="val 67601"/>
              <a:gd name="adj2" fmla="val -925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užijeme komutativního zákona pro záměnu činitelů a sčítan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1560" y="49701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068720" y="547344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35360" y="499896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95840" y="5430960"/>
            <a:ext cx="142920" cy="17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588000" y="4941720"/>
                <a:ext cx="719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9040" y="1314360"/>
                <a:ext cx="1574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94320" y="1673280"/>
                <a:ext cx="1773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97560" y="2685960"/>
                <a:ext cx="1878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516720" y="3532320"/>
                <a:ext cx="10573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Krác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55640" y="1268280"/>
                <a:ext cx="1773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7280" y="2239920"/>
                <a:ext cx="1751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Krať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96120" y="3132000"/>
                <a:ext cx="19922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31040" y="3971880"/>
                <a:ext cx="10555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194520" y="5229360"/>
                <a:ext cx="7905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885080" y="5229360"/>
                <a:ext cx="7192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06T13:07:39Z</dcterms:modified>
  <cp:revision>138</cp:revision>
  <dc:subject/>
  <dc:title>Lomené výrazy - krácení</dc:title>
</cp:coreProperties>
</file>