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D9A-1586-4D1A-A4CC-CC705617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EDD-7F14-48D7-8B60-9E357704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786-253C-42FE-9758-6B47F450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DE5-36CF-410E-878A-988CC3C7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5EB0-293B-4E8F-9FF4-74D8A287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547-BE77-4BFB-A8CC-24347C66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C04D-0D5A-412C-ADA5-CC7173C8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D1A4-62D1-4A35-A202-207F0DE6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88B5-D51A-4D9E-999D-9F0DCFF7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4EC7-9878-4F0D-9B79-5CC79DBE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FDC-2722-4036-92D2-06005834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DC0-2CB2-4C79-AF03-43F9E8B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A0FD-95EF-4813-B8BE-AE9B103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C8E4-5EE8-4E73-A999-3D85AE7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C63B-BAF4-4A79-B22F-03ECB5F6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FEF9-EECE-4399-9540-A4E6B643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A8E-4EC4-41E6-A2C7-C4CE1A99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654-6AD0-4300-9DEE-30E1F5A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8DE-4AA9-486F-A324-0608B5EE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584-305A-48EB-9659-F9F9634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A9D-3C35-4515-B75E-5BBABA84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C87-55D7-48EF-A495-98FF722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479-D7DC-41B1-B2B5-03B5920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634-6A36-4F98-9904-FA9151B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6D56-2E61-47E5-BB86-637DACD4C4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8749-1FFE-4F64-90F4-4EF3F6EB5B6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shorakhk.cz/tvorba/ucitele/LV/LV_nasobeni.php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Děle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58800" y="1197000"/>
                <a:ext cx="23306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018120" y="1197000"/>
                <a:ext cx="20764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983200" y="2011320"/>
                <a:ext cx="2255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967360" y="2830680"/>
                <a:ext cx="2349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008760" y="3619440"/>
                <a:ext cx="469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 flipV="1">
            <a:off x="6488280" y="2881440"/>
            <a:ext cx="7189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351560" y="324180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002280" y="4695840"/>
                <a:ext cx="1522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7653240" y="4711680"/>
                <a:ext cx="1119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055000" y="5129280"/>
                <a:ext cx="8953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667640" y="5494320"/>
                <a:ext cx="10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023320" y="5835600"/>
                <a:ext cx="6937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V="1">
            <a:off x="6458040" y="3255480"/>
            <a:ext cx="71892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381800" y="288144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0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7360" y="1192320"/>
                <a:ext cx="32065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024600" y="1311120"/>
                <a:ext cx="2263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012000" y="2025720"/>
                <a:ext cx="2298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040440" y="2868480"/>
                <a:ext cx="3142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 flipV="1">
            <a:off x="7521480" y="243504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181560" y="216180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181560" y="2435040"/>
            <a:ext cx="5050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189920" y="2131920"/>
            <a:ext cx="50472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986440" y="4508640"/>
                <a:ext cx="1192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7483320" y="4508640"/>
                <a:ext cx="8416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804080" y="4797360"/>
                <a:ext cx="5428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508880" y="5219640"/>
                <a:ext cx="8604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826400" y="5506920"/>
                <a:ext cx="66348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6829560" y="2435040"/>
            <a:ext cx="50472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777960" y="1268280"/>
                <a:ext cx="22114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22800" y="1247760"/>
                <a:ext cx="23767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977080" y="1895400"/>
                <a:ext cx="248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012000" y="2612880"/>
                <a:ext cx="9586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 flipV="1">
            <a:off x="6416640" y="2276640"/>
            <a:ext cx="71928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466040" y="1929960"/>
            <a:ext cx="71928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415200" y="1959120"/>
            <a:ext cx="7189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496280" y="2276640"/>
            <a:ext cx="71892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035760" y="3300480"/>
                <a:ext cx="9604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 flipV="1">
            <a:off x="6243480" y="266544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45160" y="3025800"/>
            <a:ext cx="142920" cy="216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070680" y="4005360"/>
                <a:ext cx="458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6004080" y="4854600"/>
                <a:ext cx="14191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7750080" y="4889520"/>
                <a:ext cx="9810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8139240" y="5157720"/>
                <a:ext cx="6267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754760" y="5473800"/>
                <a:ext cx="9795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8151840" y="5756400"/>
                <a:ext cx="77292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126280" y="6107040"/>
                <a:ext cx="6048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00200" y="1211400"/>
                <a:ext cx="2792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975280" y="1341360"/>
                <a:ext cx="2654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062760" y="2060640"/>
                <a:ext cx="2771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 flipV="1">
            <a:off x="6270480" y="2075040"/>
            <a:ext cx="64800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942320" y="2405160"/>
            <a:ext cx="64764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084720" y="2724120"/>
                <a:ext cx="425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64200" y="4437000"/>
                <a:ext cx="13161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7829640" y="4456080"/>
                <a:ext cx="5601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466040" y="4941720"/>
                <a:ext cx="8888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7807320" y="5229360"/>
                <a:ext cx="6951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7481880" y="5603760"/>
                <a:ext cx="8888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807320" y="5905440"/>
                <a:ext cx="5605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 flipV="1">
            <a:off x="6977160" y="2088720"/>
            <a:ext cx="64764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956720" y="2088720"/>
            <a:ext cx="64764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602400" y="2406240"/>
            <a:ext cx="64764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642960" y="1197000"/>
                <a:ext cx="256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892840" y="1197000"/>
                <a:ext cx="2476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869080" y="1773360"/>
                <a:ext cx="2950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865840" y="2349360"/>
                <a:ext cx="3170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716880" y="3386160"/>
            <a:ext cx="57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308720" y="3068640"/>
            <a:ext cx="57636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897520" y="2998800"/>
                <a:ext cx="21477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6141960" y="4467240"/>
                <a:ext cx="12384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97800" y="4506840"/>
                <a:ext cx="8017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896240" y="4789440"/>
                <a:ext cx="6364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13640" y="5241960"/>
                <a:ext cx="8017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02720" y="5553000"/>
                <a:ext cx="49212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7896240" y="5950080"/>
                <a:ext cx="5284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911920" y="3645000"/>
                <a:ext cx="89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55640" y="62064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A na závěr vyzkoušej, jak ti to j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55400" y="3916440"/>
            <a:ext cx="49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ttp://www.zshorakhk.cz/tvorba/ucitele/LV/LV_nasobeni.ph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306864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0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4130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ejdříve zavzpomínejme na dělení zlom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13372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ři dělení zlomků postupujeme tak, že první zlomek opíšeme, dělení nahradíme násobením a druhý zlomek převrátí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14800" y="3808440"/>
                <a:ext cx="9349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68800" y="3781440"/>
                <a:ext cx="390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407200" y="3790800"/>
                <a:ext cx="3632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258920" y="2924280"/>
            <a:ext cx="2881440" cy="936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917160" y="3969360"/>
            <a:ext cx="79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3284640"/>
            <a:ext cx="2952720" cy="57600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93520" y="3969360"/>
            <a:ext cx="792000" cy="4320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97480" y="4230720"/>
                <a:ext cx="4413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H="1">
            <a:off x="4643280" y="2924280"/>
            <a:ext cx="72072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487044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inými slovy: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ělení zlomků spočívá v násobení zlomkem převráceným k danému zlom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29160" y="4140360"/>
                <a:ext cx="15552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710240" y="3789360"/>
                <a:ext cx="6253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38840" y="3817800"/>
                <a:ext cx="68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4560" y="141300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během dělení můžeme často vzhledem k převodu na násobení s výhodou využít krácení zlomků, ať už nad sebou či do kříž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00280" y="2762280"/>
                <a:ext cx="128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flipV="1">
            <a:off x="2627280" y="278100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55720" y="334116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602080" y="2554200"/>
                <a:ext cx="21240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27520" y="3664080"/>
                <a:ext cx="341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 flipH="1">
            <a:off x="3059280" y="1916280"/>
            <a:ext cx="4681440" cy="12254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10040" y="2749680"/>
                <a:ext cx="1351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 flipV="1">
            <a:off x="4054320" y="2781000"/>
            <a:ext cx="43200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645080" y="334116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33800" y="2565360"/>
                <a:ext cx="171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849920" y="3664080"/>
                <a:ext cx="212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908000" y="2205000"/>
            <a:ext cx="2159280" cy="792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42040" y="2760840"/>
                <a:ext cx="1255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586560" y="2739960"/>
                <a:ext cx="611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116000" y="393228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 zajímavost tentýž příklad bez průběžného krác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12880" y="4610160"/>
                <a:ext cx="1349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071960" y="4605480"/>
                <a:ext cx="12207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245200" y="4605480"/>
                <a:ext cx="1125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299280" y="4610160"/>
                <a:ext cx="611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 flipV="1">
            <a:off x="5450040" y="465408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8480" y="5214600"/>
            <a:ext cx="4316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364000" y="4437000"/>
                <a:ext cx="2127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78640" y="5535720"/>
                <a:ext cx="3632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16000" y="580392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ávěr: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Díky postupnému krácení počítáme s „menšími čísly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01680" y="2781360"/>
                <a:ext cx="13510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58840" y="4610160"/>
                <a:ext cx="141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Co jsme si ukázali se zlomky, platí i při dělení lomen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773360"/>
            <a:ext cx="828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omeným výrazem dělíme, jestliže násobíme výrazem převráceným k tomuto výraz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51280" y="3573360"/>
                <a:ext cx="1378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H="1">
            <a:off x="4427640" y="2421000"/>
            <a:ext cx="2016000" cy="1512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92720" y="3570120"/>
                <a:ext cx="31284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19280" y="2781360"/>
            <a:ext cx="2881440" cy="9349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795920"/>
            <a:ext cx="8280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u lomených výrazů můžeme s výhodou během násobení krátit „nad sebou“ i do kříže. Možnost krácení můžeme podpořit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rozkladem čitatelů a jmenovatelů výrazů na souč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95008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amatuj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ikdy nekrátíme „vedle sebe“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340000" y="3564000"/>
                <a:ext cx="14558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V="1">
            <a:off x="3967200" y="360180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57680" y="4047840"/>
            <a:ext cx="28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38480" y="4047840"/>
            <a:ext cx="28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43280" y="3601800"/>
            <a:ext cx="28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52720" y="4033440"/>
            <a:ext cx="2890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457880" y="358740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84800" y="337968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197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Vydě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273480" y="1268280"/>
                <a:ext cx="21304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11280" y="3645000"/>
            <a:ext cx="8280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tejně jako u všech výpočtů s lomenými výrazy, tak ani u dělení lomených výrazů nesmíme zapomenout na určení podmínek, kdy mají výrazy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5805360"/>
            <a:ext cx="532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amatuj: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Nezapomínej na podmínk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87640" y="3716280"/>
            <a:ext cx="2952720" cy="2449440"/>
          </a:xfrm>
          <a:prstGeom prst="cloudCallout">
            <a:avLst>
              <a:gd name="adj1" fmla="val -78763"/>
              <a:gd name="adj2" fmla="val -76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Dělení zaměníme za násobení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druhý zlomek převrátí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292640"/>
            <a:ext cx="2520720" cy="1800360"/>
          </a:xfrm>
          <a:prstGeom prst="cloudCallout">
            <a:avLst>
              <a:gd name="adj1" fmla="val -13981"/>
              <a:gd name="adj2" fmla="val -101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zložíme na součin vytknutím proměnné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3645000"/>
            <a:ext cx="2520720" cy="1800000"/>
          </a:xfrm>
          <a:prstGeom prst="cloudCallout">
            <a:avLst>
              <a:gd name="adj1" fmla="val -78527"/>
              <a:gd name="adj2" fmla="val -75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rovedeme krá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09760" y="2565360"/>
                <a:ext cx="251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flipV="1">
            <a:off x="4788000" y="30988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84720" y="2463840"/>
                <a:ext cx="19980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V="1">
            <a:off x="3462480" y="266544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067280" y="262224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233880" y="31258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94240" y="3141720"/>
            <a:ext cx="93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572000" y="2695680"/>
            <a:ext cx="93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726160" y="2622600"/>
                <a:ext cx="10778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877080" y="2874960"/>
                <a:ext cx="48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V="1">
            <a:off x="5003640" y="30988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678120" y="266544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82640" y="2565360"/>
                <a:ext cx="23605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402160" y="4527720"/>
                <a:ext cx="18781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364000" y="4933800"/>
            <a:ext cx="43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54680" y="4933800"/>
            <a:ext cx="43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62680" y="4933800"/>
            <a:ext cx="43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167800">
            <a:off x="5578920" y="53287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167800">
            <a:off x="6055200" y="53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67800">
            <a:off x="7063200" y="53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- podmínky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70828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i dělení lomených výrazů nestačí, aby byl nenulový pouze jmenovatel dělence a děli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73520" y="1450800"/>
                <a:ext cx="251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 flipV="1">
            <a:off x="5351400" y="198432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48120" y="1349280"/>
                <a:ext cx="2001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4025880" y="155088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30680" y="1507680"/>
            <a:ext cx="1443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97280" y="201132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57640" y="2027160"/>
            <a:ext cx="934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35400" y="1581120"/>
            <a:ext cx="935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288120" y="1508040"/>
                <a:ext cx="10796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397640" y="1738440"/>
                <a:ext cx="4874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380360" y="5214960"/>
                <a:ext cx="7966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067280" y="5232240"/>
                <a:ext cx="7966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522760" y="5237280"/>
                <a:ext cx="12859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6000" y="5614920"/>
                <a:ext cx="12351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5567400" y="198432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41880" y="1550880"/>
            <a:ext cx="288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46040" y="1450800"/>
                <a:ext cx="23608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1360440" y="1830240"/>
            <a:ext cx="1079640" cy="649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3160" y="1843200"/>
            <a:ext cx="1079280" cy="64908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114560" y="2491920"/>
            <a:ext cx="504720" cy="7923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68360" y="2506680"/>
            <a:ext cx="540000" cy="744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28464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Nenulový musí být celý lomený výraz, kterým dělíme, neboli různý od nuly musí být i čitatel děli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378792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I proto, že po převrácení lomeného výrazu se stává z čitatele jmenovat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1844640"/>
            <a:ext cx="1079640" cy="649440"/>
          </a:xfrm>
          <a:prstGeom prst="ellipse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940000" y="2492280"/>
            <a:ext cx="2087640" cy="17287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29264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dmínky, pro něž má daný výraz a úpravy prováděné s daným výrazem smysl, je vhodné určovat až po rozložení všech výrazů do tvaru souč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60960" y="1528920"/>
            <a:ext cx="865080" cy="3585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1976400"/>
            <a:ext cx="2162160" cy="358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002280" y="5950080"/>
                <a:ext cx="849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924360" y="2421000"/>
            <a:ext cx="503280" cy="2879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5080" y="2421000"/>
            <a:ext cx="1439640" cy="2879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38760" y="2421000"/>
            <a:ext cx="2001960" cy="2879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8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844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Vydě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71640" y="1916280"/>
                <a:ext cx="23623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2987640" y="4941720"/>
            <a:ext cx="2376360" cy="1295640"/>
          </a:xfrm>
          <a:prstGeom prst="cloudCallout">
            <a:avLst>
              <a:gd name="adj1" fmla="val 27754"/>
              <a:gd name="adj2" fmla="val -9791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zložíme na součin vytknutím čísl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4581360"/>
            <a:ext cx="2376360" cy="1441440"/>
          </a:xfrm>
          <a:prstGeom prst="cloudCallout">
            <a:avLst>
              <a:gd name="adj1" fmla="val 67703"/>
              <a:gd name="adj2" fmla="val -974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Rozložíme na součin vytknutím proměnné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797360"/>
            <a:ext cx="2016360" cy="1150920"/>
          </a:xfrm>
          <a:prstGeom prst="cloudCallout">
            <a:avLst>
              <a:gd name="adj1" fmla="val 14722"/>
              <a:gd name="adj2" fmla="val -1037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Provedeme krác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co když se objeví dělení lomeného výrazu normálním „nelomeným“ výra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4000" y="3444840"/>
                <a:ext cx="2752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11280" y="283860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Lehce upravíme na dělení dvou lomených výraz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778360" y="3486240"/>
                <a:ext cx="3176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941560" y="4348080"/>
                <a:ext cx="6238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 flipV="1">
            <a:off x="5783400" y="3618000"/>
            <a:ext cx="35856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402240" y="4078440"/>
            <a:ext cx="358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199200" y="3587760"/>
            <a:ext cx="936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624800" y="4064040"/>
            <a:ext cx="936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24240" y="4667400"/>
            <a:ext cx="273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859360" y="4765680"/>
                <a:ext cx="876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578720" y="5110200"/>
                <a:ext cx="1298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098880" y="3444840"/>
                <a:ext cx="2697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340760" y="4765680"/>
                <a:ext cx="13554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818480" y="5454720"/>
                <a:ext cx="8748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H="1">
            <a:off x="6372000" y="4437000"/>
            <a:ext cx="14436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01080" y="4437000"/>
            <a:ext cx="142920" cy="432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Děle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84464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Dě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627280" y="2001960"/>
                <a:ext cx="24494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564000" y="3860640"/>
            <a:ext cx="2520720" cy="1800360"/>
          </a:xfrm>
          <a:prstGeom prst="cloudCallout">
            <a:avLst>
              <a:gd name="adj1" fmla="val -99180"/>
              <a:gd name="adj2" fmla="val -55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pravíme na součin pomocí vz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4508640"/>
            <a:ext cx="2520720" cy="1657080"/>
          </a:xfrm>
          <a:prstGeom prst="cloudCallout">
            <a:avLst>
              <a:gd name="adj1" fmla="val -14481"/>
              <a:gd name="adj2" fmla="val -1052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dečteme lomené výra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4581360"/>
            <a:ext cx="3816360" cy="1727280"/>
          </a:xfrm>
          <a:prstGeom prst="cloudCallout">
            <a:avLst>
              <a:gd name="adj1" fmla="val -27120"/>
              <a:gd name="adj2" fmla="val -12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kneme (-2), aby došlo i k záměně znamének v celém čl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příklady mohou být ještě složitější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80000" y="472428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0360" y="4811760"/>
                <a:ext cx="876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902720" y="5170320"/>
                <a:ext cx="87444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421400" y="4811760"/>
                <a:ext cx="13557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95200" y="2997360"/>
                <a:ext cx="29606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97560" y="2997360"/>
                <a:ext cx="28908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313080" y="2997360"/>
                <a:ext cx="2122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4859280" y="5157720"/>
            <a:ext cx="2664000" cy="1079640"/>
          </a:xfrm>
          <a:prstGeom prst="cloudCallout">
            <a:avLst>
              <a:gd name="adj1" fmla="val -58643"/>
              <a:gd name="adj2" fmla="val -120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Pokrátí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894120" y="4251240"/>
            <a:ext cx="289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292720" y="3847680"/>
            <a:ext cx="1429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879720" y="387684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08720" y="4235040"/>
            <a:ext cx="1569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973840" y="3838680"/>
                <a:ext cx="903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095640" y="3805200"/>
                <a:ext cx="2778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094360" y="2292480"/>
                <a:ext cx="2127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V="1">
            <a:off x="3708360" y="423540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917960" y="3862440"/>
            <a:ext cx="287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00720" y="1413000"/>
            <a:ext cx="2664000" cy="1079280"/>
          </a:xfrm>
          <a:prstGeom prst="cloudCallout">
            <a:avLst>
              <a:gd name="adj1" fmla="val -35995"/>
              <a:gd name="adj2" fmla="val 1010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Zaměníme sčí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4508640"/>
            <a:ext cx="1800000" cy="4330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4508640"/>
            <a:ext cx="2158920" cy="5047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00"/>
                            </p:stCondLst>
                            <p:childTnLst>
                              <p:par>
                                <p:cTn id="8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3500"/>
                            </p:stCondLst>
                            <p:childTnLst>
                              <p:par>
                                <p:cTn id="8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4500"/>
                            </p:stCondLst>
                            <p:childTnLst>
                              <p:par>
                                <p:cTn id="8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500"/>
                            </p:stCondLst>
                            <p:childTnLst>
                              <p:par>
                                <p:cTn id="8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66560" y="27468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Děle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Vydělte lomené výrazy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28640" y="1224000"/>
                <a:ext cx="21207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12000" y="1287360"/>
                <a:ext cx="146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12000" y="1935000"/>
                <a:ext cx="1595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13440" y="2597040"/>
                <a:ext cx="2274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022800" y="3452760"/>
                <a:ext cx="349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 flipV="1">
            <a:off x="6588000" y="265104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804000" y="295272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56360" y="2954160"/>
            <a:ext cx="7207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496280" y="2636640"/>
            <a:ext cx="72072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380360" y="4522680"/>
                <a:ext cx="84456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697880" y="47815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381800" y="5186520"/>
                <a:ext cx="8431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696080" y="5445000"/>
                <a:ext cx="66060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062760" y="4522680"/>
                <a:ext cx="12459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dmínky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29T07:42:06Z</dcterms:modified>
  <cp:revision>181</cp:revision>
  <dc:subject/>
  <dc:title>Lomené výrazy - dělení</dc:title>
</cp:coreProperties>
</file>