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DA01-500F-4CF5-AF27-B41F8284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7CF-5E44-4503-B0FA-6E755667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545-6411-4A60-BA0D-F7FD6E81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018E-065B-4318-BF39-C9F495CD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201B-8C34-46EC-B744-4A606B6F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43D7-C57A-43F9-96E3-8045C93E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3C54-5994-4DFE-AAC9-6B227D0C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8D57-03EE-467A-B035-55D27568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6F2A-49E9-4AAF-BD0E-1800CE1C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D32C-97B6-4D9D-B68B-26F77840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BF6A-07BA-4A6D-84E8-AA93996F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880-3CEE-491F-8F92-5D583A0B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010A-D1A1-4BF5-B736-001DD187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B161-3B87-4275-9812-E45C0E76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9FFF-88C2-45BE-91A7-B572CCE6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28FB-E9AC-4117-BB62-DB1B3E8C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F767-59BE-4CCD-805F-57570FBE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FA9F-90B8-45B7-BD68-9EBB3483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B22C-81ED-47EE-B3D8-B5A1C33B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D7C-F111-4462-978C-E8F921FA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2393-40F3-471D-A6D6-CACE0CA5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7141-9A67-4404-B0D3-1B31BBB9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49B6-6D3A-494B-B95B-F95A7503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A8B3-4E1E-4212-A60F-25E7E3EB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60E8-E9CA-4F59-BF8B-F94EE0E1A8D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E7E5-E097-466C-B9FC-C9CF31DA5F05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Lineární rovnice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Pár užitečných rad,</a:t>
            </a:r>
            <a:br>
              <a:rPr sz="3200"/>
            </a:b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jak postupovat při řešení </a:t>
            </a:r>
            <a:br>
              <a:rPr sz="3200"/>
            </a:b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ložitějších rovnic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651640" y="376200"/>
            <a:ext cx="3384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 č. 1 - zkouš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1052640"/>
            <a:ext cx="5111640" cy="52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403280" y="1139760"/>
                <a:ext cx="30956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816520" y="2249640"/>
                <a:ext cx="309420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033960" y="2697120"/>
                <a:ext cx="2727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197760" y="3186000"/>
                <a:ext cx="2266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513480" y="3691080"/>
                <a:ext cx="15778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678720" y="4237200"/>
                <a:ext cx="119376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6732720" y="4836960"/>
                <a:ext cx="110160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7161120" y="5656320"/>
                <a:ext cx="39852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878520" y="5246640"/>
                <a:ext cx="9493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8258040" y="4365720"/>
                <a:ext cx="2923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8029440" y="5241960"/>
                <a:ext cx="75276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468360" y="836640"/>
            <a:ext cx="5111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Řešte, a jen pokud si nebudete vědět rady, klikněte, pomohu vá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15160" y="376200"/>
            <a:ext cx="19335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 č.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1052640"/>
            <a:ext cx="5111640" cy="52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403280" y="1233360"/>
                <a:ext cx="3095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556240" y="2185920"/>
                <a:ext cx="352584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832360" y="2637000"/>
                <a:ext cx="253368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8486640" y="2679840"/>
                <a:ext cx="58428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581880" y="3102120"/>
                <a:ext cx="11541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583320" y="3556080"/>
                <a:ext cx="86832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870600" y="4460760"/>
                <a:ext cx="67320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002280" y="4005360"/>
                <a:ext cx="204012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x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8040600" y="3600360"/>
                <a:ext cx="76068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 flipV="1">
            <a:off x="5881680" y="2579760"/>
            <a:ext cx="649440" cy="3585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753320" y="2579760"/>
            <a:ext cx="649440" cy="3585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8360" y="836640"/>
            <a:ext cx="5111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Řešte, a jen pokud si nebudete vědět rady, klikněte, pomohu vá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653080" y="376200"/>
            <a:ext cx="3382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 č. 2 - zkouš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8360" y="1052640"/>
            <a:ext cx="4535280" cy="52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8319960" y="3803760"/>
                <a:ext cx="75276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075280" y="1849320"/>
                <a:ext cx="396072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158840" y="1168560"/>
                <a:ext cx="331308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224760" y="2324160"/>
                <a:ext cx="24080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275520" y="2808360"/>
                <a:ext cx="190152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770520" y="3330720"/>
                <a:ext cx="1474920" cy="2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7089840" y="3801960"/>
                <a:ext cx="966600" cy="2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7385040" y="4303800"/>
                <a:ext cx="41292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179280" y="836640"/>
            <a:ext cx="5112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Řešte, a jen pokud si nebudete vědět rady, klikněte, pomohu vá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04000" y="376200"/>
            <a:ext cx="194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 č.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1052640"/>
            <a:ext cx="5111640" cy="52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515960" y="1139760"/>
                <a:ext cx="28688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5643720" y="2060640"/>
                <a:ext cx="28652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8604360" y="2222640"/>
                <a:ext cx="53964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724360" y="2852640"/>
                <a:ext cx="316728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6199200" y="3413160"/>
                <a:ext cx="18590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8402760" y="3414600"/>
                <a:ext cx="65556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218280" y="3990960"/>
                <a:ext cx="187812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8379000" y="3990960"/>
                <a:ext cx="61560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778360" y="4565520"/>
                <a:ext cx="1860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242040" y="5127480"/>
                <a:ext cx="9572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429240" y="5661000"/>
                <a:ext cx="53208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7513560" y="5156280"/>
                <a:ext cx="51912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7467480" y="2766960"/>
            <a:ext cx="1079640" cy="432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12000" y="3213000"/>
            <a:ext cx="27763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Pozor na změnu znaméne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37440" y="2003400"/>
            <a:ext cx="792000" cy="36036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8360" y="836640"/>
            <a:ext cx="5111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Řešte, a jen pokud si nebudete vědět rady, klikněte, pomohu vá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2500"/>
                            </p:stCondLst>
                            <p:childTnLst>
                              <p:par>
                                <p:cTn id="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651640" y="376200"/>
            <a:ext cx="3384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 č. 3 - zkouš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360" y="1052640"/>
            <a:ext cx="5111640" cy="52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515960" y="1139760"/>
                <a:ext cx="28688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618160" y="2060640"/>
                <a:ext cx="30607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8317080" y="4168800"/>
                <a:ext cx="5191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773680" y="2708280"/>
                <a:ext cx="26892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6283440" y="3370320"/>
                <a:ext cx="19810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280200" y="4005360"/>
                <a:ext cx="187488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6140520" y="4782960"/>
                <a:ext cx="187488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6572160" y="5286240"/>
                <a:ext cx="81432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468360" y="836640"/>
            <a:ext cx="5111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Řešte, a jen pokud si nebudete vědět rady, klikněte, pomohu vá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4000" y="476280"/>
            <a:ext cx="8496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Vše si řekneme a především ukážeme prakticky na konkrétním příklad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556000" y="3095640"/>
                <a:ext cx="48034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1042920" y="3741840"/>
            <a:ext cx="7777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Tip: Kdykoli se během řešení rovnice objeví zlomek, který není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v základním tvaru, zkrátíme j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543040" y="4605480"/>
                <a:ext cx="48722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6143760" y="3021120"/>
            <a:ext cx="287280" cy="863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5036760"/>
            <a:ext cx="28728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164280" y="4618080"/>
            <a:ext cx="28728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86440" y="4470480"/>
            <a:ext cx="36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38880" y="5130720"/>
            <a:ext cx="36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36920" y="5369040"/>
                <a:ext cx="48704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548080" y="1890720"/>
                <a:ext cx="48034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12392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řeš rovnici a ověř správnost výpočtu provedením zkouš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454560" y="2401920"/>
                <a:ext cx="48704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265640" y="2416320"/>
            <a:ext cx="1022400" cy="677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37600" y="2430360"/>
            <a:ext cx="1022040" cy="677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3211560"/>
            <a:ext cx="711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okud rovnice obsahuje závorky, zbavíme se jich výpočtem, roznásobením či umocnění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589200" y="4375080"/>
                <a:ext cx="45482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956040" y="5238720"/>
                <a:ext cx="38131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187280" y="763560"/>
            <a:ext cx="7417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. krok: Odstranění závorek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 následná úprava obou stran rov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68800" y="1268280"/>
            <a:ext cx="1081080" cy="1105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8920" y="2438280"/>
            <a:ext cx="7200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okud rovnice obsahuje zlomky, zbavíme se jich vynásobením rovnice společným jmenovatelem zlom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44880" y="1494000"/>
                <a:ext cx="39290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187280" y="763560"/>
            <a:ext cx="7417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. krok: Odstranění zlomků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 následná úprava obou stran rov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3160" y="1268280"/>
            <a:ext cx="1081080" cy="1105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33960" y="1268280"/>
            <a:ext cx="1081080" cy="1105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286760" y="1700280"/>
                <a:ext cx="6886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06720" y="3284640"/>
                <a:ext cx="61815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068560" y="4044960"/>
                <a:ext cx="6319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 flipV="1">
            <a:off x="3751200" y="4433400"/>
            <a:ext cx="36036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002040" y="4046040"/>
            <a:ext cx="36036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315120" y="4433400"/>
            <a:ext cx="36036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5600" y="4060440"/>
            <a:ext cx="36036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812000" y="4433400"/>
            <a:ext cx="36036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149960" y="4046040"/>
            <a:ext cx="36036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00440" y="3774960"/>
            <a:ext cx="287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4437000"/>
            <a:ext cx="28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64000" y="3773520"/>
            <a:ext cx="2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59560" y="4437000"/>
            <a:ext cx="28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04000" y="377496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56720" y="4437000"/>
            <a:ext cx="28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019240" y="4910040"/>
                <a:ext cx="65264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503440" y="5791320"/>
                <a:ext cx="51706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728800" y="4826160"/>
            <a:ext cx="5335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21160" y="4826160"/>
            <a:ext cx="5335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91200" y="4826160"/>
            <a:ext cx="5335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5229360"/>
            <a:ext cx="576360" cy="311040"/>
          </a:xfrm>
          <a:custGeom>
            <a:avLst/>
            <a:gdLst/>
            <a:ahLst/>
            <a:rect l="l" t="t" r="r" b="b"/>
            <a:pathLst>
              <a:path w="363" h="196">
                <a:moveTo>
                  <a:pt x="0" y="91"/>
                </a:moveTo>
                <a:cubicBezTo>
                  <a:pt x="61" y="143"/>
                  <a:pt x="122" y="196"/>
                  <a:pt x="182" y="181"/>
                </a:cubicBezTo>
                <a:cubicBezTo>
                  <a:pt x="242" y="166"/>
                  <a:pt x="302" y="83"/>
                  <a:pt x="363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80000" y="5229360"/>
            <a:ext cx="576360" cy="311040"/>
          </a:xfrm>
          <a:custGeom>
            <a:avLst/>
            <a:gdLst/>
            <a:ahLst/>
            <a:rect l="l" t="t" r="r" b="b"/>
            <a:pathLst>
              <a:path w="363" h="196">
                <a:moveTo>
                  <a:pt x="0" y="91"/>
                </a:moveTo>
                <a:cubicBezTo>
                  <a:pt x="61" y="143"/>
                  <a:pt x="122" y="196"/>
                  <a:pt x="182" y="181"/>
                </a:cubicBezTo>
                <a:cubicBezTo>
                  <a:pt x="242" y="166"/>
                  <a:pt x="302" y="83"/>
                  <a:pt x="363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36000" y="5229360"/>
            <a:ext cx="576000" cy="311040"/>
          </a:xfrm>
          <a:custGeom>
            <a:avLst/>
            <a:gdLst/>
            <a:ahLst/>
            <a:rect l="l" t="t" r="r" b="b"/>
            <a:pathLst>
              <a:path w="363" h="196">
                <a:moveTo>
                  <a:pt x="0" y="91"/>
                </a:moveTo>
                <a:cubicBezTo>
                  <a:pt x="61" y="143"/>
                  <a:pt x="122" y="196"/>
                  <a:pt x="182" y="181"/>
                </a:cubicBezTo>
                <a:cubicBezTo>
                  <a:pt x="242" y="166"/>
                  <a:pt x="302" y="83"/>
                  <a:pt x="363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229360"/>
            <a:ext cx="1079640" cy="455400"/>
          </a:xfrm>
          <a:custGeom>
            <a:avLst/>
            <a:gdLst/>
            <a:ahLst/>
            <a:rect l="l" t="t" r="r" b="b"/>
            <a:pathLst>
              <a:path w="680" h="287">
                <a:moveTo>
                  <a:pt x="0" y="91"/>
                </a:moveTo>
                <a:cubicBezTo>
                  <a:pt x="57" y="189"/>
                  <a:pt x="114" y="287"/>
                  <a:pt x="227" y="272"/>
                </a:cubicBezTo>
                <a:cubicBezTo>
                  <a:pt x="340" y="257"/>
                  <a:pt x="605" y="45"/>
                  <a:pt x="680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0000" y="5229360"/>
            <a:ext cx="1079640" cy="455400"/>
          </a:xfrm>
          <a:custGeom>
            <a:avLst/>
            <a:gdLst/>
            <a:ahLst/>
            <a:rect l="l" t="t" r="r" b="b"/>
            <a:pathLst>
              <a:path w="680" h="287">
                <a:moveTo>
                  <a:pt x="0" y="91"/>
                </a:moveTo>
                <a:cubicBezTo>
                  <a:pt x="57" y="189"/>
                  <a:pt x="114" y="287"/>
                  <a:pt x="227" y="272"/>
                </a:cubicBezTo>
                <a:cubicBezTo>
                  <a:pt x="340" y="257"/>
                  <a:pt x="605" y="45"/>
                  <a:pt x="680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7440" y="5229360"/>
            <a:ext cx="1079640" cy="455400"/>
          </a:xfrm>
          <a:custGeom>
            <a:avLst/>
            <a:gdLst/>
            <a:ahLst/>
            <a:rect l="l" t="t" r="r" b="b"/>
            <a:pathLst>
              <a:path w="680" h="287">
                <a:moveTo>
                  <a:pt x="0" y="91"/>
                </a:moveTo>
                <a:cubicBezTo>
                  <a:pt x="57" y="189"/>
                  <a:pt x="114" y="287"/>
                  <a:pt x="227" y="272"/>
                </a:cubicBezTo>
                <a:cubicBezTo>
                  <a:pt x="340" y="257"/>
                  <a:pt x="605" y="45"/>
                  <a:pt x="680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58920" y="4435560"/>
            <a:ext cx="720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řevedeme všechny členy s neznámou na jednu stranu rovnice a členy bez neznámé na stranu druh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6080" y="863640"/>
            <a:ext cx="7632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. krok: Převedení všech členů s neznámou a bez neznám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419200" y="3049560"/>
                <a:ext cx="53308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2382840" y="2911320"/>
            <a:ext cx="576360" cy="5749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02040" y="2911320"/>
            <a:ext cx="576360" cy="5749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80000" y="2838600"/>
            <a:ext cx="735120" cy="7333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57960" y="2838600"/>
            <a:ext cx="735120" cy="7333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00360" y="2206800"/>
            <a:ext cx="3095640" cy="660240"/>
          </a:xfrm>
          <a:custGeom>
            <a:avLst/>
            <a:gdLst/>
            <a:ahLst/>
            <a:rect l="l" t="t" r="r" b="b"/>
            <a:pathLst>
              <a:path w="1950" h="416">
                <a:moveTo>
                  <a:pt x="0" y="416"/>
                </a:moveTo>
                <a:cubicBezTo>
                  <a:pt x="404" y="216"/>
                  <a:pt x="809" y="16"/>
                  <a:pt x="1134" y="8"/>
                </a:cubicBezTo>
                <a:cubicBezTo>
                  <a:pt x="1459" y="0"/>
                  <a:pt x="1704" y="185"/>
                  <a:pt x="1950" y="371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205000"/>
            <a:ext cx="3240000" cy="660600"/>
          </a:xfrm>
          <a:custGeom>
            <a:avLst/>
            <a:gdLst/>
            <a:ahLst/>
            <a:rect l="l" t="t" r="r" b="b"/>
            <a:pathLst>
              <a:path w="1950" h="416">
                <a:moveTo>
                  <a:pt x="0" y="416"/>
                </a:moveTo>
                <a:cubicBezTo>
                  <a:pt x="404" y="216"/>
                  <a:pt x="809" y="16"/>
                  <a:pt x="1134" y="8"/>
                </a:cubicBezTo>
                <a:cubicBezTo>
                  <a:pt x="1459" y="0"/>
                  <a:pt x="1704" y="185"/>
                  <a:pt x="1950" y="371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3544920"/>
            <a:ext cx="3168720" cy="673200"/>
          </a:xfrm>
          <a:custGeom>
            <a:avLst/>
            <a:gdLst/>
            <a:ahLst/>
            <a:rect l="l" t="t" r="r" b="b"/>
            <a:pathLst>
              <a:path w="1951" h="415">
                <a:moveTo>
                  <a:pt x="1951" y="45"/>
                </a:moveTo>
                <a:cubicBezTo>
                  <a:pt x="1592" y="230"/>
                  <a:pt x="1233" y="415"/>
                  <a:pt x="908" y="408"/>
                </a:cubicBezTo>
                <a:cubicBezTo>
                  <a:pt x="583" y="401"/>
                  <a:pt x="291" y="200"/>
                  <a:pt x="0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19640" y="3548160"/>
            <a:ext cx="3240000" cy="672840"/>
          </a:xfrm>
          <a:custGeom>
            <a:avLst/>
            <a:gdLst/>
            <a:ahLst/>
            <a:rect l="l" t="t" r="r" b="b"/>
            <a:pathLst>
              <a:path w="1951" h="415">
                <a:moveTo>
                  <a:pt x="1951" y="45"/>
                </a:moveTo>
                <a:cubicBezTo>
                  <a:pt x="1592" y="230"/>
                  <a:pt x="1233" y="415"/>
                  <a:pt x="908" y="408"/>
                </a:cubicBezTo>
                <a:cubicBezTo>
                  <a:pt x="583" y="401"/>
                  <a:pt x="291" y="200"/>
                  <a:pt x="0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30440" y="5486400"/>
                <a:ext cx="5238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 flipV="1">
            <a:off x="4859280" y="3644640"/>
            <a:ext cx="1081080" cy="936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859280" y="3573360"/>
            <a:ext cx="1657440" cy="1008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771640" y="3573000"/>
            <a:ext cx="648000" cy="1368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347640" y="3573000"/>
            <a:ext cx="71640" cy="1368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081320" y="5935680"/>
                <a:ext cx="9162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2556000" y="5157720"/>
            <a:ext cx="56163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Obdobně sečteme zvlášť na levé i pravé straně všechny záporné čle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2752560"/>
            <a:ext cx="705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Upravíme zvlášť levou stranu rovnice a pravou stranu rovnice. Jinými slovy sečteme a odečteme členy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s neznámou a členy bez neznámé. Následně neznámou osamostatní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16080" y="863640"/>
            <a:ext cx="7632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4. krok: Úprava obou stran rovnice </a:t>
            </a:r>
            <a:br>
              <a:rPr sz="2800"/>
            </a:b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a osamostatnění neznám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265480" y="1933560"/>
                <a:ext cx="53290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2124000" y="1774800"/>
            <a:ext cx="2232000" cy="6048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57600" y="1803240"/>
            <a:ext cx="3167280" cy="5763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114640" y="4091040"/>
                <a:ext cx="62262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017880" y="4684680"/>
                <a:ext cx="30081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9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3578400" y="3892680"/>
            <a:ext cx="738000" cy="7174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51200" y="3887640"/>
            <a:ext cx="738000" cy="7178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29160" y="3889440"/>
            <a:ext cx="738000" cy="7174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34160" y="3887640"/>
            <a:ext cx="738360" cy="7178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59040" y="3890880"/>
            <a:ext cx="738360" cy="717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03880" y="3887640"/>
            <a:ext cx="738000" cy="717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81840" y="3887640"/>
            <a:ext cx="738000" cy="717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3889440"/>
            <a:ext cx="738360" cy="717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56000" y="5157720"/>
            <a:ext cx="48243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Sečteme zvlášť na levé i pravé straně všechny kladné čle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3419640" y="4581360"/>
            <a:ext cx="2736720" cy="719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940000" y="4581360"/>
            <a:ext cx="1079640" cy="719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6588000" y="4652640"/>
            <a:ext cx="432000" cy="647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020000" y="4652640"/>
            <a:ext cx="216000" cy="647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556000" y="4581360"/>
            <a:ext cx="2520720" cy="7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4140000" y="4581360"/>
            <a:ext cx="936360" cy="7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148360" y="4581360"/>
            <a:ext cx="792000" cy="7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940360" y="4581360"/>
            <a:ext cx="1800360" cy="71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3635280" y="2420640"/>
            <a:ext cx="432000" cy="3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372360" y="2420640"/>
            <a:ext cx="576000" cy="360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935520" y="5086440"/>
                <a:ext cx="1170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364000" y="5084640"/>
                <a:ext cx="5270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560760" y="5532480"/>
                <a:ext cx="1925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: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:</m:t>
                    </m:r>
                    <m:r>
                      <m:t xml:space="preserve">7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4067280" y="6237360"/>
            <a:ext cx="87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6294600"/>
            <a:ext cx="87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500"/>
                            </p:stCondLst>
                            <p:childTnLst>
                              <p:par>
                                <p:cTn id="3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5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500"/>
                            </p:stCondLst>
                            <p:childTnLst>
                              <p:par>
                                <p:cTn id="3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500"/>
                            </p:stCondLst>
                            <p:childTnLst>
                              <p:par>
                                <p:cTn id="3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5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500"/>
                            </p:stCondLst>
                            <p:childTnLst>
                              <p:par>
                                <p:cTn id="4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5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8920" y="1700280"/>
            <a:ext cx="7416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Vhodné je provádět zkoušku jako úpravu rovnosti dvou číselných výrazů, neboť lze v případě potřeby beze zbytku využít i všech výhod ekvivalentních úpra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16080" y="692280"/>
            <a:ext cx="7632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. krok: Ověření správnosti řešení (zkoušk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140360" y="2832120"/>
                <a:ext cx="4249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795840" y="3435480"/>
                <a:ext cx="49957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313160" y="4027320"/>
                <a:ext cx="3384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722840" y="4660920"/>
                <a:ext cx="19940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162400" y="5405400"/>
                <a:ext cx="13287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532480" y="5843520"/>
                <a:ext cx="64440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04840" y="2103480"/>
            <a:ext cx="749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1. krok: Odstranění závorek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a následná úprava obou stran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   rov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30440" y="692280"/>
            <a:ext cx="6956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hrňme si tedy na závěr výkladu celý doporučený postup při řešení rovnic ještě jedn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04840" y="2781360"/>
            <a:ext cx="7499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2. krok: Odstranění zlomků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a následná úprava obou stran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   rov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16000" y="3471840"/>
            <a:ext cx="7777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3. krok: Převedení všech členů s neznámou na jednu a členů bez neznámé na druhou stranu rov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4335480"/>
            <a:ext cx="77914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4. krok: Úprava obou stran rovnice a osamostatnění neznám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65640" y="5589720"/>
            <a:ext cx="5454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nyní vzhůru a beze strachu na rovni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47680" y="5083200"/>
            <a:ext cx="7499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5. krok: Ověření správnosti řešení (zkouš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04000" y="376200"/>
            <a:ext cx="2016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 č.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1052640"/>
            <a:ext cx="5111640" cy="52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403280" y="1139760"/>
                <a:ext cx="30956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680080" y="2071800"/>
                <a:ext cx="327816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300720" y="2505240"/>
                <a:ext cx="16826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8388360" y="2671920"/>
                <a:ext cx="371520" cy="24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224760" y="3083040"/>
                <a:ext cx="175572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740560" y="3456000"/>
                <a:ext cx="175572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386400" y="4232160"/>
                <a:ext cx="110016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8172360" y="3095640"/>
                <a:ext cx="63684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908680" y="3859200"/>
                <a:ext cx="193356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8172360" y="3427560"/>
                <a:ext cx="49536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986600" y="4235400"/>
                <a:ext cx="8668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792840" y="4638600"/>
                <a:ext cx="140184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797520" y="4919760"/>
                <a:ext cx="7272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792840" y="5470560"/>
                <a:ext cx="6033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468360" y="836640"/>
            <a:ext cx="5111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Řešte, a jen pokud si nebudete vědět rady, klikněte, pomohu vá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6-27T12:46:02Z</dcterms:modified>
  <cp:revision>70</cp:revision>
  <dc:subject/>
  <dc:title>Lineární rovnice</dc:title>
</cp:coreProperties>
</file>