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64BD-2E09-4BFA-9EFF-E9E44ADE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DD70-CBD0-46EC-A3CB-1D43FBB1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222F-1BCC-475B-A8C1-B8CD9DCB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4FA0-5170-41E1-8B67-48AC3F6D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6368-E4E8-4A8C-8A33-19E397A9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A56B-9578-492C-A501-5BD62306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0908-7B72-46CF-94C5-C4F8811B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D676-DBD1-4626-8E60-149DF6FB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17BE-58C8-4916-95D8-64C9AB03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497D-44E0-477D-ADF1-8AE03025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3FD5-BC73-43B6-A426-107CEB31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4ABD-EEFD-43B5-85A6-A0A5AF79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5677-4FC1-4FC5-97E7-13C20B34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C0FE-549F-40FC-9787-103EEEC3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ECD2-0FC0-4FD5-8318-9451C680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1976-2C64-471D-966C-1C8708E5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860B-7D2E-4054-9D78-05A3D416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89ED-AB89-48F5-BD3B-5CC12A4C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6E75-126B-46E0-AD08-112C7329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C2BF-0E45-4B59-96CB-3F2A9E99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2F45-B697-4833-A4D5-E3551D81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5515-5737-43B0-A96F-1C292BF6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6447-BFB8-43DA-8F7A-49A5FDCB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0558-C93F-4EC6-91BE-1571AC86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BA0D-C208-4DB6-90D8-36F78042F17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670A-E39C-4355-9C06-389BE9E201F2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Lineární rovnice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Druhy řeš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11280" y="549360"/>
            <a:ext cx="8353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Máme na světě třetí typ možného řeše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44720" y="1413000"/>
            <a:ext cx="770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0.x =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314172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Jinými slovy: pravda, pravdivý výrok, rov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44720" y="3860640"/>
            <a:ext cx="77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Takový výsledek znamená, že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rovnice má nekonečně mnoho řeš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21190200">
            <a:off x="0" y="3644640"/>
            <a:ext cx="1871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5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468600">
            <a:off x="0" y="4292280"/>
            <a:ext cx="1871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20 =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450800">
            <a:off x="5435280" y="5661000"/>
            <a:ext cx="1871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1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9538400">
            <a:off x="6732720" y="5373360"/>
            <a:ext cx="241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-0,5 = -0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468600">
            <a:off x="3849480" y="5670720"/>
            <a:ext cx="2016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0,4 = 0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660200">
            <a:off x="-252360" y="5373360"/>
            <a:ext cx="25225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-2,7 = -2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42920" y="2276640"/>
            <a:ext cx="770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0 =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60360" y="47242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Rovnost levé a pravé strany rovnice nastane, dosadíme-li do rovnice za neznámou jakékoliv čísl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692360" y="5516640"/>
            <a:ext cx="2303280" cy="1081080"/>
            <a:chOff x="1692360" y="5516640"/>
            <a:chExt cx="2303280" cy="1081080"/>
          </a:xfrm>
        </p:grpSpPr>
        <p:sp>
          <p:nvSpPr>
            <p:cNvPr id="225" name=""/>
            <p:cNvSpPr/>
            <p:nvPr/>
          </p:nvSpPr>
          <p:spPr>
            <a:xfrm>
              <a:off x="1692360" y="5719680"/>
              <a:ext cx="21589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    </a:t>
              </a: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=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87640" y="5546880"/>
              <a:ext cx="100800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__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87640" y="5516640"/>
              <a:ext cx="100800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87640" y="5948280"/>
              <a:ext cx="10080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0920" y="5546880"/>
              <a:ext cx="100836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__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50920" y="5516640"/>
              <a:ext cx="100836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50920" y="5948280"/>
              <a:ext cx="10083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 rot="20340000">
            <a:off x="7128000" y="3715920"/>
            <a:ext cx="2016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45 = 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435640" y="376200"/>
            <a:ext cx="352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Ověření příkladu č.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8360" y="1052640"/>
            <a:ext cx="5111640" cy="52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796000" y="2048040"/>
                <a:ext cx="309708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468360" y="404640"/>
            <a:ext cx="5111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o rovnice můžeme dosadit jakékoliv číslo. Zkusme třeba čísl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24360" y="4581360"/>
            <a:ext cx="3240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Dosazením jsme ověřili, že číslo 1 je řešením dané rovnic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(</a:t>
            </a: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Po dosazení za neznámou do zadané rovnice, nastává rovnost levé a pravé strany – rovnost platí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826920" y="1127160"/>
                <a:ext cx="424980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372360" y="2532240"/>
                <a:ext cx="1679400" cy="2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6919920" y="3056040"/>
                <a:ext cx="993600" cy="2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916680" y="3516480"/>
                <a:ext cx="652680" cy="2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7013520" y="3976560"/>
                <a:ext cx="520920" cy="2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35640" y="376200"/>
            <a:ext cx="352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Ověření příkladu č.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360" y="1052640"/>
            <a:ext cx="5111640" cy="52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724360" y="2048040"/>
                <a:ext cx="229896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468360" y="779400"/>
            <a:ext cx="5111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kusíme dosadit například ještě číslo -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24360" y="4581360"/>
            <a:ext cx="3240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Dosazením jsme ověřili, že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i číslo -1 je řešením dané rovnic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(</a:t>
            </a: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Po dosazení za neznámou do zadané rovnice, nastává rovnost levé a pravé strany – rovnost platí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826920" y="1127160"/>
                <a:ext cx="424980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7308720" y="3976560"/>
                <a:ext cx="520920" cy="2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829560" y="2349360"/>
                <a:ext cx="213516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6156360" y="2781360"/>
                <a:ext cx="213516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6519960" y="3179880"/>
                <a:ext cx="1581120" cy="2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7305840" y="3571920"/>
                <a:ext cx="488880" cy="2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55640" y="549360"/>
            <a:ext cx="2376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hrnut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84720" y="2637000"/>
            <a:ext cx="2519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například: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x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26920" y="1773360"/>
            <a:ext cx="770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1. Rovnice má právě jedno řešení (jeden koř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5640" y="981000"/>
            <a:ext cx="8209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Existují tři druhy možných řešení lineárních rovnic.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aké a jak je pozná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30480" y="2305080"/>
            <a:ext cx="77040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Existuje jediné číslo, po jehož dosazení za neznámou do dané rovnice nastane rovnost levé a pravé stra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84720" y="4075200"/>
            <a:ext cx="2519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například: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0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3211560"/>
            <a:ext cx="770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2. Rovnice nemá žádné řeš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30480" y="3743280"/>
            <a:ext cx="77040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Neexistuje žádné číslo, po jehož dosazení za neznámou do dané rovnice by nastala rovnost levé a pravé stra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7826400" y="4149360"/>
            <a:ext cx="171360" cy="3589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84720" y="5832360"/>
            <a:ext cx="2519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například: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2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6920" y="4653000"/>
            <a:ext cx="770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3. Rovnice má nekonečně mnoho řeš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30480" y="5184720"/>
            <a:ext cx="76626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Existuje nekonečně mnoho čísel (všechna čísla), po jejichž dosazení za neznámou do dané rovnice nastane rovnost levé a pravé stra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68360" y="1052640"/>
            <a:ext cx="5111640" cy="52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460440"/>
            <a:ext cx="51116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teď si to zkuste sa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24360" y="5300640"/>
            <a:ext cx="324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Rovnice nemá řeš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109520" y="1127160"/>
                <a:ext cx="368460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468360" y="836640"/>
            <a:ext cx="5111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Řešte, a jen pokud si nebudete vědět rady, klikněte. Pomohu vá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5767560" y="2492280"/>
                <a:ext cx="314136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6093000" y="2924280"/>
                <a:ext cx="280332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6661080" y="3355920"/>
                <a:ext cx="225108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7097760" y="3816360"/>
                <a:ext cx="179532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7624800" y="4251240"/>
                <a:ext cx="74916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 flipV="1">
            <a:off x="7999560" y="430668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7999560" y="38750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999560" y="339876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7999560" y="296676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7999560" y="253656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500"/>
                            </p:stCondLst>
                            <p:childTnLst>
                              <p:par>
                                <p:cTn id="6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30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468360" y="1052640"/>
            <a:ext cx="5111640" cy="52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8360" y="460440"/>
            <a:ext cx="51116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ještě jedn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24360" y="5516640"/>
            <a:ext cx="324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Rovnice má právě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jedno řeš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109520" y="1162080"/>
                <a:ext cx="368460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468360" y="836640"/>
            <a:ext cx="5111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Řešte, a jen pokud si nebudete vědět rady, klikněte. Pomohu vá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5724360" y="2314440"/>
                <a:ext cx="317988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6068880" y="2681280"/>
                <a:ext cx="260532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6629400" y="3083040"/>
                <a:ext cx="1801800" cy="24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6885000" y="3479760"/>
                <a:ext cx="1560600" cy="1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870600" y="3889440"/>
                <a:ext cx="1560600" cy="1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7375680" y="4299120"/>
                <a:ext cx="696600" cy="21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7481880" y="4681440"/>
                <a:ext cx="84924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: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470720" y="5062680"/>
                <a:ext cx="486000" cy="1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468360" y="1052640"/>
            <a:ext cx="5111640" cy="52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3680" y="460440"/>
            <a:ext cx="5688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kouškou ověříme správnost našich výpočt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25960" y="4941720"/>
            <a:ext cx="2880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Zkouškou jsme ověřili, že řešením je skutečně číslo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109520" y="1162080"/>
                <a:ext cx="368460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468360" y="836640"/>
            <a:ext cx="5111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Řešte, a jen pokud si nebudete vědět rady, klikněte. Pomohu vá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738760" y="2314440"/>
                <a:ext cx="314964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257880" y="2695680"/>
                <a:ext cx="2195640" cy="24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738840" y="3111480"/>
                <a:ext cx="157320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7164360" y="3494160"/>
                <a:ext cx="878040" cy="1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7377120" y="3860640"/>
                <a:ext cx="681120" cy="1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486560" y="4235400"/>
                <a:ext cx="484200" cy="1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468360" y="1052640"/>
            <a:ext cx="5111640" cy="52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8360" y="460440"/>
            <a:ext cx="51116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napos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724360" y="5789520"/>
            <a:ext cx="3240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Rovnice má nekonečně mnoho řeš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547640" y="1125360"/>
                <a:ext cx="295128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468360" y="836640"/>
            <a:ext cx="5111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Řešte, a jen pokud si nebudete vědět rady, klikněte. Pomohu vá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6113520" y="1681200"/>
                <a:ext cx="2663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6419880" y="2247840"/>
                <a:ext cx="2341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659560" y="2805120"/>
                <a:ext cx="33480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746680" y="3456000"/>
                <a:ext cx="324648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421320" y="3876840"/>
                <a:ext cx="2455920" cy="23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7867800" y="4257720"/>
                <a:ext cx="1025280" cy="2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7294680" y="4610160"/>
                <a:ext cx="1346040" cy="2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7974000" y="4984920"/>
                <a:ext cx="673200" cy="2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8112240" y="5343480"/>
                <a:ext cx="520560" cy="2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55640" y="549360"/>
            <a:ext cx="806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84c6a"/>
                </a:solidFill>
                <a:latin typeface="Trebuchet MS"/>
              </a:rPr>
              <a:t>Všechny možnosti řešení si představíme a především prakticky ukážeme na konkrétních příkladec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771640" y="5202360"/>
                <a:ext cx="46515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762280" y="3325680"/>
                <a:ext cx="51465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778120" y="4181400"/>
                <a:ext cx="453060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971640" y="1973160"/>
            <a:ext cx="770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Pokusíme se tedy vyřešit následující lineární rovnice </a:t>
            </a:r>
            <a:br>
              <a:rPr sz="2200"/>
            </a:b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a rozebereme výsledky, ke kterým dospějem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04000" y="376200"/>
            <a:ext cx="2016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íklad č.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052640"/>
            <a:ext cx="5111640" cy="52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683320" y="1700280"/>
                <a:ext cx="33606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468360" y="836640"/>
            <a:ext cx="5111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Řešte, a jen pokud si nebudete vědět rady, klikněte. Pomohu vá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55640" y="1055520"/>
                <a:ext cx="43927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656320" y="2135160"/>
                <a:ext cx="30812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810400" y="3254400"/>
                <a:ext cx="266364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531120" y="3736800"/>
                <a:ext cx="1176120" cy="2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415200" y="4168800"/>
                <a:ext cx="1176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573960" y="4600440"/>
                <a:ext cx="7588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670720" y="2755800"/>
                <a:ext cx="300492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846840" y="5029200"/>
                <a:ext cx="105264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834240" y="5675400"/>
                <a:ext cx="61920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6516720" y="5445000"/>
            <a:ext cx="1295280" cy="72072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55640" y="549360"/>
            <a:ext cx="820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Máme na světě první typ možného řeše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4720" y="1413000"/>
            <a:ext cx="770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rebuchet MS"/>
              </a:rPr>
              <a:t>x = -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3040" y="2421000"/>
            <a:ext cx="770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Jinými slovy: x = „reálné číslo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3429000"/>
            <a:ext cx="770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Takový výsledek znamená, že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rovnice má právě jedno řeš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1190200">
            <a:off x="1115640" y="4650840"/>
            <a:ext cx="1871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x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468600">
            <a:off x="2843280" y="4581000"/>
            <a:ext cx="1871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x =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20037600">
            <a:off x="4429080" y="4941720"/>
            <a:ext cx="1871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y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418800">
            <a:off x="7021440" y="5445000"/>
            <a:ext cx="1871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y = 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468600">
            <a:off x="5364000" y="5589360"/>
            <a:ext cx="187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4 =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537600">
            <a:off x="684000" y="5443200"/>
            <a:ext cx="1871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-2,7 =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268360" y="5373720"/>
            <a:ext cx="2303640" cy="1081080"/>
            <a:chOff x="2268360" y="5373720"/>
            <a:chExt cx="2303640" cy="1081080"/>
          </a:xfrm>
        </p:grpSpPr>
        <p:sp>
          <p:nvSpPr>
            <p:cNvPr id="116" name=""/>
            <p:cNvSpPr/>
            <p:nvPr/>
          </p:nvSpPr>
          <p:spPr>
            <a:xfrm>
              <a:off x="2268360" y="5576760"/>
              <a:ext cx="21589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y = -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64000" y="5403960"/>
              <a:ext cx="100800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__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64000" y="5373720"/>
              <a:ext cx="100800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64000" y="5805360"/>
              <a:ext cx="10080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724360" y="4363920"/>
            <a:ext cx="2016000" cy="1081080"/>
            <a:chOff x="5724360" y="4363920"/>
            <a:chExt cx="2016000" cy="1081080"/>
          </a:xfrm>
        </p:grpSpPr>
        <p:sp>
          <p:nvSpPr>
            <p:cNvPr id="121" name=""/>
            <p:cNvSpPr/>
            <p:nvPr/>
          </p:nvSpPr>
          <p:spPr>
            <a:xfrm>
              <a:off x="5724360" y="4567320"/>
              <a:ext cx="187164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y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32360" y="4394160"/>
              <a:ext cx="10080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__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32360" y="4363920"/>
              <a:ext cx="10080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2360" y="4795920"/>
              <a:ext cx="100800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508720" y="376200"/>
            <a:ext cx="3456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Zkouška příkladu č.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1052640"/>
            <a:ext cx="5111640" cy="52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587920" y="2103480"/>
                <a:ext cx="201132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468360" y="722160"/>
            <a:ext cx="511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Ověříme správnost řešení dosazením čísla -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55640" y="1055520"/>
                <a:ext cx="43927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300720" y="2373480"/>
                <a:ext cx="27194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952960" y="2949480"/>
                <a:ext cx="2799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6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576840" y="3429000"/>
                <a:ext cx="14004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580080" y="4033800"/>
                <a:ext cx="11620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559560" y="4508640"/>
                <a:ext cx="7542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5881680" y="5402160"/>
            <a:ext cx="2951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Po dosazení čísla -2 za neznámou nastává rovnost. Číslo -2 je tedy řešením dané rovnic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718320" y="4964040"/>
                <a:ext cx="5014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68360" y="1052640"/>
            <a:ext cx="5111640" cy="52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767560" y="1508040"/>
                <a:ext cx="159372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468360" y="722160"/>
            <a:ext cx="511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Zkusíme dosadit něco jiného, např. číslo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55640" y="1055520"/>
                <a:ext cx="43927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568920" y="1778040"/>
                <a:ext cx="22957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199200" y="2354400"/>
                <a:ext cx="22478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667560" y="2833560"/>
                <a:ext cx="12747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669000" y="3475080"/>
                <a:ext cx="92736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659640" y="3978360"/>
                <a:ext cx="7063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869080" y="4870440"/>
            <a:ext cx="3095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Levá strana se nerovná pravé. -5 se 11 nerovná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62760" y="3986280"/>
            <a:ext cx="14436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81680" y="5402160"/>
            <a:ext cx="2951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Po dosazení čísla 2 za neznámou rovnost neplatí. Číslo 2 tedy nemůže být řešením dané rovnic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962760" y="3481200"/>
            <a:ext cx="14436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962760" y="2963880"/>
            <a:ext cx="14436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962760" y="2487600"/>
            <a:ext cx="14436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573960" y="1911240"/>
            <a:ext cx="14436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192800" y="1523880"/>
            <a:ext cx="14472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761160" y="4410000"/>
                <a:ext cx="5032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≠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04000" y="376200"/>
            <a:ext cx="2016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íklad č.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052640"/>
            <a:ext cx="5111640" cy="52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836640"/>
            <a:ext cx="5111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Řešte, a jen pokud si nebudete vědět rady, klikněte. Pomohu vá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35920" y="4508640"/>
            <a:ext cx="1295280" cy="72072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957240" y="1052640"/>
                <a:ext cx="4176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753160" y="1916280"/>
                <a:ext cx="3240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021360" y="2435400"/>
                <a:ext cx="28162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294600" y="2997360"/>
                <a:ext cx="2539800" cy="2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7039080" y="3429000"/>
                <a:ext cx="1334880" cy="2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924600" y="3860640"/>
                <a:ext cx="1335240" cy="2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7353360" y="4292640"/>
                <a:ext cx="733320" cy="2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483320" y="4738680"/>
                <a:ext cx="603360" cy="2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24360" y="5200560"/>
            <a:ext cx="324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0 se -1 nerovná!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Nerovnají se tedy ani levá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a pravá strana rovn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24360" y="6093000"/>
            <a:ext cx="324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Co to znamená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653240" y="4754520"/>
            <a:ext cx="14472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653240" y="4322520"/>
            <a:ext cx="14472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653240" y="3889440"/>
            <a:ext cx="14472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653240" y="3457440"/>
            <a:ext cx="14472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653240" y="3024000"/>
            <a:ext cx="14472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653240" y="2579760"/>
            <a:ext cx="14472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653240" y="2060640"/>
            <a:ext cx="14472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11280" y="549360"/>
            <a:ext cx="8353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Máme na světě druhý typ možného řeše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44720" y="1413000"/>
            <a:ext cx="770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0.x = -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42920" y="3068640"/>
            <a:ext cx="770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Jinými slovy: nepravda, nepravdivý výrok, nerov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44720" y="3933720"/>
            <a:ext cx="770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Takový výsledek znamená, že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rovnice nemá řeš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1190200">
            <a:off x="0" y="3789000"/>
            <a:ext cx="1871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-5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≠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468600">
            <a:off x="1116000" y="4292280"/>
            <a:ext cx="1871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2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≠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20037600">
            <a:off x="5435640" y="5661000"/>
            <a:ext cx="1871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14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≠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418800">
            <a:off x="7093080" y="5661000"/>
            <a:ext cx="1871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-0,5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≠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468600">
            <a:off x="3851280" y="5660640"/>
            <a:ext cx="1871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4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≠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0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537600">
            <a:off x="178920" y="5516280"/>
            <a:ext cx="1871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-2,7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≠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547640" y="5516640"/>
            <a:ext cx="2303640" cy="1081080"/>
            <a:chOff x="1547640" y="5516640"/>
            <a:chExt cx="2303640" cy="1081080"/>
          </a:xfrm>
        </p:grpSpPr>
        <p:sp>
          <p:nvSpPr>
            <p:cNvPr id="187" name=""/>
            <p:cNvSpPr/>
            <p:nvPr/>
          </p:nvSpPr>
          <p:spPr>
            <a:xfrm>
              <a:off x="1547640" y="5719680"/>
              <a:ext cx="21589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1 </a:t>
              </a:r>
              <a:r>
                <a:rPr b="1" lang="en-US" sz="3200" spc="-1" strike="noStrike">
                  <a:solidFill>
                    <a:srgbClr val="00cc00"/>
                  </a:solidFill>
                  <a:latin typeface="Times New Roman"/>
                  <a:ea typeface="Times New Roman"/>
                </a:rPr>
                <a:t>≠</a:t>
              </a: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 -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43280" y="5546880"/>
              <a:ext cx="100800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__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43280" y="5516640"/>
              <a:ext cx="100800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43280" y="5948280"/>
              <a:ext cx="10080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804000" y="3933720"/>
            <a:ext cx="2016000" cy="1081080"/>
            <a:chOff x="6804000" y="3933720"/>
            <a:chExt cx="2016000" cy="1081080"/>
          </a:xfrm>
        </p:grpSpPr>
        <p:sp>
          <p:nvSpPr>
            <p:cNvPr id="192" name=""/>
            <p:cNvSpPr/>
            <p:nvPr/>
          </p:nvSpPr>
          <p:spPr>
            <a:xfrm>
              <a:off x="6804000" y="4137120"/>
              <a:ext cx="187164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0 </a:t>
              </a:r>
              <a:r>
                <a:rPr b="1" lang="en-US" sz="3200" spc="-1" strike="noStrike">
                  <a:solidFill>
                    <a:srgbClr val="00cc00"/>
                  </a:solidFill>
                  <a:latin typeface="Times New Roman"/>
                  <a:ea typeface="Times New Roman"/>
                </a:rPr>
                <a:t>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12000" y="3963960"/>
              <a:ext cx="10080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__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812000" y="3933720"/>
              <a:ext cx="10080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12000" y="4365720"/>
              <a:ext cx="100800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042920" y="2276640"/>
            <a:ext cx="770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0 = -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572000" y="2449440"/>
            <a:ext cx="360360" cy="54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930920" y="1599840"/>
            <a:ext cx="360360" cy="54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4724280"/>
            <a:ext cx="77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Neexistuje žádné číslo, po jehož dosazení za neznámou do dané rovnice by nastala rovnost levé a pravé stran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04000" y="376200"/>
            <a:ext cx="2016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íklad č.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1052640"/>
            <a:ext cx="5111640" cy="52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737320" y="1954080"/>
                <a:ext cx="315576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468360" y="836640"/>
            <a:ext cx="5111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Řešte, a jen pokud si nebudete vědět rady, klikněte. Pomohu vá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88000" y="3602160"/>
            <a:ext cx="1295640" cy="72072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826920" y="1127160"/>
                <a:ext cx="424980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413400" y="2392200"/>
                <a:ext cx="1635120" cy="2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259680" y="2838600"/>
                <a:ext cx="163512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775560" y="3328920"/>
                <a:ext cx="75240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934320" y="3817800"/>
                <a:ext cx="58392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954760" y="4508640"/>
            <a:ext cx="1871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0 se rovná 0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40360" y="5157720"/>
            <a:ext cx="26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Co to z hlediska řešení rovnice znamená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6-30T13:07:00Z</dcterms:modified>
  <cp:revision>99</cp:revision>
  <dc:subject/>
  <dc:title>Druhy řešení lineárních rovnic</dc:title>
</cp:coreProperties>
</file>