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0A253-8FF3-4BAF-8AF0-0B5D119FCA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Nutný doprovodný komentář učite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A4EC-39DC-48B4-B24B-FEEEA8D43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EB5E-C689-4A73-8A51-030BE919E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DB25-A6B3-42B0-B2F8-3626C9232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3871-DDF1-4767-A66C-5F7755CED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6AF9-5E07-4F6A-A5FD-E38510C68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4F7E-935E-42ED-8859-37D033D0A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DA8E-09F7-4286-BAAE-27AD73886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FBE6-D9AF-4AF2-8130-0006208AA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8AAF-445D-4749-9648-3139972D4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B8B5-2C9B-47F8-A45C-EB4041005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8B67-3BF9-42FE-8B87-4E008F79C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3710-CC24-488E-A708-1C789B380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5925A-6BA4-48BA-910B-D8F799E92F2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2E847-3316-4EDD-8E33-4A357BA60E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13.xml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oniometrické funk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98989"/>
                </a:solidFill>
                <a:latin typeface="Arial"/>
              </a:rPr>
              <a:t>Kosinu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ŘÍKLAD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1. Vypočítejte velikosti úhlů v pravoúhlém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, jehož strany mají délky 8, 6 a 10 cm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"/>
          <p:cNvSpPr/>
          <p:nvPr/>
        </p:nvSpPr>
        <p:spPr>
          <a:xfrm>
            <a:off x="395280" y="3573360"/>
            <a:ext cx="820908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2. Vypočítejte velikosti vnitřních úhlů a délky stran rovnoramenného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ABC, jestliže známe: délku základny 20 cm a velikost úhlu při základně 68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>
            <a:hlinkClick r:id="rId1" action="ppaction://hlinksldjump"/>
          </p:cNvPr>
          <p:cNvSpPr/>
          <p:nvPr/>
        </p:nvSpPr>
        <p:spPr>
          <a:xfrm>
            <a:off x="8172360" y="1916280"/>
            <a:ext cx="649440" cy="502920"/>
          </a:xfrm>
          <a:custGeom>
            <a:avLst/>
            <a:gdLst>
              <a:gd name="textAreaLeft" fmla="*/ 32400 w 649440"/>
              <a:gd name="textAreaRight" fmla="*/ 617040 w 64944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27888" h="21600">
                <a:moveTo>
                  <a:pt x="0" y="0"/>
                </a:moveTo>
                <a:lnTo>
                  <a:pt x="27888" y="0"/>
                </a:lnTo>
                <a:lnTo>
                  <a:pt x="27888" y="21600"/>
                </a:lnTo>
                <a:lnTo>
                  <a:pt x="0" y="21600"/>
                </a:lnTo>
                <a:close/>
              </a:path>
              <a:path fill="lightenLess" w="27888" h="21600">
                <a:moveTo>
                  <a:pt x="0" y="0"/>
                </a:moveTo>
                <a:lnTo>
                  <a:pt x="27888" y="0"/>
                </a:lnTo>
                <a:lnTo>
                  <a:pt x="26488" y="1400"/>
                </a:lnTo>
                <a:lnTo>
                  <a:pt x="1400" y="1400"/>
                </a:lnTo>
                <a:close/>
              </a:path>
              <a:path fill="darken" w="27888" h="21600">
                <a:moveTo>
                  <a:pt x="27888" y="0"/>
                </a:moveTo>
                <a:lnTo>
                  <a:pt x="27888" y="21600"/>
                </a:lnTo>
                <a:lnTo>
                  <a:pt x="26488" y="20200"/>
                </a:lnTo>
                <a:lnTo>
                  <a:pt x="26488" y="1400"/>
                </a:lnTo>
                <a:close/>
              </a:path>
              <a:path fill="darkenLess" w="27888" h="21600">
                <a:moveTo>
                  <a:pt x="278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488" y="20200"/>
                </a:lnTo>
                <a:close/>
              </a:path>
              <a:path fill="lighten" w="278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888" h="21600">
                <a:moveTo>
                  <a:pt x="17443" y="10800"/>
                </a:moveTo>
                <a:lnTo>
                  <a:pt x="6938" y="17806"/>
                </a:lnTo>
                <a:lnTo>
                  <a:pt x="6938" y="3794"/>
                </a:lnTo>
                <a:close/>
              </a:path>
              <a:path fill="darken" w="27888" h="21600">
                <a:moveTo>
                  <a:pt x="19288" y="3794"/>
                </a:moveTo>
                <a:lnTo>
                  <a:pt x="19288" y="17806"/>
                </a:lnTo>
                <a:lnTo>
                  <a:pt x="20951" y="17806"/>
                </a:lnTo>
                <a:lnTo>
                  <a:pt x="20951" y="3794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>
            <a:hlinkClick r:id="rId2" action="ppaction://hlinksldjump"/>
          </p:cNvPr>
          <p:cNvSpPr/>
          <p:nvPr/>
        </p:nvSpPr>
        <p:spPr>
          <a:xfrm>
            <a:off x="8172360" y="5013360"/>
            <a:ext cx="649440" cy="503280"/>
          </a:xfrm>
          <a:custGeom>
            <a:avLst/>
            <a:gdLst>
              <a:gd name="textAreaLeft" fmla="*/ 32400 w 649440"/>
              <a:gd name="textAreaRight" fmla="*/ 617040 w 64944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7868" h="21600">
                <a:moveTo>
                  <a:pt x="0" y="0"/>
                </a:moveTo>
                <a:lnTo>
                  <a:pt x="27868" y="0"/>
                </a:lnTo>
                <a:lnTo>
                  <a:pt x="27868" y="21600"/>
                </a:lnTo>
                <a:lnTo>
                  <a:pt x="0" y="21600"/>
                </a:lnTo>
                <a:close/>
              </a:path>
              <a:path fill="lightenLess" w="27868" h="21600">
                <a:moveTo>
                  <a:pt x="0" y="0"/>
                </a:moveTo>
                <a:lnTo>
                  <a:pt x="27868" y="0"/>
                </a:lnTo>
                <a:lnTo>
                  <a:pt x="26468" y="1400"/>
                </a:lnTo>
                <a:lnTo>
                  <a:pt x="1400" y="1400"/>
                </a:lnTo>
                <a:close/>
              </a:path>
              <a:path fill="darken" w="27868" h="21600">
                <a:moveTo>
                  <a:pt x="27868" y="0"/>
                </a:moveTo>
                <a:lnTo>
                  <a:pt x="27868" y="21600"/>
                </a:lnTo>
                <a:lnTo>
                  <a:pt x="26468" y="20200"/>
                </a:lnTo>
                <a:lnTo>
                  <a:pt x="26468" y="1400"/>
                </a:lnTo>
                <a:close/>
              </a:path>
              <a:path fill="darkenLess" w="27868" h="21600">
                <a:moveTo>
                  <a:pt x="278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468" y="20200"/>
                </a:lnTo>
                <a:close/>
              </a:path>
              <a:path fill="lighten" w="278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868" h="21600">
                <a:moveTo>
                  <a:pt x="17433" y="10800"/>
                </a:moveTo>
                <a:lnTo>
                  <a:pt x="6928" y="17806"/>
                </a:lnTo>
                <a:lnTo>
                  <a:pt x="6928" y="3794"/>
                </a:lnTo>
                <a:close/>
              </a:path>
              <a:path fill="darken" w="27868" h="21600">
                <a:moveTo>
                  <a:pt x="19278" y="3794"/>
                </a:moveTo>
                <a:lnTo>
                  <a:pt x="19278" y="17806"/>
                </a:lnTo>
                <a:lnTo>
                  <a:pt x="20941" y="17806"/>
                </a:lnTo>
                <a:lnTo>
                  <a:pt x="20941" y="3794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0" dur="5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4" dur="50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ŘÍKLAD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39640" y="1484280"/>
            <a:ext cx="806472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3. Síla </a:t>
            </a:r>
            <a:r>
              <a:rPr b="1" i="1" lang="cs-CZ" sz="3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o velikosti 2 000 N se rozkládá na dvě kolmé složky </a:t>
            </a:r>
            <a:r>
              <a:rPr b="1" i="1" lang="cs-CZ" sz="3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i="1" lang="cs-CZ" sz="3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i="1" lang="cs-CZ" sz="3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i="1" lang="cs-CZ" sz="3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. Složka </a:t>
            </a:r>
            <a:r>
              <a:rPr b="1" i="1" lang="cs-CZ" sz="3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i="1" lang="cs-CZ" sz="3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svírá s výslednicí </a:t>
            </a:r>
            <a:r>
              <a:rPr b="1" i="1" lang="cs-CZ" sz="3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úhel </a:t>
            </a:r>
            <a:r>
              <a:rPr b="1" i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velikosti 32°. Určete velikosti sil </a:t>
            </a:r>
            <a:r>
              <a:rPr b="1" i="1" lang="cs-CZ" sz="3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i="1" lang="cs-CZ" sz="3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i="1" lang="cs-CZ" sz="3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i="1" lang="cs-CZ" sz="3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cs-CZ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">
            <a:hlinkClick r:id="rId1" action="ppaction://hlinksldjump"/>
          </p:cNvPr>
          <p:cNvSpPr/>
          <p:nvPr/>
        </p:nvSpPr>
        <p:spPr>
          <a:xfrm>
            <a:off x="8101080" y="2852640"/>
            <a:ext cx="649080" cy="503280"/>
          </a:xfrm>
          <a:custGeom>
            <a:avLst/>
            <a:gdLst>
              <a:gd name="textAreaLeft" fmla="*/ 32400 w 649080"/>
              <a:gd name="textAreaRight" fmla="*/ 616680 w 6490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7853" h="21600">
                <a:moveTo>
                  <a:pt x="0" y="0"/>
                </a:moveTo>
                <a:lnTo>
                  <a:pt x="27853" y="0"/>
                </a:lnTo>
                <a:lnTo>
                  <a:pt x="27853" y="21600"/>
                </a:lnTo>
                <a:lnTo>
                  <a:pt x="0" y="21600"/>
                </a:lnTo>
                <a:close/>
              </a:path>
              <a:path fill="lightenLess" w="27853" h="21600">
                <a:moveTo>
                  <a:pt x="0" y="0"/>
                </a:moveTo>
                <a:lnTo>
                  <a:pt x="27853" y="0"/>
                </a:lnTo>
                <a:lnTo>
                  <a:pt x="26453" y="1400"/>
                </a:lnTo>
                <a:lnTo>
                  <a:pt x="1400" y="1400"/>
                </a:lnTo>
                <a:close/>
              </a:path>
              <a:path fill="darken" w="27853" h="21600">
                <a:moveTo>
                  <a:pt x="27853" y="0"/>
                </a:moveTo>
                <a:lnTo>
                  <a:pt x="27853" y="21600"/>
                </a:lnTo>
                <a:lnTo>
                  <a:pt x="26453" y="20200"/>
                </a:lnTo>
                <a:lnTo>
                  <a:pt x="26453" y="1400"/>
                </a:lnTo>
                <a:close/>
              </a:path>
              <a:path fill="darkenLess" w="27853" h="21600">
                <a:moveTo>
                  <a:pt x="278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453" y="20200"/>
                </a:lnTo>
                <a:close/>
              </a:path>
              <a:path fill="lighten" w="278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853" h="21600">
                <a:moveTo>
                  <a:pt x="17425" y="10800"/>
                </a:moveTo>
                <a:lnTo>
                  <a:pt x="6920" y="17806"/>
                </a:lnTo>
                <a:lnTo>
                  <a:pt x="6920" y="3794"/>
                </a:lnTo>
                <a:close/>
              </a:path>
              <a:path fill="darken" w="27853" h="21600">
                <a:moveTo>
                  <a:pt x="19271" y="3794"/>
                </a:moveTo>
                <a:lnTo>
                  <a:pt x="19271" y="17806"/>
                </a:lnTo>
                <a:lnTo>
                  <a:pt x="20933" y="17806"/>
                </a:lnTo>
                <a:lnTo>
                  <a:pt x="20933" y="3794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>
            <a:hlinkClick r:id="rId2" action="ppaction://hlinksldjump"/>
          </p:cNvPr>
          <p:cNvSpPr/>
          <p:nvPr/>
        </p:nvSpPr>
        <p:spPr>
          <a:xfrm>
            <a:off x="8101080" y="5300640"/>
            <a:ext cx="649080" cy="503280"/>
          </a:xfrm>
          <a:custGeom>
            <a:avLst/>
            <a:gdLst>
              <a:gd name="textAreaLeft" fmla="*/ 32400 w 649080"/>
              <a:gd name="textAreaRight" fmla="*/ 616680 w 6490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7853" h="21600">
                <a:moveTo>
                  <a:pt x="0" y="0"/>
                </a:moveTo>
                <a:lnTo>
                  <a:pt x="27853" y="0"/>
                </a:lnTo>
                <a:lnTo>
                  <a:pt x="27853" y="21600"/>
                </a:lnTo>
                <a:lnTo>
                  <a:pt x="0" y="21600"/>
                </a:lnTo>
                <a:close/>
              </a:path>
              <a:path fill="lightenLess" w="27853" h="21600">
                <a:moveTo>
                  <a:pt x="0" y="0"/>
                </a:moveTo>
                <a:lnTo>
                  <a:pt x="27853" y="0"/>
                </a:lnTo>
                <a:lnTo>
                  <a:pt x="26453" y="1400"/>
                </a:lnTo>
                <a:lnTo>
                  <a:pt x="1400" y="1400"/>
                </a:lnTo>
                <a:close/>
              </a:path>
              <a:path fill="darken" w="27853" h="21600">
                <a:moveTo>
                  <a:pt x="27853" y="0"/>
                </a:moveTo>
                <a:lnTo>
                  <a:pt x="27853" y="21600"/>
                </a:lnTo>
                <a:lnTo>
                  <a:pt x="26453" y="20200"/>
                </a:lnTo>
                <a:lnTo>
                  <a:pt x="26453" y="1400"/>
                </a:lnTo>
                <a:close/>
              </a:path>
              <a:path fill="darkenLess" w="27853" h="21600">
                <a:moveTo>
                  <a:pt x="278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453" y="20200"/>
                </a:lnTo>
                <a:close/>
              </a:path>
              <a:path fill="lighten" w="278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853" h="21600">
                <a:moveTo>
                  <a:pt x="17425" y="10800"/>
                </a:moveTo>
                <a:lnTo>
                  <a:pt x="6920" y="17806"/>
                </a:lnTo>
                <a:lnTo>
                  <a:pt x="6920" y="3794"/>
                </a:lnTo>
                <a:close/>
              </a:path>
              <a:path fill="darken" w="27853" h="21600">
                <a:moveTo>
                  <a:pt x="19271" y="3794"/>
                </a:moveTo>
                <a:lnTo>
                  <a:pt x="19271" y="17806"/>
                </a:lnTo>
                <a:lnTo>
                  <a:pt x="20933" y="17806"/>
                </a:lnTo>
                <a:lnTo>
                  <a:pt x="20933" y="3794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95280" y="3618000"/>
            <a:ext cx="8280360" cy="18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4. Vypočítejte objem rotačního jehlanu, jehož délka strany je 20 cm a úhel, který tato strana svírá s podstavou, je 58°. Výsledek vyjádři v litrech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0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4" dur="50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ŘEŠENÍ PŘÍKLADU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Zástupný symbol pro text 2"/>
              <p:cNvSpPr txBox="1"/>
              <p:nvPr/>
            </p:nvSpPr>
            <p:spPr>
              <a:xfrm>
                <a:off x="4211640" y="2060640"/>
                <a:ext cx="2179800" cy="316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s α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b</m:t>
                            </m:r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 α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8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 α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0,8</m:t>
                        </m:r>
                      </m:e>
                      <m:e>
                        <m:r>
                          <m:t xml:space="preserve">α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t xml:space="preserve">°</m:t>
                        </m:r>
                        <m:r>
                          <m:rPr>
                            <m:lit/>
                            <m:nor/>
                          </m:rPr>
                          <m:t xml:space="preserve">52´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65" name="">
            <a:hlinkClick r:id="rId1" action="ppaction://hlinksldjump"/>
          </p:cNvPr>
          <p:cNvSpPr/>
          <p:nvPr/>
        </p:nvSpPr>
        <p:spPr>
          <a:xfrm>
            <a:off x="8028000" y="6021360"/>
            <a:ext cx="720720" cy="504720"/>
          </a:xfrm>
          <a:custGeom>
            <a:avLst/>
            <a:gdLst>
              <a:gd name="textAreaLeft" fmla="*/ 32400 w 720720"/>
              <a:gd name="textAreaRight" fmla="*/ 688320 w 720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30837" h="21600">
                <a:moveTo>
                  <a:pt x="0" y="0"/>
                </a:moveTo>
                <a:lnTo>
                  <a:pt x="30837" y="0"/>
                </a:lnTo>
                <a:lnTo>
                  <a:pt x="30837" y="21600"/>
                </a:lnTo>
                <a:lnTo>
                  <a:pt x="0" y="21600"/>
                </a:lnTo>
                <a:close/>
              </a:path>
              <a:path fill="lightenLess" w="30837" h="21600">
                <a:moveTo>
                  <a:pt x="0" y="0"/>
                </a:moveTo>
                <a:lnTo>
                  <a:pt x="30837" y="0"/>
                </a:lnTo>
                <a:lnTo>
                  <a:pt x="29437" y="1400"/>
                </a:lnTo>
                <a:lnTo>
                  <a:pt x="1400" y="1400"/>
                </a:lnTo>
                <a:close/>
              </a:path>
              <a:path fill="darken" w="30837" h="21600">
                <a:moveTo>
                  <a:pt x="30837" y="0"/>
                </a:moveTo>
                <a:lnTo>
                  <a:pt x="30837" y="21600"/>
                </a:lnTo>
                <a:lnTo>
                  <a:pt x="29437" y="20200"/>
                </a:lnTo>
                <a:lnTo>
                  <a:pt x="29437" y="1400"/>
                </a:lnTo>
                <a:close/>
              </a:path>
              <a:path fill="darkenLess" w="30837" h="21600">
                <a:moveTo>
                  <a:pt x="308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7" y="20200"/>
                </a:lnTo>
                <a:close/>
              </a:path>
              <a:path fill="lighten" w="308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7" h="21600">
                <a:moveTo>
                  <a:pt x="8412" y="10800"/>
                </a:moveTo>
                <a:lnTo>
                  <a:pt x="22425" y="3794"/>
                </a:lnTo>
                <a:lnTo>
                  <a:pt x="22425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50920" y="1484280"/>
            <a:ext cx="3817800" cy="2373120"/>
            <a:chOff x="250920" y="1484280"/>
            <a:chExt cx="3817800" cy="2373120"/>
          </a:xfrm>
        </p:grpSpPr>
        <p:sp>
          <p:nvSpPr>
            <p:cNvPr id="267" name=""/>
            <p:cNvSpPr/>
            <p:nvPr/>
          </p:nvSpPr>
          <p:spPr>
            <a:xfrm>
              <a:off x="755640" y="1917720"/>
              <a:ext cx="3036960" cy="1368360"/>
            </a:xfrm>
            <a:prstGeom prst="rtTriangl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42440" y="3000240"/>
              <a:ext cx="626400" cy="85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403693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4036938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26920" y="3141720"/>
              <a:ext cx="73080" cy="71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H="1">
              <a:off x="2483640" y="2781360"/>
              <a:ext cx="434520" cy="1006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506" y="136"/>
                  </a:moveTo>
                  <a:arcTo wR="10800" hR="10800" stAng="-4854771" swAng="4854771"/>
                  <a:lnTo>
                    <a:pt x="10800" y="10800"/>
                  </a:lnTo>
                  <a:close/>
                </a:path>
                <a:path fill="none" w="21600" h="21600">
                  <a:moveTo>
                    <a:pt x="12506" y="136"/>
                  </a:moveTo>
                  <a:arcTo wR="10800" hR="10800" stAng="-4854771" swAng="4854771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708360" y="3213000"/>
              <a:ext cx="36036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8000"/>
            </a:bodyPr>
            <a:p>
              <a:pPr marL="301680" indent="-301680"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95280" y="1484280"/>
              <a:ext cx="36036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8000"/>
            </a:bodyPr>
            <a:p>
              <a:pPr marL="301680" indent="-301680"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68360" y="3357720"/>
              <a:ext cx="36036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8000"/>
            </a:bodyPr>
            <a:p>
              <a:pPr marL="301680" indent="-301680"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627280" y="2852640"/>
              <a:ext cx="36036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8000"/>
            </a:bodyPr>
            <a:p>
              <a:pPr marL="301680" indent="-301680"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55640" y="1989000"/>
              <a:ext cx="36036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8000"/>
            </a:bodyPr>
            <a:p>
              <a:pPr marL="301680" indent="-301680"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251280" y="1772640"/>
              <a:ext cx="1008720" cy="720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835280" y="3357720"/>
              <a:ext cx="36036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8000"/>
            </a:bodyPr>
            <a:p>
              <a:pPr marL="301680" indent="-301680"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050920" y="2060640"/>
              <a:ext cx="79236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8000"/>
            </a:bodyPr>
            <a:p>
              <a:pPr marL="301680" indent="-301680"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50920" y="2349360"/>
              <a:ext cx="36036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8000"/>
            </a:bodyPr>
            <a:p>
              <a:pPr marL="301680" indent="-301680"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80" name="Zástupný symbol pro text 2"/>
              <p:cNvSpPr txBox="1"/>
              <p:nvPr/>
            </p:nvSpPr>
            <p:spPr>
              <a:xfrm>
                <a:off x="6683400" y="2071800"/>
                <a:ext cx="1936800" cy="32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s β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 β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6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 β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0,6</m:t>
                        </m:r>
                      </m:e>
                      <m:e>
                        <m:r>
                          <m:t xml:space="preserve">β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53</m:t>
                        </m:r>
                        <m:r>
                          <m:t xml:space="preserve">°</m:t>
                        </m:r>
                        <m:r>
                          <m:rPr>
                            <m:lit/>
                            <m:nor/>
                          </m:rPr>
                          <m:t xml:space="preserve">8´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81" name=""/>
          <p:cNvSpPr/>
          <p:nvPr/>
        </p:nvSpPr>
        <p:spPr>
          <a:xfrm>
            <a:off x="395280" y="4221000"/>
            <a:ext cx="2376360" cy="26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koušk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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36°52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53°  8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89°60´= 90°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ŘEŠENÍ PŘÍKLADU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" name="Zástupný symbol pro text 2"/>
              <p:cNvSpPr txBox="1"/>
              <p:nvPr/>
            </p:nvSpPr>
            <p:spPr>
              <a:xfrm>
                <a:off x="5946840" y="2227320"/>
                <a:ext cx="2038320" cy="343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s  68</m:t>
                        </m:r>
                        <m:r>
                          <m:rPr>
                            <m:lit/>
                            <m:nor/>
                          </m:rPr>
                          <m:t xml:space="preserve">°=</m:t>
                        </m:r>
                        <m:f>
                          <m:num>
                            <m:f>
                              <m:num>
                                <m:r>
                                  <m:t xml:space="preserve">c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  68</m:t>
                        </m:r>
                        <m:r>
                          <m:rPr>
                            <m:lit/>
                            <m:nor/>
                          </m:rPr>
                          <m:t xml:space="preserve">°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cos  68</m:t>
                            </m:r>
                            <m:r>
                              <m:t xml:space="preserve">°</m:t>
                            </m:r>
                          </m:den>
                        </m:f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26,7 c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84" name="">
            <a:hlinkClick r:id="rId1" action="ppaction://hlinksldjump"/>
          </p:cNvPr>
          <p:cNvSpPr/>
          <p:nvPr/>
        </p:nvSpPr>
        <p:spPr>
          <a:xfrm>
            <a:off x="8028000" y="6021360"/>
            <a:ext cx="720720" cy="504720"/>
          </a:xfrm>
          <a:custGeom>
            <a:avLst/>
            <a:gdLst>
              <a:gd name="textAreaLeft" fmla="*/ 32400 w 720720"/>
              <a:gd name="textAreaRight" fmla="*/ 688320 w 720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30837" h="21600">
                <a:moveTo>
                  <a:pt x="0" y="0"/>
                </a:moveTo>
                <a:lnTo>
                  <a:pt x="30837" y="0"/>
                </a:lnTo>
                <a:lnTo>
                  <a:pt x="30837" y="21600"/>
                </a:lnTo>
                <a:lnTo>
                  <a:pt x="0" y="21600"/>
                </a:lnTo>
                <a:close/>
              </a:path>
              <a:path fill="lightenLess" w="30837" h="21600">
                <a:moveTo>
                  <a:pt x="0" y="0"/>
                </a:moveTo>
                <a:lnTo>
                  <a:pt x="30837" y="0"/>
                </a:lnTo>
                <a:lnTo>
                  <a:pt x="29437" y="1400"/>
                </a:lnTo>
                <a:lnTo>
                  <a:pt x="1400" y="1400"/>
                </a:lnTo>
                <a:close/>
              </a:path>
              <a:path fill="darken" w="30837" h="21600">
                <a:moveTo>
                  <a:pt x="30837" y="0"/>
                </a:moveTo>
                <a:lnTo>
                  <a:pt x="30837" y="21600"/>
                </a:lnTo>
                <a:lnTo>
                  <a:pt x="29437" y="20200"/>
                </a:lnTo>
                <a:lnTo>
                  <a:pt x="29437" y="1400"/>
                </a:lnTo>
                <a:close/>
              </a:path>
              <a:path fill="darkenLess" w="30837" h="21600">
                <a:moveTo>
                  <a:pt x="308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7" y="20200"/>
                </a:lnTo>
                <a:close/>
              </a:path>
              <a:path fill="lighten" w="308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7" h="21600">
                <a:moveTo>
                  <a:pt x="8412" y="10800"/>
                </a:moveTo>
                <a:lnTo>
                  <a:pt x="22425" y="3794"/>
                </a:lnTo>
                <a:lnTo>
                  <a:pt x="22425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137520" y="1989000"/>
            <a:ext cx="4939200" cy="4392720"/>
            <a:chOff x="137520" y="1989000"/>
            <a:chExt cx="4939200" cy="4392720"/>
          </a:xfrm>
        </p:grpSpPr>
        <p:sp>
          <p:nvSpPr>
            <p:cNvPr id="286" name=""/>
            <p:cNvSpPr/>
            <p:nvPr/>
          </p:nvSpPr>
          <p:spPr>
            <a:xfrm>
              <a:off x="541440" y="2492280"/>
              <a:ext cx="2376360" cy="3024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731960" y="2496960"/>
              <a:ext cx="0" cy="302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24000" y="5589720"/>
              <a:ext cx="43308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normAutofit fontScale="84000"/>
            </a:bodyPr>
            <a:p>
              <a:pPr marL="511920" indent="-511920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cs-CZ" sz="3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700360" y="5589720"/>
              <a:ext cx="43344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normAutofit fontScale="84000"/>
            </a:bodyPr>
            <a:p>
              <a:pPr marL="511920" indent="-511920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cs-CZ" sz="3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549440" y="1989000"/>
              <a:ext cx="43344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normAutofit fontScale="84000"/>
            </a:bodyPr>
            <a:p>
              <a:pPr marL="511920" indent="-511920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557440" y="4076640"/>
              <a:ext cx="43344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normAutofit fontScale="84000"/>
            </a:bodyPr>
            <a:p>
              <a:pPr marL="511920" indent="-511920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cs-CZ" sz="3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116000" y="6093000"/>
              <a:ext cx="151128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normAutofit fontScale="79000"/>
            </a:bodyPr>
            <a:p>
              <a:pPr marL="481320" indent="-48132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ff0000"/>
                  </a:solidFill>
                  <a:latin typeface="Arial"/>
                </a:rPr>
                <a:t>c = 20 c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41440" y="5516640"/>
              <a:ext cx="237492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341440" y="5156280"/>
              <a:ext cx="576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normAutofit fontScale="79000"/>
            </a:bodyPr>
            <a:p>
              <a:pPr marL="481320" indent="-48132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ff0000"/>
                  </a:solidFill>
                  <a:latin typeface="Arial"/>
                </a:rPr>
                <a:t>68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332000" y="4508640"/>
              <a:ext cx="43344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normAutofit fontScale="84000"/>
            </a:bodyPr>
            <a:p>
              <a:pPr marL="511920" indent="-511920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cs-CZ" sz="3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479600" y="5229360"/>
              <a:ext cx="574200" cy="57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31" y="53"/>
                  </a:moveTo>
                  <a:arcTo wR="10800" hR="10800" stAng="-5740745" swAng="5740745"/>
                  <a:lnTo>
                    <a:pt x="10800" y="10800"/>
                  </a:lnTo>
                  <a:close/>
                </a:path>
                <a:path fill="none" w="21600" h="21600">
                  <a:moveTo>
                    <a:pt x="9731" y="53"/>
                  </a:moveTo>
                  <a:arcTo wR="10800" hR="10800" stAng="-5740745" swAng="5740745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836720" y="5372280"/>
              <a:ext cx="36360" cy="36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 flipV="1" rot="16692600">
              <a:off x="1597320" y="2972880"/>
              <a:ext cx="431640" cy="730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950" y="1307"/>
                  </a:moveTo>
                  <a:arcTo wR="10800" hR="10800" stAng="-3691133" swAng="4239635"/>
                  <a:lnTo>
                    <a:pt x="10800" y="10800"/>
                  </a:lnTo>
                  <a:close/>
                </a:path>
                <a:path fill="none" w="21600" h="21600">
                  <a:moveTo>
                    <a:pt x="15950" y="1307"/>
                  </a:moveTo>
                  <a:arcTo wR="10800" hR="10800" stAng="-3691133" swAng="4239635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413080" y="2205000"/>
              <a:ext cx="2663640" cy="576360"/>
            </a:xfrm>
            <a:prstGeom prst="borderCallout2">
              <a:avLst>
                <a:gd name="adj1" fmla="val 18750"/>
                <a:gd name="adj2" fmla="val -8333"/>
                <a:gd name="adj3" fmla="val 19833"/>
                <a:gd name="adj4" fmla="val -11620"/>
                <a:gd name="adj5" fmla="val 222037"/>
                <a:gd name="adj6" fmla="val -20740"/>
              </a:avLst>
            </a:prstGeom>
            <a:noFill/>
            <a:ln w="936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90°- 68°= 22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 rot="11874600">
              <a:off x="300960" y="2800800"/>
              <a:ext cx="2365920" cy="143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127" y="130"/>
                  </a:moveTo>
                  <a:arcTo wR="10800" hR="10800" stAng="-5934836" swAng="4278043"/>
                  <a:lnTo>
                    <a:pt x="10800" y="10800"/>
                  </a:lnTo>
                  <a:close/>
                </a:path>
                <a:path fill="none" w="21600" h="21600">
                  <a:moveTo>
                    <a:pt x="9127" y="130"/>
                  </a:moveTo>
                  <a:arcTo wR="10800" hR="10800" stAng="-5934836" swAng="4278043"/>
                </a:path>
              </a:pathLst>
            </a:custGeom>
            <a:noFill/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629080" y="3068640"/>
              <a:ext cx="2447640" cy="576360"/>
            </a:xfrm>
            <a:prstGeom prst="borderCallout2">
              <a:avLst>
                <a:gd name="adj1" fmla="val 18750"/>
                <a:gd name="adj2" fmla="val -8333"/>
                <a:gd name="adj3" fmla="val 19833"/>
                <a:gd name="adj4" fmla="val -15759"/>
                <a:gd name="adj5" fmla="val 203856"/>
                <a:gd name="adj6" fmla="val -28856"/>
              </a:avLst>
            </a:prstGeom>
            <a:noFill/>
            <a:ln w="9360">
              <a:solidFill>
                <a:srgbClr val="008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6600"/>
                  </a:solidFill>
                  <a:latin typeface="Arial"/>
                </a:rPr>
                <a:t>2 . 22°= </a:t>
              </a:r>
              <a:r>
                <a:rPr b="1" lang="en-US" sz="2800" spc="-1" strike="noStrike">
                  <a:solidFill>
                    <a:srgbClr val="006600"/>
                  </a:solidFill>
                  <a:latin typeface="Arial"/>
                </a:rPr>
                <a:t>44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11280" y="5157720"/>
              <a:ext cx="57600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normAutofit fontScale="79000"/>
            </a:bodyPr>
            <a:p>
              <a:pPr marL="481320" indent="-48132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ff0000"/>
                  </a:solidFill>
                  <a:latin typeface="Arial"/>
                </a:rPr>
                <a:t>68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68360" y="4076640"/>
              <a:ext cx="43344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normAutofit fontScale="84000"/>
            </a:bodyPr>
            <a:p>
              <a:pPr marL="511920" indent="-511920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cs-CZ" sz="3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476360" y="5589720"/>
              <a:ext cx="43344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normAutofit fontScale="84000"/>
            </a:bodyPr>
            <a:p>
              <a:pPr marL="511920" indent="-511920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cs-CZ" sz="3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ŘEŠENÍ PŘÍKLADU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6" name="Zástupný symbol pro text 2"/>
              <p:cNvSpPr txBox="1"/>
              <p:nvPr/>
            </p:nvSpPr>
            <p:spPr>
              <a:xfrm>
                <a:off x="1042920" y="4005360"/>
                <a:ext cx="2322720" cy="25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s </m:t>
                        </m:r>
                        <m:r>
                          <m:t xml:space="preserve">ϕ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 32</m:t>
                        </m:r>
                        <m:r>
                          <m:rPr>
                            <m:lit/>
                            <m:nor/>
                          </m:rPr>
                          <m:t xml:space="preserve">°=</m:t>
                        </m:r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 000</m:t>
                            </m:r>
                          </m:den>
                        </m:f>
                      </m:e>
                      <m:e>
                        <m:r>
                          <m:t xml:space="preserve">F</m:t>
                        </m:r>
                        <m:r>
                          <m:rPr>
                            <m:lit/>
                            <m:nor/>
                          </m:rPr>
                          <m:t xml:space="preserve">1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0,85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2 000</m:t>
                        </m:r>
                      </m:e>
                      <m:e>
                        <m:r>
                          <m:t xml:space="preserve">F</m:t>
                        </m:r>
                        <m:r>
                          <m:rPr>
                            <m:lit/>
                            <m:nor/>
                          </m:rPr>
                          <m:t xml:space="preserve">1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1 700 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07" name="">
            <a:hlinkClick r:id="rId1" action="ppaction://hlinksldjump"/>
          </p:cNvPr>
          <p:cNvSpPr/>
          <p:nvPr/>
        </p:nvSpPr>
        <p:spPr>
          <a:xfrm>
            <a:off x="8028000" y="6021360"/>
            <a:ext cx="720720" cy="504720"/>
          </a:xfrm>
          <a:custGeom>
            <a:avLst/>
            <a:gdLst>
              <a:gd name="textAreaLeft" fmla="*/ 32400 w 720720"/>
              <a:gd name="textAreaRight" fmla="*/ 688320 w 720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30837" h="21600">
                <a:moveTo>
                  <a:pt x="0" y="0"/>
                </a:moveTo>
                <a:lnTo>
                  <a:pt x="30837" y="0"/>
                </a:lnTo>
                <a:lnTo>
                  <a:pt x="30837" y="21600"/>
                </a:lnTo>
                <a:lnTo>
                  <a:pt x="0" y="21600"/>
                </a:lnTo>
                <a:close/>
              </a:path>
              <a:path fill="lightenLess" w="30837" h="21600">
                <a:moveTo>
                  <a:pt x="0" y="0"/>
                </a:moveTo>
                <a:lnTo>
                  <a:pt x="30837" y="0"/>
                </a:lnTo>
                <a:lnTo>
                  <a:pt x="29437" y="1400"/>
                </a:lnTo>
                <a:lnTo>
                  <a:pt x="1400" y="1400"/>
                </a:lnTo>
                <a:close/>
              </a:path>
              <a:path fill="darken" w="30837" h="21600">
                <a:moveTo>
                  <a:pt x="30837" y="0"/>
                </a:moveTo>
                <a:lnTo>
                  <a:pt x="30837" y="21600"/>
                </a:lnTo>
                <a:lnTo>
                  <a:pt x="29437" y="20200"/>
                </a:lnTo>
                <a:lnTo>
                  <a:pt x="29437" y="1400"/>
                </a:lnTo>
                <a:close/>
              </a:path>
              <a:path fill="darkenLess" w="30837" h="21600">
                <a:moveTo>
                  <a:pt x="308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7" y="20200"/>
                </a:lnTo>
                <a:close/>
              </a:path>
              <a:path fill="lighten" w="308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7" h="21600">
                <a:moveTo>
                  <a:pt x="8412" y="10800"/>
                </a:moveTo>
                <a:lnTo>
                  <a:pt x="22425" y="3794"/>
                </a:lnTo>
                <a:lnTo>
                  <a:pt x="22425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0" y="1195200"/>
            <a:ext cx="3924360" cy="3027600"/>
            <a:chOff x="0" y="1195200"/>
            <a:chExt cx="3924360" cy="3027600"/>
          </a:xfrm>
        </p:grpSpPr>
        <p:sp>
          <p:nvSpPr>
            <p:cNvPr id="309" name=""/>
            <p:cNvSpPr/>
            <p:nvPr/>
          </p:nvSpPr>
          <p:spPr>
            <a:xfrm>
              <a:off x="1405080" y="1917720"/>
              <a:ext cx="43164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normAutofit fontScale="85000"/>
            </a:bodyPr>
            <a:p>
              <a:pPr marL="518040" indent="-51804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</a:t>
              </a:r>
              <a:r>
                <a:rPr b="1" lang="cs-CZ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0" y="2421000"/>
              <a:ext cx="61128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normAutofit fontScale="92000"/>
            </a:bodyPr>
            <a:p>
              <a:pPr marL="560520" indent="-56052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lang="cs-CZ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 flipV="1" rot="19448400">
              <a:off x="891720" y="1400040"/>
              <a:ext cx="1072440" cy="115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060" y="25"/>
                  </a:moveTo>
                  <a:arcTo wR="10800" hR="10800" stAng="-5635684" swAng="4418499"/>
                  <a:lnTo>
                    <a:pt x="10800" y="10800"/>
                  </a:lnTo>
                  <a:close/>
                </a:path>
                <a:path fill="none" w="21600" h="21600">
                  <a:moveTo>
                    <a:pt x="10060" y="25"/>
                  </a:moveTo>
                  <a:arcTo wR="10800" hR="10800" stAng="-5635684" swAng="4418499"/>
                </a:path>
              </a:pathLst>
            </a:cu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84360" y="3500280"/>
              <a:ext cx="36360" cy="36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39640" y="1844640"/>
              <a:ext cx="0" cy="1873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39640" y="1844640"/>
              <a:ext cx="3382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886200" y="1844640"/>
              <a:ext cx="0" cy="187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39640" y="3718080"/>
              <a:ext cx="3382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39640" y="1844640"/>
              <a:ext cx="3384720" cy="1873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908000" y="1413000"/>
              <a:ext cx="61128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normAutofit fontScale="92000"/>
            </a:bodyPr>
            <a:p>
              <a:pPr marL="560520" indent="-56052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lang="cs-CZ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268360" y="2492280"/>
              <a:ext cx="61128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normAutofit/>
            </a:bodyPr>
            <a:p>
              <a:pPr marL="609480" indent="-60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4920" y="3213000"/>
              <a:ext cx="1009440" cy="100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21" name="Zástupný symbol pro text 2"/>
              <p:cNvSpPr txBox="1"/>
              <p:nvPr/>
            </p:nvSpPr>
            <p:spPr>
              <a:xfrm>
                <a:off x="4788000" y="4005360"/>
                <a:ext cx="2268360" cy="25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in </m:t>
                        </m:r>
                        <m:r>
                          <m:t xml:space="preserve">ϕ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in 32</m:t>
                        </m:r>
                        <m:r>
                          <m:rPr>
                            <m:lit/>
                            <m:nor/>
                          </m:rPr>
                          <m:t xml:space="preserve">°=</m:t>
                        </m:r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2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 000</m:t>
                            </m:r>
                          </m:den>
                        </m:f>
                      </m:e>
                      <m:e>
                        <m:r>
                          <m:t xml:space="preserve">F</m:t>
                        </m:r>
                        <m:r>
                          <m:rPr>
                            <m:lit/>
                            <m:nor/>
                          </m:rPr>
                          <m:t xml:space="preserve">2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0,53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2 000</m:t>
                        </m:r>
                      </m:e>
                      <m:e>
                        <m:r>
                          <m:t xml:space="preserve">F</m:t>
                        </m:r>
                        <m:r>
                          <m:rPr>
                            <m:lit/>
                            <m:nor/>
                          </m:rPr>
                          <m:t xml:space="preserve">2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1 060 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ŘEŠENÍ PŘÍKLADU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3" name="Zástupný symbol pro text 2"/>
              <p:cNvSpPr txBox="1"/>
              <p:nvPr/>
            </p:nvSpPr>
            <p:spPr>
              <a:xfrm>
                <a:off x="5987880" y="2421000"/>
                <a:ext cx="3141720" cy="281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π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v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3,14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10,6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995,07 cm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 dm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l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Zástupný symbol pro text 2"/>
              <p:cNvSpPr txBox="1"/>
              <p:nvPr/>
            </p:nvSpPr>
            <p:spPr>
              <a:xfrm>
                <a:off x="3564000" y="3933720"/>
                <a:ext cx="2016000" cy="19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s 32</m:t>
                        </m:r>
                        <m:r>
                          <m:rPr>
                            <m:lit/>
                            <m:nor/>
                          </m:rPr>
                          <m:t xml:space="preserve">°=</m:t>
                        </m:r>
                        <m:f>
                          <m:num>
                            <m:r>
                              <m:t xml:space="preserve">v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20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cos  32</m:t>
                        </m:r>
                        <m:r>
                          <m:t xml:space="preserve">°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0,85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7 c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25" name="">
            <a:hlinkClick r:id="rId1" action="ppaction://hlinksldjump"/>
          </p:cNvPr>
          <p:cNvSpPr/>
          <p:nvPr/>
        </p:nvSpPr>
        <p:spPr>
          <a:xfrm>
            <a:off x="8028000" y="6021360"/>
            <a:ext cx="720720" cy="504720"/>
          </a:xfrm>
          <a:custGeom>
            <a:avLst/>
            <a:gdLst>
              <a:gd name="textAreaLeft" fmla="*/ 32400 w 720720"/>
              <a:gd name="textAreaRight" fmla="*/ 688320 w 720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30837" h="21600">
                <a:moveTo>
                  <a:pt x="0" y="0"/>
                </a:moveTo>
                <a:lnTo>
                  <a:pt x="30837" y="0"/>
                </a:lnTo>
                <a:lnTo>
                  <a:pt x="30837" y="21600"/>
                </a:lnTo>
                <a:lnTo>
                  <a:pt x="0" y="21600"/>
                </a:lnTo>
                <a:close/>
              </a:path>
              <a:path fill="lightenLess" w="30837" h="21600">
                <a:moveTo>
                  <a:pt x="0" y="0"/>
                </a:moveTo>
                <a:lnTo>
                  <a:pt x="30837" y="0"/>
                </a:lnTo>
                <a:lnTo>
                  <a:pt x="29437" y="1400"/>
                </a:lnTo>
                <a:lnTo>
                  <a:pt x="1400" y="1400"/>
                </a:lnTo>
                <a:close/>
              </a:path>
              <a:path fill="darken" w="30837" h="21600">
                <a:moveTo>
                  <a:pt x="30837" y="0"/>
                </a:moveTo>
                <a:lnTo>
                  <a:pt x="30837" y="21600"/>
                </a:lnTo>
                <a:lnTo>
                  <a:pt x="29437" y="20200"/>
                </a:lnTo>
                <a:lnTo>
                  <a:pt x="29437" y="1400"/>
                </a:lnTo>
                <a:close/>
              </a:path>
              <a:path fill="darkenLess" w="30837" h="21600">
                <a:moveTo>
                  <a:pt x="308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7" y="20200"/>
                </a:lnTo>
                <a:close/>
              </a:path>
              <a:path fill="lighten" w="308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7" h="21600">
                <a:moveTo>
                  <a:pt x="8412" y="10800"/>
                </a:moveTo>
                <a:lnTo>
                  <a:pt x="22425" y="3794"/>
                </a:lnTo>
                <a:lnTo>
                  <a:pt x="22425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95280" y="6138720"/>
            <a:ext cx="51134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Objem jehlanu je asi 2 litr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7" name="Zástupný symbol pro text 2"/>
              <p:cNvSpPr txBox="1"/>
              <p:nvPr/>
            </p:nvSpPr>
            <p:spPr>
              <a:xfrm>
                <a:off x="3635280" y="1557360"/>
                <a:ext cx="2019240" cy="204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s 58</m:t>
                        </m:r>
                        <m:r>
                          <m:rPr>
                            <m:lit/>
                            <m:nor/>
                          </m:rPr>
                          <m:t xml:space="preserve">°=</m:t>
                        </m:r>
                        <m:f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</m:e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20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cos  58</m:t>
                        </m:r>
                        <m:r>
                          <m:t xml:space="preserve">°</m:t>
                        </m:r>
                      </m:e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0,53</m:t>
                        </m:r>
                      </m:e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,6 c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28" name=""/>
          <p:cNvSpPr/>
          <p:nvPr/>
        </p:nvSpPr>
        <p:spPr>
          <a:xfrm>
            <a:off x="250920" y="2133720"/>
            <a:ext cx="2303280" cy="2447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403280" y="213372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835280" y="4510080"/>
            <a:ext cx="360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908000" y="3068640"/>
            <a:ext cx="1440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 = 20 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971640" y="3357720"/>
            <a:ext cx="360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043280" y="4221000"/>
            <a:ext cx="720000" cy="72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546200" y="4365720"/>
            <a:ext cx="7164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H="1" rot="21297600">
            <a:off x="1849680" y="4065840"/>
            <a:ext cx="786600" cy="86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355" y="564"/>
                </a:moveTo>
                <a:arcTo wR="10800" hR="10800" stAng="-6516066" swAng="7095952"/>
                <a:lnTo>
                  <a:pt x="10800" y="10800"/>
                </a:lnTo>
                <a:close/>
              </a:path>
              <a:path fill="none" w="21600" h="21600">
                <a:moveTo>
                  <a:pt x="7355" y="564"/>
                </a:moveTo>
                <a:arcTo wR="10800" hR="10800" stAng="-6516066" swAng="7095952"/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403280" y="2133720"/>
            <a:ext cx="1150920" cy="24476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906560" y="4149720"/>
            <a:ext cx="5745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58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rot="8472600">
            <a:off x="472320" y="1508040"/>
            <a:ext cx="1832400" cy="1828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699" y="37"/>
                </a:moveTo>
                <a:arcTo wR="10800" hR="10800" stAng="-5113471" swAng="1923077"/>
                <a:lnTo>
                  <a:pt x="10800" y="10800"/>
                </a:lnTo>
                <a:close/>
              </a:path>
              <a:path fill="none" w="21600" h="21600">
                <a:moveTo>
                  <a:pt x="11699" y="37"/>
                </a:moveTo>
                <a:arcTo wR="10800" hR="10800" stAng="-5113471" swAng="1923077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332000" y="2852640"/>
            <a:ext cx="5745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32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oniometrické funk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niometrické funkce ostrého úhl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/>
          <p:nvPr/>
        </p:nvSpPr>
        <p:spPr>
          <a:xfrm>
            <a:off x="4284720" y="2492280"/>
            <a:ext cx="1727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úhel </a:t>
            </a:r>
            <a:r>
              <a:rPr b="1" lang="en-US" sz="2800" spc="-1" strike="noStrike">
                <a:solidFill>
                  <a:srgbClr val="003399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427640" y="3068640"/>
            <a:ext cx="4032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 – přepo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3789360"/>
            <a:ext cx="4032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– protilehlá odvěs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427640" y="4508640"/>
            <a:ext cx="4032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 – přilehlá odvěs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68360" y="5661000"/>
            <a:ext cx="7991280" cy="93672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Úko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jmenuj názvy stra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BC vzhledem k úhlu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250920" y="2349360"/>
            <a:ext cx="3816360" cy="2948040"/>
            <a:chOff x="250920" y="2349360"/>
            <a:chExt cx="3816360" cy="2948040"/>
          </a:xfrm>
        </p:grpSpPr>
        <p:sp>
          <p:nvSpPr>
            <p:cNvPr id="59" name=""/>
            <p:cNvSpPr/>
            <p:nvPr/>
          </p:nvSpPr>
          <p:spPr>
            <a:xfrm>
              <a:off x="755640" y="3357720"/>
              <a:ext cx="3024360" cy="1368360"/>
            </a:xfrm>
            <a:prstGeom prst="rtTriangl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44240" y="4440240"/>
              <a:ext cx="622440" cy="85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403693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4036938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6920" y="4581360"/>
              <a:ext cx="73080" cy="71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2483640" y="4221360"/>
              <a:ext cx="431640" cy="1005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506" y="136"/>
                  </a:moveTo>
                  <a:arcTo wR="10800" hR="10800" stAng="-4854771" swAng="4854771"/>
                  <a:lnTo>
                    <a:pt x="10800" y="10800"/>
                  </a:lnTo>
                  <a:close/>
                </a:path>
                <a:path fill="none" w="21600" h="21600">
                  <a:moveTo>
                    <a:pt x="12506" y="136"/>
                  </a:moveTo>
                  <a:arcTo wR="10800" hR="10800" stAng="-4854771" swAng="4854771"/>
                </a:path>
              </a:pathLst>
            </a:custGeom>
            <a:noFill/>
            <a:ln w="2844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708360" y="4653000"/>
              <a:ext cx="35892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8000"/>
            </a:bodyPr>
            <a:p>
              <a:pPr marL="301680" indent="-301680"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5280" y="2924280"/>
              <a:ext cx="35892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8000"/>
            </a:bodyPr>
            <a:p>
              <a:pPr marL="301680" indent="-301680"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68360" y="4797360"/>
              <a:ext cx="35856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8000"/>
            </a:bodyPr>
            <a:p>
              <a:pPr marL="301680" indent="-301680"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627280" y="4292640"/>
              <a:ext cx="35892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8000"/>
            </a:bodyPr>
            <a:p>
              <a:pPr marL="301680" indent="-301680"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99"/>
                  </a:solidFill>
                  <a:latin typeface="Symbol"/>
                  <a:ea typeface="Symbol"/>
                </a:rPr>
                <a:t>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55640" y="3429000"/>
              <a:ext cx="35892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8000"/>
            </a:bodyPr>
            <a:p>
              <a:pPr marL="301680" indent="-301680"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252720" y="3212280"/>
              <a:ext cx="1005840" cy="720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835280" y="4797360"/>
              <a:ext cx="35856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8000"/>
            </a:bodyPr>
            <a:p>
              <a:pPr marL="301680" indent="-301680"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050920" y="3500280"/>
              <a:ext cx="35892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8000"/>
            </a:bodyPr>
            <a:p>
              <a:pPr marL="301680" indent="-301680"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50920" y="3789360"/>
              <a:ext cx="35856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8000"/>
            </a:bodyPr>
            <a:p>
              <a:pPr marL="301680" indent="-301680"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8360" y="2349360"/>
              <a:ext cx="324000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ravoúhlý trojúhelník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3000"/>
                            </p:stCondLst>
                            <p:childTnLst>
                              <p:par>
                                <p:cTn id="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6000"/>
                            </p:stCondLst>
                            <p:childTnLst>
                              <p:par>
                                <p:cTn id="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9000"/>
                            </p:stCondLst>
                            <p:childTnLst>
                              <p:par>
                                <p:cTn id="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KOSIN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Kosinu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cos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nitřního ostrého úhlu libovolného pravoúhlého trojúhelníku je poměr délky přilehlé odvěsny tohoto úhlu k délce přepon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5027760" y="1600200"/>
            <a:ext cx="3279600" cy="2185920"/>
          </a:xfrm>
          <a:prstGeom prst="rect">
            <a:avLst/>
          </a:prstGeom>
          <a:ln w="0">
            <a:noFill/>
          </a:ln>
        </p:spPr>
      </p:pic>
      <p:grpSp>
        <p:nvGrpSpPr>
          <p:cNvPr id="76" name=""/>
          <p:cNvGrpSpPr/>
          <p:nvPr/>
        </p:nvGrpSpPr>
        <p:grpSpPr>
          <a:xfrm>
            <a:off x="395280" y="3068640"/>
            <a:ext cx="3816360" cy="2373120"/>
            <a:chOff x="395280" y="3068640"/>
            <a:chExt cx="3816360" cy="2373120"/>
          </a:xfrm>
        </p:grpSpPr>
        <p:sp>
          <p:nvSpPr>
            <p:cNvPr id="77" name=""/>
            <p:cNvSpPr/>
            <p:nvPr/>
          </p:nvSpPr>
          <p:spPr>
            <a:xfrm>
              <a:off x="900000" y="3502080"/>
              <a:ext cx="3024360" cy="1368360"/>
            </a:xfrm>
            <a:prstGeom prst="rtTriangl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88600" y="4584600"/>
              <a:ext cx="622440" cy="85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403693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4036938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971640" y="4725720"/>
              <a:ext cx="73080" cy="71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2628360" y="4365720"/>
              <a:ext cx="430920" cy="1005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506" y="136"/>
                  </a:moveTo>
                  <a:arcTo wR="10800" hR="10800" stAng="-4854771" swAng="4854771"/>
                  <a:lnTo>
                    <a:pt x="10800" y="10800"/>
                  </a:lnTo>
                  <a:close/>
                </a:path>
                <a:path fill="none" w="21600" h="21600">
                  <a:moveTo>
                    <a:pt x="12506" y="136"/>
                  </a:moveTo>
                  <a:arcTo wR="10800" hR="10800" stAng="-4854771" swAng="4854771"/>
                </a:path>
              </a:pathLst>
            </a:custGeom>
            <a:noFill/>
            <a:ln w="2844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852720" y="4797360"/>
              <a:ext cx="35892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8000"/>
            </a:bodyPr>
            <a:p>
              <a:pPr marL="301680" indent="-301680"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39640" y="3068640"/>
              <a:ext cx="35892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8000"/>
            </a:bodyPr>
            <a:p>
              <a:pPr marL="301680" indent="-301680"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12720" y="4941720"/>
              <a:ext cx="35892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8000"/>
            </a:bodyPr>
            <a:p>
              <a:pPr marL="301680" indent="-301680"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771640" y="4437000"/>
              <a:ext cx="35892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8000"/>
            </a:bodyPr>
            <a:p>
              <a:pPr marL="301680" indent="-301680"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99"/>
                  </a:solidFill>
                  <a:latin typeface="Symbol"/>
                  <a:ea typeface="Symbol"/>
                </a:rPr>
                <a:t>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900000" y="3573360"/>
              <a:ext cx="35892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8000"/>
            </a:bodyPr>
            <a:p>
              <a:pPr marL="301680" indent="-301680"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397080" y="3356640"/>
              <a:ext cx="1005840" cy="720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979640" y="4941720"/>
              <a:ext cx="35892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8000"/>
            </a:bodyPr>
            <a:p>
              <a:pPr marL="301680" indent="-301680"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195640" y="3644640"/>
              <a:ext cx="35856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8000"/>
            </a:bodyPr>
            <a:p>
              <a:pPr marL="301680" indent="-301680"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95280" y="3933720"/>
              <a:ext cx="35892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8000"/>
            </a:bodyPr>
            <a:p>
              <a:pPr marL="301680" indent="-301680"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0" name="Zástupný symbol pro text 2"/>
              <p:cNvSpPr txBox="1"/>
              <p:nvPr/>
            </p:nvSpPr>
            <p:spPr>
              <a:xfrm>
                <a:off x="5364000" y="3281400"/>
                <a:ext cx="2200320" cy="13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 α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1" name=""/>
          <p:cNvSpPr/>
          <p:nvPr/>
        </p:nvSpPr>
        <p:spPr>
          <a:xfrm>
            <a:off x="395280" y="5516640"/>
            <a:ext cx="3745080" cy="112392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Úko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apiš kosinus úhlu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5246640" y="5084640"/>
                <a:ext cx="2362320" cy="140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 β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3" name=""/>
          <p:cNvSpPr/>
          <p:nvPr/>
        </p:nvSpPr>
        <p:spPr>
          <a:xfrm>
            <a:off x="5219640" y="3141720"/>
            <a:ext cx="2521080" cy="1582560"/>
          </a:xfrm>
          <a:prstGeom prst="rect">
            <a:avLst/>
          </a:prstGeom>
          <a:noFill/>
          <a:ln w="284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219640" y="5013360"/>
            <a:ext cx="2521080" cy="1582560"/>
          </a:xfrm>
          <a:prstGeom prst="rect">
            <a:avLst/>
          </a:prstGeom>
          <a:noFill/>
          <a:ln w="284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3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3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3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3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3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3000"/>
                            </p:stCondLst>
                            <p:childTnLst>
                              <p:par>
                                <p:cTn id="54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6" dur="3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3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3000"/>
                            </p:stCondLst>
                            <p:childTnLst>
                              <p:par>
                                <p:cTn id="69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1" dur="3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KOSIN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4716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aždému ostrému úhlu přísluší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ávě jedn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odnota funkce kosinu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/>
          <p:nvPr/>
        </p:nvSpPr>
        <p:spPr>
          <a:xfrm>
            <a:off x="324000" y="5157720"/>
            <a:ext cx="4895640" cy="144000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Úk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strojte graf funkce kosinus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použij tabulky, kalkulačku, milimetrový papí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95280" y="2781360"/>
            <a:ext cx="8280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oznámka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Kosinus ostrého úhlu je také vždy menší než jedna. Zdůvodni proč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4000" y="3933720"/>
            <a:ext cx="8280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tože délka odvěsny je vždy menší než délka přepony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b:c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1 (pro úhel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3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3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3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3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KOSIN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468360" y="1413000"/>
          <a:ext cx="8218440" cy="914400"/>
        </p:xfrm>
        <a:graphic>
          <a:graphicData uri="http://schemas.openxmlformats.org/drawingml/2006/table">
            <a:tbl>
              <a:tblPr/>
              <a:tblGrid>
                <a:gridCol w="745920"/>
                <a:gridCol w="749520"/>
                <a:gridCol w="745920"/>
                <a:gridCol w="749520"/>
                <a:gridCol w="745920"/>
                <a:gridCol w="744840"/>
                <a:gridCol w="750600"/>
                <a:gridCol w="744480"/>
                <a:gridCol w="750960"/>
                <a:gridCol w="744480"/>
                <a:gridCol w="74628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9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9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8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7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6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3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1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2" name=""/>
          <p:cNvSpPr/>
          <p:nvPr/>
        </p:nvSpPr>
        <p:spPr>
          <a:xfrm>
            <a:off x="4356000" y="3933720"/>
            <a:ext cx="439272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fem funkce kosinus je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kosinusoid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71280" y="2421000"/>
            <a:ext cx="4716720" cy="4275000"/>
            <a:chOff x="71280" y="2421000"/>
            <a:chExt cx="4716720" cy="4275000"/>
          </a:xfrm>
        </p:grpSpPr>
        <p:sp>
          <p:nvSpPr>
            <p:cNvPr id="104" name=""/>
            <p:cNvSpPr/>
            <p:nvPr/>
          </p:nvSpPr>
          <p:spPr>
            <a:xfrm>
              <a:off x="539640" y="2421000"/>
              <a:ext cx="0" cy="424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71280" y="2457360"/>
              <a:ext cx="4716720" cy="4238640"/>
              <a:chOff x="71280" y="2457360"/>
              <a:chExt cx="4716720" cy="4238640"/>
            </a:xfrm>
          </p:grpSpPr>
          <p:sp>
            <p:nvSpPr>
              <p:cNvPr id="106" name=""/>
              <p:cNvSpPr/>
              <p:nvPr/>
            </p:nvSpPr>
            <p:spPr>
              <a:xfrm>
                <a:off x="250920" y="6381720"/>
                <a:ext cx="4537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900000" y="6308640"/>
                <a:ext cx="0" cy="14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1258920" y="6308640"/>
                <a:ext cx="0" cy="14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1619280" y="6308640"/>
                <a:ext cx="0" cy="14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979640" y="6308640"/>
                <a:ext cx="0" cy="14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2340000" y="6308640"/>
                <a:ext cx="0" cy="14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700360" y="6308640"/>
                <a:ext cx="0" cy="14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419640" y="6308640"/>
                <a:ext cx="0" cy="14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059280" y="6308640"/>
                <a:ext cx="0" cy="14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780000" y="6308640"/>
                <a:ext cx="0" cy="14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755640" y="6453360"/>
                <a:ext cx="216000" cy="24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normAutofit fontScale="91000"/>
              </a:bodyPr>
              <a:p>
                <a:pPr marL="312120" indent="-312120">
                  <a:lnSpc>
                    <a:spcPct val="9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116000" y="6453360"/>
                <a:ext cx="216000" cy="24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normAutofit fontScale="91000"/>
              </a:bodyPr>
              <a:p>
                <a:pPr marL="312120" indent="-312120">
                  <a:lnSpc>
                    <a:spcPct val="9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476360" y="6453360"/>
                <a:ext cx="216000" cy="24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normAutofit fontScale="91000"/>
              </a:bodyPr>
              <a:p>
                <a:pPr marL="312120" indent="-312120">
                  <a:lnSpc>
                    <a:spcPct val="9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3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835280" y="6453360"/>
                <a:ext cx="215640" cy="24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normAutofit fontScale="91000"/>
              </a:bodyPr>
              <a:p>
                <a:pPr marL="312120" indent="-312120">
                  <a:lnSpc>
                    <a:spcPct val="9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4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95640" y="6453360"/>
                <a:ext cx="215640" cy="24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normAutofit fontScale="91000"/>
              </a:bodyPr>
              <a:p>
                <a:pPr marL="312120" indent="-312120">
                  <a:lnSpc>
                    <a:spcPct val="9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5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556000" y="6453360"/>
                <a:ext cx="215640" cy="24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normAutofit fontScale="91000"/>
              </a:bodyPr>
              <a:p>
                <a:pPr marL="312120" indent="-312120">
                  <a:lnSpc>
                    <a:spcPct val="9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6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916360" y="6453360"/>
                <a:ext cx="215640" cy="24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normAutofit fontScale="91000"/>
              </a:bodyPr>
              <a:p>
                <a:pPr marL="312120" indent="-312120">
                  <a:lnSpc>
                    <a:spcPct val="9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7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276720" y="6453360"/>
                <a:ext cx="215640" cy="24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normAutofit fontScale="91000"/>
              </a:bodyPr>
              <a:p>
                <a:pPr marL="312120" indent="-312120">
                  <a:lnSpc>
                    <a:spcPct val="9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8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635280" y="6453360"/>
                <a:ext cx="216000" cy="24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normAutofit fontScale="91000"/>
              </a:bodyPr>
              <a:p>
                <a:pPr marL="312120" indent="-312120">
                  <a:lnSpc>
                    <a:spcPct val="9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9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95280" y="6381720"/>
                <a:ext cx="216000" cy="24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normAutofit fontScale="91000"/>
              </a:bodyPr>
              <a:p>
                <a:pPr marL="312120" indent="-312120">
                  <a:lnSpc>
                    <a:spcPct val="9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468360" y="2781360"/>
                <a:ext cx="142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24000" y="2637000"/>
                <a:ext cx="215640" cy="24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normAutofit fontScale="91000"/>
              </a:bodyPr>
              <a:p>
                <a:pPr marL="312120" indent="-312120">
                  <a:lnSpc>
                    <a:spcPct val="9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179280" y="4365720"/>
                <a:ext cx="216000" cy="24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normAutofit fontScale="91000"/>
              </a:bodyPr>
              <a:p>
                <a:pPr marL="312120" indent="-312120">
                  <a:lnSpc>
                    <a:spcPct val="9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,5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66560" y="4579920"/>
                <a:ext cx="142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466560" y="5769000"/>
                <a:ext cx="142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68360" y="5156280"/>
                <a:ext cx="142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66560" y="3645000"/>
                <a:ext cx="142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66560" y="3284640"/>
                <a:ext cx="142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66560" y="2997360"/>
                <a:ext cx="142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6560" y="2852640"/>
                <a:ext cx="142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611280" y="5769000"/>
                <a:ext cx="280836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V="1">
                <a:off x="900000" y="2852280"/>
                <a:ext cx="0" cy="352764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flipV="1">
                <a:off x="1258920" y="2997000"/>
                <a:ext cx="0" cy="338580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611280" y="5157720"/>
                <a:ext cx="244800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611280" y="4581360"/>
                <a:ext cx="20890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flipV="1">
                <a:off x="1619280" y="3284640"/>
                <a:ext cx="0" cy="302400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611280" y="3284640"/>
                <a:ext cx="100800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611280" y="2997360"/>
                <a:ext cx="6476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611280" y="2852640"/>
                <a:ext cx="28872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flipV="1">
                <a:off x="1979640" y="3644640"/>
                <a:ext cx="0" cy="259236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flipV="1">
                <a:off x="2340000" y="4076640"/>
                <a:ext cx="0" cy="223200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flipV="1">
                <a:off x="2700360" y="4581000"/>
                <a:ext cx="0" cy="180036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flipV="1">
                <a:off x="3059280" y="5157360"/>
                <a:ext cx="0" cy="115092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flipV="1">
                <a:off x="3419640" y="5734080"/>
                <a:ext cx="0" cy="57456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6560" y="4076640"/>
                <a:ext cx="142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74560" y="4076640"/>
                <a:ext cx="180036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611280" y="3645000"/>
                <a:ext cx="136836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280" y="2457360"/>
                <a:ext cx="395280" cy="216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normAutofit fontScale="74000"/>
              </a:bodyPr>
              <a:p>
                <a:pPr marL="253800" indent="-253800">
                  <a:lnSpc>
                    <a:spcPct val="9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os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572000" y="6397560"/>
                <a:ext cx="216000" cy="24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normAutofit fontScale="91000"/>
              </a:bodyPr>
              <a:p>
                <a:pPr marL="312120" indent="-312120">
                  <a:lnSpc>
                    <a:spcPct val="9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741840" y="6343560"/>
                <a:ext cx="71280" cy="73080"/>
              </a:xfrm>
              <a:prstGeom prst="ellipse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381480" y="5734080"/>
                <a:ext cx="71280" cy="73080"/>
              </a:xfrm>
              <a:prstGeom prst="ellipse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3022560" y="5119560"/>
                <a:ext cx="71640" cy="73080"/>
              </a:xfrm>
              <a:prstGeom prst="ellipse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2662200" y="4545000"/>
                <a:ext cx="71640" cy="73080"/>
              </a:xfrm>
              <a:prstGeom prst="ellipse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2301840" y="4040280"/>
                <a:ext cx="71640" cy="73080"/>
              </a:xfrm>
              <a:prstGeom prst="ellipse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1943280" y="3608280"/>
                <a:ext cx="71280" cy="73080"/>
              </a:xfrm>
              <a:prstGeom prst="ellipse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1582560" y="3249720"/>
                <a:ext cx="71640" cy="73080"/>
              </a:xfrm>
              <a:prstGeom prst="ellipse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1222200" y="2960640"/>
                <a:ext cx="71640" cy="73080"/>
              </a:xfrm>
              <a:prstGeom prst="ellipse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3640" y="2781360"/>
                <a:ext cx="71280" cy="73080"/>
              </a:xfrm>
              <a:prstGeom prst="ellipse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503280" y="2744640"/>
                <a:ext cx="71280" cy="73080"/>
              </a:xfrm>
              <a:prstGeom prst="ellipse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5" name=""/>
          <p:cNvSpPr/>
          <p:nvPr/>
        </p:nvSpPr>
        <p:spPr>
          <a:xfrm>
            <a:off x="539640" y="2770200"/>
            <a:ext cx="3240360" cy="3611520"/>
          </a:xfrm>
          <a:custGeom>
            <a:avLst/>
            <a:gdLst/>
            <a:ahLst/>
            <a:rect l="l" t="t" r="r" b="b"/>
            <a:pathLst>
              <a:path w="2041" h="2275">
                <a:moveTo>
                  <a:pt x="0" y="7"/>
                </a:moveTo>
                <a:cubicBezTo>
                  <a:pt x="19" y="3"/>
                  <a:pt x="38" y="0"/>
                  <a:pt x="91" y="7"/>
                </a:cubicBezTo>
                <a:cubicBezTo>
                  <a:pt x="144" y="14"/>
                  <a:pt x="242" y="22"/>
                  <a:pt x="317" y="52"/>
                </a:cubicBezTo>
                <a:cubicBezTo>
                  <a:pt x="392" y="82"/>
                  <a:pt x="468" y="128"/>
                  <a:pt x="544" y="188"/>
                </a:cubicBezTo>
                <a:cubicBezTo>
                  <a:pt x="620" y="248"/>
                  <a:pt x="703" y="347"/>
                  <a:pt x="771" y="415"/>
                </a:cubicBezTo>
                <a:cubicBezTo>
                  <a:pt x="839" y="483"/>
                  <a:pt x="876" y="513"/>
                  <a:pt x="952" y="596"/>
                </a:cubicBezTo>
                <a:cubicBezTo>
                  <a:pt x="1028" y="679"/>
                  <a:pt x="1149" y="808"/>
                  <a:pt x="1225" y="914"/>
                </a:cubicBezTo>
                <a:cubicBezTo>
                  <a:pt x="1301" y="1020"/>
                  <a:pt x="1338" y="1125"/>
                  <a:pt x="1406" y="1231"/>
                </a:cubicBezTo>
                <a:cubicBezTo>
                  <a:pt x="1474" y="1337"/>
                  <a:pt x="1557" y="1428"/>
                  <a:pt x="1633" y="1549"/>
                </a:cubicBezTo>
                <a:cubicBezTo>
                  <a:pt x="1709" y="1670"/>
                  <a:pt x="1792" y="1836"/>
                  <a:pt x="1860" y="1957"/>
                </a:cubicBezTo>
                <a:cubicBezTo>
                  <a:pt x="1928" y="2078"/>
                  <a:pt x="2011" y="2222"/>
                  <a:pt x="2041" y="2275"/>
                </a:cubicBezTo>
              </a:path>
            </a:pathLst>
          </a:custGeom>
          <a:noFill/>
          <a:ln w="41400">
            <a:solidFill>
              <a:srgbClr val="1f497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3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77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" dur="770" fill="hold"/>
                                        <p:tgtEl>
                                          <p:spTgt spid="10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2" dur="77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4" dur="77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3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3000"/>
                            </p:stCondLst>
                            <p:childTnLst>
                              <p:par>
                                <p:cTn id="1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3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Zástupný symbol pro text 2" descr=""/>
          <p:cNvPicPr/>
          <p:nvPr/>
        </p:nvPicPr>
        <p:blipFill>
          <a:blip r:embed="rId1"/>
          <a:stretch/>
        </p:blipFill>
        <p:spPr>
          <a:xfrm>
            <a:off x="0" y="2925720"/>
            <a:ext cx="3384720" cy="3241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KOSIN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148000" y="1557360"/>
            <a:ext cx="375444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dnotková kružni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"/>
          <p:cNvSpPr/>
          <p:nvPr/>
        </p:nvSpPr>
        <p:spPr>
          <a:xfrm>
            <a:off x="1727280" y="838080"/>
            <a:ext cx="0" cy="5877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152360" y="4581360"/>
            <a:ext cx="453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-1872720" y="1125360"/>
            <a:ext cx="7200000" cy="691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68360" y="2565360"/>
            <a:ext cx="21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816360" y="4726080"/>
            <a:ext cx="21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1584360" y="2770200"/>
            <a:ext cx="3311640" cy="18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1584360" y="2050920"/>
            <a:ext cx="2736720" cy="2665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1655640" y="1412640"/>
            <a:ext cx="1944720" cy="32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824360" y="2817720"/>
            <a:ext cx="0" cy="334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48000" y="2133720"/>
            <a:ext cx="0" cy="352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508200" y="1576440"/>
            <a:ext cx="0" cy="356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726920" y="6595920"/>
            <a:ext cx="3600360" cy="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664000" y="5589720"/>
            <a:ext cx="14396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os 30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232000" y="5084640"/>
            <a:ext cx="15843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cos 45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871640" y="4581360"/>
            <a:ext cx="14400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cos 60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168720" y="6093000"/>
            <a:ext cx="14396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cos 0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727280" y="5084640"/>
            <a:ext cx="1763640" cy="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727280" y="5589720"/>
            <a:ext cx="2520720" cy="0"/>
          </a:xfrm>
          <a:prstGeom prst="line">
            <a:avLst/>
          </a:prstGeom>
          <a:ln w="284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727280" y="6093000"/>
            <a:ext cx="3095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327640" y="4510080"/>
            <a:ext cx="0" cy="21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3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3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6000"/>
                            </p:stCondLst>
                            <p:childTnLst>
                              <p:par>
                                <p:cTn id="1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3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3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3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3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3000"/>
                            </p:stCondLst>
                            <p:childTnLst>
                              <p:par>
                                <p:cTn id="1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3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3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3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3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3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3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3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3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3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3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3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3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3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3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1979640" y="3824280"/>
            <a:ext cx="1690560" cy="2340000"/>
          </a:xfrm>
          <a:prstGeom prst="rtTriangl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KOSIN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68000" y="1197000"/>
            <a:ext cx="8280360" cy="151128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Úko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dvoď hodnoty funkce kosinus pro úhly 30°, 45° a 60°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ávod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oužij rovnostranný a rovnoramenný pravoúhlý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"/>
          <p:cNvSpPr/>
          <p:nvPr/>
        </p:nvSpPr>
        <p:spPr>
          <a:xfrm>
            <a:off x="395280" y="2924280"/>
            <a:ext cx="2232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vnostranný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6335640" y="2997360"/>
            <a:ext cx="2808360" cy="3560760"/>
            <a:chOff x="6335640" y="2997360"/>
            <a:chExt cx="2808360" cy="3560760"/>
          </a:xfrm>
        </p:grpSpPr>
        <p:sp>
          <p:nvSpPr>
            <p:cNvPr id="194" name=""/>
            <p:cNvSpPr/>
            <p:nvPr/>
          </p:nvSpPr>
          <p:spPr>
            <a:xfrm>
              <a:off x="6335640" y="2997360"/>
              <a:ext cx="2808360" cy="35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000000"/>
                </a:buClr>
                <a:buFont typeface="Symbol" charset="2"/>
                <a:buChar char="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BCS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ythagorova vě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= v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+ (a/2)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= a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2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 (a/2)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= a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2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 a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/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= 3/4 a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5" name="Zástupný symbol pro text 2"/>
                <p:cNvSpPr txBox="1"/>
                <p:nvPr/>
              </p:nvSpPr>
              <p:spPr>
                <a:xfrm>
                  <a:off x="6407280" y="5589720"/>
                  <a:ext cx="1368360" cy="968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  <m:r>
                        <m:t xml:space="preserve">=</m:t>
                      </m:r>
                      <m:f>
                        <m:num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</m:e>
                          </m:rad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96" name=""/>
          <p:cNvGrpSpPr/>
          <p:nvPr/>
        </p:nvGrpSpPr>
        <p:grpSpPr>
          <a:xfrm>
            <a:off x="0" y="3429000"/>
            <a:ext cx="3997440" cy="3168720"/>
            <a:chOff x="0" y="3429000"/>
            <a:chExt cx="3997440" cy="3168720"/>
          </a:xfrm>
        </p:grpSpPr>
        <p:sp>
          <p:nvSpPr>
            <p:cNvPr id="197" name=""/>
            <p:cNvSpPr/>
            <p:nvPr/>
          </p:nvSpPr>
          <p:spPr>
            <a:xfrm>
              <a:off x="1744560" y="6162840"/>
              <a:ext cx="381240" cy="43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 marL="318960" indent="-31896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39640" y="5753160"/>
              <a:ext cx="792360" cy="43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 marL="318960" indent="-31896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60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87280" y="3830760"/>
              <a:ext cx="3360960" cy="235728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968480" y="3830760"/>
              <a:ext cx="1440" cy="235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822400" y="5753160"/>
              <a:ext cx="741600" cy="43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 marL="318960" indent="-31896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60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935000" y="5008680"/>
              <a:ext cx="379440" cy="43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 marL="318960" indent="-31896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0" y="6129360"/>
              <a:ext cx="380880" cy="43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 marL="318960" indent="-31896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616200" y="6129360"/>
              <a:ext cx="381240" cy="43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 marL="318960" indent="-31896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763640" y="3429000"/>
              <a:ext cx="379440" cy="43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 marL="318960" indent="-31896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922680" y="621972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/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570400" y="621972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/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427040" y="4387680"/>
              <a:ext cx="768600" cy="4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 marL="318960" indent="-31896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0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935000" y="4387680"/>
              <a:ext cx="836640" cy="4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 marL="318960" indent="-31896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0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683360" y="5878440"/>
              <a:ext cx="630720" cy="618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602" y="67"/>
                  </a:moveTo>
                  <a:arcTo wR="10800" hR="10800" stAng="-5782219" swAng="5782219"/>
                  <a:lnTo>
                    <a:pt x="10800" y="10800"/>
                  </a:lnTo>
                  <a:close/>
                </a:path>
                <a:path fill="none" w="21600" h="21600">
                  <a:moveTo>
                    <a:pt x="9602" y="67"/>
                  </a:moveTo>
                  <a:arcTo wR="10800" hR="10800" stAng="-5782219" swAng="5782219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062080" y="6000840"/>
              <a:ext cx="63720" cy="61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949480" y="4761000"/>
              <a:ext cx="38124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 marL="318960" indent="-31896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03360" y="4822920"/>
              <a:ext cx="379440" cy="43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 marL="318960" indent="-31896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14" name="Zástupný symbol pro text 2"/>
              <p:cNvSpPr txBox="1"/>
              <p:nvPr/>
            </p:nvSpPr>
            <p:spPr>
              <a:xfrm>
                <a:off x="2014560" y="4929120"/>
                <a:ext cx="9129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5" name=""/>
          <p:cNvSpPr/>
          <p:nvPr/>
        </p:nvSpPr>
        <p:spPr>
          <a:xfrm>
            <a:off x="4211640" y="2997360"/>
            <a:ext cx="2808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6732720" y="3213000"/>
                <a:ext cx="2093760" cy="338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s60</m:t>
                        </m:r>
                        <m:r>
                          <m:rPr>
                            <m:lit/>
                            <m:nor/>
                          </m:rPr>
                          <m:t xml:space="preserve">°=</m:t>
                        </m:r>
                        <m:f>
                          <m:num>
                            <m:f>
                              <m:num>
                                <m:r>
                                  <m:t xml:space="preserve">a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60</m:t>
                        </m:r>
                        <m:r>
                          <m:rPr>
                            <m:lit/>
                            <m:nor/>
                          </m:rPr>
                          <m:t xml:space="preserve">°=</m:t>
                        </m:r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a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60</m:t>
                        </m:r>
                        <m:r>
                          <m:rPr>
                            <m:lit/>
                            <m:nor/>
                          </m:rPr>
                          <m:t xml:space="preserve">°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4284720" y="3429000"/>
                <a:ext cx="2233440" cy="32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s30</m:t>
                        </m:r>
                        <m:r>
                          <m:rPr>
                            <m:lit/>
                            <m:nor/>
                          </m:rPr>
                          <m:t xml:space="preserve">°=</m:t>
                        </m:r>
                        <m:f>
                          <m:num>
                            <m:r>
                              <m:t xml:space="preserve">v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30</m:t>
                        </m:r>
                        <m:r>
                          <m:rPr>
                            <m:lit/>
                            <m:nor/>
                          </m:rPr>
                          <m:t xml:space="preserve">°=</m:t>
                        </m:r>
                        <m:f>
                          <m:num>
                            <m:f>
                              <m:num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3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30</m:t>
                        </m:r>
                        <m:r>
                          <m:rPr>
                            <m:lit/>
                            <m:nor/>
                          </m:rPr>
                          <m:t xml:space="preserve">°=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3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3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" dur="3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" dur="3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3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3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3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3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3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3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9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3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3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3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3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2247840" y="2708280"/>
            <a:ext cx="1943280" cy="1965240"/>
          </a:xfrm>
          <a:prstGeom prst="rtTriangl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KOSIN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"/>
          <p:cNvSpPr/>
          <p:nvPr/>
        </p:nvSpPr>
        <p:spPr>
          <a:xfrm>
            <a:off x="395280" y="1628640"/>
            <a:ext cx="41036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vnoramenný pravoúhlý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4500720" y="1989000"/>
            <a:ext cx="2852640" cy="2904840"/>
            <a:chOff x="4500720" y="1989000"/>
            <a:chExt cx="2852640" cy="2904840"/>
          </a:xfrm>
        </p:grpSpPr>
        <p:sp>
          <p:nvSpPr>
            <p:cNvPr id="222" name=""/>
            <p:cNvSpPr/>
            <p:nvPr/>
          </p:nvSpPr>
          <p:spPr>
            <a:xfrm>
              <a:off x="4500720" y="1989000"/>
              <a:ext cx="2852640" cy="190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000000"/>
                </a:buClr>
                <a:buFont typeface="Symbol" charset="2"/>
                <a:buChar char="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ABC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ythagorova vě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= a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+ a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= 2a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3" name="Zástupný symbol pro text 2"/>
                <p:cNvSpPr txBox="1"/>
                <p:nvPr/>
              </p:nvSpPr>
              <p:spPr>
                <a:xfrm>
                  <a:off x="4608720" y="3715920"/>
                  <a:ext cx="1440000" cy="1177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c</m:t>
                          </m:r>
                          <m:r>
                            <m:t xml:space="preserve">=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a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rad>
                        </m:e>
                        <m:e>
                          <m:r>
                            <m:t xml:space="preserve">c</m:t>
                          </m:r>
                          <m:r>
                            <m:t xml:space="preserve">=</m:t>
                          </m:r>
                          <m:r>
                            <m:t xml:space="preserve">a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2</m:t>
                              </m:r>
                            </m:e>
                          </m:rad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6948360" y="2492280"/>
                <a:ext cx="1895760" cy="393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s45</m:t>
                        </m:r>
                        <m:r>
                          <m:rPr>
                            <m:lit/>
                            <m:nor/>
                          </m:rPr>
                          <m:t xml:space="preserve">°=</m:t>
                        </m:r>
                        <m:f>
                          <m:num>
                            <m:f>
                              <m:num>
                                <m:r>
                                  <m:t xml:space="preserve">c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45</m:t>
                        </m:r>
                        <m:r>
                          <m:rPr>
                            <m:lit/>
                            <m:nor/>
                          </m:rPr>
                          <m:t xml:space="preserve">°=</m:t>
                        </m:r>
                        <m:f>
                          <m:num>
                            <m:f>
                              <m:num>
                                <m:r>
                                  <m:t xml:space="preserve">a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2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45</m:t>
                        </m:r>
                        <m:r>
                          <m:rPr>
                            <m:lit/>
                            <m:nor/>
                          </m:rPr>
                          <m:t xml:space="preserve">°=</m:t>
                        </m:r>
                        <m:f>
                          <m:num>
                            <m:r>
                              <m:t xml:space="preserve">a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a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45</m:t>
                        </m:r>
                        <m:r>
                          <m:rPr>
                            <m:lit/>
                            <m:nor/>
                          </m:rPr>
                          <m:t xml:space="preserve">°=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25" name=""/>
          <p:cNvGrpSpPr/>
          <p:nvPr/>
        </p:nvGrpSpPr>
        <p:grpSpPr>
          <a:xfrm>
            <a:off x="0" y="2203200"/>
            <a:ext cx="4538520" cy="4496400"/>
            <a:chOff x="0" y="2203200"/>
            <a:chExt cx="4538520" cy="4496400"/>
          </a:xfrm>
        </p:grpSpPr>
        <p:sp>
          <p:nvSpPr>
            <p:cNvPr id="226" name=""/>
            <p:cNvSpPr/>
            <p:nvPr/>
          </p:nvSpPr>
          <p:spPr>
            <a:xfrm>
              <a:off x="539640" y="4221360"/>
              <a:ext cx="71928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45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230560" y="2688120"/>
              <a:ext cx="0" cy="19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348000" y="4221360"/>
              <a:ext cx="71928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45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908000" y="3789720"/>
              <a:ext cx="43200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0" y="4653360"/>
              <a:ext cx="431640" cy="5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106880" y="4586760"/>
              <a:ext cx="43164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050920" y="2276640"/>
              <a:ext cx="43200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046520" y="469152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/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918160" y="469152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/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908720" y="4294440"/>
              <a:ext cx="720000" cy="720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602" y="67"/>
                  </a:moveTo>
                  <a:arcTo wR="10800" hR="10800" stAng="-5782219" swAng="6099308"/>
                  <a:lnTo>
                    <a:pt x="10800" y="10800"/>
                  </a:lnTo>
                  <a:close/>
                </a:path>
                <a:path fill="none" w="21600" h="21600">
                  <a:moveTo>
                    <a:pt x="9602" y="67"/>
                  </a:moveTo>
                  <a:arcTo wR="10800" hR="10800" stAng="-5782219" swAng="6099308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374920" y="4510440"/>
              <a:ext cx="36360" cy="36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981080" y="4624560"/>
              <a:ext cx="43200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132000" y="3213360"/>
              <a:ext cx="43200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900000" y="3285000"/>
              <a:ext cx="43200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 rot="8113800">
              <a:off x="756360" y="3285000"/>
              <a:ext cx="2878200" cy="2808000"/>
            </a:xfrm>
            <a:prstGeom prst="rtTriangl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126160" y="4869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 rot="8197800">
              <a:off x="1857960" y="2351880"/>
              <a:ext cx="720000" cy="720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602" y="67"/>
                  </a:moveTo>
                  <a:arcTo wR="10800" hR="10800" stAng="-5782219" swAng="5828522"/>
                  <a:lnTo>
                    <a:pt x="10800" y="10800"/>
                  </a:lnTo>
                  <a:close/>
                </a:path>
                <a:path fill="none" w="21600" h="21600">
                  <a:moveTo>
                    <a:pt x="9602" y="67"/>
                  </a:moveTo>
                  <a:arcTo wR="10800" hR="10800" stAng="-5782219" swAng="5828522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230560" y="2889720"/>
              <a:ext cx="36360" cy="36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195640" y="3142080"/>
              <a:ext cx="71892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45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619280" y="3142080"/>
              <a:ext cx="71928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45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6948360" y="1916280"/>
            <a:ext cx="1368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3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3000"/>
                            </p:stCondLst>
                            <p:childTnLst>
                              <p:par>
                                <p:cTn id="2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3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3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3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3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3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3000"/>
                            </p:stCondLst>
                            <p:childTnLst>
                              <p:par>
                                <p:cTn id="2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3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3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3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KOSIN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4716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Tabulka důležitých hodnot funkce kosin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755640" y="3068640"/>
          <a:ext cx="7561440" cy="1782720"/>
        </p:xfrm>
        <a:graphic>
          <a:graphicData uri="http://schemas.openxmlformats.org/drawingml/2006/table">
            <a:tbl>
              <a:tblPr/>
              <a:tblGrid>
                <a:gridCol w="1260360"/>
                <a:gridCol w="1260720"/>
                <a:gridCol w="1260360"/>
                <a:gridCol w="1258920"/>
                <a:gridCol w="1260360"/>
                <a:gridCol w="1260720"/>
              </a:tblGrid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250" name="Zástupný symbol pro text 2"/>
              <p:cNvSpPr txBox="1"/>
              <p:nvPr/>
            </p:nvSpPr>
            <p:spPr>
              <a:xfrm>
                <a:off x="6300720" y="3860640"/>
                <a:ext cx="33336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4859280" y="3860640"/>
                <a:ext cx="581040" cy="94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3635280" y="3860640"/>
                <a:ext cx="581040" cy="94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2T09:45:48Z</dcterms:created>
  <dc:creator>Kamila Mužíková</dc:creator>
  <dc:description>Dostupné z Metodického portálu www.rvp.cz, ISSN: 1802-4785, financovaného z ESF a státního rozpočtu ČR. Provozováno Výzkumným ústavem pedagogickým v Praze.</dc:description>
  <dc:language>en-US</dc:language>
  <cp:lastModifiedBy>Stepanka</cp:lastModifiedBy>
  <dcterms:modified xsi:type="dcterms:W3CDTF">2008-09-17T22:45:40Z</dcterms:modified>
  <cp:revision>46</cp:revision>
  <dc:subject/>
  <dc:title>Funkce kosinus</dc:title>
</cp:coreProperties>
</file>