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DB9-1074-45C1-9D84-113D00FA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1CD2-6DAF-4904-B38E-68DB49FB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6FF-0C3F-4FB1-9A69-9836269A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C64-A6A3-4314-8031-20FE12FF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A9A3-B304-4204-9EF3-1438DE6B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1F12-5DC4-44FB-A1DE-5B0E710D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E0D2-CF68-47BA-A833-D0CA1CD7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BB05-0AA9-47F4-BB4E-CF8ABBF8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B9FC-A676-4B98-B971-FAAEAB23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074C-10E9-4E94-8A5F-77ADE6A1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F503-CBBC-419B-917B-6CE997F3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145-88EE-4532-9CDE-05CC16AC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FF23-9625-4BEE-8938-D7F8CC4B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1826-AEA1-43BE-98D6-31B7D1F7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2713-FEB2-4F64-9493-3FB1CD7B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2AC6-87C9-4F17-8846-2D305596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8310-E0A8-4525-9212-B4700C40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8B19-25C6-4147-9C37-ED9F25A0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F25A-4E69-4BCC-89DD-D7C2FF7E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2694-1272-4B45-9931-210B0E67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F4A-E45B-48BB-A134-26298594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B37-F96B-43AD-8159-16C3D41A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1DE-FBDB-4B24-A7EE-00F322E5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720D-60BC-44EB-AF5E-6E58F096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2608-D87F-4B86-BDDE-5746749EF6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82BC-7CFE-4C62-90BA-37F3D8251D0A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2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trojúhel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Je-li dána výška trojúhelníku </a:t>
            </a:r>
            <a:br>
              <a:rPr sz="4000"/>
            </a:b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v zadání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zbor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907920"/>
            <a:ext cx="65516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ak sestrojíme bod C? Co o něm ví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528920" y="2535120"/>
            <a:ext cx="5995800" cy="3773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78120" y="2938320"/>
            <a:ext cx="0" cy="288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63720" y="465300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1168560"/>
            <a:ext cx="79200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Víme, že jeho kolmá vzdálenost od strany c je 5 cm (v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 5 c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1428840"/>
            <a:ext cx="79200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Kde se tedy může nacházet bod splňující danou podmínk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8120" y="2938320"/>
            <a:ext cx="0" cy="288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94080" y="465300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06400" y="2521080"/>
            <a:ext cx="863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40000" y="252252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46400" y="2938320"/>
            <a:ext cx="0" cy="288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32000" y="465300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78280" y="252252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48240" y="2936880"/>
            <a:ext cx="0" cy="288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33840" y="465120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79760" y="2521080"/>
            <a:ext cx="863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49880" y="2936880"/>
            <a:ext cx="0" cy="288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35480" y="465120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81400" y="2521080"/>
            <a:ext cx="863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79960" y="2938320"/>
            <a:ext cx="0" cy="288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65560" y="465300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11840" y="252252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10200" y="2938320"/>
            <a:ext cx="0" cy="288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96160" y="4653000"/>
            <a:ext cx="86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42080" y="252252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83360" y="2938320"/>
            <a:ext cx="0" cy="288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68960" y="465300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15240" y="252252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1687680"/>
            <a:ext cx="79200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Co je množinou všech bodů, jejichž kolmá vzdálenost od strany c je 5 c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2938320"/>
            <a:ext cx="651852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34360" y="2824200"/>
            <a:ext cx="4651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1917720"/>
            <a:ext cx="7920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e přímka rovnoběžná se stranou c, sestrojená ve vzdálenosti 5 c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00000" y="92376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ačneme jako vždy zadanou stranou, v tomto případě stranou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139860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Následuje použití zadané výšky – jak jsme na předchozím snímku vyvodili, sestrojíme rovnoběžku ve vzdálenosti dané velikostí výšky v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528920" y="2535120"/>
            <a:ext cx="5995800" cy="37735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158840" y="581976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6240" y="5675400"/>
            <a:ext cx="417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78120" y="243540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91280" y="5705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78120" y="57340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58840" y="292428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 rot="13486800">
            <a:off x="-1008360" y="2930400"/>
            <a:ext cx="5760360" cy="57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99" y="485"/>
                </a:moveTo>
                <a:arcTo wR="10800" hR="10800" stAng="-4366148" swAng="2583881"/>
                <a:lnTo>
                  <a:pt x="10800" y="10800"/>
                </a:lnTo>
                <a:close/>
              </a:path>
              <a:path fill="none" w="21600" h="21600">
                <a:moveTo>
                  <a:pt x="13999" y="485"/>
                </a:moveTo>
                <a:arcTo wR="10800" hR="10800" stAng="-4366148" swAng="258388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2795760"/>
            <a:ext cx="417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78120" y="5805360"/>
            <a:ext cx="52005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 rot="10603200">
            <a:off x="5855400" y="4782600"/>
            <a:ext cx="2300400" cy="228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728" y="2515"/>
                </a:moveTo>
                <a:arcTo wR="10800" hR="10800" stAng="-3005804" swAng="2503927"/>
                <a:lnTo>
                  <a:pt x="10800" y="10800"/>
                </a:lnTo>
                <a:close/>
              </a:path>
              <a:path fill="none" w="21600" h="21600">
                <a:moveTo>
                  <a:pt x="17728" y="2515"/>
                </a:moveTo>
                <a:arcTo wR="10800" hR="10800" stAng="-3005804" swAng="2503927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3044520" y="2420640"/>
            <a:ext cx="403380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090960" y="2426040"/>
            <a:ext cx="181800" cy="21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01960" y="2335320"/>
            <a:ext cx="417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0360" y="2867040"/>
            <a:ext cx="104760" cy="104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00000" y="185904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ako poslední použijeme ze zadání úhel </a:t>
            </a:r>
            <a:r>
              <a:rPr b="1" lang="el-GR" sz="16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78120" y="2924280"/>
            <a:ext cx="3384720" cy="2881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892160" y="2909880"/>
            <a:ext cx="1771920" cy="288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4000"/>
                            </p:stCondLst>
                            <p:childTnLst>
                              <p:par>
                                <p:cTn id="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0"/>
                            </p:stCondLst>
                            <p:childTnLst>
                              <p:par>
                                <p:cTn id="7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47640" y="1038240"/>
            <a:ext cx="251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c= 9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3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49440" y="1297080"/>
            <a:ext cx="2806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2. q; q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,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q,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v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 5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848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. C; C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q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84840" y="132552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5. Trojúhelník AB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547640" y="1627200"/>
            <a:ext cx="4321080" cy="303120"/>
            <a:chOff x="1547640" y="1627200"/>
            <a:chExt cx="4321080" cy="303120"/>
          </a:xfrm>
        </p:grpSpPr>
        <p:sp>
          <p:nvSpPr>
            <p:cNvPr id="248" name=""/>
            <p:cNvSpPr/>
            <p:nvPr/>
          </p:nvSpPr>
          <p:spPr>
            <a:xfrm>
              <a:off x="1547640" y="1627200"/>
              <a:ext cx="4321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3.     ABY; 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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    ABY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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=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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=40°, 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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B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1922040" y="1700280"/>
              <a:ext cx="17316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2757240" y="1700280"/>
              <a:ext cx="173160" cy="17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/>
          <p:nvPr/>
        </p:nvSpPr>
        <p:spPr>
          <a:xfrm>
            <a:off x="1158840" y="581976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6240" y="5675400"/>
            <a:ext cx="417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78120" y="243540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91280" y="5705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78120" y="573408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58840" y="292428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 rot="13486800">
            <a:off x="-1008360" y="2930400"/>
            <a:ext cx="5760360" cy="57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99" y="485"/>
                </a:moveTo>
                <a:arcTo wR="10800" hR="10800" stAng="-4366148" swAng="2583881"/>
                <a:lnTo>
                  <a:pt x="10800" y="10800"/>
                </a:lnTo>
                <a:close/>
              </a:path>
              <a:path fill="none" w="21600" h="21600">
                <a:moveTo>
                  <a:pt x="13999" y="485"/>
                </a:moveTo>
                <a:arcTo wR="10800" hR="10800" stAng="-4366148" swAng="258388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24800" y="2795760"/>
            <a:ext cx="417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63720" y="5805360"/>
            <a:ext cx="5218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 rot="10603200">
            <a:off x="5855400" y="4782600"/>
            <a:ext cx="2300400" cy="228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728" y="2515"/>
                </a:moveTo>
                <a:arcTo wR="10800" hR="10800" stAng="-3005804" swAng="2503927"/>
                <a:lnTo>
                  <a:pt x="10800" y="10800"/>
                </a:lnTo>
                <a:close/>
              </a:path>
              <a:path fill="none" w="21600" h="21600">
                <a:moveTo>
                  <a:pt x="17728" y="2515"/>
                </a:moveTo>
                <a:arcTo wR="10800" hR="10800" stAng="-3005804" swAng="2503927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3044520" y="2420640"/>
            <a:ext cx="403380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090960" y="2426040"/>
            <a:ext cx="181800" cy="21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01960" y="2335320"/>
            <a:ext cx="417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5280" y="2895480"/>
            <a:ext cx="3419640" cy="291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877760" y="2909880"/>
            <a:ext cx="177156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62120" y="5791320"/>
            <a:ext cx="417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48360" y="5805360"/>
            <a:ext cx="417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35200" y="2565360"/>
            <a:ext cx="417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000"/>
                            </p:stCondLst>
                            <p:childTnLst>
                              <p:par>
                                <p:cTn id="8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3000"/>
                            </p:stCondLst>
                            <p:childTnLst>
                              <p:par>
                                <p:cTn id="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400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000"/>
                            </p:stCondLst>
                            <p:childTnLst>
                              <p:par>
                                <p:cTn id="8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0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trojúhel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27000" y="1096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v polorovině určené úsečkou AB a bodem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57240" y="1700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onstrukci proměříme, zda odpovídá zadání, a trojúhelník vytáhneme silněji. A takto vypadá celá konstruk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587600" y="2381400"/>
            <a:ext cx="5721120" cy="3917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1587600" y="2381400"/>
            <a:ext cx="5721120" cy="3917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1587600" y="2381400"/>
            <a:ext cx="5721120" cy="39178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1587600" y="2381400"/>
            <a:ext cx="5721120" cy="3917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1587600" y="2381400"/>
            <a:ext cx="5721120" cy="39178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1587600" y="2381400"/>
            <a:ext cx="5721120" cy="39178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8"/>
          <a:stretch/>
        </p:blipFill>
        <p:spPr>
          <a:xfrm>
            <a:off x="1587600" y="2381400"/>
            <a:ext cx="5721120" cy="39178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9"/>
          <a:stretch/>
        </p:blipFill>
        <p:spPr>
          <a:xfrm>
            <a:off x="1587600" y="2381400"/>
            <a:ext cx="5721120" cy="39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2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rojúhelník ABC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32000" y="1413000"/>
            <a:ext cx="417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.) c = 5 cm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60°,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3,5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347840" y="1700280"/>
            <a:ext cx="3960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.) a = 4 cm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45°,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a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7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47840" y="1959120"/>
            <a:ext cx="43038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3.) b = 6 cm, 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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120°,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b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3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243080" y="2403360"/>
            <a:ext cx="6583320" cy="3881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914400" y="1844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áč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další typ konstrukce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1" name=""/>
          <p:cNvSpPr/>
          <p:nvPr/>
        </p:nvSpPr>
        <p:spPr>
          <a:xfrm>
            <a:off x="900000" y="10810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Typ č. 2 (2 strany a výška): </a:t>
            </a:r>
            <a:br>
              <a:rPr sz="1800"/>
            </a:b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Sestrojte trojúhelník ABC, ve kterém c = 8 cm, v</a:t>
            </a:r>
            <a:r>
              <a:rPr b="1" lang="cs-CZ" sz="1800" spc="-1" strike="noStrike" baseline="-25000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= 4 cm, b = 5 c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3640" y="5719680"/>
            <a:ext cx="552456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22840" y="2967120"/>
            <a:ext cx="0" cy="2752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13240" y="566100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0000" y="4221000"/>
            <a:ext cx="86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749600" y="2967120"/>
            <a:ext cx="2070000" cy="2751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500"/>
                            </p:stCondLst>
                            <p:childTnLst>
                              <p:par>
                                <p:cTn id="10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68360" y="2349360"/>
            <a:ext cx="820728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2627280" y="3011400"/>
            <a:ext cx="5545080" cy="3268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900000" y="92376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ačneme jako vždy zadanou stranou, v tomto případě stranou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139860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Následuje použití zadané výšky – jak jsme na předchozím snímku vyvodili, sestrojíme rovnoběžku ve vzdálenosti dané velikostí výšky v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03280" y="580536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826400" y="5487840"/>
            <a:ext cx="417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29560" y="243540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726320" y="5705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59280" y="5705640"/>
            <a:ext cx="0" cy="19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1280" y="3471840"/>
            <a:ext cx="79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 rot="13486800">
            <a:off x="145440" y="2840400"/>
            <a:ext cx="5719680" cy="57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89" y="250"/>
                </a:moveTo>
                <a:arcTo wR="10800" hR="10800" stAng="-6141398" swAng="6143717"/>
                <a:lnTo>
                  <a:pt x="10800" y="10800"/>
                </a:lnTo>
                <a:close/>
              </a:path>
              <a:path fill="none" w="21600" h="21600">
                <a:moveTo>
                  <a:pt x="8489" y="250"/>
                </a:moveTo>
                <a:arcTo wR="10800" hR="10800" stAng="-6141398" swAng="614371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31120" y="3156120"/>
            <a:ext cx="417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57480" y="5805360"/>
            <a:ext cx="4660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00000" y="185904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ako poslední použijeme ze zadání stranu 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 rot="13486800">
            <a:off x="5365080" y="3477960"/>
            <a:ext cx="4680720" cy="46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81" y="646"/>
                </a:moveTo>
                <a:arcTo wR="10800" hR="10800" stAng="-4204507" swAng="3192620"/>
                <a:lnTo>
                  <a:pt x="10800" y="10800"/>
                </a:lnTo>
                <a:close/>
              </a:path>
              <a:path fill="none" w="21600" h="21600">
                <a:moveTo>
                  <a:pt x="14481" y="646"/>
                </a:moveTo>
                <a:arcTo wR="10800" hR="10800" stAng="-4204507" swAng="319262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14480" y="3139920"/>
            <a:ext cx="417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C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87840" y="3112920"/>
            <a:ext cx="417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97720" y="3468600"/>
            <a:ext cx="2920680" cy="2325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047400" y="3472200"/>
            <a:ext cx="1756800" cy="2334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9280" y="5805360"/>
            <a:ext cx="4660560" cy="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52440" y="3444120"/>
            <a:ext cx="6478920" cy="234936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2440" y="3446640"/>
            <a:ext cx="1784520" cy="234468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65400" y="5803920"/>
            <a:ext cx="4660920" cy="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03840" y="3466800"/>
            <a:ext cx="2920680" cy="2326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053880" y="3470760"/>
            <a:ext cx="1756800" cy="2334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258560" y="3442680"/>
            <a:ext cx="6479280" cy="2349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58920" y="3444840"/>
            <a:ext cx="1784160" cy="234468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38560" y="2592360"/>
            <a:ext cx="3745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rebuchet MS"/>
              </a:rPr>
              <a:t>Úloha má 2 řeš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763640" y="2708280"/>
            <a:ext cx="417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547640" y="1038240"/>
            <a:ext cx="251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c= 8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9" name=""/>
          <p:cNvSpPr/>
          <p:nvPr/>
        </p:nvSpPr>
        <p:spPr>
          <a:xfrm>
            <a:off x="468360" y="2349360"/>
            <a:ext cx="835164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49440" y="1297080"/>
            <a:ext cx="2806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2. q; q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,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q,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v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 4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84840" y="981000"/>
            <a:ext cx="28908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. C, C´; C, C´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q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84840" y="1311120"/>
            <a:ext cx="2819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5. Trojúhelník ABC; ABC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47640" y="1627200"/>
            <a:ext cx="43214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3. k; k(A; b=5 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403280" y="580536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26400" y="5487840"/>
            <a:ext cx="417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729560" y="243540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26320" y="5705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59280" y="5705640"/>
            <a:ext cx="0" cy="19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3471840"/>
            <a:ext cx="79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 rot="13486800">
            <a:off x="145440" y="2840400"/>
            <a:ext cx="5719680" cy="57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89" y="250"/>
                </a:moveTo>
                <a:arcTo wR="10800" hR="10800" stAng="-6141398" swAng="6143717"/>
                <a:lnTo>
                  <a:pt x="10800" y="10800"/>
                </a:lnTo>
                <a:close/>
              </a:path>
              <a:path fill="none" w="21600" h="21600">
                <a:moveTo>
                  <a:pt x="8489" y="250"/>
                </a:moveTo>
                <a:arcTo wR="10800" hR="10800" stAng="-6141398" swAng="614371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31120" y="3156120"/>
            <a:ext cx="417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57480" y="5805360"/>
            <a:ext cx="466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 rot="13486800">
            <a:off x="5365080" y="3477960"/>
            <a:ext cx="4680720" cy="46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481" y="646"/>
                </a:moveTo>
                <a:arcTo wR="10800" hR="10800" stAng="-4204507" swAng="3192620"/>
                <a:lnTo>
                  <a:pt x="10800" y="10800"/>
                </a:lnTo>
                <a:close/>
              </a:path>
              <a:path fill="none" w="21600" h="21600">
                <a:moveTo>
                  <a:pt x="14481" y="646"/>
                </a:moveTo>
                <a:arcTo wR="10800" hR="10800" stAng="-4204507" swAng="319262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14480" y="3139920"/>
            <a:ext cx="417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C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702320" y="3141720"/>
            <a:ext cx="41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97720" y="3468600"/>
            <a:ext cx="2920680" cy="232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047400" y="3472200"/>
            <a:ext cx="1756800" cy="233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52440" y="3458520"/>
            <a:ext cx="6478920" cy="234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66840" y="3460680"/>
            <a:ext cx="1784160" cy="234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16360" y="5805360"/>
            <a:ext cx="41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67640" y="5776920"/>
            <a:ext cx="417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63640" y="2708280"/>
            <a:ext cx="417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59280" y="5805360"/>
            <a:ext cx="466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trojúhelník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5" name=""/>
          <p:cNvSpPr/>
          <p:nvPr/>
        </p:nvSpPr>
        <p:spPr>
          <a:xfrm>
            <a:off x="468360" y="2349360"/>
            <a:ext cx="820728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27000" y="1096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loha má dvě řešení.</a:t>
            </a:r>
            <a:br>
              <a:rPr sz="20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v polorovině určené úsečkou AB a bodem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57240" y="1700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onstrukci proměříme, zda odpovídá zadání, a trojúhelníky vytáhneme silněji. A takto vypadá celá konstruk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1514520" y="2400480"/>
            <a:ext cx="7089840" cy="38653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1514520" y="2400480"/>
            <a:ext cx="7089840" cy="38653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1514520" y="2400480"/>
            <a:ext cx="7089840" cy="38653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5"/>
          <a:stretch/>
        </p:blipFill>
        <p:spPr>
          <a:xfrm>
            <a:off x="1514520" y="2400480"/>
            <a:ext cx="7089840" cy="38653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6"/>
          <a:stretch/>
        </p:blipFill>
        <p:spPr>
          <a:xfrm>
            <a:off x="1514520" y="2400480"/>
            <a:ext cx="7089840" cy="38653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7"/>
          <a:stretch/>
        </p:blipFill>
        <p:spPr>
          <a:xfrm>
            <a:off x="1514520" y="2400480"/>
            <a:ext cx="7089840" cy="38653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8"/>
          <a:stretch/>
        </p:blipFill>
        <p:spPr>
          <a:xfrm>
            <a:off x="1514520" y="2400480"/>
            <a:ext cx="7089840" cy="38653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9"/>
          <a:stretch/>
        </p:blipFill>
        <p:spPr>
          <a:xfrm>
            <a:off x="1514520" y="2400480"/>
            <a:ext cx="7089840" cy="38653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0"/>
          <a:stretch/>
        </p:blipFill>
        <p:spPr>
          <a:xfrm>
            <a:off x="1514520" y="2400480"/>
            <a:ext cx="7089840" cy="38653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1"/>
          <a:stretch/>
        </p:blipFill>
        <p:spPr>
          <a:xfrm>
            <a:off x="1514520" y="2400480"/>
            <a:ext cx="7089840" cy="38653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2"/>
          <a:stretch/>
        </p:blipFill>
        <p:spPr>
          <a:xfrm>
            <a:off x="1514520" y="2400480"/>
            <a:ext cx="7089840" cy="38653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13"/>
          <a:stretch/>
        </p:blipFill>
        <p:spPr>
          <a:xfrm>
            <a:off x="1514520" y="2400480"/>
            <a:ext cx="7089840" cy="38653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14"/>
          <a:stretch/>
        </p:blipFill>
        <p:spPr>
          <a:xfrm>
            <a:off x="1514520" y="2400480"/>
            <a:ext cx="7089840" cy="38653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15"/>
          <a:stretch/>
        </p:blipFill>
        <p:spPr>
          <a:xfrm>
            <a:off x="1514520" y="2400480"/>
            <a:ext cx="7089840" cy="38653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16"/>
          <a:stretch/>
        </p:blipFill>
        <p:spPr>
          <a:xfrm>
            <a:off x="1514520" y="2400480"/>
            <a:ext cx="7089840" cy="386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4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rojúhelník ABC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32000" y="1413000"/>
            <a:ext cx="424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.) c = 5 cm, a = 4 cm,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3,5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47840" y="1700280"/>
            <a:ext cx="4160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.) a = 4 cm, c = 9 cm,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7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47840" y="1944720"/>
            <a:ext cx="43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3.) b= 6 cm, a= 4,5 cm,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3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0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rojúhel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Trojúhelník je rovinný geometrický útvar sestávající ze tří stran, tří vrcholů a tří vnitřních úh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si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2060640"/>
            <a:ext cx="4032360" cy="21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2760" y="2060640"/>
            <a:ext cx="1656000" cy="201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2060640"/>
            <a:ext cx="2232360" cy="3673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195280" y="2060640"/>
            <a:ext cx="1584360" cy="360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94040" y="2060640"/>
            <a:ext cx="2938680" cy="360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2060640"/>
            <a:ext cx="2087280" cy="792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411280" y="2076480"/>
            <a:ext cx="4321440" cy="3584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659640" y="2076480"/>
            <a:ext cx="87120" cy="3584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867280" y="2076480"/>
            <a:ext cx="865440" cy="1136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8135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obrá rada na závěr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0" name=""/>
          <p:cNvSpPr/>
          <p:nvPr/>
        </p:nvSpPr>
        <p:spPr>
          <a:xfrm>
            <a:off x="1116000" y="1630440"/>
            <a:ext cx="734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amatuj s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16000" y="2205000"/>
            <a:ext cx="7343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Je-li při konstrukci trojúhelníku zadána výška, použijeme ji většinou ve druhém kroku konstrukce k sestrojení rovnoběžky s příslušnou stranou ve vzdálenosti dané velikostí výš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16000" y="4510080"/>
            <a:ext cx="7559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Například: Je-li dána strana b a výška v</a:t>
            </a:r>
            <a:r>
              <a:rPr b="1" lang="cs-CZ" sz="2000" spc="-1" strike="noStrike" baseline="-25000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, začneme konstrukci stranou b a pokračujeme rovnoběžkou se stranou b ve vzdálenosti v</a:t>
            </a:r>
            <a:r>
              <a:rPr b="1" lang="cs-CZ" sz="2000" spc="-1" strike="noStrike" baseline="-25000">
                <a:solidFill>
                  <a:srgbClr val="00cc00"/>
                </a:solidFill>
                <a:latin typeface="Trebuchet MS"/>
              </a:rPr>
              <a:t>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 označová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3" name=""/>
          <p:cNvSpPr/>
          <p:nvPr/>
        </p:nvSpPr>
        <p:spPr>
          <a:xfrm>
            <a:off x="927000" y="1125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ozor při značení vrcholů a stran trojúhelní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1916280"/>
            <a:ext cx="4392360" cy="2376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268000" y="1916280"/>
            <a:ext cx="1079640" cy="3673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28800" y="1484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Strana a proti vrcholu A, strana b proti vrcholu B, strana c proti vrcholu 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484360" y="4365720"/>
            <a:ext cx="374328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067280" y="1916280"/>
            <a:ext cx="288720" cy="2233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1916280"/>
            <a:ext cx="936720" cy="37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4284360" y="4365720"/>
            <a:ext cx="237492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1640" y="1916280"/>
            <a:ext cx="2305080" cy="37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011640" y="1916280"/>
            <a:ext cx="2376360" cy="1008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572000" y="3141720"/>
            <a:ext cx="1295280" cy="2519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součet vnitřních úhlů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oučet vnitřních úhlů trojúhelníku je vždy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411280" y="1916280"/>
            <a:ext cx="1368720" cy="38178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1916280"/>
            <a:ext cx="2952720" cy="37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1916280"/>
            <a:ext cx="2087280" cy="1225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242100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37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278136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3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77080" y="313992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31000" y="321300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77080" y="358776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765440" y="2374920"/>
            <a:ext cx="5470560" cy="3933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výšky trojúhelník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9" name=""/>
          <p:cNvSpPr/>
          <p:nvPr/>
        </p:nvSpPr>
        <p:spPr>
          <a:xfrm>
            <a:off x="927000" y="1052640"/>
            <a:ext cx="789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Výška trojúhelníku – kolmá vzdálenost vrcholu a protější (příslušné) strany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27000" y="1341360"/>
            <a:ext cx="789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Máme tři strany a tři vrcholy – tudíž i tři výšk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28800" y="1643040"/>
            <a:ext cx="789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Značíme je v závislosti na označení vrcholů a příslušných stran – v</a:t>
            </a:r>
            <a:r>
              <a:rPr b="1" lang="cs-CZ" sz="17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, v</a:t>
            </a:r>
            <a:r>
              <a:rPr b="1" lang="cs-CZ" sz="17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, v</a:t>
            </a:r>
            <a:r>
              <a:rPr b="1" lang="cs-CZ" sz="17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500360" y="1989000"/>
            <a:ext cx="3095640" cy="2808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300720" y="1989000"/>
            <a:ext cx="1656000" cy="2880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940360" y="1989000"/>
            <a:ext cx="2376720" cy="1871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28800" y="1944720"/>
            <a:ext cx="789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Výšky se protínají v jednom bod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2205000"/>
            <a:ext cx="1511280" cy="2087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výšky trojúhelník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9" name=""/>
          <p:cNvSpPr/>
          <p:nvPr/>
        </p:nvSpPr>
        <p:spPr>
          <a:xfrm>
            <a:off x="927000" y="1195560"/>
            <a:ext cx="7893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K sestrojení výšky nám z pohledu konstrukčního pomáhá kolmice na stranu procházející příslušným vrchol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93800" y="2373480"/>
            <a:ext cx="5470560" cy="3933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693800" y="2373480"/>
            <a:ext cx="5470560" cy="3933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693800" y="2373480"/>
            <a:ext cx="5470560" cy="3933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693800" y="2373480"/>
            <a:ext cx="5470560" cy="3933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1693800" y="2373480"/>
            <a:ext cx="5470560" cy="3933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1693800" y="2373480"/>
            <a:ext cx="5470560" cy="3933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1693800" y="2373480"/>
            <a:ext cx="5470560" cy="3933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1693800" y="2373480"/>
            <a:ext cx="5470560" cy="3933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1693800" y="2373480"/>
            <a:ext cx="5470560" cy="3933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1"/>
          <a:stretch/>
        </p:blipFill>
        <p:spPr>
          <a:xfrm>
            <a:off x="1693800" y="2373480"/>
            <a:ext cx="5470560" cy="3933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2"/>
          <a:stretch/>
        </p:blipFill>
        <p:spPr>
          <a:xfrm>
            <a:off x="1693800" y="2373480"/>
            <a:ext cx="547056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27200" y="2421000"/>
            <a:ext cx="5824440" cy="38656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těžnice trojúhelník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4" name=""/>
          <p:cNvSpPr/>
          <p:nvPr/>
        </p:nvSpPr>
        <p:spPr>
          <a:xfrm>
            <a:off x="682560" y="907920"/>
            <a:ext cx="81374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Těžnice trojúhelníku – vzdálenost vrcholu a středu protější (příslušné) stran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2560" y="1197000"/>
            <a:ext cx="8137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Máme tři strany a tři vrcholy – tudíž i tři těžni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1498680"/>
            <a:ext cx="8137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Značíme je v závislosti na označení vrcholů a příslušných stran – t</a:t>
            </a:r>
            <a:r>
              <a:rPr b="1" lang="cs-CZ" sz="17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, t</a:t>
            </a:r>
            <a:r>
              <a:rPr b="1" lang="cs-CZ" sz="17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, t</a:t>
            </a:r>
            <a:r>
              <a:rPr b="1" lang="cs-CZ" sz="17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211640" y="1844640"/>
            <a:ext cx="3168720" cy="3097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579640" y="1844640"/>
            <a:ext cx="2087640" cy="3168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364000" y="1844640"/>
            <a:ext cx="2592720" cy="2305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1800360"/>
            <a:ext cx="8137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Těžnice se protínají v jednom bodě - těžiš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2133720"/>
            <a:ext cx="144360" cy="2374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42920" y="1844640"/>
            <a:ext cx="6913800" cy="45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těžnice trojúhelníku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1052640"/>
            <a:ext cx="7893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K sestrojení těžnice nám z pohledu konstrukčního pomáhá sestrojení středu strany trojúhelníku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71640" y="1166760"/>
            <a:ext cx="547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o němž následuje jeho spojení s protějším vrcho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14400" y="1844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áč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6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10810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Typ č. 1 (strana, výška, úhel):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estrojte trojúhelník ABC, ve kterém c = 9 cm, v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5 cm,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40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528920" y="2535120"/>
            <a:ext cx="5995800" cy="3773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870200" y="5819760"/>
            <a:ext cx="520056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49680" y="2938320"/>
            <a:ext cx="0" cy="288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24520" y="540216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=4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 rot="10603200">
            <a:off x="5855400" y="4782600"/>
            <a:ext cx="2300400" cy="228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728" y="2515"/>
                </a:moveTo>
                <a:arcTo wR="10800" hR="10800" stAng="-3005804" swAng="2503927"/>
                <a:lnTo>
                  <a:pt x="10800" y="10800"/>
                </a:lnTo>
                <a:close/>
              </a:path>
              <a:path fill="none" w="21600" h="21600">
                <a:moveTo>
                  <a:pt x="17728" y="2515"/>
                </a:moveTo>
                <a:arcTo wR="10800" hR="10800" stAng="-3005804" swAng="2503927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70400" y="5732640"/>
            <a:ext cx="863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35280" y="4653000"/>
            <a:ext cx="86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v</a:t>
            </a:r>
            <a:r>
              <a:rPr b="1" lang="cs-CZ" sz="18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8-27T13:04:48Z</dcterms:modified>
  <cp:revision>120</cp:revision>
  <dc:subject/>
  <dc:title>Konstrukce trojúhelníku s výškou v zadání</dc:title>
</cp:coreProperties>
</file>