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30.png" ContentType="image/png"/>
  <Override PartName="/ppt/media/image2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EA7-EB17-4F7D-A5E1-4DDC5398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42D-4336-41AC-BA9D-B9AAE60B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AB9-98AD-452B-8838-F2257AEC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7DE-C133-4065-AA66-7FD27A1C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4C9A-4630-4215-8D0C-FEE1FF9D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E9A2-AF2C-4479-B1F9-D8F9E97F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5921-EE48-4B2C-A7D9-75DF3FF5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41F7-CD6F-45E1-9F93-3081CFA4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509B-E777-4E02-BBEF-90565D25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296B-0114-4099-B631-B5BC5584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4D3A-4FA0-4A8E-9DC4-70BC9F18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04A-91EB-4CB0-9E27-20E83349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5563-9F20-4705-89A1-ECF1105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B129-FB40-44B7-AE6F-226FBEC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1DAC-B35D-4020-95B4-8F90AE54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EE9C-46EB-4609-8C60-835E15CE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7EB3-44FE-4356-BB25-F8FD0C42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488-83CC-4FEF-BA99-50B0D7FA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DCE-B8F0-4B1F-9719-DCFF8320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D20-2276-4A76-9863-A2F4B21E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826-1B29-49EE-AF58-E9B32AC7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E54-62C8-4D88-A89C-8BD9CB2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D57-7C68-4DD6-A050-C62EE59F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6B4-846A-40CE-80FE-D90552A4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51CA-8D7B-4A67-B751-EC58779F65C7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D713-9A5A-42E7-AC8E-F6E814A9CBB9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hyperlink" Target="http://www.horackova.cz/cabri/vyklad/633.ht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Známe-li jednu stranu </a:t>
            </a:r>
            <a:br>
              <a:rPr sz="4000"/>
            </a:b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a dva úhly k ní přilehl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84360" y="5013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84c6a"/>
                </a:solidFill>
                <a:latin typeface="Trebuchet MS"/>
              </a:rPr>
              <a:t>Konstrukce podle věty usu</a:t>
            </a:r>
            <a:br>
              <a:rPr sz="2400"/>
            </a:br>
            <a:r>
              <a:rPr b="0" lang="cs-CZ" sz="2400" spc="-1" strike="noStrike">
                <a:solidFill>
                  <a:srgbClr val="284c6a"/>
                </a:solidFill>
                <a:latin typeface="Trebuchet MS"/>
              </a:rPr>
              <a:t>(úhel, strana, úh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0"/>
          <p:cNvSpPr/>
          <p:nvPr/>
        </p:nvSpPr>
        <p:spPr>
          <a:xfrm>
            <a:off x="285840" y="64296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 = 40°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19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 = 60°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c = 8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2"/>
          <a:stretch/>
        </p:blipFill>
        <p:spPr>
          <a:xfrm>
            <a:off x="1725480" y="2523960"/>
            <a:ext cx="5583240" cy="3857760"/>
          </a:xfrm>
          <a:prstGeom prst="rect">
            <a:avLst/>
          </a:prstGeom>
          <a:ln w="0">
            <a:noFill/>
          </a:ln>
        </p:spPr>
      </p:pic>
      <p:sp>
        <p:nvSpPr>
          <p:cNvPr id="224" name="Line 9"/>
          <p:cNvSpPr/>
          <p:nvPr/>
        </p:nvSpPr>
        <p:spPr>
          <a:xfrm>
            <a:off x="2211480" y="5956200"/>
            <a:ext cx="456732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411800" y="5864400"/>
            <a:ext cx="1089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11"/>
          <p:cNvSpPr/>
          <p:nvPr/>
        </p:nvSpPr>
        <p:spPr>
          <a:xfrm>
            <a:off x="2209680" y="516096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44920" y="551016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 flipV="1">
            <a:off x="2209680" y="2692080"/>
            <a:ext cx="3889440" cy="324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5835240" y="2739240"/>
            <a:ext cx="151560" cy="21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5940360" y="2665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2052720" y="58910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17"/>
          <p:cNvSpPr/>
          <p:nvPr/>
        </p:nvSpPr>
        <p:spPr>
          <a:xfrm flipH="1">
            <a:off x="5420520" y="4776840"/>
            <a:ext cx="1357560" cy="1173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5724360" y="5504040"/>
            <a:ext cx="1008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9"/>
          <p:cNvSpPr/>
          <p:nvPr/>
        </p:nvSpPr>
        <p:spPr>
          <a:xfrm flipH="1" flipV="1">
            <a:off x="4830840" y="2565360"/>
            <a:ext cx="1944720" cy="3384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"/>
          <p:cNvSpPr/>
          <p:nvPr/>
        </p:nvSpPr>
        <p:spPr>
          <a:xfrm flipH="1" flipV="1">
            <a:off x="4830840" y="2565360"/>
            <a:ext cx="1944720" cy="3384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2"/>
          <p:cNvSpPr/>
          <p:nvPr/>
        </p:nvSpPr>
        <p:spPr>
          <a:xfrm flipV="1">
            <a:off x="4874400" y="2752920"/>
            <a:ext cx="201600" cy="142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645080" y="255096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116000" y="2924280"/>
            <a:ext cx="3730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Zapisujeme:</a:t>
            </a:r>
            <a:br>
              <a:rPr sz="2000"/>
            </a:br>
            <a:r>
              <a:rPr b="1" lang="cs-CZ" sz="3500" spc="-1" strike="noStrike">
                <a:solidFill>
                  <a:srgbClr val="ff0000"/>
                </a:solidFill>
                <a:latin typeface="Trebuchet MS"/>
              </a:rPr>
              <a:t>C </a:t>
            </a:r>
            <a:r>
              <a:rPr b="1" lang="cs-CZ" sz="35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cs-CZ" sz="35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35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cs-CZ" sz="3500" spc="-1" strike="noStrike">
                <a:solidFill>
                  <a:srgbClr val="3333cc"/>
                </a:solidFill>
                <a:latin typeface="Trebuchet MS"/>
              </a:rPr>
              <a:t>AY</a:t>
            </a:r>
            <a:r>
              <a:rPr b="1" lang="cs-CZ" sz="35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35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cs-CZ" sz="35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3500" spc="-1" strike="noStrike">
                <a:solidFill>
                  <a:srgbClr val="00cc00"/>
                </a:solidFill>
                <a:latin typeface="Symbol"/>
                <a:ea typeface="Symbol"/>
              </a:rPr>
              <a:t></a:t>
            </a:r>
            <a:r>
              <a:rPr b="1" lang="cs-CZ" sz="3500" spc="-1" strike="noStrike">
                <a:solidFill>
                  <a:srgbClr val="00cc00"/>
                </a:solidFill>
                <a:latin typeface="Trebuchet MS"/>
              </a:rPr>
              <a:t>B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841320" y="106668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Kde se tedy nachází vrchol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trojúhelní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857160" y="158436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Leží v průsečíku polopřímk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Y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 polopřímk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BZ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zn. množiny všech bodů, které leží na rameni úhlu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o velikosti 40°, a množiny všech bodů, které leží na rameni úhlu </a:t>
            </a:r>
            <a:r>
              <a:rPr b="1" i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 o velikosti 6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843120" y="2114640"/>
            <a:ext cx="80643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Jako 2. a 3. krok konstrukce tedy narýsujeme výše uváděné polopřím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0"/>
          <p:cNvSpPr/>
          <p:nvPr/>
        </p:nvSpPr>
        <p:spPr>
          <a:xfrm>
            <a:off x="6689880" y="59054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1"/>
          <p:cNvSpPr/>
          <p:nvPr/>
        </p:nvSpPr>
        <p:spPr>
          <a:xfrm>
            <a:off x="5176800" y="299736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1042920" y="228132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1"/>
          <p:cNvSpPr/>
          <p:nvPr/>
        </p:nvSpPr>
        <p:spPr>
          <a:xfrm flipV="1">
            <a:off x="2208240" y="2374920"/>
            <a:ext cx="38894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1692360" y="1038240"/>
            <a:ext cx="31687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c = 8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44784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Postup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8" name="Rectangle 32"/>
          <p:cNvSpPr/>
          <p:nvPr/>
        </p:nvSpPr>
        <p:spPr>
          <a:xfrm>
            <a:off x="1693800" y="1368360"/>
            <a:ext cx="40305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2.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YAB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40°;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7"/>
          <p:cNvSpPr/>
          <p:nvPr/>
        </p:nvSpPr>
        <p:spPr>
          <a:xfrm>
            <a:off x="5565600" y="1009800"/>
            <a:ext cx="324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Y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BZ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8"/>
          <p:cNvSpPr/>
          <p:nvPr/>
        </p:nvSpPr>
        <p:spPr>
          <a:xfrm>
            <a:off x="5580000" y="1285920"/>
            <a:ext cx="3240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5. Trojúhelník AB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706400" y="1755720"/>
            <a:ext cx="4321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3.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ABZ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= 60°; </a:t>
            </a:r>
            <a:r>
              <a:rPr b="1" lang="cs-CZ" sz="22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B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7"/>
          <p:cNvSpPr/>
          <p:nvPr/>
        </p:nvSpPr>
        <p:spPr>
          <a:xfrm>
            <a:off x="1258920" y="5624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8"/>
          <p:cNvSpPr/>
          <p:nvPr/>
        </p:nvSpPr>
        <p:spPr>
          <a:xfrm>
            <a:off x="7380360" y="549576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9"/>
          <p:cNvSpPr/>
          <p:nvPr/>
        </p:nvSpPr>
        <p:spPr>
          <a:xfrm>
            <a:off x="2216160" y="5479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6956280" y="5465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0"/>
          <p:cNvSpPr/>
          <p:nvPr/>
        </p:nvSpPr>
        <p:spPr>
          <a:xfrm>
            <a:off x="2209680" y="5622840"/>
            <a:ext cx="4761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1"/>
          <p:cNvSpPr/>
          <p:nvPr/>
        </p:nvSpPr>
        <p:spPr>
          <a:xfrm flipH="1" flipV="1">
            <a:off x="5405760" y="2954520"/>
            <a:ext cx="1562040" cy="26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2"/>
          <p:cNvSpPr/>
          <p:nvPr/>
        </p:nvSpPr>
        <p:spPr>
          <a:xfrm flipH="1">
            <a:off x="2220480" y="2952000"/>
            <a:ext cx="3181320" cy="268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3"/>
          <p:cNvSpPr/>
          <p:nvPr/>
        </p:nvSpPr>
        <p:spPr>
          <a:xfrm>
            <a:off x="2052720" y="572616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4"/>
          <p:cNvSpPr/>
          <p:nvPr/>
        </p:nvSpPr>
        <p:spPr>
          <a:xfrm>
            <a:off x="6851520" y="571032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6"/>
          <p:cNvSpPr/>
          <p:nvPr/>
        </p:nvSpPr>
        <p:spPr>
          <a:xfrm>
            <a:off x="5292720" y="256860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2"/>
          <p:cNvSpPr/>
          <p:nvPr/>
        </p:nvSpPr>
        <p:spPr>
          <a:xfrm>
            <a:off x="5847480" y="2381760"/>
            <a:ext cx="185760" cy="22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3"/>
          <p:cNvSpPr/>
          <p:nvPr/>
        </p:nvSpPr>
        <p:spPr>
          <a:xfrm>
            <a:off x="5902200" y="252720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5"/>
          <p:cNvSpPr/>
          <p:nvPr/>
        </p:nvSpPr>
        <p:spPr>
          <a:xfrm flipH="1" flipV="1">
            <a:off x="5062320" y="2363760"/>
            <a:ext cx="1871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6"/>
          <p:cNvSpPr/>
          <p:nvPr/>
        </p:nvSpPr>
        <p:spPr>
          <a:xfrm flipV="1">
            <a:off x="5018040" y="2420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7"/>
          <p:cNvSpPr/>
          <p:nvPr/>
        </p:nvSpPr>
        <p:spPr>
          <a:xfrm>
            <a:off x="4816440" y="221940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3" descr=""/>
          <p:cNvPicPr/>
          <p:nvPr/>
        </p:nvPicPr>
        <p:blipFill>
          <a:blip r:embed="rId2"/>
          <a:stretch/>
        </p:blipFill>
        <p:spPr>
          <a:xfrm>
            <a:off x="2124000" y="2441520"/>
            <a:ext cx="4791240" cy="3807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4" descr=""/>
          <p:cNvPicPr/>
          <p:nvPr/>
        </p:nvPicPr>
        <p:blipFill>
          <a:blip r:embed="rId3"/>
          <a:stretch/>
        </p:blipFill>
        <p:spPr>
          <a:xfrm>
            <a:off x="2124000" y="2441520"/>
            <a:ext cx="4791240" cy="3807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5" descr=""/>
          <p:cNvPicPr/>
          <p:nvPr/>
        </p:nvPicPr>
        <p:blipFill>
          <a:blip r:embed="rId4"/>
          <a:stretch/>
        </p:blipFill>
        <p:spPr>
          <a:xfrm>
            <a:off x="2124000" y="2441520"/>
            <a:ext cx="4791240" cy="3807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6" descr=""/>
          <p:cNvPicPr/>
          <p:nvPr/>
        </p:nvPicPr>
        <p:blipFill>
          <a:blip r:embed="rId5"/>
          <a:stretch/>
        </p:blipFill>
        <p:spPr>
          <a:xfrm>
            <a:off x="2124000" y="2441520"/>
            <a:ext cx="4791240" cy="3807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7" descr=""/>
          <p:cNvPicPr/>
          <p:nvPr/>
        </p:nvPicPr>
        <p:blipFill>
          <a:blip r:embed="rId6"/>
          <a:stretch/>
        </p:blipFill>
        <p:spPr>
          <a:xfrm>
            <a:off x="2124000" y="2441520"/>
            <a:ext cx="4791240" cy="3807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8" descr=""/>
          <p:cNvPicPr/>
          <p:nvPr/>
        </p:nvPicPr>
        <p:blipFill>
          <a:blip r:embed="rId7"/>
          <a:stretch/>
        </p:blipFill>
        <p:spPr>
          <a:xfrm>
            <a:off x="2124000" y="2441520"/>
            <a:ext cx="4791240" cy="3807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9" descr=""/>
          <p:cNvPicPr/>
          <p:nvPr/>
        </p:nvPicPr>
        <p:blipFill>
          <a:blip r:embed="rId8"/>
          <a:stretch/>
        </p:blipFill>
        <p:spPr>
          <a:xfrm>
            <a:off x="2124000" y="2441520"/>
            <a:ext cx="4791240" cy="3807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0" descr=""/>
          <p:cNvPicPr/>
          <p:nvPr/>
        </p:nvPicPr>
        <p:blipFill>
          <a:blip r:embed="rId9"/>
          <a:stretch/>
        </p:blipFill>
        <p:spPr>
          <a:xfrm>
            <a:off x="2124000" y="2441520"/>
            <a:ext cx="4791240" cy="3807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1" descr=""/>
          <p:cNvPicPr/>
          <p:nvPr/>
        </p:nvPicPr>
        <p:blipFill>
          <a:blip r:embed="rId10"/>
          <a:stretch/>
        </p:blipFill>
        <p:spPr>
          <a:xfrm>
            <a:off x="2124000" y="2441520"/>
            <a:ext cx="4791240" cy="38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042920" y="1628640"/>
            <a:ext cx="691380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927000" y="105264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332000" y="1297080"/>
            <a:ext cx="424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= 35 m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20°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45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3" descr=""/>
          <p:cNvPicPr/>
          <p:nvPr/>
        </p:nvPicPr>
        <p:blipFill>
          <a:blip r:embed="rId2"/>
          <a:stretch/>
        </p:blipFill>
        <p:spPr>
          <a:xfrm>
            <a:off x="1979640" y="1689120"/>
            <a:ext cx="4935600" cy="4714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4" descr=""/>
          <p:cNvPicPr/>
          <p:nvPr/>
        </p:nvPicPr>
        <p:blipFill>
          <a:blip r:embed="rId3"/>
          <a:stretch/>
        </p:blipFill>
        <p:spPr>
          <a:xfrm>
            <a:off x="1979640" y="1689120"/>
            <a:ext cx="4935600" cy="471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5" descr=""/>
          <p:cNvPicPr/>
          <p:nvPr/>
        </p:nvPicPr>
        <p:blipFill>
          <a:blip r:embed="rId4"/>
          <a:stretch/>
        </p:blipFill>
        <p:spPr>
          <a:xfrm>
            <a:off x="1979640" y="1689120"/>
            <a:ext cx="4935600" cy="471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6" descr=""/>
          <p:cNvPicPr/>
          <p:nvPr/>
        </p:nvPicPr>
        <p:blipFill>
          <a:blip r:embed="rId5"/>
          <a:stretch/>
        </p:blipFill>
        <p:spPr>
          <a:xfrm>
            <a:off x="1979640" y="1689120"/>
            <a:ext cx="4935600" cy="4714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7" descr=""/>
          <p:cNvPicPr/>
          <p:nvPr/>
        </p:nvPicPr>
        <p:blipFill>
          <a:blip r:embed="rId6"/>
          <a:stretch/>
        </p:blipFill>
        <p:spPr>
          <a:xfrm>
            <a:off x="1979640" y="1689120"/>
            <a:ext cx="4935600" cy="4714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8" descr=""/>
          <p:cNvPicPr/>
          <p:nvPr/>
        </p:nvPicPr>
        <p:blipFill>
          <a:blip r:embed="rId7"/>
          <a:stretch/>
        </p:blipFill>
        <p:spPr>
          <a:xfrm>
            <a:off x="1979640" y="1689120"/>
            <a:ext cx="4935600" cy="471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9" descr=""/>
          <p:cNvPicPr/>
          <p:nvPr/>
        </p:nvPicPr>
        <p:blipFill>
          <a:blip r:embed="rId8"/>
          <a:stretch/>
        </p:blipFill>
        <p:spPr>
          <a:xfrm>
            <a:off x="1979640" y="1689120"/>
            <a:ext cx="49356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332000" y="1341360"/>
            <a:ext cx="42480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C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9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35°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5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8" descr=""/>
          <p:cNvPicPr/>
          <p:nvPr/>
        </p:nvPicPr>
        <p:blipFill>
          <a:blip r:embed="rId2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9" descr=""/>
          <p:cNvPicPr/>
          <p:nvPr/>
        </p:nvPicPr>
        <p:blipFill>
          <a:blip r:embed="rId3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0" descr=""/>
          <p:cNvPicPr/>
          <p:nvPr/>
        </p:nvPicPr>
        <p:blipFill>
          <a:blip r:embed="rId4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1" descr=""/>
          <p:cNvPicPr/>
          <p:nvPr/>
        </p:nvPicPr>
        <p:blipFill>
          <a:blip r:embed="rId5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2" descr=""/>
          <p:cNvPicPr/>
          <p:nvPr/>
        </p:nvPicPr>
        <p:blipFill>
          <a:blip r:embed="rId6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4" descr=""/>
          <p:cNvPicPr/>
          <p:nvPr/>
        </p:nvPicPr>
        <p:blipFill>
          <a:blip r:embed="rId7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5" descr=""/>
          <p:cNvPicPr/>
          <p:nvPr/>
        </p:nvPicPr>
        <p:blipFill>
          <a:blip r:embed="rId8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1042920" y="1700280"/>
            <a:ext cx="7058160" cy="46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trojúhelník OPQ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1332000" y="1341360"/>
            <a:ext cx="5976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QOP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30°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PQ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|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15°, q = 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7" descr=""/>
          <p:cNvPicPr/>
          <p:nvPr/>
        </p:nvPicPr>
        <p:blipFill>
          <a:blip r:embed="rId2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8" descr=""/>
          <p:cNvPicPr/>
          <p:nvPr/>
        </p:nvPicPr>
        <p:blipFill>
          <a:blip r:embed="rId3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9" descr=""/>
          <p:cNvPicPr/>
          <p:nvPr/>
        </p:nvPicPr>
        <p:blipFill>
          <a:blip r:embed="rId4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0" descr=""/>
          <p:cNvPicPr/>
          <p:nvPr/>
        </p:nvPicPr>
        <p:blipFill>
          <a:blip r:embed="rId5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1" descr=""/>
          <p:cNvPicPr/>
          <p:nvPr/>
        </p:nvPicPr>
        <p:blipFill>
          <a:blip r:embed="rId6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2" descr=""/>
          <p:cNvPicPr/>
          <p:nvPr/>
        </p:nvPicPr>
        <p:blipFill>
          <a:blip r:embed="rId7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3" descr=""/>
          <p:cNvPicPr/>
          <p:nvPr/>
        </p:nvPicPr>
        <p:blipFill>
          <a:blip r:embed="rId8"/>
          <a:stretch/>
        </p:blipFill>
        <p:spPr>
          <a:xfrm>
            <a:off x="1674720" y="1771560"/>
            <a:ext cx="5705640" cy="448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 podle věty us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684360" y="1052640"/>
            <a:ext cx="7848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j0301252"/>
          <p:cNvPicPr/>
          <p:nvPr/>
        </p:nvPicPr>
        <p:blipFill>
          <a:blip r:embed="rId2"/>
          <a:stretch/>
        </p:blipFill>
        <p:spPr>
          <a:xfrm>
            <a:off x="5506920" y="3768840"/>
            <a:ext cx="2952720" cy="252576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5"/>
          <p:cNvSpPr/>
          <p:nvPr/>
        </p:nvSpPr>
        <p:spPr>
          <a:xfrm>
            <a:off x="755640" y="1197000"/>
            <a:ext cx="5688000" cy="3384360"/>
          </a:xfrm>
          <a:prstGeom prst="cloudCallout">
            <a:avLst>
              <a:gd name="adj1" fmla="val 63115"/>
              <a:gd name="adj2" fmla="val 523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tevřete si na závěr ještě následující odkaz. Můžete myší měnit polohu bodů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sklon polopřímek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(tzn. velikost úhlů) na uvedené konstrukci. Sledujte, kdy se barva polopřímek změní v zelenou, tzn. kdy nelze trojúhelník sestrojit. Dokážete odpovědět , kdy a pro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o j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00000" y="5157720"/>
            <a:ext cx="4924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horackova.cz/cabri/vyklad/633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 podle věty us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84360" y="1052640"/>
            <a:ext cx="7848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j0301252"/>
          <p:cNvPicPr/>
          <p:nvPr/>
        </p:nvPicPr>
        <p:blipFill>
          <a:blip r:embed="rId2"/>
          <a:stretch/>
        </p:blipFill>
        <p:spPr>
          <a:xfrm>
            <a:off x="5506920" y="3768840"/>
            <a:ext cx="2952720" cy="252576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755640" y="1197000"/>
            <a:ext cx="5688000" cy="3384360"/>
          </a:xfrm>
          <a:prstGeom prst="cloudCallout">
            <a:avLst>
              <a:gd name="adj1" fmla="val 63115"/>
              <a:gd name="adj2" fmla="val 523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ak co jste zjistili? Kdy se barva polopřímek mění v zelenou? Ano správně. Je to ve chvíli, kdy součet dvou zadaných úhlů dosáhne velikosti 180°. To znamená ve chvíli, kdy by mám na třetí úhel již nezbýval ani „stupeň“ (vzhledem k tomu, že 180° je součet všech tří úhlů jakéhokoliv trojúhelník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ak přesnou ruku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323" name="Picture 6" descr="j0301252"/>
          <p:cNvPicPr/>
          <p:nvPr/>
        </p:nvPicPr>
        <p:blipFill>
          <a:blip r:embed="rId2"/>
          <a:stretch/>
        </p:blipFill>
        <p:spPr>
          <a:xfrm>
            <a:off x="3421080" y="1700280"/>
            <a:ext cx="49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Trojúhelník je rovinný geometrický útvar sestávající ze tří stran, tří vrcholů a tří vnitřních úh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268360" y="2060640"/>
            <a:ext cx="4032360" cy="21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282760" y="2060640"/>
            <a:ext cx="165600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268360" y="2060640"/>
            <a:ext cx="223236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2195280" y="2060640"/>
            <a:ext cx="158436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94040" y="2060640"/>
            <a:ext cx="293868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3780000" y="2060640"/>
            <a:ext cx="2087280" cy="79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H="1">
            <a:off x="2411280" y="2076480"/>
            <a:ext cx="432144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H="1">
            <a:off x="6659640" y="2076480"/>
            <a:ext cx="8712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5"/>
          <p:cNvSpPr/>
          <p:nvPr/>
        </p:nvSpPr>
        <p:spPr>
          <a:xfrm flipH="1">
            <a:off x="5867280" y="2076480"/>
            <a:ext cx="865440" cy="1136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 označová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ozor při značení vrcholů a stran trojúhel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1835280" y="1628640"/>
            <a:ext cx="4392360" cy="266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 flipH="1">
            <a:off x="2268000" y="1628640"/>
            <a:ext cx="1079640" cy="396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41400" y="1197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trana a proti vrcholu A, strana b proti vrcholu B, strana c proti vrcholu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484360" y="4365720"/>
            <a:ext cx="37432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 flipH="1">
            <a:off x="4067280" y="1628640"/>
            <a:ext cx="288720" cy="252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5940360" y="1628640"/>
            <a:ext cx="86364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H="1" flipV="1">
            <a:off x="4284360" y="4365720"/>
            <a:ext cx="237492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 flipH="1">
            <a:off x="4571640" y="1628640"/>
            <a:ext cx="230508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6011640" y="1628640"/>
            <a:ext cx="230508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 flipH="1">
            <a:off x="4572000" y="3141720"/>
            <a:ext cx="1295280" cy="25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6"/>
          <p:cNvSpPr/>
          <p:nvPr/>
        </p:nvSpPr>
        <p:spPr>
          <a:xfrm>
            <a:off x="2270160" y="2924280"/>
            <a:ext cx="5543640" cy="374472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93816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opis vrcholů začínáme obvykle v levém dolním rohu, ale vždy popisujeme vrcholy ve směru proti pohybu hodinových ručič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 flipH="1">
            <a:off x="2411280" y="1916280"/>
            <a:ext cx="1368720" cy="38178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3780000" y="1916280"/>
            <a:ext cx="2952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3780000" y="1916280"/>
            <a:ext cx="208728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3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11280" y="1052640"/>
            <a:ext cx="8064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nstrukce trojúhelníku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11280" y="113976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Z jakých částí se skládá naše činnost prováděná před, během a po konstrukci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682560" y="1773360"/>
            <a:ext cx="7777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1. Je dobré zjistit, pokud to jde už ze zadání konstrukce, zda trojúhelník lze vůbec sestrojit, abychom zbytečně neztráceli čas. Jak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1258920" y="2205000"/>
            <a:ext cx="648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Trebuchet MS"/>
              </a:rPr>
              <a:t>Např. pomocí trojúhelníkové nerovnosti, velikosti úhlů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684360" y="270828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2. Načrtnout si obrázek, v němž si vyznačíme zadané údaje. Udělat si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náčrt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konstruované situ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684360" y="3355920"/>
            <a:ext cx="7920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3. Rozebrat si postup, podle kterého budeme trojúhelník rýsovat. To znamená určit si, které znalosti nám při konstrukci trojúhelníku pomohou a j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1258920" y="4149720"/>
            <a:ext cx="7345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cc00"/>
                </a:solidFill>
                <a:latin typeface="Trebuchet MS"/>
              </a:rPr>
              <a:t>Např. vlastnosti trojúhelníku a jiných známých geometrických útvarů nebo množiny bodů dané vlastn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684360" y="465300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4. Zapsat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postup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konstrukce, stanovený na základě provedeného rozbor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684360" y="5229360"/>
            <a:ext cx="7920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5. Podle zapsaného postupu uskutečnit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konstrukci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a narýsovat zadaný trojúhelní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684360" y="5805360"/>
            <a:ext cx="79200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6. Zapsat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počet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všech možných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řešení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 zadané úloh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5" descr=""/>
          <p:cNvPicPr/>
          <p:nvPr/>
        </p:nvPicPr>
        <p:blipFill>
          <a:blip r:embed="rId2"/>
          <a:stretch/>
        </p:blipFill>
        <p:spPr>
          <a:xfrm>
            <a:off x="1725480" y="2422440"/>
            <a:ext cx="5583240" cy="3857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6" descr=""/>
          <p:cNvPicPr/>
          <p:nvPr/>
        </p:nvPicPr>
        <p:blipFill>
          <a:blip r:embed="rId3"/>
          <a:stretch/>
        </p:blipFill>
        <p:spPr>
          <a:xfrm>
            <a:off x="1725480" y="2422440"/>
            <a:ext cx="5583240" cy="38577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914400" y="188748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95200" y="67788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 = 40°, </a:t>
            </a:r>
            <a:r>
              <a:rPr b="1" lang="cs-CZ" sz="19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 = 60°, c = 8 cm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2211480" y="5854680"/>
            <a:ext cx="456732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4"/>
          <p:cNvSpPr/>
          <p:nvPr/>
        </p:nvSpPr>
        <p:spPr>
          <a:xfrm>
            <a:off x="4411800" y="5762520"/>
            <a:ext cx="1089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7"/>
          <p:cNvSpPr/>
          <p:nvPr/>
        </p:nvSpPr>
        <p:spPr>
          <a:xfrm>
            <a:off x="755640" y="126828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rvní krok konstrukce, tj. určení, zda lze trojúhelník o zadaných hodnotách vůbec sestrojit, spočívá v tomto případě v ověření toho, zda součet zadaných úhlů je menší než součet všech tří vnitřních úhlů trojúhelníku, tzn. 18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61"/>
          <p:cNvSpPr/>
          <p:nvPr/>
        </p:nvSpPr>
        <p:spPr>
          <a:xfrm>
            <a:off x="2209680" y="505944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2"/>
          <p:cNvSpPr/>
          <p:nvPr/>
        </p:nvSpPr>
        <p:spPr>
          <a:xfrm>
            <a:off x="2644920" y="540864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7"/>
          <p:cNvSpPr/>
          <p:nvPr/>
        </p:nvSpPr>
        <p:spPr>
          <a:xfrm>
            <a:off x="2425680" y="4435560"/>
            <a:ext cx="4681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+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= 40°+60°= 10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8"/>
          <p:cNvSpPr/>
          <p:nvPr/>
        </p:nvSpPr>
        <p:spPr>
          <a:xfrm>
            <a:off x="2425680" y="4954680"/>
            <a:ext cx="4681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100°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 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69"/>
          <p:cNvSpPr/>
          <p:nvPr/>
        </p:nvSpPr>
        <p:spPr>
          <a:xfrm flipH="1">
            <a:off x="5435640" y="4675320"/>
            <a:ext cx="1357200" cy="1172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0"/>
          <p:cNvSpPr/>
          <p:nvPr/>
        </p:nvSpPr>
        <p:spPr>
          <a:xfrm>
            <a:off x="5724360" y="5402160"/>
            <a:ext cx="100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7"/>
          <p:cNvSpPr/>
          <p:nvPr/>
        </p:nvSpPr>
        <p:spPr>
          <a:xfrm>
            <a:off x="285840" y="64296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 = 40°, </a:t>
            </a:r>
            <a:r>
              <a:rPr b="1" lang="cs-CZ" sz="19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 = 60°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c = 8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755640" y="98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K tomu, abychom sestrojili trojúhelník, potřebujeme mít zadány 3 úd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755640" y="12254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Tak, jak je tomu v našem případě, kdy známe jednu stranu a dva úhly k ní přilehl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770040" y="16146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Tyto tři zadané údaje se pak zpravidla využívají v prvních třech krocích postupu konstruk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755640" y="1989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Čím při rýsování začne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8" descr=""/>
          <p:cNvPicPr/>
          <p:nvPr/>
        </p:nvPicPr>
        <p:blipFill>
          <a:blip r:embed="rId2"/>
          <a:stretch/>
        </p:blipFill>
        <p:spPr>
          <a:xfrm>
            <a:off x="1725480" y="2523960"/>
            <a:ext cx="5583240" cy="3857760"/>
          </a:xfrm>
          <a:prstGeom prst="rect">
            <a:avLst/>
          </a:prstGeom>
          <a:ln w="0">
            <a:noFill/>
          </a:ln>
        </p:spPr>
      </p:pic>
      <p:sp>
        <p:nvSpPr>
          <p:cNvPr id="163" name="Line 30"/>
          <p:cNvSpPr/>
          <p:nvPr/>
        </p:nvSpPr>
        <p:spPr>
          <a:xfrm>
            <a:off x="2211480" y="5956200"/>
            <a:ext cx="456732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4411800" y="5864400"/>
            <a:ext cx="1017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32"/>
          <p:cNvSpPr/>
          <p:nvPr/>
        </p:nvSpPr>
        <p:spPr>
          <a:xfrm>
            <a:off x="2209680" y="516096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3"/>
          <p:cNvSpPr/>
          <p:nvPr/>
        </p:nvSpPr>
        <p:spPr>
          <a:xfrm>
            <a:off x="2644920" y="551016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36"/>
          <p:cNvSpPr/>
          <p:nvPr/>
        </p:nvSpPr>
        <p:spPr>
          <a:xfrm flipH="1">
            <a:off x="5435640" y="4776840"/>
            <a:ext cx="1357200" cy="1173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7"/>
          <p:cNvSpPr/>
          <p:nvPr/>
        </p:nvSpPr>
        <p:spPr>
          <a:xfrm>
            <a:off x="5724360" y="5504040"/>
            <a:ext cx="1008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1143000" y="3054240"/>
            <a:ext cx="373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Při konstrukcích trojúhelníků začínáme většinou (je-li zadána) stranou, a to dolní vodorovně umístěnou stra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6"/>
          <p:cNvSpPr/>
          <p:nvPr/>
        </p:nvSpPr>
        <p:spPr>
          <a:xfrm>
            <a:off x="285840" y="64296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 = 40°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19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 = 60°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c = 8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900000" y="1076400"/>
            <a:ext cx="65516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Dále budeme hledat bod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 Co o něm v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00000" y="133668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íme, že leží na rameni úhlu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o velikosti 4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900000" y="159696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Kde se tedy může nacházet bod splňující danou podmín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900000" y="185580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Co je množinou všech takových bod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900000" y="2114640"/>
            <a:ext cx="806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e to polopřímka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Y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j. rameno úhlu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40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1" descr=""/>
          <p:cNvPicPr/>
          <p:nvPr/>
        </p:nvPicPr>
        <p:blipFill>
          <a:blip r:embed="rId2"/>
          <a:stretch/>
        </p:blipFill>
        <p:spPr>
          <a:xfrm>
            <a:off x="1725480" y="2523960"/>
            <a:ext cx="5583240" cy="3857760"/>
          </a:xfrm>
          <a:prstGeom prst="rect">
            <a:avLst/>
          </a:prstGeom>
          <a:ln w="0">
            <a:noFill/>
          </a:ln>
        </p:spPr>
      </p:pic>
      <p:sp>
        <p:nvSpPr>
          <p:cNvPr id="179" name="Line 33"/>
          <p:cNvSpPr/>
          <p:nvPr/>
        </p:nvSpPr>
        <p:spPr>
          <a:xfrm>
            <a:off x="2211480" y="5956200"/>
            <a:ext cx="456732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4411800" y="5864400"/>
            <a:ext cx="1231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35"/>
          <p:cNvSpPr/>
          <p:nvPr/>
        </p:nvSpPr>
        <p:spPr>
          <a:xfrm>
            <a:off x="2209680" y="516096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2644920" y="551016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 flipV="1">
            <a:off x="2209680" y="2692080"/>
            <a:ext cx="3889440" cy="32418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5201640" y="3258360"/>
            <a:ext cx="151920" cy="210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6"/>
          <p:cNvSpPr/>
          <p:nvPr/>
        </p:nvSpPr>
        <p:spPr>
          <a:xfrm>
            <a:off x="5176800" y="299736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4539960" y="3818880"/>
            <a:ext cx="151560" cy="210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8"/>
          <p:cNvSpPr/>
          <p:nvPr/>
        </p:nvSpPr>
        <p:spPr>
          <a:xfrm>
            <a:off x="4443480" y="350028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9"/>
          <p:cNvSpPr/>
          <p:nvPr/>
        </p:nvSpPr>
        <p:spPr>
          <a:xfrm>
            <a:off x="4120560" y="4179240"/>
            <a:ext cx="151920" cy="210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0"/>
          <p:cNvSpPr/>
          <p:nvPr/>
        </p:nvSpPr>
        <p:spPr>
          <a:xfrm>
            <a:off x="4024440" y="38606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1"/>
          <p:cNvSpPr/>
          <p:nvPr/>
        </p:nvSpPr>
        <p:spPr>
          <a:xfrm>
            <a:off x="3588840" y="4610880"/>
            <a:ext cx="151560" cy="210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2"/>
          <p:cNvSpPr/>
          <p:nvPr/>
        </p:nvSpPr>
        <p:spPr>
          <a:xfrm>
            <a:off x="3492360" y="42926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3257280" y="4884120"/>
            <a:ext cx="151560" cy="210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4"/>
          <p:cNvSpPr/>
          <p:nvPr/>
        </p:nvSpPr>
        <p:spPr>
          <a:xfrm>
            <a:off x="3160800" y="456552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200" spc="-1" strike="noStrike" baseline="-25000">
                <a:solidFill>
                  <a:srgbClr val="00cc00"/>
                </a:solidFill>
                <a:latin typeface="Trebuchet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5"/>
          <p:cNvSpPr/>
          <p:nvPr/>
        </p:nvSpPr>
        <p:spPr>
          <a:xfrm flipV="1">
            <a:off x="2209680" y="2692080"/>
            <a:ext cx="3889440" cy="324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5835240" y="2739240"/>
            <a:ext cx="151560" cy="21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5940360" y="2665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8"/>
          <p:cNvSpPr/>
          <p:nvPr/>
        </p:nvSpPr>
        <p:spPr>
          <a:xfrm>
            <a:off x="2038320" y="58910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1042920" y="245124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Rozbor konstru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900000" y="1076400"/>
            <a:ext cx="65516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Co dále o bod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900000" y="133668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íme, že leží i na rameni úhlu </a:t>
            </a:r>
            <a:r>
              <a:rPr b="1" i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 o velikosti 6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900000" y="172872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Množinou bodů ležících na rameni úhlu </a:t>
            </a:r>
            <a:r>
              <a:rPr b="1" i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o velikosti 60°je polopřímka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Z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j. rameno úhlu </a:t>
            </a:r>
            <a:r>
              <a:rPr b="1" i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 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6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"/>
          <p:cNvPicPr/>
          <p:nvPr/>
        </p:nvPicPr>
        <p:blipFill>
          <a:blip r:embed="rId2"/>
          <a:stretch/>
        </p:blipFill>
        <p:spPr>
          <a:xfrm>
            <a:off x="1725480" y="2523960"/>
            <a:ext cx="5583240" cy="3857760"/>
          </a:xfrm>
          <a:prstGeom prst="rect">
            <a:avLst/>
          </a:prstGeom>
          <a:ln w="0">
            <a:noFill/>
          </a:ln>
        </p:spPr>
      </p:pic>
      <p:sp>
        <p:nvSpPr>
          <p:cNvPr id="204" name="Line 12"/>
          <p:cNvSpPr/>
          <p:nvPr/>
        </p:nvSpPr>
        <p:spPr>
          <a:xfrm>
            <a:off x="2211480" y="5956200"/>
            <a:ext cx="456732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4411800" y="5864400"/>
            <a:ext cx="1089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c = 8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4"/>
          <p:cNvSpPr/>
          <p:nvPr/>
        </p:nvSpPr>
        <p:spPr>
          <a:xfrm>
            <a:off x="2209680" y="5160960"/>
            <a:ext cx="1219320" cy="774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2644920" y="5510160"/>
            <a:ext cx="1008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4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 flipV="1">
            <a:off x="2209680" y="2692080"/>
            <a:ext cx="3889440" cy="3241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5835240" y="2739240"/>
            <a:ext cx="151560" cy="21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5940360" y="26654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2066760" y="58910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rc 31"/>
          <p:cNvSpPr/>
          <p:nvPr/>
        </p:nvSpPr>
        <p:spPr>
          <a:xfrm flipH="1">
            <a:off x="5420520" y="4776840"/>
            <a:ext cx="1357560" cy="1173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2"/>
          <p:cNvSpPr/>
          <p:nvPr/>
        </p:nvSpPr>
        <p:spPr>
          <a:xfrm>
            <a:off x="5724360" y="5504040"/>
            <a:ext cx="1008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ff0000"/>
                </a:solidFill>
                <a:latin typeface="Trebuchet MS"/>
              </a:rPr>
              <a:t>= 60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3"/>
          <p:cNvSpPr/>
          <p:nvPr/>
        </p:nvSpPr>
        <p:spPr>
          <a:xfrm flipH="1" flipV="1">
            <a:off x="4816440" y="2565360"/>
            <a:ext cx="1944720" cy="338472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 flipH="1" flipV="1">
            <a:off x="4830840" y="2565360"/>
            <a:ext cx="1944720" cy="3384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285840" y="642960"/>
            <a:ext cx="86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Př.: Sestrojte trojúhelník ABC, ve kterém </a:t>
            </a:r>
            <a:r>
              <a:rPr b="1" lang="cs-CZ" sz="19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 = 40°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19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 = 60°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cs-CZ" sz="1900" spc="-1" strike="noStrike">
                <a:solidFill>
                  <a:srgbClr val="ff0000"/>
                </a:solidFill>
                <a:latin typeface="Trebuchet MS"/>
              </a:rPr>
              <a:t>c = 8 cm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6"/>
          <p:cNvSpPr/>
          <p:nvPr/>
        </p:nvSpPr>
        <p:spPr>
          <a:xfrm flipV="1">
            <a:off x="4874400" y="2752920"/>
            <a:ext cx="201600" cy="142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7"/>
          <p:cNvSpPr/>
          <p:nvPr/>
        </p:nvSpPr>
        <p:spPr>
          <a:xfrm>
            <a:off x="4645080" y="255096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cc00"/>
                </a:solidFill>
                <a:latin typeface="Trebuchet MS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8"/>
          <p:cNvSpPr/>
          <p:nvPr/>
        </p:nvSpPr>
        <p:spPr>
          <a:xfrm>
            <a:off x="6689880" y="59054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6-01T13:40:19Z</dcterms:modified>
  <cp:revision>168</cp:revision>
  <dc:subject/>
  <dc:title>Konstrukce trojúhelníku podle věty us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36588567</vt:r8>
  </property>
  <property fmtid="{D5CDD505-2E9C-101B-9397-08002B2CF9AE}" pid="3" name="_AuthorEmail">
    <vt:lpwstr>bizova@vuppraha.cz</vt:lpwstr>
  </property>
  <property fmtid="{D5CDD505-2E9C-101B-9397-08002B2CF9AE}" pid="4" name="_AuthorEmailDisplayName">
    <vt:lpwstr>Tereza Bížová</vt:lpwstr>
  </property>
  <property fmtid="{D5CDD505-2E9C-101B-9397-08002B2CF9AE}" pid="5" name="_EmailSubject">
    <vt:lpwstr>znovu vložení 3 dum  přes p. Š.Macháňovou</vt:lpwstr>
  </property>
</Properties>
</file>