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wmf" ContentType="image/x-wmf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62F-C258-48A0-8AFC-7CD41513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640-6869-4A71-AADE-DC5EC2AD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DA6-DD8B-497B-80F6-D9516576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8B9-F4D6-418B-8A9C-C31A9555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EFD5-5043-4020-B5AC-05C8A6CD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817A-3EA2-47DD-BBA0-DCB478C7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FED5-8334-43BB-A30F-99067CC4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A969-9EA8-420C-B484-7893BDE1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24D3-76D6-41D7-AC74-777ED882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4A00-EC01-427D-B42E-AE72ACDF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7132-AF96-4E2F-A8ED-03AFDEAD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C3E-F716-4C8D-B1B0-A0C0A8B5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8D95-B2A7-49D5-8F0F-79D5B42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2C60-46D6-43F6-A819-CDA172A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CBBF-6059-4582-BAB3-3145F16D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1E6B-D329-41C7-964F-E0750B75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CA63-516C-455C-A3B5-7487F723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82E-4B94-42E1-864E-748C0374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F7D-9BC8-42EC-9ED2-F4F5DE41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A99-CDEB-4E4C-9E5C-4EC14750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334-CBC5-48F7-B3C6-5B3F3D6A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5BCF-01B4-4C9F-8A6D-10449997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C61-7C49-455D-9896-6EEE4CD5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502-68A2-40F1-A2BD-DACAF433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CB7E-07FD-48E9-BE4B-F902A5E0592C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F216-1840-41E6-8A0B-0BF5B27AFC57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hyperlink" Target="http://www.karlin.mff.cuni.cz/katedry/kdm/diplomky/cabri/cabrijava.php?FigFileName=kapitoly/trojuhelniky/delkystran.fig&amp;Trace=&amp;Spring=&amp;Step=&amp;Loop=&amp;Width=550&amp;Height=400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hyperlink" Target="http://www.horackova.cz/cabri/vyklad/631.ht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6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Trojúhelníková nerovno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4360" y="465444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Kdy lze a kdy nelze sestrojit trojúhelník </a:t>
            </a:r>
            <a:br>
              <a:rPr sz="2800"/>
            </a:b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podle věty s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yvození trojúhelníkové nerov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42920" y="2349360"/>
            <a:ext cx="7705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927000" y="1123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kusíme se nyní podle předcházejícího „návodu“ narýsovat čtyři následující trojúhelníky a rozebrat situace, které při jejich konstrukcích nasta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42840" y="1773360"/>
            <a:ext cx="7950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říklad č. 3: Sestrojte trojúhelník ABC, je-li a = 4 cm, b = 4 cm, c = 8 c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9" descr=""/>
          <p:cNvPicPr/>
          <p:nvPr/>
        </p:nvPicPr>
        <p:blipFill>
          <a:blip r:embed="rId2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0" descr=""/>
          <p:cNvPicPr/>
          <p:nvPr/>
        </p:nvPicPr>
        <p:blipFill>
          <a:blip r:embed="rId3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"/>
          <p:cNvPicPr/>
          <p:nvPr/>
        </p:nvPicPr>
        <p:blipFill>
          <a:blip r:embed="rId4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2" descr=""/>
          <p:cNvPicPr/>
          <p:nvPr/>
        </p:nvPicPr>
        <p:blipFill>
          <a:blip r:embed="rId5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3" descr=""/>
          <p:cNvPicPr/>
          <p:nvPr/>
        </p:nvPicPr>
        <p:blipFill>
          <a:blip r:embed="rId6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4" descr=""/>
          <p:cNvPicPr/>
          <p:nvPr/>
        </p:nvPicPr>
        <p:blipFill>
          <a:blip r:embed="rId7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2"/>
          <p:cNvSpPr/>
          <p:nvPr/>
        </p:nvSpPr>
        <p:spPr>
          <a:xfrm>
            <a:off x="6643800" y="4214880"/>
            <a:ext cx="22208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c = 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6643800" y="4500720"/>
            <a:ext cx="2290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k; k(B; a = 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6643800" y="5286240"/>
            <a:ext cx="180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6643800" y="5572080"/>
            <a:ext cx="2004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 Trojúhelník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6643800" y="4929120"/>
            <a:ext cx="2001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l; l(A; b = 4 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6643800" y="3857760"/>
            <a:ext cx="20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Postu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1116000" y="2492280"/>
            <a:ext cx="20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5"/>
          <p:cNvSpPr/>
          <p:nvPr/>
        </p:nvSpPr>
        <p:spPr>
          <a:xfrm>
            <a:off x="1187280" y="4290840"/>
            <a:ext cx="2089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Úloha nemá řešení, protože body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ABC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leží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v jedné přím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6"/>
          <p:cNvSpPr/>
          <p:nvPr/>
        </p:nvSpPr>
        <p:spPr>
          <a:xfrm flipV="1">
            <a:off x="6929280" y="5571720"/>
            <a:ext cx="1656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7"/>
          <p:cNvSpPr/>
          <p:nvPr/>
        </p:nvSpPr>
        <p:spPr>
          <a:xfrm>
            <a:off x="6929280" y="5614920"/>
            <a:ext cx="1659240" cy="344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yvození trojúhelníkové nerov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1000080" y="2357280"/>
            <a:ext cx="7705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927000" y="1123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kusíme se nyní podle předcházejícího „návodu“ narýsovat čtyři následující trojúhelníky a rozebrat situace, které při jejich konstrukcích nasta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942840" y="1773360"/>
            <a:ext cx="7950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říklad č. 4: Sestrojte trojúhelník ABC, je-li a = 4 cm, b = 3 cm, c = 8 c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0" descr=""/>
          <p:cNvPicPr/>
          <p:nvPr/>
        </p:nvPicPr>
        <p:blipFill>
          <a:blip r:embed="rId2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1" descr=""/>
          <p:cNvPicPr/>
          <p:nvPr/>
        </p:nvPicPr>
        <p:blipFill>
          <a:blip r:embed="rId3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2" descr=""/>
          <p:cNvPicPr/>
          <p:nvPr/>
        </p:nvPicPr>
        <p:blipFill>
          <a:blip r:embed="rId4"/>
          <a:stretch/>
        </p:blipFill>
        <p:spPr>
          <a:xfrm>
            <a:off x="1143000" y="2428920"/>
            <a:ext cx="5824440" cy="3878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2"/>
          <p:cNvSpPr/>
          <p:nvPr/>
        </p:nvSpPr>
        <p:spPr>
          <a:xfrm>
            <a:off x="6643800" y="4214880"/>
            <a:ext cx="2292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c = 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6643800" y="4500720"/>
            <a:ext cx="221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k; k(B; a = 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6643800" y="535788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6643800" y="4929120"/>
            <a:ext cx="2001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l; l(A; b = 3 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6643800" y="3857760"/>
            <a:ext cx="20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Postu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1116000" y="2492280"/>
            <a:ext cx="20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1187280" y="4578480"/>
            <a:ext cx="2089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Úloha nemá řešení, protože kružnice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k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a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l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se neprotínají, bod </a:t>
            </a:r>
            <a:r>
              <a:rPr b="1" i="1" lang="cs-CZ" sz="20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nevznik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3"/>
          <p:cNvSpPr/>
          <p:nvPr/>
        </p:nvSpPr>
        <p:spPr>
          <a:xfrm flipV="1">
            <a:off x="6761160" y="5300280"/>
            <a:ext cx="1655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4"/>
          <p:cNvSpPr/>
          <p:nvPr/>
        </p:nvSpPr>
        <p:spPr>
          <a:xfrm>
            <a:off x="6759360" y="5308560"/>
            <a:ext cx="1659240" cy="344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ová nerov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611280" y="1125360"/>
            <a:ext cx="806436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250920" y="765000"/>
            <a:ext cx="8642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Nyní si vše shrneme a pokusíme se sami vyvodit, kdy lze trojúhelník sestr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5" descr=""/>
          <p:cNvPicPr/>
          <p:nvPr/>
        </p:nvPicPr>
        <p:blipFill>
          <a:blip r:embed="rId2"/>
          <a:stretch/>
        </p:blipFill>
        <p:spPr>
          <a:xfrm>
            <a:off x="800280" y="1628640"/>
            <a:ext cx="3555720" cy="2367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6" descr=""/>
          <p:cNvPicPr/>
          <p:nvPr/>
        </p:nvPicPr>
        <p:blipFill>
          <a:blip r:embed="rId3"/>
          <a:stretch/>
        </p:blipFill>
        <p:spPr>
          <a:xfrm>
            <a:off x="4832280" y="1657440"/>
            <a:ext cx="3556080" cy="2367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7" descr=""/>
          <p:cNvPicPr/>
          <p:nvPr/>
        </p:nvPicPr>
        <p:blipFill>
          <a:blip r:embed="rId4"/>
          <a:stretch/>
        </p:blipFill>
        <p:spPr>
          <a:xfrm>
            <a:off x="826920" y="4014720"/>
            <a:ext cx="3556080" cy="2367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8" descr=""/>
          <p:cNvPicPr/>
          <p:nvPr/>
        </p:nvPicPr>
        <p:blipFill>
          <a:blip r:embed="rId5"/>
          <a:stretch/>
        </p:blipFill>
        <p:spPr>
          <a:xfrm>
            <a:off x="4903920" y="4014720"/>
            <a:ext cx="3555720" cy="23670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9"/>
          <p:cNvSpPr/>
          <p:nvPr/>
        </p:nvSpPr>
        <p:spPr>
          <a:xfrm>
            <a:off x="898560" y="1268280"/>
            <a:ext cx="345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1.) a=4 cm, b=6 cm, c=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4932360" y="1268280"/>
            <a:ext cx="345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2.) a=4 cm, b=5 cm, c=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1"/>
          <p:cNvSpPr/>
          <p:nvPr/>
        </p:nvSpPr>
        <p:spPr>
          <a:xfrm>
            <a:off x="912960" y="4076640"/>
            <a:ext cx="345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3.) a=4 cm, b=4 cm, c=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2"/>
          <p:cNvSpPr/>
          <p:nvPr/>
        </p:nvSpPr>
        <p:spPr>
          <a:xfrm>
            <a:off x="4946760" y="4076640"/>
            <a:ext cx="345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4.) a=4 cm, b=3 cm, c=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3"/>
          <p:cNvSpPr/>
          <p:nvPr/>
        </p:nvSpPr>
        <p:spPr>
          <a:xfrm>
            <a:off x="1303200" y="1211400"/>
            <a:ext cx="1871640" cy="503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5335560" y="1211400"/>
            <a:ext cx="1871640" cy="503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1332000" y="4019400"/>
            <a:ext cx="1871640" cy="503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6"/>
          <p:cNvSpPr/>
          <p:nvPr/>
        </p:nvSpPr>
        <p:spPr>
          <a:xfrm>
            <a:off x="5364000" y="4019400"/>
            <a:ext cx="1872000" cy="503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1461960" y="170028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a + b = 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8"/>
          <p:cNvSpPr/>
          <p:nvPr/>
        </p:nvSpPr>
        <p:spPr>
          <a:xfrm>
            <a:off x="5551560" y="1700280"/>
            <a:ext cx="19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a + b = 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9"/>
          <p:cNvSpPr/>
          <p:nvPr/>
        </p:nvSpPr>
        <p:spPr>
          <a:xfrm>
            <a:off x="1490760" y="4538520"/>
            <a:ext cx="19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a + b = 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0"/>
          <p:cNvSpPr/>
          <p:nvPr/>
        </p:nvSpPr>
        <p:spPr>
          <a:xfrm>
            <a:off x="5580000" y="453852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a + b = 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2"/>
          <p:cNvSpPr/>
          <p:nvPr/>
        </p:nvSpPr>
        <p:spPr>
          <a:xfrm>
            <a:off x="611280" y="1125360"/>
            <a:ext cx="8064360" cy="5328000"/>
          </a:xfrm>
          <a:prstGeom prst="rect">
            <a:avLst/>
          </a:prstGeom>
          <a:solidFill>
            <a:srgbClr val="ffffff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1"/>
          <p:cNvSpPr/>
          <p:nvPr/>
        </p:nvSpPr>
        <p:spPr>
          <a:xfrm>
            <a:off x="1649520" y="2174760"/>
            <a:ext cx="2317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a + b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5767560" y="2174760"/>
            <a:ext cx="2476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a + b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5"/>
          <p:cNvSpPr/>
          <p:nvPr/>
        </p:nvSpPr>
        <p:spPr>
          <a:xfrm>
            <a:off x="1647720" y="4984920"/>
            <a:ext cx="2317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a + b =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6"/>
          <p:cNvSpPr/>
          <p:nvPr/>
        </p:nvSpPr>
        <p:spPr>
          <a:xfrm>
            <a:off x="5765760" y="4984920"/>
            <a:ext cx="2476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a + b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0"/>
          <p:cNvSpPr/>
          <p:nvPr/>
        </p:nvSpPr>
        <p:spPr>
          <a:xfrm>
            <a:off x="1908000" y="2781360"/>
            <a:ext cx="5731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Trojúhelník jde sestroj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1"/>
          <p:cNvSpPr/>
          <p:nvPr/>
        </p:nvSpPr>
        <p:spPr>
          <a:xfrm>
            <a:off x="1692360" y="5589720"/>
            <a:ext cx="6164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Trojúhelník nejde sestroj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ová nerov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84360" y="1052640"/>
            <a:ext cx="7848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0"/>
          <p:cNvSpPr/>
          <p:nvPr/>
        </p:nvSpPr>
        <p:spPr>
          <a:xfrm>
            <a:off x="898560" y="1268280"/>
            <a:ext cx="7345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Trojúhelník jde sestrojit, je-li součet dvou kratších stran vetší než strana nejdelš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900000" y="3225960"/>
            <a:ext cx="7345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Častěji se setkáme s definicí a matematickým vyjádřením následujícím: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00cc00"/>
                </a:solidFill>
                <a:latin typeface="Trebuchet MS"/>
              </a:rPr>
              <a:t>V každém trojúhelníku je součet délek libovolných dvou stran větší než délka třetí stra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3"/>
          <p:cNvSpPr/>
          <p:nvPr/>
        </p:nvSpPr>
        <p:spPr>
          <a:xfrm>
            <a:off x="3767040" y="5025960"/>
            <a:ext cx="1812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a + b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3765600" y="5459400"/>
            <a:ext cx="1812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a + c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3765600" y="5905440"/>
            <a:ext cx="1812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b + c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ová nerovnos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84360" y="1052640"/>
            <a:ext cx="7848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j0301252"/>
          <p:cNvPicPr/>
          <p:nvPr/>
        </p:nvPicPr>
        <p:blipFill>
          <a:blip r:embed="rId2"/>
          <a:stretch/>
        </p:blipFill>
        <p:spPr>
          <a:xfrm>
            <a:off x="5506920" y="3768840"/>
            <a:ext cx="2952720" cy="252576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10"/>
          <p:cNvSpPr/>
          <p:nvPr/>
        </p:nvSpPr>
        <p:spPr>
          <a:xfrm>
            <a:off x="755640" y="1197000"/>
            <a:ext cx="5688000" cy="3384360"/>
          </a:xfrm>
          <a:prstGeom prst="cloudCallout">
            <a:avLst>
              <a:gd name="adj1" fmla="val 63115"/>
              <a:gd name="adj2" fmla="val 523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kud jsem vás ještě zcela nepřesvědčil o platnosti znění trojúhelníkové nerovnosti, tak si otevřete níže uvedený odkaz a měňte zadané délky stran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pohybem krajních bodů úseček v horní části rysu. Pozorujte, kdy trojúhelník vzniká a kdy ne. A pak mi řeknete, jestli už trojúhelníkové nerovnosti věří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900000" y="5157720"/>
            <a:ext cx="4924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karlin.mff.cuni.cz/katedry/kdm/diplomky/cabri/cabrijava.php?FigFileName=kapitoly/trojuhelniky/delkystran.fig&amp;Trace=&amp;Spring=&amp;Step=&amp;Loop=&amp;Width=550&amp;Height=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nstrukce trojúhelníku podle věty ss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684360" y="1052640"/>
            <a:ext cx="7848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j0301252"/>
          <p:cNvPicPr/>
          <p:nvPr/>
        </p:nvPicPr>
        <p:blipFill>
          <a:blip r:embed="rId2"/>
          <a:stretch/>
        </p:blipFill>
        <p:spPr>
          <a:xfrm>
            <a:off x="5506920" y="3768840"/>
            <a:ext cx="2952720" cy="252576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5"/>
          <p:cNvSpPr/>
          <p:nvPr/>
        </p:nvSpPr>
        <p:spPr>
          <a:xfrm>
            <a:off x="755640" y="1197000"/>
            <a:ext cx="5688000" cy="3384360"/>
          </a:xfrm>
          <a:prstGeom prst="cloudCallout">
            <a:avLst>
              <a:gd name="adj1" fmla="val 63115"/>
              <a:gd name="adj2" fmla="val 523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ště jednou si platnost trojúhelníkové nerovnosti můžete vyzkoušet u konstrukce trojúhelníku podle věty sss. Můžete myší měnit polohu bodů A, B a poloměry kružnic u konstrukce na níže uvedeném odkazu. Zkoumejte, kdy bude mít úloha 1, 0 nebo 2 řešení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00000" y="5157720"/>
            <a:ext cx="4924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horackova.cz/cabri/vyklad/63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68360" y="1700280"/>
            <a:ext cx="82072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468360" y="1109520"/>
            <a:ext cx="8164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, zda jde sestrojit trojúhelník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ABC,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pokud ano, sestrojte jej: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1 d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5 m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5,5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6661080" y="6093000"/>
            <a:ext cx="22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ro ukázku řešení, klik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468360" y="1700280"/>
            <a:ext cx="82072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468360" y="1109520"/>
            <a:ext cx="8164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, zda jde sestrojit trojúhelník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ABC,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pokud ano, sestrojte jej: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1 d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5 m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5,5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826920" y="1844640"/>
            <a:ext cx="252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= 1 dm = 100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826920" y="2276640"/>
            <a:ext cx="2521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 = 35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826920" y="27082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 = 5,5 cm = 5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611280" y="328464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022480" y="3660840"/>
            <a:ext cx="252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+ b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2022480" y="4092480"/>
            <a:ext cx="252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+ c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2022480" y="45244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 + c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3319560" y="3659040"/>
            <a:ext cx="25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00 + 35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5407200" y="3659040"/>
            <a:ext cx="25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35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3319560" y="4092480"/>
            <a:ext cx="25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00 + 55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3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5421240" y="4092480"/>
            <a:ext cx="252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55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3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3333600" y="45244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5 + 55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5435640" y="45244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90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1187280" y="544680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Trojúhelník nejde sestroj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0"/>
          <p:cNvSpPr/>
          <p:nvPr/>
        </p:nvSpPr>
        <p:spPr>
          <a:xfrm flipV="1">
            <a:off x="2771640" y="4609800"/>
            <a:ext cx="144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1"/>
          <p:cNvSpPr/>
          <p:nvPr/>
        </p:nvSpPr>
        <p:spPr>
          <a:xfrm flipV="1">
            <a:off x="4672080" y="4609800"/>
            <a:ext cx="144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2"/>
          <p:cNvSpPr/>
          <p:nvPr/>
        </p:nvSpPr>
        <p:spPr>
          <a:xfrm flipV="1">
            <a:off x="6184800" y="4595400"/>
            <a:ext cx="144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3"/>
          <p:cNvSpPr/>
          <p:nvPr/>
        </p:nvSpPr>
        <p:spPr>
          <a:xfrm>
            <a:off x="4643280" y="1846440"/>
            <a:ext cx="4176720" cy="2734920"/>
          </a:xfrm>
          <a:prstGeom prst="cloudCallout">
            <a:avLst>
              <a:gd name="adj1" fmla="val -86185"/>
              <a:gd name="adj2" fmla="val -169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ychlejší by samozřejmě bylo sečíst rovnou dvě nejkratší strany a zjistit, zda jejich součet je větší než strana nejdelší. Rovnou bychom zjistili, že trojúhelník nelze sestrojit, a nemuseli bychom kontrolovat další dvě nerovn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68360" y="1700280"/>
            <a:ext cx="82072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68360" y="1109520"/>
            <a:ext cx="8164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, zda jde sestrojit trojúhelník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XYZ,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pokud ano, sestrojte jej: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75 m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1,05 d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z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6661080" y="6093000"/>
            <a:ext cx="22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ro ukázku řešení, klik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0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468360" y="1700280"/>
            <a:ext cx="82072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68360" y="1109520"/>
            <a:ext cx="8164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, zda jde sestrojit trojúhelník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XYZ,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pokud ano, sestrojte jej: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75 m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1,05 d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z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826920" y="1844640"/>
            <a:ext cx="252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x = 75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826920" y="2276640"/>
            <a:ext cx="3240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y = 1,05 dm = 105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826920" y="27082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 = 3 cm = 3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"/>
          <p:cNvSpPr/>
          <p:nvPr/>
        </p:nvSpPr>
        <p:spPr>
          <a:xfrm>
            <a:off x="611280" y="328464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755640" y="371628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věříme, zda součet kratších stran je větší než strana nejdelš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2022480" y="45244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x + z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3333600" y="45244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75 + 30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5435640" y="45244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05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1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1187280" y="5446800"/>
            <a:ext cx="741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Trojúhelník nejde sestroj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 flipV="1">
            <a:off x="2757600" y="4609800"/>
            <a:ext cx="144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0"/>
          <p:cNvSpPr/>
          <p:nvPr/>
        </p:nvSpPr>
        <p:spPr>
          <a:xfrm flipV="1">
            <a:off x="4657680" y="4609800"/>
            <a:ext cx="144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1"/>
          <p:cNvSpPr/>
          <p:nvPr/>
        </p:nvSpPr>
        <p:spPr>
          <a:xfrm flipV="1">
            <a:off x="6313320" y="4595400"/>
            <a:ext cx="144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900000" y="2276640"/>
            <a:ext cx="129564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900000" y="3170160"/>
            <a:ext cx="2159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Trojúhelník je rovinný geometrický útvar sestávající ze tří stran, tří vrcholů a tří vnitřních úh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eme si nejdříve základní údaje, které už o trojúhelnících ví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268360" y="2060640"/>
            <a:ext cx="4032360" cy="21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282760" y="2060640"/>
            <a:ext cx="1656000" cy="20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268360" y="2060640"/>
            <a:ext cx="223236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2195280" y="2060640"/>
            <a:ext cx="158436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94040" y="2060640"/>
            <a:ext cx="293868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3780000" y="2060640"/>
            <a:ext cx="2087280" cy="79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H="1">
            <a:off x="2411280" y="2076480"/>
            <a:ext cx="432144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H="1">
            <a:off x="6659640" y="2076480"/>
            <a:ext cx="8712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"/>
          <p:cNvSpPr/>
          <p:nvPr/>
        </p:nvSpPr>
        <p:spPr>
          <a:xfrm flipH="1">
            <a:off x="5867280" y="2076480"/>
            <a:ext cx="865440" cy="1136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468360" y="1700280"/>
            <a:ext cx="82072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468360" y="1109520"/>
            <a:ext cx="8164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, zda jde sestrojit trojúhelník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DE,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pokud ano, sestrojte jej: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45 m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1 d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e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8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6661080" y="6093000"/>
            <a:ext cx="22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ro ukázku řešení, klik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468360" y="1700280"/>
            <a:ext cx="82072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68360" y="1109520"/>
            <a:ext cx="8164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, zda jde sestrojit trojúhelník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DE,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pokud ano, sestrojte jej: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45 m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1 d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e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8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826920" y="1844640"/>
            <a:ext cx="252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 = 45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826920" y="2276640"/>
            <a:ext cx="3240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d = 1 dm = 100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826920" y="27082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e = 8 cm = 8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611280" y="328464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755640" y="3716280"/>
            <a:ext cx="78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věříme, zda součet kratších stran je větší než strana nejdelš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2022480" y="45244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 + e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3333600" y="45244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45 + 80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5435640" y="4524480"/>
            <a:ext cx="288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25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1474920" y="5446800"/>
            <a:ext cx="691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Trojúhelník jde sestroj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900000" y="2276640"/>
            <a:ext cx="129564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900000" y="3170160"/>
            <a:ext cx="2159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68360" y="1700280"/>
            <a:ext cx="820728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68360" y="1109520"/>
            <a:ext cx="81644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, zda jde sestrojit trojúhelník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DE,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pokud ano, sestrojte jej: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45 m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d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1 dm,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e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8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5" descr=""/>
          <p:cNvPicPr/>
          <p:nvPr/>
        </p:nvPicPr>
        <p:blipFill>
          <a:blip r:embed="rId2"/>
          <a:stretch/>
        </p:blipFill>
        <p:spPr>
          <a:xfrm>
            <a:off x="539640" y="2049480"/>
            <a:ext cx="6532560" cy="4043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6" descr=""/>
          <p:cNvPicPr/>
          <p:nvPr/>
        </p:nvPicPr>
        <p:blipFill>
          <a:blip r:embed="rId3"/>
          <a:stretch/>
        </p:blipFill>
        <p:spPr>
          <a:xfrm>
            <a:off x="539640" y="2049480"/>
            <a:ext cx="6532560" cy="4043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7" descr=""/>
          <p:cNvPicPr/>
          <p:nvPr/>
        </p:nvPicPr>
        <p:blipFill>
          <a:blip r:embed="rId4"/>
          <a:stretch/>
        </p:blipFill>
        <p:spPr>
          <a:xfrm>
            <a:off x="539640" y="2049480"/>
            <a:ext cx="6532560" cy="4043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8" descr=""/>
          <p:cNvPicPr/>
          <p:nvPr/>
        </p:nvPicPr>
        <p:blipFill>
          <a:blip r:embed="rId5"/>
          <a:stretch/>
        </p:blipFill>
        <p:spPr>
          <a:xfrm>
            <a:off x="539640" y="2049480"/>
            <a:ext cx="6532560" cy="4043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9" descr=""/>
          <p:cNvPicPr/>
          <p:nvPr/>
        </p:nvPicPr>
        <p:blipFill>
          <a:blip r:embed="rId6"/>
          <a:stretch/>
        </p:blipFill>
        <p:spPr>
          <a:xfrm>
            <a:off x="539640" y="2049480"/>
            <a:ext cx="6532560" cy="4043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0" descr=""/>
          <p:cNvPicPr/>
          <p:nvPr/>
        </p:nvPicPr>
        <p:blipFill>
          <a:blip r:embed="rId7"/>
          <a:stretch/>
        </p:blipFill>
        <p:spPr>
          <a:xfrm>
            <a:off x="539640" y="2049480"/>
            <a:ext cx="6532560" cy="40435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37"/>
          <p:cNvSpPr/>
          <p:nvPr/>
        </p:nvSpPr>
        <p:spPr>
          <a:xfrm>
            <a:off x="6500880" y="4357800"/>
            <a:ext cx="22320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CD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CD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e = 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8"/>
          <p:cNvSpPr/>
          <p:nvPr/>
        </p:nvSpPr>
        <p:spPr>
          <a:xfrm>
            <a:off x="6500880" y="4714920"/>
            <a:ext cx="2319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k; k(D; c = 4,5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9"/>
          <p:cNvSpPr/>
          <p:nvPr/>
        </p:nvSpPr>
        <p:spPr>
          <a:xfrm>
            <a:off x="6529320" y="5445000"/>
            <a:ext cx="180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E; E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0"/>
          <p:cNvSpPr/>
          <p:nvPr/>
        </p:nvSpPr>
        <p:spPr>
          <a:xfrm>
            <a:off x="6526080" y="5762520"/>
            <a:ext cx="2005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 Trojúhelník C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1"/>
          <p:cNvSpPr/>
          <p:nvPr/>
        </p:nvSpPr>
        <p:spPr>
          <a:xfrm>
            <a:off x="6500880" y="5072040"/>
            <a:ext cx="22302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l; l(C; d = 10 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2"/>
          <p:cNvSpPr/>
          <p:nvPr/>
        </p:nvSpPr>
        <p:spPr>
          <a:xfrm>
            <a:off x="6515280" y="3976560"/>
            <a:ext cx="20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Postu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3"/>
          <p:cNvSpPr/>
          <p:nvPr/>
        </p:nvSpPr>
        <p:spPr>
          <a:xfrm>
            <a:off x="539640" y="1844640"/>
            <a:ext cx="2089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4"/>
          <p:cNvSpPr/>
          <p:nvPr/>
        </p:nvSpPr>
        <p:spPr>
          <a:xfrm>
            <a:off x="582480" y="4075200"/>
            <a:ext cx="2089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Úloha má jedno řeš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ak přesnou ruku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381" name="Picture 6" descr="j0301252"/>
          <p:cNvPicPr/>
          <p:nvPr/>
        </p:nvPicPr>
        <p:blipFill>
          <a:blip r:embed="rId2"/>
          <a:stretch/>
        </p:blipFill>
        <p:spPr>
          <a:xfrm>
            <a:off x="3421080" y="1700280"/>
            <a:ext cx="4967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udeme-li chtít být ještě přesnější, řekneme, že trojúhelník ABC je průnikem tří polorovin ABC, BCA, CAB. Přitom však musí platit, že body A, B a C jsou různé a neleží v jedné přím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928800" y="14270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udeme-li chtít být ještě přesnější, řekneme, že trojúhelník ABC je průnikem tří polorovin </a:t>
            </a:r>
            <a:r>
              <a:rPr b="1" lang="cs-CZ" sz="2000" spc="-1" strike="noStrike">
                <a:solidFill>
                  <a:srgbClr val="ffff00"/>
                </a:solidFill>
                <a:latin typeface="Trebuchet MS"/>
              </a:rPr>
              <a:t>AB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BCA, CAB. Přitom však musí platit, že body A, B a C jsou různé a neleží v jedné přím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928800" y="14270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udeme-li chtít být ještě přesnější, řekneme, že trojúhelník ABC je průnikem tří polorovin </a:t>
            </a:r>
            <a:r>
              <a:rPr b="1" lang="cs-CZ" sz="2000" spc="-1" strike="noStrike">
                <a:solidFill>
                  <a:srgbClr val="ffff00"/>
                </a:solidFill>
                <a:latin typeface="Trebuchet MS"/>
              </a:rPr>
              <a:t>AB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BC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CAB. Přitom však musí platit, že body A, B a C jsou různé a neleží v jedné přím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928800" y="14270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udeme-li chtít být ještě přesnější, řekneme, že trojúhelník ABC je průnikem tří polorovin </a:t>
            </a:r>
            <a:r>
              <a:rPr b="1" lang="cs-CZ" sz="2000" spc="-1" strike="noStrike">
                <a:solidFill>
                  <a:srgbClr val="ffff00"/>
                </a:solidFill>
                <a:latin typeface="Trebuchet MS"/>
              </a:rPr>
              <a:t>AB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BC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CAB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 Přitom však musí platit, že body A, B a C jsou různé a neleží v jedné přím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eme si nejdříve základní vlastnosti, které už o trojúhelnících ví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"/>
          <p:cNvPicPr/>
          <p:nvPr/>
        </p:nvPicPr>
        <p:blipFill>
          <a:blip r:embed="rId3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"/>
          <p:cNvPicPr/>
          <p:nvPr/>
        </p:nvPicPr>
        <p:blipFill>
          <a:blip r:embed="rId4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"/>
          <p:cNvPicPr/>
          <p:nvPr/>
        </p:nvPicPr>
        <p:blipFill>
          <a:blip r:embed="rId5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"/>
          <p:cNvPicPr/>
          <p:nvPr/>
        </p:nvPicPr>
        <p:blipFill>
          <a:blip r:embed="rId6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"/>
          <p:cNvPicPr/>
          <p:nvPr/>
        </p:nvPicPr>
        <p:blipFill>
          <a:blip r:embed="rId7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"/>
          <p:cNvPicPr/>
          <p:nvPr/>
        </p:nvPicPr>
        <p:blipFill>
          <a:blip r:embed="rId8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4" descr=""/>
          <p:cNvPicPr/>
          <p:nvPr/>
        </p:nvPicPr>
        <p:blipFill>
          <a:blip r:embed="rId9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"/>
          <p:cNvPicPr/>
          <p:nvPr/>
        </p:nvPicPr>
        <p:blipFill>
          <a:blip r:embed="rId10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"/>
          <p:cNvPicPr/>
          <p:nvPr/>
        </p:nvPicPr>
        <p:blipFill>
          <a:blip r:embed="rId11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"/>
          <p:cNvPicPr/>
          <p:nvPr/>
        </p:nvPicPr>
        <p:blipFill>
          <a:blip r:embed="rId12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0" descr=""/>
          <p:cNvPicPr/>
          <p:nvPr/>
        </p:nvPicPr>
        <p:blipFill>
          <a:blip r:embed="rId13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1" descr=""/>
          <p:cNvPicPr/>
          <p:nvPr/>
        </p:nvPicPr>
        <p:blipFill>
          <a:blip r:embed="rId14"/>
          <a:stretch/>
        </p:blipFill>
        <p:spPr>
          <a:xfrm>
            <a:off x="1852560" y="2417760"/>
            <a:ext cx="5438880" cy="3819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2"/>
          <p:cNvSpPr/>
          <p:nvPr/>
        </p:nvSpPr>
        <p:spPr>
          <a:xfrm>
            <a:off x="928800" y="14270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udeme-li chtít být ještě přesnější, řekneme, že trojúhelník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B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je průnikem tří polorovin </a:t>
            </a:r>
            <a:r>
              <a:rPr b="1" lang="cs-CZ" sz="2000" spc="-1" strike="noStrike">
                <a:solidFill>
                  <a:srgbClr val="ffff00"/>
                </a:solidFill>
                <a:latin typeface="Trebuchet MS"/>
              </a:rPr>
              <a:t>AB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BC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CAB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 Přitom však musí platit, že body A, B a C jsou různé a neleží v jedné přím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 označová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927000" y="907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ozor při značení vrcholů a stran trojúhel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1835280" y="1628640"/>
            <a:ext cx="4392360" cy="266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 flipH="1">
            <a:off x="2268000" y="1628640"/>
            <a:ext cx="1079640" cy="396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941400" y="1197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trana a proti vrcholu A, strana b proti vrcholu B, strana c proti vrcholu 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V="1">
            <a:off x="2484360" y="4365720"/>
            <a:ext cx="37432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4067280" y="1628640"/>
            <a:ext cx="288720" cy="252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5940360" y="1628640"/>
            <a:ext cx="86364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 flipH="1" flipV="1">
            <a:off x="4284360" y="4365720"/>
            <a:ext cx="237492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H="1">
            <a:off x="4571640" y="1628640"/>
            <a:ext cx="230508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4"/>
          <p:cNvSpPr/>
          <p:nvPr/>
        </p:nvSpPr>
        <p:spPr>
          <a:xfrm flipH="1">
            <a:off x="6011640" y="1628640"/>
            <a:ext cx="230508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4572000" y="3141720"/>
            <a:ext cx="1295280" cy="251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16"/>
          <p:cNvSpPr/>
          <p:nvPr/>
        </p:nvSpPr>
        <p:spPr>
          <a:xfrm>
            <a:off x="2270160" y="2924280"/>
            <a:ext cx="5543640" cy="374472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938160" y="1628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opis vrcholů začínáme obvykle v levém dolním rohu, ale vždy popisujeme vrcholy ve směru proti pohybu hodinových ručič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11280" y="1052640"/>
            <a:ext cx="8064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nstrukce trojúhelník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11280" y="113976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Z jakých částí se skládá naše činnost prováděná před, během a po konstrukci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82560" y="1773360"/>
            <a:ext cx="7777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1. Je dobré zjistit, pokud to jde už ze zadání konstrukce, zda trojúhelník lze vůbec sestrojit, abychom zbytečně neztráceli čas. Ja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258920" y="2205000"/>
            <a:ext cx="648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Trebuchet MS"/>
              </a:rPr>
              <a:t>Např. pomocí trojúhelníkové nerovnosti, velikosti úhlů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684360" y="270828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2. Načrtnout si obrázek, v němž si vyznačíme zadané údaje. Udělat si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náčrt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konstruované situ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684360" y="3355920"/>
            <a:ext cx="792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3. Rozebrat si postup, podle kterého budeme trojúhelník rýsovat. To znamená určit si, které znalosti nám při konstrukci trojúhelníku pomohou a j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1258920" y="4149720"/>
            <a:ext cx="7345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Trebuchet MS"/>
              </a:rPr>
              <a:t>Např. vlastnosti trojúhelníku a jiných známých geometrických útvarů nebo množiny bodů dané vlastn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684360" y="465300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4. Zapsat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postup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konstrukce, stanovený na základě provedeného rozbor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684360" y="522936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5. Podle zapsaného postupu uskutečnit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konstrukci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a narýsovat zadaný trojúhelní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684360" y="5805360"/>
            <a:ext cx="7920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6. Zapsat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počet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všech možných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řešení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zadané úloh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1258920" y="5778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Obdobně si zopakujeme standardní postup při konstrukčních úlohá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9" descr=""/>
          <p:cNvPicPr/>
          <p:nvPr/>
        </p:nvPicPr>
        <p:blipFill>
          <a:blip r:embed="rId2"/>
          <a:stretch/>
        </p:blipFill>
        <p:spPr>
          <a:xfrm>
            <a:off x="1450800" y="2421000"/>
            <a:ext cx="6073920" cy="3849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914400" y="188748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nstrukce trojúhelníku podle věty ss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95200" y="67788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a = 5 cm, b = 7 cm, c = 8 cm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9"/>
          <p:cNvSpPr/>
          <p:nvPr/>
        </p:nvSpPr>
        <p:spPr>
          <a:xfrm>
            <a:off x="1965240" y="5675400"/>
            <a:ext cx="4962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0"/>
          <p:cNvSpPr/>
          <p:nvPr/>
        </p:nvSpPr>
        <p:spPr>
          <a:xfrm flipH="1" flipV="1">
            <a:off x="5355000" y="2988360"/>
            <a:ext cx="1564560" cy="2678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3"/>
          <p:cNvSpPr/>
          <p:nvPr/>
        </p:nvSpPr>
        <p:spPr>
          <a:xfrm flipV="1">
            <a:off x="1950120" y="2977920"/>
            <a:ext cx="3420360" cy="2703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4"/>
          <p:cNvSpPr/>
          <p:nvPr/>
        </p:nvSpPr>
        <p:spPr>
          <a:xfrm>
            <a:off x="4083120" y="5661000"/>
            <a:ext cx="1131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6227640" y="3948120"/>
            <a:ext cx="936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a = 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2916360" y="394812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b = 7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755640" y="1268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šechny kroky kromě prvního, tj. určení, zda lze trojúhelník o zadaných stranách vůbec sestrojit, jsme se už naučili. Tak si je nyní rychle zopakujeme a podíváme se právě na trojúhelníkovou nerov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2556000" y="1038240"/>
            <a:ext cx="3168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c = 8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4784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stup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2557440" y="1368360"/>
            <a:ext cx="28065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2. k; k(B; a = 5 cm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8"/>
          <p:cNvSpPr/>
          <p:nvPr/>
        </p:nvSpPr>
        <p:spPr>
          <a:xfrm>
            <a:off x="5784840" y="1327320"/>
            <a:ext cx="3359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5. Trojúhelník AB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2570040" y="1755720"/>
            <a:ext cx="4321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3. l; l(A; a = 7 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7"/>
          <p:cNvSpPr/>
          <p:nvPr/>
        </p:nvSpPr>
        <p:spPr>
          <a:xfrm>
            <a:off x="1258920" y="58197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8"/>
          <p:cNvSpPr/>
          <p:nvPr/>
        </p:nvSpPr>
        <p:spPr>
          <a:xfrm>
            <a:off x="7380360" y="5691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9"/>
          <p:cNvSpPr/>
          <p:nvPr/>
        </p:nvSpPr>
        <p:spPr>
          <a:xfrm>
            <a:off x="198756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0"/>
          <p:cNvSpPr/>
          <p:nvPr/>
        </p:nvSpPr>
        <p:spPr>
          <a:xfrm>
            <a:off x="695628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86"/>
          <p:cNvSpPr/>
          <p:nvPr/>
        </p:nvSpPr>
        <p:spPr>
          <a:xfrm>
            <a:off x="1979640" y="2514600"/>
            <a:ext cx="3882960" cy="329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4932360" y="234936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88"/>
          <p:cNvSpPr/>
          <p:nvPr/>
        </p:nvSpPr>
        <p:spPr>
          <a:xfrm rot="18317400">
            <a:off x="4402440" y="2508840"/>
            <a:ext cx="3759120" cy="3110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9"/>
          <p:cNvSpPr/>
          <p:nvPr/>
        </p:nvSpPr>
        <p:spPr>
          <a:xfrm>
            <a:off x="7308720" y="23954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0"/>
          <p:cNvSpPr/>
          <p:nvPr/>
        </p:nvSpPr>
        <p:spPr>
          <a:xfrm>
            <a:off x="1979640" y="5818320"/>
            <a:ext cx="4976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1"/>
          <p:cNvSpPr/>
          <p:nvPr/>
        </p:nvSpPr>
        <p:spPr>
          <a:xfrm flipH="1" flipV="1">
            <a:off x="5392440" y="3135240"/>
            <a:ext cx="1561680" cy="267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2"/>
          <p:cNvSpPr/>
          <p:nvPr/>
        </p:nvSpPr>
        <p:spPr>
          <a:xfrm flipH="1">
            <a:off x="1979640" y="3116160"/>
            <a:ext cx="3419280" cy="269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3"/>
          <p:cNvSpPr/>
          <p:nvPr/>
        </p:nvSpPr>
        <p:spPr>
          <a:xfrm>
            <a:off x="1857240" y="590724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4"/>
          <p:cNvSpPr/>
          <p:nvPr/>
        </p:nvSpPr>
        <p:spPr>
          <a:xfrm>
            <a:off x="6851520" y="59054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6"/>
          <p:cNvSpPr/>
          <p:nvPr/>
        </p:nvSpPr>
        <p:spPr>
          <a:xfrm>
            <a:off x="5292720" y="274968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0"/>
          <p:cNvSpPr/>
          <p:nvPr/>
        </p:nvSpPr>
        <p:spPr>
          <a:xfrm>
            <a:off x="1258920" y="3500280"/>
            <a:ext cx="20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yvození trojúhelníkové nerov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42920" y="2349360"/>
            <a:ext cx="7705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927000" y="1123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kusíme se nyní podle předcházejícího „návodu“ narýsovat čtyři následující trojúhelníky a rozebrat situace, které při jejich konstrukcích nasta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5"/>
          <p:cNvSpPr/>
          <p:nvPr/>
        </p:nvSpPr>
        <p:spPr>
          <a:xfrm>
            <a:off x="942840" y="1773360"/>
            <a:ext cx="7950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říklad č. 1: Sestrojte trojúhelník ABC, je-li a = 4 cm, b = 6 cm, c = 8 c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6" descr=""/>
          <p:cNvPicPr/>
          <p:nvPr/>
        </p:nvPicPr>
        <p:blipFill>
          <a:blip r:embed="rId2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8" descr=""/>
          <p:cNvPicPr/>
          <p:nvPr/>
        </p:nvPicPr>
        <p:blipFill>
          <a:blip r:embed="rId3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9" descr=""/>
          <p:cNvPicPr/>
          <p:nvPr/>
        </p:nvPicPr>
        <p:blipFill>
          <a:blip r:embed="rId4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0" descr=""/>
          <p:cNvPicPr/>
          <p:nvPr/>
        </p:nvPicPr>
        <p:blipFill>
          <a:blip r:embed="rId5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1" descr=""/>
          <p:cNvPicPr/>
          <p:nvPr/>
        </p:nvPicPr>
        <p:blipFill>
          <a:blip r:embed="rId6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2" descr=""/>
          <p:cNvPicPr/>
          <p:nvPr/>
        </p:nvPicPr>
        <p:blipFill>
          <a:blip r:embed="rId7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3"/>
          <p:cNvSpPr/>
          <p:nvPr/>
        </p:nvSpPr>
        <p:spPr>
          <a:xfrm>
            <a:off x="6643800" y="4214880"/>
            <a:ext cx="2214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c = 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4"/>
          <p:cNvSpPr/>
          <p:nvPr/>
        </p:nvSpPr>
        <p:spPr>
          <a:xfrm>
            <a:off x="6643800" y="4500720"/>
            <a:ext cx="221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k; k(B; a = 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5"/>
          <p:cNvSpPr/>
          <p:nvPr/>
        </p:nvSpPr>
        <p:spPr>
          <a:xfrm>
            <a:off x="6643800" y="535788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6"/>
          <p:cNvSpPr/>
          <p:nvPr/>
        </p:nvSpPr>
        <p:spPr>
          <a:xfrm>
            <a:off x="6643800" y="5643720"/>
            <a:ext cx="2004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 Trojúhelník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7"/>
          <p:cNvSpPr/>
          <p:nvPr/>
        </p:nvSpPr>
        <p:spPr>
          <a:xfrm>
            <a:off x="6643800" y="4929120"/>
            <a:ext cx="2076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l; l(A; b = 6 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8"/>
          <p:cNvSpPr/>
          <p:nvPr/>
        </p:nvSpPr>
        <p:spPr>
          <a:xfrm>
            <a:off x="6643800" y="3857760"/>
            <a:ext cx="20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Postu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9"/>
          <p:cNvSpPr/>
          <p:nvPr/>
        </p:nvSpPr>
        <p:spPr>
          <a:xfrm>
            <a:off x="1116000" y="2492280"/>
            <a:ext cx="20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0"/>
          <p:cNvSpPr/>
          <p:nvPr/>
        </p:nvSpPr>
        <p:spPr>
          <a:xfrm>
            <a:off x="1187280" y="4290840"/>
            <a:ext cx="2089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Úloha má jedno řeš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yvození trojúhelníkové nerov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042920" y="2349360"/>
            <a:ext cx="7705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927000" y="1123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kusíme se nyní podle předcházejícího „návodu“ narýsovat čtyři následující trojúhelníky a rozebrat situace, které při jejich konstrukcích nasta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42840" y="1773360"/>
            <a:ext cx="7950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říklad č. 2: Sestrojte trojúhelník ABC, je-li a = 4 cm, b = 5 cm, c = 8 c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9" descr=""/>
          <p:cNvPicPr/>
          <p:nvPr/>
        </p:nvPicPr>
        <p:blipFill>
          <a:blip r:embed="rId2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" descr=""/>
          <p:cNvPicPr/>
          <p:nvPr/>
        </p:nvPicPr>
        <p:blipFill>
          <a:blip r:embed="rId3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"/>
          <p:cNvPicPr/>
          <p:nvPr/>
        </p:nvPicPr>
        <p:blipFill>
          <a:blip r:embed="rId4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"/>
          <p:cNvPicPr/>
          <p:nvPr/>
        </p:nvPicPr>
        <p:blipFill>
          <a:blip r:embed="rId5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"/>
          <p:cNvPicPr/>
          <p:nvPr/>
        </p:nvPicPr>
        <p:blipFill>
          <a:blip r:embed="rId6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4" descr=""/>
          <p:cNvPicPr/>
          <p:nvPr/>
        </p:nvPicPr>
        <p:blipFill>
          <a:blip r:embed="rId7"/>
          <a:stretch/>
        </p:blipFill>
        <p:spPr>
          <a:xfrm>
            <a:off x="1123920" y="2411280"/>
            <a:ext cx="5824440" cy="38782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2"/>
          <p:cNvSpPr/>
          <p:nvPr/>
        </p:nvSpPr>
        <p:spPr>
          <a:xfrm>
            <a:off x="6643800" y="4214880"/>
            <a:ext cx="2292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c = 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6643800" y="4572000"/>
            <a:ext cx="2085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k; k(B; a = 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6643800" y="5286240"/>
            <a:ext cx="180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6643800" y="5643720"/>
            <a:ext cx="2004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 Trojúhelník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6643800" y="4929120"/>
            <a:ext cx="2001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l; l(A; b = 5 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6643800" y="3857760"/>
            <a:ext cx="20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Postu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1116000" y="2492280"/>
            <a:ext cx="20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Konstruk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187280" y="4290840"/>
            <a:ext cx="2089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Úloha má jedno řeš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6-02T12:17:42Z</dcterms:modified>
  <cp:revision>158</cp:revision>
  <dc:subject/>
  <dc:title>Trojúhelníková nerovnos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36130520</vt:r8>
  </property>
  <property fmtid="{D5CDD505-2E9C-101B-9397-08002B2CF9AE}" pid="3" name="_AuthorEmail">
    <vt:lpwstr>bizova@vuppraha.cz</vt:lpwstr>
  </property>
  <property fmtid="{D5CDD505-2E9C-101B-9397-08002B2CF9AE}" pid="4" name="_AuthorEmailDisplayName">
    <vt:lpwstr>Tereza Bížová</vt:lpwstr>
  </property>
  <property fmtid="{D5CDD505-2E9C-101B-9397-08002B2CF9AE}" pid="5" name="_EmailSubject">
    <vt:lpwstr>znovu vložení 3 dum  přes p. Š.Macháňovou</vt:lpwstr>
  </property>
</Properties>
</file>