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811-CFE8-407B-97B7-80EDFEA5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975-9803-4D04-8C19-0BD3176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F78-2F25-4F18-BE4D-528C9851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C1C-D85C-423F-8AD7-A40FD2C6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B44E-7A6C-4A8D-8AAC-27EB2913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96F0-D4D0-4B5F-BE63-4B0928B0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4B59-AE18-4A5B-A1D4-E03FA373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FB54-084D-492E-A1A0-1EE710CE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F7FB-CF9D-4F96-A65E-5F19A759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212F-38D4-4484-9EA0-4E02F92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C63-BC3D-4D67-A1A8-3E3496A2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344-7509-43D0-8132-E9C41D0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083D-936B-4053-91E7-BC21DB0E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4780-F642-43CC-800B-0B58EFE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A8D-3E8A-4956-89E5-4D66223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69D3-D6DC-4C86-A0F4-395A50A4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6626-1C35-4FD3-9318-DE0005E7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626-BEBB-4036-A7BE-605FEC9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95B-F02D-4299-9BDF-C0C73A6C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1F4-4D15-400F-8E47-77DB299D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117-3393-47AD-8CB0-259F3935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27F-CCF9-419B-A34D-90FB5AA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8A1-9E89-420E-B946-E097126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E8E-EB6B-4A26-8A54-9FA6E9F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98F4-8489-489D-AE2A-BD220CAA24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8327-3252-4075-8923-B90C5F3AED8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dvě strany a těžnici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k jedné z n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= 5 cm, b = 5 cm, t</a:t>
            </a:r>
            <a:r>
              <a:rPr b="1" lang="en-US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1087560" y="1812960"/>
            <a:ext cx="6940440" cy="44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5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2 cm, a = 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8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9"/>
          <a:stretch/>
        </p:blipFill>
        <p:spPr>
          <a:xfrm>
            <a:off x="1332000" y="1793880"/>
            <a:ext cx="6480000" cy="44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obrá rada na závě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1116000" y="1630440"/>
            <a:ext cx="73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2205000"/>
            <a:ext cx="734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při konstrukci trojúhelníku zadána těžnice, použijeme ji k sestrojení kružnice se středem ve středu příslušné strany a poloměrem o velikosti dané těž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4510080"/>
            <a:ext cx="755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Například: Je-li dána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těžnice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, začneme konstrukci stran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pokračujeme kružnicí se středem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ve středu strany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poloměrem o velikosti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t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421080" y="1700280"/>
            <a:ext cx="49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2421000"/>
            <a:ext cx="5824440" cy="3865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, co víme o těžnicích trojúhelníku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82560" y="765000"/>
            <a:ext cx="8137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trojúhelníku j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sečka spojující vrchol trojúhelníku se středem jeho protilehlé strany; 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zdálenost vrcholu a středu protější (příslušné) stran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119700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Máme tři strany a tři vrcholy – tudíž i tři těžni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49868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načíme je v závislosti na označení příslušných vrcholů a stran –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11640" y="1844640"/>
            <a:ext cx="3168720" cy="3097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79640" y="1844640"/>
            <a:ext cx="2087640" cy="316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64000" y="1844640"/>
            <a:ext cx="2592720" cy="230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8003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se protínají v jednom bodě - těžiš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133720"/>
            <a:ext cx="144360" cy="237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1844640"/>
            <a:ext cx="6913800" cy="45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těžnice trojúhel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105264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ěžiště dělí těžnice v poměru 2:1 tak, že delší úsek těžnice leží vždy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 vrcholu. To znamená, že úsek těžnice od vrcholu do těžiště tvoří vždy 2/3 celkové délky těžnice.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575000">
            <a:off x="5592240" y="2408400"/>
            <a:ext cx="320760" cy="2376360"/>
          </a:xfrm>
          <a:custGeom>
            <a:avLst/>
            <a:gdLst>
              <a:gd name="textAreaLeft" fmla="*/ 0 w 320760"/>
              <a:gd name="textAreaRight" fmla="*/ 115920 w 3207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3577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575000">
            <a:off x="4774680" y="4611240"/>
            <a:ext cx="320760" cy="118116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1160"/>
              <a:gd name="textAreaBottom" fmla="*/ 11505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60880" y="49705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279800">
            <a:off x="3354480" y="3695040"/>
            <a:ext cx="320760" cy="3313080"/>
          </a:xfrm>
          <a:custGeom>
            <a:avLst/>
            <a:gdLst>
              <a:gd name="textAreaLeft" fmla="*/ 0 w 320760"/>
              <a:gd name="textAreaRight" fmla="*/ 115920 w 3207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62400" y="527220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4252800">
            <a:off x="5724360" y="3690720"/>
            <a:ext cx="230040" cy="1611360"/>
          </a:xfrm>
          <a:custGeom>
            <a:avLst/>
            <a:gdLst>
              <a:gd name="textAreaLeft" fmla="*/ 0 w 230040"/>
              <a:gd name="textAreaRight" fmla="*/ 83160 w 23004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24640" y="439416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7000800">
            <a:off x="5752080" y="4176000"/>
            <a:ext cx="320400" cy="2303280"/>
          </a:xfrm>
          <a:custGeom>
            <a:avLst/>
            <a:gdLst>
              <a:gd name="textAreaLeft" fmla="*/ 0 w 320400"/>
              <a:gd name="textAreaRight" fmla="*/ 115560 w 3204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52862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7002600">
            <a:off x="4209840" y="3905280"/>
            <a:ext cx="320760" cy="118080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0800"/>
              <a:gd name="textAreaBottom" fmla="*/ 1150200 h 11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81600" y="44816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trojúhelník ABC, ve kterém c = 8 cm, a = 5 cm, t</a:t>
            </a:r>
            <a:r>
              <a:rPr b="1" lang="cs-CZ" sz="22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 6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41680" y="5689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54320" y="5805360"/>
            <a:ext cx="44355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343200" y="3053880"/>
            <a:ext cx="352440" cy="275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71920" y="5734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62560" y="3070440"/>
            <a:ext cx="1881000" cy="271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38760" y="568944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73880" y="420696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0880" y="417816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907920"/>
            <a:ext cx="6551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 sestrojíme bod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? Co o něm 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16856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jeho vzdálenost od středu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6 cm (t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6 c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42884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68768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všech bodů, jejichž vzdálenost od středu strany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6 c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946160"/>
            <a:ext cx="8064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 to kružnice se středem ve středu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poloměrem o velikosti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6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4448160" y="3070080"/>
            <a:ext cx="1882800" cy="2720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60880" y="417816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41680" y="5689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56080" y="5646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453560" y="3837960"/>
            <a:ext cx="2665800" cy="195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450864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457520" y="4871160"/>
            <a:ext cx="3175200" cy="9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0400">
            <a:off x="5954760" y="492552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450320" y="2593440"/>
            <a:ext cx="783000" cy="3214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7840" y="371628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4097880" y="2513520"/>
            <a:ext cx="363600" cy="3287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38760" y="371628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997720" y="2833560"/>
            <a:ext cx="1465920" cy="2965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33600" y="3875040"/>
            <a:ext cx="48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440" y="2492280"/>
            <a:ext cx="6629040" cy="66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5" y="7836"/>
                </a:moveTo>
                <a:arcTo wR="10800" hR="10800" stAng="-9844406" swAng="10219943"/>
                <a:lnTo>
                  <a:pt x="10800" y="10800"/>
                </a:lnTo>
                <a:close/>
              </a:path>
              <a:path fill="none" w="21600" h="21600">
                <a:moveTo>
                  <a:pt x="415" y="7836"/>
                </a:moveTo>
                <a:arcTo wR="10800" hR="10800" stAng="-9844406" swAng="10219943"/>
              </a:path>
            </a:pathLst>
          </a:cu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4880" y="3357720"/>
            <a:ext cx="465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88120" y="273384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07120" y="3500280"/>
            <a:ext cx="48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7400" y="458136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238480"/>
            <a:ext cx="489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83120" y="241632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87760" y="242100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9237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3986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zadané těžnice – jak jsme na předchozím snímku vyvodili, sestrojíme kružnici se středem ve středu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s poloměrem o velikosti těžnice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8590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použijeme ze zadání stran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58920" y="58197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5691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432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8808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209120" y="3311640"/>
            <a:ext cx="4993200" cy="499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04" y="3776"/>
                </a:moveTo>
                <a:arcTo wR="10800" hR="10800" stAng="-2434114" swAng="1742876"/>
                <a:lnTo>
                  <a:pt x="10800" y="10800"/>
                </a:lnTo>
                <a:close/>
              </a:path>
              <a:path fill="none" w="21600" h="21600">
                <a:moveTo>
                  <a:pt x="19004" y="3776"/>
                </a:moveTo>
                <a:arcTo wR="10800" hR="10800" stAng="-2434114" swAng="17428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7247400">
            <a:off x="-252720" y="3304440"/>
            <a:ext cx="4994280" cy="499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90" y="2653"/>
                </a:moveTo>
                <a:arcTo wR="10800" hR="10800" stAng="-2938207" swAng="2180013"/>
                <a:lnTo>
                  <a:pt x="10800" y="10800"/>
                </a:lnTo>
                <a:close/>
              </a:path>
              <a:path fill="none" w="21600" h="21600">
                <a:moveTo>
                  <a:pt x="17890" y="2653"/>
                </a:moveTo>
                <a:arcTo wR="10800" hR="10800" stAng="-2938207" swAng="2180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470480" y="24490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1680" y="256536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cs-CZ" sz="12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41680" y="5689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5520" y="2479680"/>
            <a:ext cx="6649560" cy="66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16" y="171"/>
                </a:moveTo>
                <a:arcTo wR="10800" hR="10800" stAng="-4786999" swAng="2909841"/>
                <a:lnTo>
                  <a:pt x="10800" y="10800"/>
                </a:lnTo>
                <a:close/>
              </a:path>
              <a:path fill="none" w="21600" h="21600">
                <a:moveTo>
                  <a:pt x="12716" y="171"/>
                </a:moveTo>
                <a:arcTo wR="10800" hR="10800" stAng="-4786999" swAng="29098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234792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8317400">
            <a:off x="3911040" y="3040920"/>
            <a:ext cx="5523120" cy="552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50" y="788"/>
                </a:moveTo>
                <a:arcTo wR="10800" hR="10800" stAng="-4078643" swAng="3101689"/>
                <a:lnTo>
                  <a:pt x="10800" y="10800"/>
                </a:lnTo>
                <a:close/>
              </a:path>
              <a:path fill="none" w="21600" h="21600">
                <a:moveTo>
                  <a:pt x="14850" y="788"/>
                </a:moveTo>
                <a:arcTo wR="10800" hR="10800" stAng="-4078643" swAng="31016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279576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54320" y="5805360"/>
            <a:ext cx="44355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343200" y="3053880"/>
            <a:ext cx="352440" cy="275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53960" y="3054240"/>
            <a:ext cx="4103640" cy="27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55600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4784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7440" y="12970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S; 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l; l(B; a=5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84840" y="13273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162720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k; k(S; t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6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58197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5691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5432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8808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09120" y="3311640"/>
            <a:ext cx="4993200" cy="499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04" y="3776"/>
                </a:moveTo>
                <a:arcTo wR="10800" hR="10800" stAng="-2434114" swAng="1742876"/>
                <a:lnTo>
                  <a:pt x="10800" y="10800"/>
                </a:lnTo>
                <a:close/>
              </a:path>
              <a:path fill="none" w="21600" h="21600">
                <a:moveTo>
                  <a:pt x="19004" y="3776"/>
                </a:moveTo>
                <a:arcTo wR="10800" hR="10800" stAng="-2434114" swAng="17428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rot="7247400">
            <a:off x="-252720" y="3304440"/>
            <a:ext cx="4994280" cy="499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90" y="2653"/>
                </a:moveTo>
                <a:arcTo wR="10800" hR="10800" stAng="-2938207" swAng="2180013"/>
                <a:lnTo>
                  <a:pt x="10800" y="10800"/>
                </a:lnTo>
                <a:close/>
              </a:path>
              <a:path fill="none" w="21600" h="21600">
                <a:moveTo>
                  <a:pt x="17890" y="2653"/>
                </a:moveTo>
                <a:arcTo wR="10800" hR="10800" stAng="-2938207" swAng="218001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471920" y="244908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41680" y="256536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cs-CZ" sz="12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56080" y="57182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5520" y="2479680"/>
            <a:ext cx="6649560" cy="665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16" y="171"/>
                </a:moveTo>
                <a:arcTo wR="10800" hR="10800" stAng="-4786999" swAng="2909841"/>
                <a:lnTo>
                  <a:pt x="10800" y="10800"/>
                </a:lnTo>
                <a:close/>
              </a:path>
              <a:path fill="none" w="21600" h="21600">
                <a:moveTo>
                  <a:pt x="12716" y="171"/>
                </a:moveTo>
                <a:arcTo wR="10800" hR="10800" stAng="-4786999" swAng="290984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234792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8317400">
            <a:off x="3911040" y="3040920"/>
            <a:ext cx="5523120" cy="552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50" y="788"/>
                </a:moveTo>
                <a:arcTo wR="10800" hR="10800" stAng="-4078643" swAng="3101689"/>
                <a:lnTo>
                  <a:pt x="10800" y="10800"/>
                </a:lnTo>
                <a:close/>
              </a:path>
              <a:path fill="none" w="21600" h="21600">
                <a:moveTo>
                  <a:pt x="14850" y="788"/>
                </a:moveTo>
                <a:arcTo wR="10800" hR="10800" stAng="-4078643" swAng="31016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279576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5805360"/>
            <a:ext cx="4435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343200" y="3053880"/>
            <a:ext cx="352440" cy="275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253960" y="3054240"/>
            <a:ext cx="4103640" cy="27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590724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59560" y="5905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43560" y="267984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81600" y="16146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9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1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2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3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4"/>
          <a:stretch/>
        </p:blipFill>
        <p:spPr>
          <a:xfrm>
            <a:off x="1916280" y="2362320"/>
            <a:ext cx="517680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3 cm, b = 6,5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1297080"/>
            <a:ext cx="30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24000" y="1714680"/>
            <a:ext cx="4824360" cy="4593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2124000" y="1717560"/>
            <a:ext cx="4824360" cy="45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05T08:38:10Z</dcterms:modified>
  <cp:revision>132</cp:revision>
  <dc:subject/>
  <dc:title>Konstrukce trojúhelníku s těžnicí v zadání 1</dc:title>
</cp:coreProperties>
</file>