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919-C29A-4EAC-B823-AC9F0D89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AF7-F5CB-408D-B5E4-36093CDB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F05-D298-4F1E-9805-5B878906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B1F-D766-4458-ADED-F30716CA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F940-C00E-4510-92DA-C25529E2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E728-29F8-4B20-BBCD-C38EDDDB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9CED-A5C7-45BC-B023-A12AC811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97DE-E0BA-4000-AFD6-3E024201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4267-DB30-4EC1-A31D-BED286F8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5232-C27D-4C4E-97DD-A1BAD203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1E8D-F90C-463B-AB63-5502961F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9B6-9687-49E8-95BC-349D42EC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E6C3-43D1-4E58-81F5-3AF6804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9D82-0D5A-41EC-A8D6-14286F1A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1466-AE1D-42F3-84E5-5B506C2F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6D47-C7AC-42A4-B109-C84B5689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37D5-E860-4D1D-AF48-733B1886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58F-DB80-4491-B416-3966DEBE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442-BA04-46F8-AAE8-D8C4CA5D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F1E-7E3C-437B-9294-A10BEE00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730-F4FF-4C0E-91B8-5D2F27F4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B1C-8AE4-4411-8900-7F8D188C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AC5-3B22-4A1C-AB25-921F4800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D6F-2785-4989-935C-E133AF0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4660-982F-4D62-9C33-E14970968F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5D4A-9433-4DE6-83D8-A0F2DB2C220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trojúhel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jednu stranu, jeden úhel k ní přilehlý a těžnici 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k dané stran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2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1628640"/>
            <a:ext cx="691380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27000" y="105264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1297080"/>
            <a:ext cx="424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 = 4 cm, t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65 m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2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0000" y="1297080"/>
            <a:ext cx="30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Pozor na jednotky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650960" y="1708200"/>
            <a:ext cx="5729400" cy="4640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650960" y="1708200"/>
            <a:ext cx="5729400" cy="464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1650960" y="1708200"/>
            <a:ext cx="5729400" cy="46400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1650960" y="1708200"/>
            <a:ext cx="5729400" cy="4640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1650960" y="1708200"/>
            <a:ext cx="5729400" cy="46400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1650960" y="1708200"/>
            <a:ext cx="5729400" cy="46400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1650960" y="1708200"/>
            <a:ext cx="5729400" cy="46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1700280"/>
            <a:ext cx="705816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2000" y="1341360"/>
            <a:ext cx="4248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 = 8 cm, t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5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5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619280" y="1758960"/>
            <a:ext cx="5832360" cy="45226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619280" y="1758960"/>
            <a:ext cx="5832360" cy="4522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619280" y="1758960"/>
            <a:ext cx="5832360" cy="4522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1619280" y="1758960"/>
            <a:ext cx="5832360" cy="45226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1619280" y="1758960"/>
            <a:ext cx="5832360" cy="45226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619280" y="1758960"/>
            <a:ext cx="5832360" cy="4522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1619280" y="1758960"/>
            <a:ext cx="5832360" cy="45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813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obrá rada na závě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1630440"/>
            <a:ext cx="734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6000" y="2205000"/>
            <a:ext cx="7343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Je-li při konstrukci trojúhelníku zadána těžnice, použijeme ji k sestrojení kružnice se středem ve středu příslušné strany a poloměrem o velikosti dané těž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6000" y="4510080"/>
            <a:ext cx="7559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Například: Je-li dána stran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a těžnice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t</a:t>
            </a:r>
            <a:r>
              <a:rPr b="1" i="1" lang="cs-CZ" sz="2000" spc="-1" strike="noStrike" baseline="-25000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, začneme konstrukci stranou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a pokračujeme kružnicí se středem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ve středu strany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a poloměrem o velikosti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t</a:t>
            </a:r>
            <a:r>
              <a:rPr b="1" i="1" lang="cs-CZ" sz="2000" spc="-1" strike="noStrike" baseline="-25000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eji přesnou ruku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73" name="" descr="Název souboru: j0325244.wmf&#13;Klí&amp;ccaron;ová slova: akademický pracovník, kompasy, návrhá&amp;rcaron;ské nástroje ...&#13;Velikost souboru: 9 kB"/>
          <p:cNvPicPr/>
          <p:nvPr/>
        </p:nvPicPr>
        <p:blipFill>
          <a:blip r:embed="rId2"/>
          <a:stretch/>
        </p:blipFill>
        <p:spPr>
          <a:xfrm>
            <a:off x="4284720" y="1601640"/>
            <a:ext cx="4059360" cy="405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27200" y="2421000"/>
            <a:ext cx="5824440" cy="3865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opakujme si, co víme o těžnicích trojúhelníku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682560" y="765000"/>
            <a:ext cx="81374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Těžnice trojúhelníku je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sečka spojující vrchol trojúhelníku se středem jeho protilehlé strany; 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vzdálenost vrcholu a středu protější (příslušné) stran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560" y="119700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Máme tři strany a tři vrcholy – tudíž i tři těžni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49868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Značíme je v závislosti na označení příslušných vrcholů a stran –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,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,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11640" y="1844640"/>
            <a:ext cx="3168720" cy="3097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79640" y="1844640"/>
            <a:ext cx="2087640" cy="316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64000" y="1844640"/>
            <a:ext cx="2592720" cy="2305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80036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Těžnice se protínají v jednom bodě - těžiš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2133720"/>
            <a:ext cx="144360" cy="237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42920" y="1844640"/>
            <a:ext cx="6913800" cy="45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těžnice trojúhel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5640" y="1052640"/>
            <a:ext cx="789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ěžiště dělí těžnice v poměru 2:1 tak, že delší úsek těžnice leží vždy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 vrcholu. To znamená, že úsek těžnice od vrcholu do těžiště tvoří vždy 2/3 celkové délky těžnice.</a:t>
            </a:r>
            <a:r>
              <a:rPr b="0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575000">
            <a:off x="5592240" y="2408400"/>
            <a:ext cx="320760" cy="2376360"/>
          </a:xfrm>
          <a:custGeom>
            <a:avLst/>
            <a:gdLst>
              <a:gd name="textAreaLeft" fmla="*/ 0 w 320760"/>
              <a:gd name="textAreaRight" fmla="*/ 115920 w 3207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35772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575000">
            <a:off x="4774680" y="4611240"/>
            <a:ext cx="320760" cy="1181160"/>
          </a:xfrm>
          <a:custGeom>
            <a:avLst/>
            <a:gdLst>
              <a:gd name="textAreaLeft" fmla="*/ 0 w 320760"/>
              <a:gd name="textAreaRight" fmla="*/ 115920 w 320760"/>
              <a:gd name="textAreaTop" fmla="*/ 30600 h 1181160"/>
              <a:gd name="textAreaBottom" fmla="*/ 115056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60880" y="497052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4279800">
            <a:off x="3354480" y="3695040"/>
            <a:ext cx="320760" cy="3313080"/>
          </a:xfrm>
          <a:custGeom>
            <a:avLst/>
            <a:gdLst>
              <a:gd name="textAreaLeft" fmla="*/ 0 w 320760"/>
              <a:gd name="textAreaRight" fmla="*/ 115920 w 32076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62400" y="527220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4252800">
            <a:off x="5724360" y="3690720"/>
            <a:ext cx="230040" cy="1611360"/>
          </a:xfrm>
          <a:custGeom>
            <a:avLst/>
            <a:gdLst>
              <a:gd name="textAreaLeft" fmla="*/ 0 w 230040"/>
              <a:gd name="textAreaRight" fmla="*/ 83160 w 23004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24640" y="439416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7000800">
            <a:off x="5752080" y="4176000"/>
            <a:ext cx="320400" cy="2303280"/>
          </a:xfrm>
          <a:custGeom>
            <a:avLst/>
            <a:gdLst>
              <a:gd name="textAreaLeft" fmla="*/ 0 w 320400"/>
              <a:gd name="textAreaRight" fmla="*/ 115560 w 3204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528624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7002600">
            <a:off x="4209840" y="3905280"/>
            <a:ext cx="320760" cy="1180800"/>
          </a:xfrm>
          <a:custGeom>
            <a:avLst/>
            <a:gdLst>
              <a:gd name="textAreaLeft" fmla="*/ 0 w 320760"/>
              <a:gd name="textAreaRight" fmla="*/ 115920 w 320760"/>
              <a:gd name="textAreaTop" fmla="*/ 30600 h 1180800"/>
              <a:gd name="textAreaBottom" fmla="*/ 1150200 h 11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81600" y="448164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42920" y="2276640"/>
            <a:ext cx="69138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484360" y="2341440"/>
            <a:ext cx="4130640" cy="3938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14400" y="1844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Sestrojte trojúhelník ABC, ve kterém c = 7 cm, </a:t>
            </a:r>
            <a:r>
              <a:rPr b="1" lang="el-GR" sz="22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60°, t</a:t>
            </a:r>
            <a:r>
              <a:rPr b="1" lang="cs-CZ" sz="22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= 4 cm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56894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5805360"/>
            <a:ext cx="338436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3060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271040" y="3432600"/>
            <a:ext cx="262080" cy="2372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45160" y="567540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83120" y="4508640"/>
            <a:ext cx="488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5083560"/>
            <a:ext cx="1441080" cy="1443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00" y="1447"/>
                </a:moveTo>
                <a:arcTo wR="10800" hR="10800" stAng="-3599849" swAng="3599849"/>
                <a:lnTo>
                  <a:pt x="10800" y="10800"/>
                </a:lnTo>
                <a:close/>
              </a:path>
              <a:path fill="none" w="21600" h="21600">
                <a:moveTo>
                  <a:pt x="16200" y="1447"/>
                </a:moveTo>
                <a:arcTo wR="10800" hR="10800" stAng="-3599849" swAng="359984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43360" y="5459400"/>
            <a:ext cx="77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=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42920" y="2205000"/>
            <a:ext cx="6913800" cy="41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484360" y="2341440"/>
            <a:ext cx="4130640" cy="39387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692280"/>
            <a:ext cx="79930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eště jednou si ukážeme, jak sestrojíme bod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omocí zadané těžnice? Co o něm ví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08252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íme, že jeho vzdálenost od středu strany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4 cm (t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4 c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1343160"/>
            <a:ext cx="79200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de se tedy může nacházet bod splňující danou podmín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60164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množinou všech bodů, jejichž vzdálenost od středu strany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je 4 c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1860480"/>
            <a:ext cx="8064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e to kružnice se středem ve středu strany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 poloměrem o velikosti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tj. 4 c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37800" y="3901680"/>
            <a:ext cx="1314360" cy="1903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4005360"/>
            <a:ext cx="488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24480" y="56894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38520" y="5646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33120" y="4486680"/>
            <a:ext cx="1819080" cy="133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1160" y="4508640"/>
            <a:ext cx="488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545360" y="5223240"/>
            <a:ext cx="2075760" cy="606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00400">
            <a:off x="6037200" y="492552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530600" y="3512880"/>
            <a:ext cx="560520" cy="229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70280" y="3716280"/>
            <a:ext cx="489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4278600" y="3441240"/>
            <a:ext cx="262800" cy="236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21200" y="371628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493080" y="3670920"/>
            <a:ext cx="1052280" cy="2127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6400" y="387504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12280" y="3416400"/>
            <a:ext cx="4347000" cy="434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5" y="7836"/>
                </a:moveTo>
                <a:arcTo wR="10800" hR="10800" stAng="-9844406" swAng="10219943"/>
                <a:lnTo>
                  <a:pt x="10800" y="10800"/>
                </a:lnTo>
                <a:close/>
              </a:path>
              <a:path fill="none" w="21600" h="21600">
                <a:moveTo>
                  <a:pt x="415" y="7836"/>
                </a:moveTo>
                <a:arcTo wR="10800" hR="10800" stAng="-9844406" swAng="10219943"/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60600" y="4019400"/>
            <a:ext cx="465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83400" y="351468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2360" y="419256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94172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89600" y="311292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83120" y="306864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241800"/>
            <a:ext cx="488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8728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529000" y="2413080"/>
            <a:ext cx="4086000" cy="3895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00000" y="72072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ačneme jako vždy zadanou stranou, v tomto případě stran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2254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ásleduje použití zadané těžnice – jak jsme na předchozím snímku vyvodili, sestrojíme kružnici se středem ve středu strany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 s poloměrem o velikosti těžnice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184464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ako poslední použijeme ze zadání úhel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 Uvedené pořadí však lze i zaměnit a nejdříve využít zadaný úhel a až následně těžni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583416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5705640"/>
            <a:ext cx="43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46240" y="567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567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378680" y="3714120"/>
            <a:ext cx="4941000" cy="42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04" y="3776"/>
                </a:moveTo>
                <a:arcTo wR="10800" hR="10800" stAng="-2434114" swAng="1742876"/>
                <a:lnTo>
                  <a:pt x="10800" y="10800"/>
                </a:lnTo>
                <a:close/>
              </a:path>
              <a:path fill="none" w="21600" h="21600">
                <a:moveTo>
                  <a:pt x="19004" y="3776"/>
                </a:moveTo>
                <a:arcTo wR="10800" hR="10800" stAng="-2434114" swAng="17428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rot="7698600">
            <a:off x="1515240" y="3122640"/>
            <a:ext cx="2950920" cy="419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90" y="2653"/>
                </a:moveTo>
                <a:arcTo wR="10800" hR="10800" stAng="-2938207" swAng="2180013"/>
                <a:lnTo>
                  <a:pt x="10800" y="10800"/>
                </a:lnTo>
                <a:close/>
              </a:path>
              <a:path fill="none" w="21600" h="21600">
                <a:moveTo>
                  <a:pt x="17890" y="2653"/>
                </a:moveTo>
                <a:arcTo wR="10800" hR="10800" stAng="-2938207" swAng="2180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30680" y="24638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1040" y="239220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o</a:t>
            </a:r>
            <a:r>
              <a:rPr b="1" lang="cs-CZ" sz="12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00440" y="5732640"/>
            <a:ext cx="43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55040" y="3443400"/>
            <a:ext cx="4752720" cy="47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5" y="6910"/>
                </a:moveTo>
                <a:arcTo wR="10800" hR="10800" stAng="-9533446" swAng="8317499"/>
                <a:lnTo>
                  <a:pt x="10800" y="10800"/>
                </a:lnTo>
                <a:close/>
              </a:path>
              <a:path fill="none" w="21600" h="21600">
                <a:moveTo>
                  <a:pt x="725" y="6910"/>
                </a:moveTo>
                <a:arcTo wR="10800" hR="10800" stAng="-9533446" swAng="831749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37080" y="324180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44800" y="5819760"/>
            <a:ext cx="335448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960280" y="2403360"/>
            <a:ext cx="1942200" cy="34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57680" y="25797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242100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44080" y="3475800"/>
            <a:ext cx="1357200" cy="2346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97320" y="3475080"/>
            <a:ext cx="1981080" cy="2333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57320" y="2205000"/>
            <a:ext cx="6913440" cy="41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5600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c = 7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44784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9" name=""/>
          <p:cNvSpPr/>
          <p:nvPr/>
        </p:nvSpPr>
        <p:spPr>
          <a:xfrm>
            <a:off x="2557440" y="129708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S; S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,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S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B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5600" y="13273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1627200"/>
            <a:ext cx="4321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k; k(S; t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5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58197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80360" y="56912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0188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34320" y="3699720"/>
            <a:ext cx="4941000" cy="421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04" y="3776"/>
                </a:moveTo>
                <a:arcTo wR="10800" hR="10800" stAng="-2434114" swAng="1742876"/>
                <a:lnTo>
                  <a:pt x="10800" y="10800"/>
                </a:lnTo>
                <a:close/>
              </a:path>
              <a:path fill="none" w="21600" h="21600">
                <a:moveTo>
                  <a:pt x="19004" y="3776"/>
                </a:moveTo>
                <a:arcTo wR="10800" hR="10800" stAng="-2434114" swAng="17428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rot="7698600">
            <a:off x="1370880" y="3108240"/>
            <a:ext cx="2950920" cy="419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90" y="2653"/>
                </a:moveTo>
                <a:arcTo wR="10800" hR="10800" stAng="-2938207" swAng="2180013"/>
                <a:lnTo>
                  <a:pt x="10800" y="10800"/>
                </a:lnTo>
                <a:close/>
              </a:path>
              <a:path fill="none" w="21600" h="21600">
                <a:moveTo>
                  <a:pt x="17890" y="2653"/>
                </a:moveTo>
                <a:arcTo wR="10800" hR="10800" stAng="-2938207" swAng="2180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486320" y="244908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6320" y="237816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o</a:t>
            </a:r>
            <a:r>
              <a:rPr b="1" lang="cs-CZ" sz="12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56080" y="57182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0680" y="3429000"/>
            <a:ext cx="4752720" cy="47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5" y="6910"/>
                </a:moveTo>
                <a:arcTo wR="10800" hR="10800" stAng="-9533446" swAng="8317499"/>
                <a:lnTo>
                  <a:pt x="10800" y="10800"/>
                </a:lnTo>
                <a:close/>
              </a:path>
              <a:path fill="none" w="21600" h="21600">
                <a:moveTo>
                  <a:pt x="725" y="6910"/>
                </a:moveTo>
                <a:arcTo wR="10800" hR="10800" stAng="-9533446" swAng="831749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2360" y="322740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720" y="3436560"/>
            <a:ext cx="2003040" cy="23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799720" y="3440880"/>
            <a:ext cx="1369080" cy="236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71920" y="590724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12000" y="59054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81600" y="311148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360" y="16146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Trojúhelník A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786040" y="2276640"/>
            <a:ext cx="208764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3280" y="242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73600" y="22622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932360" y="1012680"/>
            <a:ext cx="4211640" cy="303120"/>
            <a:chOff x="4932360" y="1012680"/>
            <a:chExt cx="4211640" cy="303120"/>
          </a:xfrm>
        </p:grpSpPr>
        <p:sp>
          <p:nvSpPr>
            <p:cNvPr id="213" name=""/>
            <p:cNvSpPr/>
            <p:nvPr/>
          </p:nvSpPr>
          <p:spPr>
            <a:xfrm>
              <a:off x="4932360" y="1012680"/>
              <a:ext cx="4211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4.     BAY;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   BAY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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= 60°,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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A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5297040" y="1085760"/>
              <a:ext cx="16848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6111000" y="1085760"/>
              <a:ext cx="168480" cy="1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2800440" y="5819760"/>
            <a:ext cx="3354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2349360"/>
            <a:ext cx="6913800" cy="410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2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4"/>
          <a:stretch/>
        </p:blipFill>
        <p:spPr>
          <a:xfrm>
            <a:off x="2438280" y="2413080"/>
            <a:ext cx="4267440" cy="38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1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5" name=""/>
          <p:cNvSpPr/>
          <p:nvPr/>
        </p:nvSpPr>
        <p:spPr>
          <a:xfrm>
            <a:off x="1042920" y="1700280"/>
            <a:ext cx="705816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1341360"/>
            <a:ext cx="4248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= 4,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30°, t</a:t>
            </a:r>
            <a:r>
              <a:rPr b="1" lang="en-US" sz="20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 7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407960" y="1846440"/>
            <a:ext cx="6332760" cy="4365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407960" y="1846440"/>
            <a:ext cx="6332760" cy="4365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407960" y="1846440"/>
            <a:ext cx="6332760" cy="4365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407960" y="1846440"/>
            <a:ext cx="6332760" cy="4365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1407960" y="1846440"/>
            <a:ext cx="6332760" cy="4365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1407960" y="1846440"/>
            <a:ext cx="6332760" cy="4365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1407960" y="1846440"/>
            <a:ext cx="6332760" cy="43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9-05T08:49:37Z</dcterms:modified>
  <cp:revision>133</cp:revision>
  <dc:subject/>
  <dc:title>Konstrukce trojúhelníku s těžnicí v zadání 2</dc:title>
</cp:coreProperties>
</file>