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77A-1A76-40F5-B309-9AC1680F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0F6-44A1-4818-9CD9-6AD3409D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2DC-BF5E-4426-AD92-953AB568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F21-06CE-44A4-9CA6-0AC40C55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17EB-E0A6-429E-B329-FEB287A7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56E5-C647-497C-AFD4-4EA44411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6711-B1F1-4A8B-B860-82CCEFDD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26B6-74BC-4B91-8734-09A86BA7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CB6-7C0B-4DA9-B199-97E0C5DB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3595-7668-4795-8F0E-98B92745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0AB0-4178-479F-8FC7-D0B771CD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4E0-D266-45FD-A883-29DCF2E4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7F43-F260-4D6B-A2FC-40B15A89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8B1D-3A02-43DF-8728-9AB8AF1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93F2-B922-4DDE-AECC-B65FBC5E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8FC1-3E18-45E8-9D17-7BD87F4B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809A-AE68-4288-AE08-2EDFB8C9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1BA-BF34-4672-B733-402708F3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12B-658D-484B-8B49-25201814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AF1-1190-42A6-A79B-F6C9D52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608-2577-48D7-8B8E-481CF22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353-D37D-4223-BB9D-D109F8D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F1B-4BE6-498C-9ABA-241FE360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E29-D6C0-4D15-AC6E-3F12DA64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2FD-03B5-48DF-BEDD-36E9685C18B0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F19-3508-4360-ACC2-208CD07DEF41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63.png"/><Relationship Id="rId17" Type="http://schemas.openxmlformats.org/officeDocument/2006/relationships/image" Target="../media/image64.png"/><Relationship Id="rId18" Type="http://schemas.openxmlformats.org/officeDocument/2006/relationships/image" Target="../media/image65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Konstrukce </a:t>
            </a:r>
            <a:br>
              <a:rPr sz="4800"/>
            </a:b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trojúhelníku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Známe-li jednu stranu </a:t>
            </a:r>
            <a:br>
              <a:rPr sz="4000"/>
            </a:b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a dvě těžnice k ní nepříslušejíc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Výsledný trojúhelní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5" name=""/>
          <p:cNvSpPr/>
          <p:nvPr/>
        </p:nvSpPr>
        <p:spPr>
          <a:xfrm>
            <a:off x="1042920" y="1557360"/>
            <a:ext cx="691380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27000" y="595440"/>
            <a:ext cx="777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loha má jedno řešení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v polorovině určené úsečkou AB a bodem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98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Konstrukci proměříme, zda odpovídá zadání, a trojúhelník vytáhneme silněji. A takto vypadá celá konstruk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9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1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2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3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4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5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6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7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8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9"/>
          <a:stretch/>
        </p:blipFill>
        <p:spPr>
          <a:xfrm>
            <a:off x="1325520" y="1604880"/>
            <a:ext cx="641520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7" name=""/>
          <p:cNvSpPr/>
          <p:nvPr/>
        </p:nvSpPr>
        <p:spPr>
          <a:xfrm>
            <a:off x="1042920" y="1628640"/>
            <a:ext cx="69138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27000" y="105264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32000" y="129708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b = 4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6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80000" y="1297080"/>
            <a:ext cx="30956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Pozor na jednotky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1628640"/>
            <a:ext cx="691380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27000" y="1052640"/>
            <a:ext cx="7777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32000" y="129708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= 7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6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6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0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1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2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3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4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5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6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17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8"/>
          <a:stretch/>
        </p:blipFill>
        <p:spPr>
          <a:xfrm>
            <a:off x="1289160" y="1641600"/>
            <a:ext cx="6451560" cy="47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ár příkladů k procvičení – příklad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1" name=""/>
          <p:cNvSpPr/>
          <p:nvPr/>
        </p:nvSpPr>
        <p:spPr>
          <a:xfrm>
            <a:off x="826920" y="1341360"/>
            <a:ext cx="7490160" cy="511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27000" y="765000"/>
            <a:ext cx="777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estrojte trojúhelník ABC, jestliž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32000" y="1009800"/>
            <a:ext cx="4248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c = 6 cm, 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3 cm, 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cs-CZ" sz="20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= 6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217520" y="1413000"/>
            <a:ext cx="6667560" cy="4935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217520" y="1413000"/>
            <a:ext cx="6667560" cy="4935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1217520" y="1413000"/>
            <a:ext cx="6667560" cy="4935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1217520" y="1413000"/>
            <a:ext cx="6667560" cy="49352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1217520" y="1413000"/>
            <a:ext cx="6667560" cy="4935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500720" y="1268280"/>
            <a:ext cx="4248000" cy="3673440"/>
          </a:xfrm>
          <a:prstGeom prst="cloudCallout">
            <a:avLst>
              <a:gd name="adj1" fmla="val -61212"/>
              <a:gd name="adj2" fmla="val 665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louky kruž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 poloměrech určených 2/3 délky těžnic se neprotínají, nevzniká těžišt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z toho plyne, ž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 takovém případě příklad nemá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1341360"/>
            <a:ext cx="7344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ávěr: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Trojúhelník nelze sestrojit, je-li součet 2/3 délek daných těžnic menší nebo roven délce zadané str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1844640"/>
            <a:ext cx="7343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Aby bylo možné trojúhelník sestrojit, </a:t>
            </a: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musí platit:</a:t>
            </a:r>
            <a:br>
              <a:rPr sz="2800"/>
            </a:b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2/3 t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rebuchet MS"/>
              </a:rPr>
              <a:t>a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+ 2/3 t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c</a:t>
            </a:r>
            <a:br>
              <a:rPr sz="3600"/>
            </a:b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2/3 t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rebuchet MS"/>
              </a:rPr>
              <a:t>a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+ 2/3 t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b</a:t>
            </a:r>
            <a:br>
              <a:rPr sz="3600"/>
            </a:b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2/3 t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+ 2/3 t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rebuchet MS"/>
              </a:rPr>
              <a:t>c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 a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Tak přesnou ruku při rýsování!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343" name="" descr="Název souboru: j0325244.wmf&#13;Klí&amp;ccaron;ová slova: akademický pracovník, kompasy, návrhá&amp;rcaron;ské nástroje ...&#13;Velikost souboru: 9 kB"/>
          <p:cNvPicPr/>
          <p:nvPr/>
        </p:nvPicPr>
        <p:blipFill>
          <a:blip r:embed="rId2"/>
          <a:stretch/>
        </p:blipFill>
        <p:spPr>
          <a:xfrm>
            <a:off x="4284720" y="1601640"/>
            <a:ext cx="4059360" cy="40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2421000"/>
            <a:ext cx="5824440" cy="3865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, co víme o těžnicích trojúhelníku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682560" y="765000"/>
            <a:ext cx="81374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trojúhelníku j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sečka spojující vrchol trojúhelníku se středem jeho protilehlé strany; </a:t>
            </a: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zdálenost vrcholu a středu protější (příslušné) stran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560" y="119700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Máme tři strany a tři vrcholy – tudíž i tři těžni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49868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Značíme je v závislosti na označení příslušných vrcholů a stran –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, t</a:t>
            </a:r>
            <a:r>
              <a:rPr b="1" lang="cs-CZ" sz="1700" spc="-1" strike="noStrike" baseline="-25000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11640" y="1844640"/>
            <a:ext cx="3168720" cy="3097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79640" y="1844640"/>
            <a:ext cx="2087640" cy="316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64000" y="1844640"/>
            <a:ext cx="2592720" cy="2305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800360"/>
            <a:ext cx="8137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ěžnice se protínají v jednom bodě - těžiš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133720"/>
            <a:ext cx="144360" cy="237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2276640"/>
            <a:ext cx="69138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57520" y="2327400"/>
            <a:ext cx="5335560" cy="3981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1844640"/>
            <a:ext cx="77770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č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10810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Sestrojte trojúhelník ABC, ve kterém c = 9 cm, t</a:t>
            </a:r>
            <a:r>
              <a:rPr b="1" lang="cs-CZ" sz="2200" spc="-1" strike="noStrike" baseline="-25000">
                <a:solidFill>
                  <a:srgbClr val="284c6a"/>
                </a:solidFill>
                <a:latin typeface="Trebuchet MS"/>
              </a:rPr>
              <a:t>a 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 6 cm, t</a:t>
            </a:r>
            <a:r>
              <a:rPr b="1" lang="cs-CZ" sz="2200" spc="-1" strike="noStrike" baseline="-25000">
                <a:solidFill>
                  <a:srgbClr val="284c6a"/>
                </a:solidFill>
                <a:latin typeface="Trebuchet MS"/>
              </a:rPr>
              <a:t>b 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= 9 c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27120" y="5770440"/>
            <a:ext cx="402912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70400" y="568800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30480" y="4940280"/>
            <a:ext cx="48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43560" y="4753080"/>
            <a:ext cx="488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0000"/>
                </a:solidFill>
                <a:latin typeface="Trebuchet MS"/>
              </a:rPr>
              <a:t>t</a:t>
            </a:r>
            <a:r>
              <a:rPr b="1" lang="cs-CZ" sz="1200" spc="-1" strike="noStrike" baseline="-25000">
                <a:solidFill>
                  <a:srgbClr val="ff0000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424240" y="4305240"/>
            <a:ext cx="2292120" cy="1479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678040" y="4339800"/>
            <a:ext cx="3765600" cy="140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1844640"/>
            <a:ext cx="6913800" cy="45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Vlastnost těžnic trojúhelníku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1266840" y="1916280"/>
            <a:ext cx="6545160" cy="432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981000"/>
            <a:ext cx="789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ěžiště dělí těžnice v poměru 2:1 tak, že delší úsek těžnice leží vždy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 vrcholu. To znamená, že úsek těžnice od vrcholu do těžiště tvoří vždy 2/3 celkové délky těžnice.</a:t>
            </a:r>
            <a:r>
              <a:rPr b="0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575000">
            <a:off x="5592240" y="2408400"/>
            <a:ext cx="320760" cy="2376360"/>
          </a:xfrm>
          <a:custGeom>
            <a:avLst/>
            <a:gdLst>
              <a:gd name="textAreaLeft" fmla="*/ 0 w 320760"/>
              <a:gd name="textAreaRight" fmla="*/ 115920 w 3207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3577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75000">
            <a:off x="4774680" y="4611240"/>
            <a:ext cx="320760" cy="118116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1160"/>
              <a:gd name="textAreaBottom" fmla="*/ 11505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60880" y="497052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4279800">
            <a:off x="3354480" y="3695040"/>
            <a:ext cx="320760" cy="3313080"/>
          </a:xfrm>
          <a:custGeom>
            <a:avLst/>
            <a:gdLst>
              <a:gd name="textAreaLeft" fmla="*/ 0 w 320760"/>
              <a:gd name="textAreaRight" fmla="*/ 115920 w 32076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2400" y="5272200"/>
            <a:ext cx="57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4252800">
            <a:off x="5724360" y="3690720"/>
            <a:ext cx="230040" cy="1611360"/>
          </a:xfrm>
          <a:custGeom>
            <a:avLst/>
            <a:gdLst>
              <a:gd name="textAreaLeft" fmla="*/ 0 w 230040"/>
              <a:gd name="textAreaRight" fmla="*/ 83160 w 23004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24640" y="439416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7000800">
            <a:off x="5752080" y="4176000"/>
            <a:ext cx="320400" cy="2303280"/>
          </a:xfrm>
          <a:custGeom>
            <a:avLst/>
            <a:gdLst>
              <a:gd name="textAreaLeft" fmla="*/ 0 w 320400"/>
              <a:gd name="textAreaRight" fmla="*/ 115560 w 3204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52862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7002600">
            <a:off x="4209840" y="3905280"/>
            <a:ext cx="320760" cy="1180800"/>
          </a:xfrm>
          <a:custGeom>
            <a:avLst/>
            <a:gdLst>
              <a:gd name="textAreaLeft" fmla="*/ 0 w 320760"/>
              <a:gd name="textAreaRight" fmla="*/ 115920 w 320760"/>
              <a:gd name="textAreaTop" fmla="*/ 30600 h 1180800"/>
              <a:gd name="textAreaBottom" fmla="*/ 1150200 h 11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81600" y="4481640"/>
            <a:ext cx="57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87280" y="1989000"/>
            <a:ext cx="691380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4880" y="2075040"/>
            <a:ext cx="5772240" cy="4306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5745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99540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těžnic na základě vlastnosti dělení těžnic zopakovaného na předcházejícím snímku – sestrojíme jejich průsečík - těžiš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5805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11560" y="5635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640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680" y="3840480"/>
            <a:ext cx="3885120" cy="38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01" y="1958"/>
                </a:moveTo>
                <a:arcTo wR="10800" hR="10800" stAng="-3297581" swAng="2988677"/>
                <a:lnTo>
                  <a:pt x="10800" y="10800"/>
                </a:lnTo>
                <a:close/>
              </a:path>
              <a:path fill="none" w="21600" h="21600">
                <a:moveTo>
                  <a:pt x="17001" y="1958"/>
                </a:moveTo>
                <a:arcTo wR="10800" hR="10800" stAng="-3297581" swAng="29886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750200">
            <a:off x="3779640" y="2823480"/>
            <a:ext cx="5971680" cy="59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31" y="27"/>
                </a:moveTo>
                <a:arcTo wR="10800" hR="10800" stAng="-5645090" swAng="1879725"/>
                <a:lnTo>
                  <a:pt x="10800" y="10800"/>
                </a:lnTo>
                <a:close/>
              </a:path>
              <a:path fill="none" w="21600" h="21600">
                <a:moveTo>
                  <a:pt x="10031" y="27"/>
                </a:moveTo>
                <a:arcTo wR="10800" hR="10800" stAng="-5645090" swAng="187972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4400" y="56754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39466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7200" y="4062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11560" y="5805360"/>
            <a:ext cx="43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773360"/>
            <a:ext cx="3241800" cy="2377800"/>
          </a:xfrm>
          <a:prstGeom prst="cloudCallout">
            <a:avLst>
              <a:gd name="adj1" fmla="val 34180"/>
              <a:gd name="adj2" fmla="val 832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zdálenost těžiště od bod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je dána 2/3 délky těžnice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en-US" sz="14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 To znamená, že sestrojíme oblouk kružnice s tímto poloměrem a střed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 bodě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773360"/>
            <a:ext cx="3241800" cy="2377800"/>
          </a:xfrm>
          <a:prstGeom prst="cloudCallout">
            <a:avLst>
              <a:gd name="adj1" fmla="val -48481"/>
              <a:gd name="adj2" fmla="val 861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zdálenost těžiště od bod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je dána 2/3 délky těžnice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 To znamená, že sestrojíme oblouk kružnice s tímto poloměrem a střed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v bodě </a:t>
            </a:r>
            <a:r>
              <a:rPr b="0" lang="cs-CZ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2133720"/>
            <a:ext cx="2809800" cy="1512720"/>
          </a:xfrm>
          <a:prstGeom prst="cloudCallout">
            <a:avLst>
              <a:gd name="adj1" fmla="val -18361"/>
              <a:gd name="adj2" fmla="val 1114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 průsečíku oblouků leží průsečík těžnic, tzn. těžiště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87280" y="1989000"/>
            <a:ext cx="691380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604880" y="2075040"/>
            <a:ext cx="5772240" cy="4306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00000" y="5745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50804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 závěr prodloužíme těžnice do zadané velikosti – nalezneme středy zbývajících stran – dokončíme konstrukci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99540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těžnic na základě vlastnosti dělení těžnic – sestrojíme jejich průsečík - těžiš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5805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11560" y="5635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2480" y="5640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680" y="3840480"/>
            <a:ext cx="3885120" cy="38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01" y="1958"/>
                </a:moveTo>
                <a:arcTo wR="10800" hR="10800" stAng="-3297581" swAng="2988677"/>
                <a:lnTo>
                  <a:pt x="10800" y="10800"/>
                </a:lnTo>
                <a:close/>
              </a:path>
              <a:path fill="none" w="21600" h="21600">
                <a:moveTo>
                  <a:pt x="17001" y="1958"/>
                </a:moveTo>
                <a:arcTo wR="10800" hR="10800" stAng="-3297581" swAng="29886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750200">
            <a:off x="3779640" y="2823480"/>
            <a:ext cx="5971680" cy="59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31" y="27"/>
                </a:moveTo>
                <a:arcTo wR="10800" hR="10800" stAng="-5645090" swAng="1879725"/>
                <a:lnTo>
                  <a:pt x="10800" y="10800"/>
                </a:lnTo>
                <a:close/>
              </a:path>
              <a:path fill="none" w="21600" h="21600">
                <a:moveTo>
                  <a:pt x="10031" y="27"/>
                </a:moveTo>
                <a:arcTo wR="10800" hR="10800" stAng="-5645090" swAng="187972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4400" y="56754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9466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93920" y="2651040"/>
            <a:ext cx="50403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67120" y="3780000"/>
            <a:ext cx="1964880" cy="196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11760" y="368316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7200" y="4062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11560" y="5805360"/>
            <a:ext cx="43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325600" y="4235040"/>
            <a:ext cx="244800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2160" y="1989000"/>
            <a:ext cx="3457440" cy="2374920"/>
          </a:xfrm>
          <a:prstGeom prst="cloudCallout">
            <a:avLst>
              <a:gd name="adj1" fmla="val 72268"/>
              <a:gd name="adj2" fmla="val 498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Abychom získali celou těžnici </a:t>
            </a:r>
            <a:r>
              <a:rPr b="1" i="1" lang="en-US" sz="12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en-US" sz="12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, musíme „protáhnout vzdálenost </a:t>
            </a:r>
            <a:r>
              <a:rPr b="1" i="1" lang="en-US" sz="1200" spc="-1" strike="noStrike">
                <a:solidFill>
                  <a:srgbClr val="284c6a"/>
                </a:solidFill>
                <a:latin typeface="Trebuchet MS"/>
              </a:rPr>
              <a:t>AT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“ (2/3 těžn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o zbývající jednu třeti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To znamená, že sestrojíme polopřímku </a:t>
            </a:r>
            <a:r>
              <a:rPr b="1" i="1" lang="en-US" sz="1200" spc="-1" strike="noStrike">
                <a:solidFill>
                  <a:srgbClr val="284c6a"/>
                </a:solidFill>
                <a:latin typeface="Trebuchet MS"/>
              </a:rPr>
              <a:t>AT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 a oblouk kružnice s poloměrem 1/3 </a:t>
            </a:r>
            <a:r>
              <a:rPr b="1" i="1" lang="en-US" sz="12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en-US" sz="12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200" spc="-1" strike="noStrike" baseline="-25000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a středem v bodě </a:t>
            </a:r>
            <a:r>
              <a:rPr b="1" i="1" lang="en-US" sz="12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933720"/>
            <a:ext cx="2810160" cy="1513080"/>
          </a:xfrm>
          <a:prstGeom prst="cloudCallout">
            <a:avLst>
              <a:gd name="adj1" fmla="val -83162"/>
              <a:gd name="adj2" fmla="val -295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 průsečíku polopřímky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T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a oblouk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m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leží střed strany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87280" y="1989000"/>
            <a:ext cx="691380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4880" y="2075040"/>
            <a:ext cx="5772240" cy="4306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00000" y="5745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50804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 závěr prodloužíme těžnice do zadané velikosti – nalezneme středy zbývajících stran – dokončíme konstrukci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99540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těžnic na základě vlastnosti dělení těžnic – sestrojíme jejich průsečík - těžiš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5805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11560" y="5635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2480" y="5640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3680" y="3840480"/>
            <a:ext cx="3885120" cy="38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01" y="1958"/>
                </a:moveTo>
                <a:arcTo wR="10800" hR="10800" stAng="-3297581" swAng="2988677"/>
                <a:lnTo>
                  <a:pt x="10800" y="10800"/>
                </a:lnTo>
                <a:close/>
              </a:path>
              <a:path fill="none" w="21600" h="21600">
                <a:moveTo>
                  <a:pt x="17001" y="1958"/>
                </a:moveTo>
                <a:arcTo wR="10800" hR="10800" stAng="-3297581" swAng="29886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750200">
            <a:off x="3779640" y="2823480"/>
            <a:ext cx="5971680" cy="59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31" y="27"/>
                </a:moveTo>
                <a:arcTo wR="10800" hR="10800" stAng="-5645090" swAng="1879725"/>
                <a:lnTo>
                  <a:pt x="10800" y="10800"/>
                </a:lnTo>
                <a:close/>
              </a:path>
              <a:path fill="none" w="21600" h="21600">
                <a:moveTo>
                  <a:pt x="10031" y="27"/>
                </a:moveTo>
                <a:arcTo wR="10800" hR="10800" stAng="-5645090" swAng="187972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4400" y="56754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39466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93920" y="2651040"/>
            <a:ext cx="50403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67120" y="3780000"/>
            <a:ext cx="1964880" cy="196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11760" y="368316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441080" y="3789360"/>
            <a:ext cx="5256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96240" y="3295080"/>
            <a:ext cx="2949480" cy="29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97" y="981"/>
                </a:moveTo>
                <a:arcTo wR="10800" hR="10800" stAng="-3923529" swAng="4423775"/>
                <a:lnTo>
                  <a:pt x="10800" y="10800"/>
                </a:lnTo>
                <a:close/>
              </a:path>
              <a:path fill="none" w="21600" h="21600">
                <a:moveTo>
                  <a:pt x="15297" y="981"/>
                </a:moveTo>
                <a:arcTo wR="10800" hR="10800" stAng="-3923529" swAng="442377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59200" y="32274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67200" y="4062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11560" y="5805360"/>
            <a:ext cx="43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325600" y="4235040"/>
            <a:ext cx="244800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598480" y="4235040"/>
            <a:ext cx="410364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1844640"/>
            <a:ext cx="3457440" cy="2592360"/>
          </a:xfrm>
          <a:prstGeom prst="cloudCallout">
            <a:avLst>
              <a:gd name="adj1" fmla="val -101837"/>
              <a:gd name="adj2" fmla="val 46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I vzdálenost těžiště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na druhé těžnici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 baseline="-25000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od bod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je dána 2/3 délky této těžnice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 To znamená, že sestrojíme polopřímku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BT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a oblouk kružn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s poloměrem 1/3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i="1" lang="cs-CZ" sz="14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1400"/>
            </a:b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a středem v bodě </a:t>
            </a:r>
            <a:r>
              <a:rPr b="1" i="1" lang="cs-CZ" sz="1400" spc="-1" strike="noStrike">
                <a:solidFill>
                  <a:srgbClr val="284c6a"/>
                </a:solidFill>
                <a:latin typeface="Trebuchet MS"/>
              </a:rPr>
              <a:t>T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4941720"/>
            <a:ext cx="2809800" cy="1513080"/>
          </a:xfrm>
          <a:prstGeom prst="cloudCallout">
            <a:avLst>
              <a:gd name="adj1" fmla="val 27851"/>
              <a:gd name="adj2" fmla="val -94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 průsečíku polopřímky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BT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a oblouku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n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 leží střed strany </a:t>
            </a:r>
            <a:r>
              <a:rPr b="1" i="1" lang="en-US" sz="1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87280" y="1989000"/>
            <a:ext cx="691380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04880" y="2075040"/>
            <a:ext cx="5772240" cy="4306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00000" y="57456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ačneme jako vždy zadanou stranou, v tomto případě stranou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150804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 závěr prodloužíme těžnice do zadané velikosti – nalezneme středy zbývajících stran – dokončíme konstrukci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99540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Následuje použití těžnic na základě vlastnosti dělení těžnic – sestrojíme jejich průsečík - těžišt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805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1560" y="56358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02480" y="56404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3680" y="3840480"/>
            <a:ext cx="3885120" cy="38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01" y="1958"/>
                </a:moveTo>
                <a:arcTo wR="10800" hR="10800" stAng="-3297581" swAng="2988677"/>
                <a:lnTo>
                  <a:pt x="10800" y="10800"/>
                </a:lnTo>
                <a:close/>
              </a:path>
              <a:path fill="none" w="21600" h="21600">
                <a:moveTo>
                  <a:pt x="17001" y="1958"/>
                </a:moveTo>
                <a:arcTo wR="10800" hR="10800" stAng="-3297581" swAng="29886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750200">
            <a:off x="3779640" y="2823480"/>
            <a:ext cx="5971680" cy="59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31" y="27"/>
                </a:moveTo>
                <a:arcTo wR="10800" hR="10800" stAng="-5645090" swAng="1879725"/>
                <a:lnTo>
                  <a:pt x="10800" y="10800"/>
                </a:lnTo>
                <a:close/>
              </a:path>
              <a:path fill="none" w="21600" h="21600">
                <a:moveTo>
                  <a:pt x="10031" y="27"/>
                </a:moveTo>
                <a:arcTo wR="10800" hR="10800" stAng="-5645090" swAng="187972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94400" y="567540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394668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293920" y="2651040"/>
            <a:ext cx="50403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67120" y="3780000"/>
            <a:ext cx="1964880" cy="196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11760" y="368316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1441080" y="3789360"/>
            <a:ext cx="5256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96240" y="3295080"/>
            <a:ext cx="2949480" cy="29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97" y="981"/>
                </a:moveTo>
                <a:arcTo wR="10800" hR="10800" stAng="-3923529" swAng="4423775"/>
                <a:lnTo>
                  <a:pt x="10800" y="10800"/>
                </a:lnTo>
                <a:close/>
              </a:path>
              <a:path fill="none" w="21600" h="21600">
                <a:moveTo>
                  <a:pt x="15297" y="981"/>
                </a:moveTo>
                <a:arcTo wR="10800" hR="10800" stAng="-3923529" swAng="442377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9200" y="32274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158560" y="2120760"/>
            <a:ext cx="4535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290680" y="2060640"/>
            <a:ext cx="71928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7200" y="4062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11560" y="5805360"/>
            <a:ext cx="43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325600" y="4235040"/>
            <a:ext cx="244800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2598480" y="4235040"/>
            <a:ext cx="410364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2060640"/>
            <a:ext cx="3241800" cy="2378160"/>
          </a:xfrm>
          <a:prstGeom prst="cloudCallout">
            <a:avLst>
              <a:gd name="adj1" fmla="val -107148"/>
              <a:gd name="adj2" fmla="val -2409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Na úplný závěr sestrojíme poslední vrchol trojúhelníku, bod C, jako průsečík polopřímek AS</a:t>
            </a:r>
            <a:r>
              <a:rPr b="1" lang="cs-CZ" sz="14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a BS</a:t>
            </a:r>
            <a:r>
              <a:rPr b="1" lang="cs-CZ" sz="14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57320" y="2060640"/>
            <a:ext cx="691344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84240" y="61596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AB;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c= 9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3640" y="15984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998640" y="114948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l; l(B; 2/3 t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6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4320" y="890640"/>
            <a:ext cx="2946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7. 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T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19640" y="544680"/>
            <a:ext cx="2808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6. m; m(T; 1/3 t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 2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6021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5891040"/>
            <a:ext cx="4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11560" y="58514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2480" y="58561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7920" y="404352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r>
              <a:rPr b="1" lang="cs-CZ" sz="12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63880" y="594216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2480" y="59292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49840" y="500076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3160" y="1413000"/>
            <a:ext cx="27432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9. n; n(T; 1/3 t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= 3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84240" y="87480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 k; k(A; 2/3 t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3680" y="4056480"/>
            <a:ext cx="3885120" cy="388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01" y="1958"/>
                </a:moveTo>
                <a:arcTo wR="10800" hR="10800" stAng="-3297581" swAng="2988677"/>
                <a:lnTo>
                  <a:pt x="10800" y="10800"/>
                </a:lnTo>
                <a:close/>
              </a:path>
              <a:path fill="none" w="21600" h="21600">
                <a:moveTo>
                  <a:pt x="17001" y="1958"/>
                </a:moveTo>
                <a:arcTo wR="10800" hR="10800" stAng="-3297581" swAng="29886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750200">
            <a:off x="3780720" y="3039120"/>
            <a:ext cx="5970240" cy="59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31" y="27"/>
                </a:moveTo>
                <a:arcTo wR="10800" hR="10800" stAng="-5645090" swAng="1879725"/>
                <a:lnTo>
                  <a:pt x="10800" y="10800"/>
                </a:lnTo>
                <a:close/>
              </a:path>
              <a:path fill="none" w="21600" h="21600">
                <a:moveTo>
                  <a:pt x="10031" y="27"/>
                </a:moveTo>
                <a:arcTo wR="10800" hR="10800" stAng="-5645090" swAng="187972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41680" y="25002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93892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19640" y="416232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55760" y="4314960"/>
            <a:ext cx="432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S</a:t>
            </a:r>
            <a:r>
              <a:rPr b="1" lang="cs-CZ" sz="12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293920" y="2852640"/>
            <a:ext cx="50403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67120" y="3995640"/>
            <a:ext cx="1964880" cy="196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11760" y="389880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441080" y="4005360"/>
            <a:ext cx="5256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482200" y="3511080"/>
            <a:ext cx="2948760" cy="295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97" y="981"/>
                </a:moveTo>
                <a:arcTo wR="10800" hR="10800" stAng="-3923529" swAng="4423775"/>
                <a:lnTo>
                  <a:pt x="10800" y="10800"/>
                </a:lnTo>
                <a:close/>
              </a:path>
              <a:path fill="none" w="21600" h="21600">
                <a:moveTo>
                  <a:pt x="15297" y="981"/>
                </a:moveTo>
                <a:arcTo wR="10800" hR="10800" stAng="-3923529" swAng="442377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59200" y="3443400"/>
            <a:ext cx="4316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158560" y="2336760"/>
            <a:ext cx="4535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309400" y="2270520"/>
            <a:ext cx="653400" cy="37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7200" y="42782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15920" y="1441440"/>
            <a:ext cx="2806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 T; T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30320" y="1700280"/>
            <a:ext cx="2806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5.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19560" y="1700280"/>
            <a:ext cx="27432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0. 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s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s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BT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1125360"/>
            <a:ext cx="27432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8.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549360"/>
            <a:ext cx="2808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1.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B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56360" y="822240"/>
            <a:ext cx="28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2.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1111320"/>
            <a:ext cx="2808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3. C; C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B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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S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11560" y="602136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857680" y="2881440"/>
            <a:ext cx="3846240" cy="31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7280" y="357336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98240" y="2898360"/>
            <a:ext cx="562680" cy="311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40000" y="3860640"/>
            <a:ext cx="431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284c6a"/>
                </a:solidFill>
                <a:latin typeface="Trebuchet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56360" y="1384200"/>
            <a:ext cx="28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4. </a:t>
            </a:r>
            <a:r>
              <a:rPr b="1" lang="en-US" sz="1600" spc="-1" strike="noStrike">
                <a:solidFill>
                  <a:srgbClr val="284c6a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A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2-24T12:31:42Z</dcterms:modified>
  <cp:revision>172</cp:revision>
  <dc:subject/>
  <dc:title>Konstrukce trojúhelníku s těžnicí v zadání 4</dc:title>
</cp:coreProperties>
</file>