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E4A-B319-4F6F-AA8F-9FF4BDBB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230-103F-47FE-A1F4-E4BD400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0BE-D0B8-423B-A8BD-8319C09A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4DC-766F-4369-82E4-6DD0260F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008-4D0C-4611-A4CD-4DFCD9DA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768-21A9-48B5-AE95-ADC6B734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0FEA-0D77-46BC-8DDA-11E8DF8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1F4A-5E58-439A-B52E-79F89C1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8D1-886C-4521-95EA-DC443B93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D77B-904C-4CA4-AE65-4E2186EE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62A9-FDF3-41CA-B305-E87A5EC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15C-394E-41E0-96E7-7858B56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D928-DDD1-434A-AD67-B6C7FDCF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F587-D4E9-4BB4-96DD-E6A33AD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589-8EF0-438C-86EE-45DDD77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B8FA-07EE-4A38-9F25-98845394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C69-25F4-46BD-863D-401DD512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6D2-637D-482A-ACFD-C6A5F03C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C14-8AFA-4463-962C-5DFC1662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CD0-7B19-4A7E-9090-478F373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5E3-72F2-4F4D-9E48-D7708DDB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184-54B4-437B-8D69-7C2E244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69B-6375-4E21-BD0E-DA040DD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5CF-99D7-40D9-80BC-DE0F8A69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B2C4-CD1E-411D-B00A-D78B536683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3C9F-B642-468D-A377-EB93D55D364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orackova.cz/cabri/vyklad/631.htm" TargetMode="External"/><Relationship Id="rId3" Type="http://schemas.openxmlformats.org/officeDocument/2006/relationships/hyperlink" Target="http://www.horackova.cz/cabri/vyklad/631.htm" TargetMode="External"/><Relationship Id="rId4" Type="http://schemas.openxmlformats.org/officeDocument/2006/relationships/hyperlink" Target="http://www.horackova.cz/cabri/vyklad/631.htm" TargetMode="External"/><Relationship Id="rId5" Type="http://schemas.openxmlformats.org/officeDocument/2006/relationships/hyperlink" Target="http://www.horackova.cz/cabri/vyklad/631.htm" TargetMode="External"/><Relationship Id="rId6" Type="http://schemas.openxmlformats.org/officeDocument/2006/relationships/hyperlink" Target="http://www.horackova.cz/cabri/vyklad/631.htm" TargetMode="External"/><Relationship Id="rId7" Type="http://schemas.openxmlformats.org/officeDocument/2006/relationships/hyperlink" Target="http://www.horackova.cz/cabri/vyklad/631.htm" TargetMode="External"/><Relationship Id="rId8" Type="http://schemas.openxmlformats.org/officeDocument/2006/relationships/hyperlink" Target="http://www.horackova.cz/cabri/vyklad/631.htm" TargetMode="External"/><Relationship Id="rId9" Type="http://schemas.openxmlformats.org/officeDocument/2006/relationships/hyperlink" Target="http://www.horackova.cz/cabri/vyklad/631.htm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všechny 3 jeho stra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65444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Konstrukce podle věty sss</a:t>
            </a:r>
            <a:br>
              <a:rPr sz="2800"/>
            </a:br>
            <a:r>
              <a:rPr b="0" lang="cs-CZ" sz="2800" spc="-1" strike="noStrike">
                <a:solidFill>
                  <a:srgbClr val="284c6a"/>
                </a:solidFill>
                <a:latin typeface="Trebuchet MS"/>
              </a:rPr>
              <a:t>(strana, strana, str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50800" y="2522520"/>
            <a:ext cx="6073920" cy="384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a=5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b=7 cm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65240" y="577692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83120" y="576252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=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1320" y="106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nachází vrchol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trojúhelní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57160" y="15843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Leží v průsečíku kružnic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zn.množiny všech bodů, které mají od vrchol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vzdálenost danou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j. 7 cm (kružnice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, a množiny bodů, které mají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vzdálenost danou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j. 5 cm (kružnice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k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3120" y="2114640"/>
            <a:ext cx="8064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o 2. a 3. krok konstrukce tedy narýsujeme výše uváděné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369040" y="3101040"/>
            <a:ext cx="156420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2040" y="406080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=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53240" y="244944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50120" y="3086280"/>
            <a:ext cx="3420000" cy="2702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405612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b=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a=5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b=7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2837160" y="1264320"/>
            <a:ext cx="9194760" cy="95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54" y="2799"/>
                </a:moveTo>
                <a:arcTo wR="10800" hR="10800" stAng="-2868352" swAng="3036920"/>
                <a:lnTo>
                  <a:pt x="10800" y="10800"/>
                </a:lnTo>
                <a:close/>
              </a:path>
              <a:path fill="none" w="21600" h="21600">
                <a:moveTo>
                  <a:pt x="18054" y="2799"/>
                </a:moveTo>
                <a:arcTo wR="10800" hR="10800" stAng="-2868352" swAng="3036920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3800" y="58053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594800">
            <a:off x="3844800" y="2662200"/>
            <a:ext cx="6235920" cy="62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00" y="454"/>
                </a:moveTo>
                <a:arcTo wR="10800" hR="10800" stAng="-6400715" swAng="6966919"/>
                <a:lnTo>
                  <a:pt x="10800" y="10800"/>
                </a:lnTo>
                <a:close/>
              </a:path>
              <a:path fill="none" w="21600" h="21600">
                <a:moveTo>
                  <a:pt x="7700" y="454"/>
                </a:moveTo>
                <a:arcTo wR="10800" hR="10800" stAng="-6400715" swAng="6966919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35480" y="270972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01680" y="28526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apisujeme:</a:t>
            </a:r>
            <a:br>
              <a:rPr sz="2000"/>
            </a:b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C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 k 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0" y="1038240"/>
            <a:ext cx="3168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c=8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stup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2557440" y="1368360"/>
            <a:ext cx="2806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2. k; k(B; a=5 cm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84840" y="1327320"/>
            <a:ext cx="3359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70040" y="1755720"/>
            <a:ext cx="4321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3. l; l(A; b=7 c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58197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0360" y="5691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562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2366640" y="1461600"/>
            <a:ext cx="8692560" cy="869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48" y="2617"/>
                </a:moveTo>
                <a:arcTo wR="10800" hR="10800" stAng="-2955855" swAng="1353561"/>
                <a:lnTo>
                  <a:pt x="10800" y="10800"/>
                </a:lnTo>
                <a:close/>
              </a:path>
              <a:path fill="none" w="21600" h="21600">
                <a:moveTo>
                  <a:pt x="17848" y="2617"/>
                </a:moveTo>
                <a:arcTo wR="10800" hR="10800" stAng="-2955855" swAng="13535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2360" y="23493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8317400">
            <a:off x="3845520" y="2698200"/>
            <a:ext cx="6213960" cy="62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70" y="405"/>
                </a:moveTo>
                <a:arcTo wR="10800" hR="10800" stAng="-6344552" swAng="5132429"/>
                <a:lnTo>
                  <a:pt x="10800" y="10800"/>
                </a:lnTo>
                <a:close/>
              </a:path>
              <a:path fill="none" w="21600" h="21600">
                <a:moveTo>
                  <a:pt x="7870" y="405"/>
                </a:moveTo>
                <a:arcTo wR="10800" hR="10800" stAng="-6344552" swAng="513242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239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79640" y="5818320"/>
            <a:ext cx="4976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392440" y="3135240"/>
            <a:ext cx="1561680" cy="267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979640" y="3116160"/>
            <a:ext cx="3419280" cy="269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57240" y="590724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1520" y="590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749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1811160" y="2381400"/>
            <a:ext cx="5208840" cy="39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=3 cm, b=6,5 cm, a=8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80000" y="1297080"/>
            <a:ext cx="30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1379520" y="1684440"/>
            <a:ext cx="6216840" cy="46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=5 cm, b=5 cm, c=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7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8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OPQ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=4 cm, p=9 cm, q=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1595520" y="1805040"/>
            <a:ext cx="5929200" cy="44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sss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vřete si na závěr ještě následující odkaz. Můžete myší měnit polohu bodů A, B a poloměry kružnic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vedené konstrukci. Zkoumejte, zda při všech možných velikostech stran lze trojúhelník sestroj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157720"/>
            <a:ext cx="4924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orackova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cabri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/vyklad/631.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sss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1197000"/>
            <a:ext cx="6121440" cy="3384360"/>
          </a:xfrm>
          <a:prstGeom prst="cloudCallout">
            <a:avLst>
              <a:gd name="adj1" fmla="val 55111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 co jste zjistili? Že ne vždy lze trojúhelník sestrojit? Pak je váš závěr správný. O tom, zda trojúhelník zadaný všemi jeho stranami sestrojit jde nebo ne, rozhoduje tzv. trojúhelníková nerovnost. Tu si ale necháme na pří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53120" y="2682000"/>
            <a:ext cx="6160320" cy="398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61" y="1313"/>
                </a:moveTo>
                <a:arcTo wR="10800" hR="10800" stAng="-3687064" swAng="12273019"/>
                <a:lnTo>
                  <a:pt x="10800" y="10800"/>
                </a:lnTo>
                <a:close/>
              </a:path>
              <a:path fill="none" w="21600" h="21600">
                <a:moveTo>
                  <a:pt x="15961" y="1313"/>
                </a:moveTo>
                <a:arcTo wR="10800" hR="10800" stAng="-3687064" swAng="12273019"/>
              </a:path>
            </a:pathLst>
          </a:custGeom>
          <a:noFill/>
          <a:ln w="28440">
            <a:solidFill>
              <a:srgbClr val="3333c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1052640"/>
            <a:ext cx="8064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onstrukce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1397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Z jakých částí se skládá naše činnost prováděná před, během a po konstrukci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2560" y="1773360"/>
            <a:ext cx="7777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1. Je dobré zjistit, pokud to jde už ze zadání konstrukce, zda trojúhelník lze vůbec sestrojit, abychom zbytečně neztráceli čas. Ja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205000"/>
            <a:ext cx="648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Např. pomocí trojúhelníkové nerovnosti, velikosti úhlů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70828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2. Načrtnout obrázek, v němž si vyznačíme zadané údaje. Udělat si </a:t>
            </a: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náčrt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konstruované situ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35592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3. Rozebrat postup, podle kterého budeme trojúhelník rýsovat. To znamená, určit si, které znalosti nám při konstrukci trojúhelníku pomohou a j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4149720"/>
            <a:ext cx="7345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Např. vlastnosti trojúhelníku a jiných známých geometrických útvarů nebo množiny bodů dané vlast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65300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4. Zapsat </a:t>
            </a: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postup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konstrukce, stanovený na základě provedeného rozbo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522936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5. Podle zapsaného postupu uskutečnit </a:t>
            </a: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konstrukci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a narýsovat zadaný trojúhelní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805360"/>
            <a:ext cx="792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6. Zapsat </a:t>
            </a: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počet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všech možných </a:t>
            </a:r>
            <a:r>
              <a:rPr b="1" lang="en-US" sz="1700" spc="-1" strike="noStrike">
                <a:solidFill>
                  <a:srgbClr val="ff0000"/>
                </a:solidFill>
                <a:latin typeface="Trebuchet MS"/>
              </a:rPr>
              <a:t>řešení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 dané zadané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50800" y="2421000"/>
            <a:ext cx="6073920" cy="384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14400" y="18874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295200" y="6778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a=5 cm, b=7 cm, c=8 cm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5240" y="567540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355000" y="2988360"/>
            <a:ext cx="156456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50120" y="2977920"/>
            <a:ext cx="3420360" cy="2703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83120" y="566100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=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394812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=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394812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b=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268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vní krok konstrukce, tj. určení, zda lze trojúhelník o zadaných stranách vůbec sestrojit, si výjimečně necháme až na samotný závěr, až jej na základě provedených konstrukcí budeme schopni daleko lépe a rychleji pochop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50800" y="2522520"/>
            <a:ext cx="6073920" cy="38498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a=5 cm, b=7 cm, c=8 cm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65240" y="577692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369040" y="3089880"/>
            <a:ext cx="156420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50120" y="3080160"/>
            <a:ext cx="3420000" cy="2702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83120" y="576252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=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04964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=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04964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b=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 tomu, abychom sestrojili trojúhelník, potřebuje mít zadány 3 úd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12254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ak, jak je tomu v našem případě, kdy známe tři strany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0040" y="16146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yto tři zadané údaje se pak zpravidla využívají při prvních třech krocích postupu konstr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0034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Čím při rýsování začne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0542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ři konstrukcích trojúhelníků začínáme většinou (je-li zadána) stranou, a to dolní, vodorovně umístěnou str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376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a=5 cm, b=7 cm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50800" y="2522520"/>
            <a:ext cx="6073920" cy="3849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a=5 cm, b=7 cm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65240" y="577692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83120" y="576252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=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1076400"/>
            <a:ext cx="65516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ále budeme hledat bod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íme, že jeho vzdálenost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5 cm (a=5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5969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85580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všech bodů, jejichž vzdálenost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5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2114640"/>
            <a:ext cx="806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to kružnice k se středem v bodě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poloměrem o velikosti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j. 5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69040" y="3101040"/>
            <a:ext cx="156420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2040" y="406080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=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a=5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b=7 cm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867640" y="2865240"/>
            <a:ext cx="1075680" cy="290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35480" y="270828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22760" y="247824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387120" y="2720520"/>
            <a:ext cx="554400" cy="3052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3493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931080" y="2665440"/>
            <a:ext cx="15840" cy="310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02400" y="233352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935760" y="2718000"/>
            <a:ext cx="523080" cy="3057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35920" y="233532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932720" y="3416040"/>
            <a:ext cx="2005920" cy="2365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5080" y="301140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594800">
            <a:off x="3844800" y="2662200"/>
            <a:ext cx="6235920" cy="62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00" y="454"/>
                </a:moveTo>
                <a:arcTo wR="10800" hR="10800" stAng="-6400715" swAng="6966919"/>
                <a:lnTo>
                  <a:pt x="10800" y="10800"/>
                </a:lnTo>
                <a:close/>
              </a:path>
              <a:path fill="none" w="21600" h="21600">
                <a:moveTo>
                  <a:pt x="7700" y="454"/>
                </a:moveTo>
                <a:arcTo wR="10800" hR="10800" stAng="-6400715" swAng="6966919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55080" y="3807720"/>
            <a:ext cx="2385720" cy="198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500280"/>
            <a:ext cx="502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244040" y="4234320"/>
            <a:ext cx="2693880" cy="1537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2720" y="393372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016880" y="4725000"/>
            <a:ext cx="2919960" cy="1046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7080" y="446580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76840" y="5260680"/>
            <a:ext cx="3057120" cy="523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49520" y="502776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53240" y="244944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0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50800" y="2522520"/>
            <a:ext cx="6073920" cy="3849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a=5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b=7 cm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65240" y="5776920"/>
            <a:ext cx="49626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83120" y="5762520"/>
            <a:ext cx="849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=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1076400"/>
            <a:ext cx="86421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Co ještě víme o bod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? Jakou druhou podmínku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(kromě vzdálenosti 5 cm od bodu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)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musí ještě splňov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íme, že jeho vzdálenost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7 cm (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7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5969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185580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všech bodů, jejichž vzdálenost od bod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7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114640"/>
            <a:ext cx="806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to kružnice l se středem v bodě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 poloměrem o velikosti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tj. 7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69040" y="3101040"/>
            <a:ext cx="1564200" cy="267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2040" y="4060800"/>
            <a:ext cx="936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a=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594800">
            <a:off x="3844800" y="2662200"/>
            <a:ext cx="6235920" cy="62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00" y="454"/>
                </a:moveTo>
                <a:arcTo wR="10800" hR="10800" stAng="-6400715" swAng="6966919"/>
                <a:lnTo>
                  <a:pt x="10800" y="10800"/>
                </a:lnTo>
                <a:close/>
              </a:path>
              <a:path fill="none" w="21600" h="21600">
                <a:moveTo>
                  <a:pt x="7700" y="454"/>
                </a:moveTo>
                <a:arcTo wR="10800" hR="10800" stAng="-6400715" swAng="6966919"/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53240" y="244944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50120" y="3086280"/>
            <a:ext cx="3420000" cy="2702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405612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b=7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5200" y="62064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a=5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b=7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2100" spc="-1" strike="noStrike">
                <a:solidFill>
                  <a:srgbClr val="ff0000"/>
                </a:solidFill>
                <a:latin typeface="Trebuchet MS"/>
              </a:rPr>
              <a:t>c=8 cm</a:t>
            </a:r>
            <a:r>
              <a:rPr b="1" lang="en-US" sz="21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35480" y="270828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55160" y="2521080"/>
            <a:ext cx="2898720" cy="3255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5120" y="233532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49040" y="3705480"/>
            <a:ext cx="3837600" cy="2067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3443400"/>
            <a:ext cx="503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54080" y="4414680"/>
            <a:ext cx="4138560" cy="1370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3520" y="423540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54080" y="5144760"/>
            <a:ext cx="4313520" cy="63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72280" y="49989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rebuchet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-2837160" y="1264320"/>
            <a:ext cx="9194760" cy="951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54" y="2799"/>
                </a:moveTo>
                <a:arcTo wR="10800" hR="10800" stAng="-2868352" swAng="3036920"/>
                <a:lnTo>
                  <a:pt x="10800" y="10800"/>
                </a:lnTo>
                <a:close/>
              </a:path>
              <a:path fill="none" w="21600" h="21600">
                <a:moveTo>
                  <a:pt x="18054" y="2799"/>
                </a:moveTo>
                <a:arcTo wR="10800" hR="10800" stAng="-2868352" swAng="3036920"/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3800" y="5805360"/>
            <a:ext cx="50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5-12T07:08:46Z</dcterms:modified>
  <cp:revision>149</cp:revision>
  <dc:subject/>
  <dc:title>Konstrukce trojúhelníku podle věty sss</dc:title>
</cp:coreProperties>
</file>