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2EA-7C98-453D-93F1-2C605FE0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B74-4FA2-4FE9-9E03-04012E1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A88-E1C9-4F1D-96B2-6AC63D4F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58C-5296-4EEB-86D1-4680E501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A55C-11F6-4623-BF6C-D8E2196E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40C2-9DD8-4FBD-BE83-54E1C30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07F-1578-4C59-9BA9-EDD6E3A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8573-1DEE-4501-88BB-89D254A6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B96-9548-48C0-9E69-18C059F1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FDF7-6A09-4F36-BA7F-557101E2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FAEB-3CC2-4AF1-A06B-3680AB4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964-E84B-4A44-A57D-DA33D17C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3AA-56F9-4332-8C3C-6A4AD22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F236-FBB2-4E5E-AAD5-D9E45AF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7B0-ADB4-4F51-9CD4-1D34EEF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499C-652D-40F1-86EE-50EAA7ED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4417-15A9-4CB3-8C7C-54A68EDC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916-2AED-4BD8-BC6C-F1D83B38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521-019D-41D8-A3A7-2EAC9458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B79-8995-480B-B341-00CB253D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726-16D5-4952-BF18-8206B3F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03D-BA3E-4F89-BB4A-97A3C27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513-2CE8-43CD-9073-4718B6B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C76-CB1A-44AA-97DF-2B8ACD41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4909-28FB-4AFC-828D-3C14236C90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E800-B021-4A80-B477-B701C66325C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cs-CZ" sz="4800" spc="-1" strike="noStrike">
                <a:solidFill>
                  <a:srgbClr val="284c6a"/>
                </a:solidFill>
                <a:latin typeface="Trebuchet MS"/>
              </a:rPr>
              <a:t>trojúhelníku - Ss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dvě strany a úhel proti delší z n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84c6a"/>
                </a:solidFill>
                <a:latin typeface="Trebuchet MS"/>
              </a:rPr>
              <a:t>Může však nastat i takováto varianta:</a:t>
            </a:r>
            <a:endParaRPr b="0" lang="en-US" sz="27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1557360"/>
            <a:ext cx="6913800" cy="479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12536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c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, a = 4,5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1430280" y="1700280"/>
            <a:ext cx="6094440" cy="4519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0" y="1628640"/>
            <a:ext cx="36432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Kružnice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o poloměru velikosti strany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se protíná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s polopřímkou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Y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(ramenem úhlu 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,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ve dvou místech, vznikají tedy body </a:t>
            </a:r>
            <a:br>
              <a:rPr sz="2800"/>
            </a:b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C a C´.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508644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MÁ DVĚ ŘEŠEN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84c6a"/>
                </a:solidFill>
                <a:latin typeface="Trebuchet MS"/>
              </a:rPr>
              <a:t>A na závěr ještě jedna reálná možnost.</a:t>
            </a:r>
            <a:endParaRPr b="0" lang="en-US" sz="27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1557360"/>
            <a:ext cx="6913800" cy="479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1357200" y="1700280"/>
            <a:ext cx="6167520" cy="4573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068720" y="1413000"/>
            <a:ext cx="410364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Kružnice (o poloměru velikosti strany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se dotýká polopřímky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Y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(ramene úhlu 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, polopřímka je její tečnou, 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vzniká tedy jediný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 bod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C (bod dotyku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508644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MÁ JEDNO ŘEŠEN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ár příkladů k procvič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7000" y="109692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475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a = 4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120°, b = 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47840" y="1700280"/>
            <a:ext cx="4808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c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45°, b = 5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47840" y="1959120"/>
            <a:ext cx="38894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b = 3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30°, a = 7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42920" y="1989000"/>
            <a:ext cx="6985080" cy="43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eji Vám mnoho přesnosti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 rot="662400">
            <a:off x="4284360" y="2276280"/>
            <a:ext cx="3367080" cy="3717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389240" y="4498920"/>
            <a:ext cx="534348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opakujeme si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927000" y="1125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1916280"/>
            <a:ext cx="4392360" cy="237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68000" y="1916280"/>
            <a:ext cx="107964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8800" y="1484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067280" y="1916280"/>
            <a:ext cx="288720" cy="223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1916280"/>
            <a:ext cx="936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1640" y="1916280"/>
            <a:ext cx="230508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1916280"/>
            <a:ext cx="2376360" cy="1008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Sestrojte trojúhelník ABC, ve kterém c = 5 cm, b = 7 cm, </a:t>
            </a:r>
            <a:r>
              <a:rPr b="1" lang="en-US" sz="2200" spc="-1" strike="noStrike">
                <a:solidFill>
                  <a:srgbClr val="284c6a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 = 110°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74880" y="3197160"/>
            <a:ext cx="492912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2760" y="5705640"/>
            <a:ext cx="3221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10312200">
            <a:off x="4478400" y="4677480"/>
            <a:ext cx="2019240" cy="20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6" y="1325"/>
                </a:moveTo>
                <a:arcTo wR="10800" hR="10800" stAng="-7121052" swAng="6672474"/>
                <a:lnTo>
                  <a:pt x="10800" y="10800"/>
                </a:lnTo>
                <a:close/>
              </a:path>
              <a:path fill="none" w="21600" h="21600">
                <a:moveTo>
                  <a:pt x="5616" y="1325"/>
                </a:moveTo>
                <a:arcTo wR="10800" hR="10800" stAng="-7121052" swAng="6672474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282760" y="3573360"/>
            <a:ext cx="3990960" cy="213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94040" y="5632560"/>
            <a:ext cx="2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178160"/>
            <a:ext cx="288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5027760"/>
            <a:ext cx="1024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=11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722160"/>
            <a:ext cx="82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při které leží zadaný úh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11132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ásleduje použití zadaného úhlu – dostaneme polopřímk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BY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svírající se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úhel 11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657440"/>
            <a:ext cx="777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ako poslední využijeme ze zadání stranu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– její velikost je poloměrem kružnice se středem v bodě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, tj. kružnice, která je množinou všech bodů majících od bodu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 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vzdálenost rovnu velikosti strany </a:t>
            </a:r>
            <a:r>
              <a:rPr b="1" i="1" lang="cs-CZ" sz="16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74880" y="3197160"/>
            <a:ext cx="4929120" cy="3111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87280" y="57056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2760" y="5603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4320" y="5603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4400" y="55609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2760" y="5705640"/>
            <a:ext cx="3221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0312200">
            <a:off x="4478400" y="4677480"/>
            <a:ext cx="2019240" cy="20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16" y="1325"/>
                </a:moveTo>
                <a:arcTo wR="10800" hR="10800" stAng="-7121052" swAng="6672474"/>
                <a:lnTo>
                  <a:pt x="10800" y="10800"/>
                </a:lnTo>
                <a:close/>
              </a:path>
              <a:path fill="none" w="21600" h="21600">
                <a:moveTo>
                  <a:pt x="5616" y="1325"/>
                </a:moveTo>
                <a:arcTo wR="10800" hR="10800" stAng="-7121052" swAng="667247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479920" y="2392200"/>
            <a:ext cx="1224000" cy="33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2080" y="2708280"/>
            <a:ext cx="201600" cy="7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34936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222640" y="1189080"/>
            <a:ext cx="9010440" cy="900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24" y="3052"/>
                </a:moveTo>
                <a:arcTo wR="10800" hR="10800" stAng="-2750472" swAng="3106376"/>
                <a:lnTo>
                  <a:pt x="10800" y="10800"/>
                </a:lnTo>
                <a:close/>
              </a:path>
              <a:path fill="none" w="21600" h="21600">
                <a:moveTo>
                  <a:pt x="18324" y="3052"/>
                </a:moveTo>
                <a:arcTo wR="10800" hR="10800" stAng="-2750472" swAng="31063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49228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79920" y="3587400"/>
            <a:ext cx="777960" cy="2120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282760" y="3573360"/>
            <a:ext cx="3990960" cy="2138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47640" y="1038240"/>
            <a:ext cx="251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=5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9440" y="175896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 k; k(A; b=7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84840" y="103824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C; C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139860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Trojúhelník AB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47640" y="1397160"/>
            <a:ext cx="4321080" cy="303120"/>
            <a:chOff x="1547640" y="1397160"/>
            <a:chExt cx="4321080" cy="303120"/>
          </a:xfrm>
        </p:grpSpPr>
        <p:sp>
          <p:nvSpPr>
            <p:cNvPr id="163" name=""/>
            <p:cNvSpPr/>
            <p:nvPr/>
          </p:nvSpPr>
          <p:spPr>
            <a:xfrm>
              <a:off x="1547640" y="1397160"/>
              <a:ext cx="432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2.     ABY;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   ABY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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=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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 = 110°, </a:t>
              </a:r>
              <a:r>
                <a:rPr b="1" lang="cs-CZ" sz="1600" spc="-1" strike="noStrike">
                  <a:solidFill>
                    <a:srgbClr val="284c6a"/>
                  </a:solidFill>
                  <a:latin typeface="Symbol"/>
                  <a:ea typeface="Symbol"/>
                </a:rPr>
                <a:t></a:t>
              </a:r>
              <a:r>
                <a:rPr b="1" lang="cs-CZ" sz="1600" spc="-1" strike="noStrike">
                  <a:solidFill>
                    <a:srgbClr val="284c6a"/>
                  </a:solidFill>
                  <a:latin typeface="Trebuchet MS"/>
                </a:rPr>
                <a:t>B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1922040" y="1470240"/>
              <a:ext cx="173160" cy="17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757240" y="1470240"/>
              <a:ext cx="173160" cy="1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1144440" y="568944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51640" y="56196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97240" y="5589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7200" y="5589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38480" y="57466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8320" y="57484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407560" y="2474280"/>
            <a:ext cx="1208520" cy="32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41760" y="2801160"/>
            <a:ext cx="22752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29440" y="25066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8400">
            <a:off x="-1057680" y="1604880"/>
            <a:ext cx="7664040" cy="890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86" y="1220"/>
                </a:moveTo>
                <a:arcTo wR="10800" hR="10800" stAng="-3750337" swAng="3393478"/>
                <a:lnTo>
                  <a:pt x="10800" y="10800"/>
                </a:lnTo>
                <a:close/>
              </a:path>
              <a:path fill="none" w="21600" h="21600">
                <a:moveTo>
                  <a:pt x="15786" y="1220"/>
                </a:moveTo>
                <a:arcTo wR="10800" hR="10800" stAng="-3750337" swAng="339347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7080" y="2924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6360" y="3500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97240" y="5689440"/>
            <a:ext cx="30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07200" y="3744720"/>
            <a:ext cx="72072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97240" y="3730680"/>
            <a:ext cx="374472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2720" y="561816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24360" y="4653000"/>
            <a:ext cx="2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36572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232092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27000" y="1096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.</a:t>
            </a:r>
            <a:br>
              <a:rPr sz="20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57240" y="170028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11280" y="2373480"/>
            <a:ext cx="5724720" cy="3911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511280" y="2373480"/>
            <a:ext cx="5724720" cy="3911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511280" y="2373480"/>
            <a:ext cx="5724720" cy="3911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511280" y="2373480"/>
            <a:ext cx="5724720" cy="39114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511280" y="2373480"/>
            <a:ext cx="5724720" cy="39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84c6a"/>
                </a:solidFill>
                <a:latin typeface="Trebuchet MS"/>
              </a:rPr>
              <a:t>Ale pozor! Ne vždy bude konstrukce „bez problémů“. Podívejme se, co nás může překvapit.</a:t>
            </a:r>
            <a:endParaRPr b="0" lang="en-US" sz="27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1557360"/>
            <a:ext cx="6913800" cy="479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197000"/>
            <a:ext cx="813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c = 5 cm, </a:t>
            </a: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= 60°, a = 3 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87360" y="1700280"/>
            <a:ext cx="6453360" cy="4502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287360" y="1700280"/>
            <a:ext cx="6453360" cy="4502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287360" y="1700280"/>
            <a:ext cx="6453360" cy="4502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067280" y="1557360"/>
            <a:ext cx="396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Kružnice (o poloměru velikosti strany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se neprotíná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s polopřímkou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AY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(ramenem úhlu 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,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a bod </a:t>
            </a:r>
            <a:r>
              <a:rPr b="1" i="1" lang="en-US" sz="2800" spc="-1" strike="noStrike">
                <a:solidFill>
                  <a:srgbClr val="00cc00"/>
                </a:solidFill>
                <a:latin typeface="Trebuchet MS"/>
              </a:rPr>
              <a:t>C tedy nevzniká.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086440"/>
            <a:ext cx="84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NEMÁ ŘEŠENÍ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</dc:description>
  <dc:language>en-US</dc:language>
  <cp:lastModifiedBy>Svejdova</cp:lastModifiedBy>
  <dcterms:modified xsi:type="dcterms:W3CDTF">2008-09-19T08:31:27Z</dcterms:modified>
  <cp:revision>137</cp:revision>
  <dc:subject/>
  <dc:title>Konstrukce trojúhelníku - Ssu</dc:title>
</cp:coreProperties>
</file>