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14.png" ContentType="image/png"/>
  <Override PartName="/ppt/media/image20.png" ContentType="image/png"/>
  <Override PartName="/ppt/media/image57.png" ContentType="image/png"/>
  <Override PartName="/ppt/media/image31.png" ContentType="image/png"/>
  <Override PartName="/ppt/media/image2.jpeg" ContentType="image/jpe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75.png" ContentType="image/png"/>
  <Override PartName="/ppt/media/image63.png" ContentType="image/png"/>
  <Override PartName="/ppt/media/image74.png" ContentType="image/png"/>
  <Override PartName="/ppt/media/image73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B5F0-53B0-47B2-80C1-70493B0A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4FAA-C021-4A5D-BBF7-D56A7EB2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7941-A6C2-4128-A62C-9FBB811D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D6F6-CAB7-4223-9275-B4BED2B8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8847-E840-4B8D-8D76-D6B7D883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2F35-E696-461B-A7B9-0A86EB49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7A5A-8E28-4B3B-885E-A9FF95FF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8D5A-841F-403D-8149-5B16C7A4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5A18-AA36-417A-AB51-8EEB92A5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3329-07CD-465D-9B08-4BBFE726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79BE-56E4-43CE-85BE-92227992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A0D4-1AF1-4DD7-AB86-5DE4AF2B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2DDE-7D60-4E5C-AB5C-D719C273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38C0-D88A-4654-863A-E1F3D71B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203E-19F2-460D-97DA-C77A7ECA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B3B7-AC71-4E11-83AE-3F3A01A3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AA32-CC55-4AD9-A289-16B3DD47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73F6-347A-4353-9CE4-F419CA6C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E648-6D04-4644-A065-C40195D1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A3CA-3AC6-4396-ABEB-BE9E6363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3CF4-DBE0-42D1-A4B0-0E53F939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4BC-C19F-4416-9179-8A487C09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FB61-B698-444B-B797-FC2C08D8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4614-FA46-4558-9F94-2B47CB63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D0D7-9195-4A6B-A4BB-91706AD49A2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ACCD-6C75-43AA-8BFE-0DF0652CD75B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png"/><Relationship Id="rId15" Type="http://schemas.openxmlformats.org/officeDocument/2006/relationships/image" Target="../media/image36.png"/><Relationship Id="rId16" Type="http://schemas.openxmlformats.org/officeDocument/2006/relationships/image" Target="../media/image37.png"/><Relationship Id="rId17" Type="http://schemas.openxmlformats.org/officeDocument/2006/relationships/image" Target="../media/image38.png"/><Relationship Id="rId18" Type="http://schemas.openxmlformats.org/officeDocument/2006/relationships/image" Target="../media/image39.png"/><Relationship Id="rId19" Type="http://schemas.openxmlformats.org/officeDocument/2006/relationships/image" Target="../media/image40.png"/><Relationship Id="rId20" Type="http://schemas.openxmlformats.org/officeDocument/2006/relationships/image" Target="../media/image41.png"/><Relationship Id="rId21" Type="http://schemas.openxmlformats.org/officeDocument/2006/relationships/image" Target="../media/image42.png"/><Relationship Id="rId22" Type="http://schemas.openxmlformats.org/officeDocument/2006/relationships/image" Target="../media/image43.png"/><Relationship Id="rId23" Type="http://schemas.openxmlformats.org/officeDocument/2006/relationships/image" Target="../media/image44.png"/><Relationship Id="rId24" Type="http://schemas.openxmlformats.org/officeDocument/2006/relationships/image" Target="../media/image45.png"/><Relationship Id="rId25" Type="http://schemas.openxmlformats.org/officeDocument/2006/relationships/image" Target="../media/image46.png"/><Relationship Id="rId26" Type="http://schemas.openxmlformats.org/officeDocument/2006/relationships/image" Target="../media/image47.png"/><Relationship Id="rId2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image" Target="../media/image56.png"/><Relationship Id="rId11" Type="http://schemas.openxmlformats.org/officeDocument/2006/relationships/image" Target="../media/image57.png"/><Relationship Id="rId12" Type="http://schemas.openxmlformats.org/officeDocument/2006/relationships/image" Target="../media/image58.png"/><Relationship Id="rId13" Type="http://schemas.openxmlformats.org/officeDocument/2006/relationships/image" Target="../media/image59.png"/><Relationship Id="rId14" Type="http://schemas.openxmlformats.org/officeDocument/2006/relationships/image" Target="../media/image60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image" Target="../media/image69.png"/><Relationship Id="rId11" Type="http://schemas.openxmlformats.org/officeDocument/2006/relationships/image" Target="../media/image70.png"/><Relationship Id="rId12" Type="http://schemas.openxmlformats.org/officeDocument/2006/relationships/image" Target="../media/image71.png"/><Relationship Id="rId13" Type="http://schemas.openxmlformats.org/officeDocument/2006/relationships/image" Target="../media/image72.png"/><Relationship Id="rId14" Type="http://schemas.openxmlformats.org/officeDocument/2006/relationships/image" Target="../media/image73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Konstrukce </a:t>
            </a:r>
            <a:br>
              <a:rPr sz="4800"/>
            </a:b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rovnoběžníku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Známe-li dvě strany </a:t>
            </a:r>
            <a:br>
              <a:rPr sz="4000"/>
            </a:b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a výšku k jedné z ni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sledný rovnoběžník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7" name=""/>
          <p:cNvSpPr/>
          <p:nvPr/>
        </p:nvSpPr>
        <p:spPr>
          <a:xfrm>
            <a:off x="927000" y="7650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Úloha má jedno řešení.</a:t>
            </a:r>
            <a:br>
              <a:rPr sz="20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v polorovině určené úsečkou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a body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a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D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57240" y="136836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onstrukci proměříme, zda odpovídá zadání a trojúhelník vytáhneme silněji. A takto vypadá výsled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42920" y="1989000"/>
            <a:ext cx="6985080" cy="446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687680" y="2046240"/>
            <a:ext cx="5763960" cy="4336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1687680" y="2046240"/>
            <a:ext cx="5763960" cy="4336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1687680" y="2046240"/>
            <a:ext cx="5763960" cy="43369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1687680" y="2046240"/>
            <a:ext cx="5763960" cy="4336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1687680" y="2046240"/>
            <a:ext cx="5763960" cy="4336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1687680" y="2046240"/>
            <a:ext cx="5763960" cy="43369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>
            <a:off x="1687680" y="2046240"/>
            <a:ext cx="5763960" cy="4336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9"/>
          <a:stretch/>
        </p:blipFill>
        <p:spPr>
          <a:xfrm>
            <a:off x="1687680" y="2046240"/>
            <a:ext cx="5763960" cy="4336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0"/>
          <a:stretch/>
        </p:blipFill>
        <p:spPr>
          <a:xfrm>
            <a:off x="1687680" y="2046240"/>
            <a:ext cx="5763960" cy="4336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1"/>
          <a:stretch/>
        </p:blipFill>
        <p:spPr>
          <a:xfrm>
            <a:off x="1687680" y="2046240"/>
            <a:ext cx="5763960" cy="4336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2"/>
          <a:stretch/>
        </p:blipFill>
        <p:spPr>
          <a:xfrm>
            <a:off x="1687680" y="2046240"/>
            <a:ext cx="5763960" cy="4336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3"/>
          <a:stretch/>
        </p:blipFill>
        <p:spPr>
          <a:xfrm>
            <a:off x="1687680" y="2046240"/>
            <a:ext cx="5763960" cy="43369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4"/>
          <a:stretch/>
        </p:blipFill>
        <p:spPr>
          <a:xfrm>
            <a:off x="1687680" y="2046240"/>
            <a:ext cx="5763960" cy="4336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5"/>
          <a:stretch/>
        </p:blipFill>
        <p:spPr>
          <a:xfrm>
            <a:off x="1687680" y="2046240"/>
            <a:ext cx="5763960" cy="43369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6"/>
          <a:stretch/>
        </p:blipFill>
        <p:spPr>
          <a:xfrm>
            <a:off x="1687680" y="2046240"/>
            <a:ext cx="5763960" cy="4336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7"/>
          <a:stretch/>
        </p:blipFill>
        <p:spPr>
          <a:xfrm>
            <a:off x="1687680" y="2046240"/>
            <a:ext cx="5763960" cy="43369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8"/>
          <a:stretch/>
        </p:blipFill>
        <p:spPr>
          <a:xfrm>
            <a:off x="1687680" y="2046240"/>
            <a:ext cx="5763960" cy="43369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9"/>
          <a:stretch/>
        </p:blipFill>
        <p:spPr>
          <a:xfrm>
            <a:off x="1687680" y="2046240"/>
            <a:ext cx="5763960" cy="43369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0"/>
          <a:stretch/>
        </p:blipFill>
        <p:spPr>
          <a:xfrm>
            <a:off x="1687680" y="2046240"/>
            <a:ext cx="5763960" cy="4336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1"/>
          <a:stretch/>
        </p:blipFill>
        <p:spPr>
          <a:xfrm>
            <a:off x="1687680" y="2046240"/>
            <a:ext cx="5763960" cy="43369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2"/>
          <a:stretch/>
        </p:blipFill>
        <p:spPr>
          <a:xfrm>
            <a:off x="1687680" y="2046240"/>
            <a:ext cx="5763960" cy="4336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3"/>
          <a:stretch/>
        </p:blipFill>
        <p:spPr>
          <a:xfrm>
            <a:off x="1687680" y="2046240"/>
            <a:ext cx="5763960" cy="43369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4"/>
          <a:stretch/>
        </p:blipFill>
        <p:spPr>
          <a:xfrm>
            <a:off x="1687680" y="2046240"/>
            <a:ext cx="5763960" cy="4336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5"/>
          <a:stretch/>
        </p:blipFill>
        <p:spPr>
          <a:xfrm>
            <a:off x="1687680" y="2046240"/>
            <a:ext cx="5763960" cy="43369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6"/>
          <a:stretch/>
        </p:blipFill>
        <p:spPr>
          <a:xfrm>
            <a:off x="1687680" y="2046240"/>
            <a:ext cx="5763960" cy="433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– příklad č. 1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6" name=""/>
          <p:cNvSpPr/>
          <p:nvPr/>
        </p:nvSpPr>
        <p:spPr>
          <a:xfrm>
            <a:off x="1042920" y="1700280"/>
            <a:ext cx="698508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27000" y="109692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rovnoběžník ABCD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71440" y="1413000"/>
            <a:ext cx="4264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b= 5 cm, 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= 60°, v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b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5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6720" y="1398600"/>
            <a:ext cx="3456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Rada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: Pootočte si rovnoběžník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1208160" y="1803240"/>
            <a:ext cx="6676920" cy="44769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208160" y="1803240"/>
            <a:ext cx="6676920" cy="44769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1208160" y="1803240"/>
            <a:ext cx="6676920" cy="44769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1208160" y="1803240"/>
            <a:ext cx="6676920" cy="44769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6"/>
          <a:stretch/>
        </p:blipFill>
        <p:spPr>
          <a:xfrm>
            <a:off x="1208160" y="1803240"/>
            <a:ext cx="6676920" cy="44769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7"/>
          <a:stretch/>
        </p:blipFill>
        <p:spPr>
          <a:xfrm>
            <a:off x="1208160" y="1803240"/>
            <a:ext cx="6676920" cy="4476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8"/>
          <a:stretch/>
        </p:blipFill>
        <p:spPr>
          <a:xfrm>
            <a:off x="1208160" y="1803240"/>
            <a:ext cx="6676920" cy="44769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1208160" y="1803240"/>
            <a:ext cx="6676920" cy="44769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0"/>
          <a:stretch/>
        </p:blipFill>
        <p:spPr>
          <a:xfrm>
            <a:off x="1208160" y="1803240"/>
            <a:ext cx="6676920" cy="44769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1"/>
          <a:stretch/>
        </p:blipFill>
        <p:spPr>
          <a:xfrm>
            <a:off x="1208160" y="1803240"/>
            <a:ext cx="6676920" cy="44769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2"/>
          <a:stretch/>
        </p:blipFill>
        <p:spPr>
          <a:xfrm>
            <a:off x="1208160" y="1803240"/>
            <a:ext cx="6676920" cy="44769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3"/>
          <a:stretch/>
        </p:blipFill>
        <p:spPr>
          <a:xfrm>
            <a:off x="1208160" y="1803240"/>
            <a:ext cx="6676920" cy="44769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4"/>
          <a:stretch/>
        </p:blipFill>
        <p:spPr>
          <a:xfrm>
            <a:off x="1208160" y="1803240"/>
            <a:ext cx="6676920" cy="447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– příklad č. 2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4" name=""/>
          <p:cNvSpPr/>
          <p:nvPr/>
        </p:nvSpPr>
        <p:spPr>
          <a:xfrm>
            <a:off x="1042920" y="1700280"/>
            <a:ext cx="698508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27000" y="109692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rovnoběžník ABCD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71440" y="1413000"/>
            <a:ext cx="4264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b = 7 cm, 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= 130°, v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d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4 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00720" y="1413000"/>
            <a:ext cx="2158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(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Rad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: v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d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v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116000" y="2112840"/>
            <a:ext cx="6840720" cy="38372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1116000" y="2112840"/>
            <a:ext cx="6840720" cy="38372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1116000" y="2112840"/>
            <a:ext cx="6840720" cy="38372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1116000" y="2112840"/>
            <a:ext cx="6840720" cy="38372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6"/>
          <a:stretch/>
        </p:blipFill>
        <p:spPr>
          <a:xfrm>
            <a:off x="1116000" y="2112840"/>
            <a:ext cx="6840720" cy="38372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7"/>
          <a:stretch/>
        </p:blipFill>
        <p:spPr>
          <a:xfrm>
            <a:off x="1116000" y="2112840"/>
            <a:ext cx="6840720" cy="38372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8"/>
          <a:stretch/>
        </p:blipFill>
        <p:spPr>
          <a:xfrm>
            <a:off x="1116000" y="2112840"/>
            <a:ext cx="6840720" cy="38372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9"/>
          <a:stretch/>
        </p:blipFill>
        <p:spPr>
          <a:xfrm>
            <a:off x="1116000" y="2112840"/>
            <a:ext cx="6840720" cy="38372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0"/>
          <a:stretch/>
        </p:blipFill>
        <p:spPr>
          <a:xfrm>
            <a:off x="1116000" y="2112840"/>
            <a:ext cx="6840720" cy="38372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1"/>
          <a:stretch/>
        </p:blipFill>
        <p:spPr>
          <a:xfrm>
            <a:off x="1116000" y="2112840"/>
            <a:ext cx="6840720" cy="38372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2"/>
          <a:stretch/>
        </p:blipFill>
        <p:spPr>
          <a:xfrm>
            <a:off x="1116000" y="2112840"/>
            <a:ext cx="6840720" cy="3837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3"/>
          <a:stretch/>
        </p:blipFill>
        <p:spPr>
          <a:xfrm>
            <a:off x="1116000" y="2112840"/>
            <a:ext cx="6840720" cy="38372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4"/>
          <a:stretch/>
        </p:blipFill>
        <p:spPr>
          <a:xfrm>
            <a:off x="1116000" y="2112840"/>
            <a:ext cx="6840720" cy="383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– příklad č. 3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2" name=""/>
          <p:cNvSpPr/>
          <p:nvPr/>
        </p:nvSpPr>
        <p:spPr>
          <a:xfrm>
            <a:off x="1042920" y="1773360"/>
            <a:ext cx="6985080" cy="457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27000" y="109692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rovnoběžník ABCD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71440" y="1413000"/>
            <a:ext cx="4264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a = 6 cm, d = 45 mm, v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a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3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12000" y="1341360"/>
            <a:ext cx="2881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Rada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: Pozor na jednotky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0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042920" y="1989000"/>
            <a:ext cx="6985080" cy="43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36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eji Vám mnoho přesnosti při rýsování!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 rot="662400">
            <a:off x="4284360" y="2276280"/>
            <a:ext cx="3367080" cy="37177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1389240" y="4498920"/>
            <a:ext cx="534348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0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508720" y="1628640"/>
            <a:ext cx="23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AB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95760" y="1630440"/>
            <a:ext cx="23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d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BC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noběžník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– strany rovnoběžníku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30480" y="2416320"/>
            <a:ext cx="6624360" cy="3917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Rovnoběžník (kosodélník) je čtyřúhelník, který má rovnoběžné protilehlé str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564000" y="2205000"/>
            <a:ext cx="2952720" cy="345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08720" y="2205000"/>
            <a:ext cx="1008000" cy="71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627280" y="2205000"/>
            <a:ext cx="3889440" cy="19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443280" y="2205000"/>
            <a:ext cx="73080" cy="216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opakujeme si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003640" y="1630440"/>
            <a:ext cx="2868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d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BC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DA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62680" y="1628640"/>
            <a:ext cx="273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AB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 </a:t>
            </a:r>
            <a:r>
              <a:rPr b="1" lang="cs-CZ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D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noběžník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– strany rovnoběžníku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230480" y="2416320"/>
            <a:ext cx="6624360" cy="3917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27000" y="1225440"/>
            <a:ext cx="7777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rotější strany rovnoběžníku mají stejnou délku.</a:t>
            </a: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64000" y="2205000"/>
            <a:ext cx="2952720" cy="345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508720" y="2205000"/>
            <a:ext cx="1008000" cy="71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627280" y="2205000"/>
            <a:ext cx="3889440" cy="19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43280" y="2205000"/>
            <a:ext cx="73080" cy="216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708360" y="1630440"/>
            <a:ext cx="416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ABC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DA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63800" y="1628640"/>
            <a:ext cx="439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DAB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 </a:t>
            </a:r>
            <a:r>
              <a:rPr b="1" lang="cs-CZ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BCD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noběžník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– vnitřní úhly rovnoběžníku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30480" y="2416320"/>
            <a:ext cx="6624360" cy="3917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27000" y="1225440"/>
            <a:ext cx="7777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rotější úhly rovnoběžníku mají stejnou velikost.</a:t>
            </a: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050560" y="2205000"/>
            <a:ext cx="4465800" cy="3240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2205000"/>
            <a:ext cx="216000" cy="792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708000" y="2205000"/>
            <a:ext cx="2808360" cy="863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651280" y="2205000"/>
            <a:ext cx="865080" cy="2879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noběžník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– výšky rovnoběžníku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27000" y="1224000"/>
            <a:ext cx="77774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ýška rovnoběžníku je kolmá vzdálenost protilehlých rovnoběžných stran.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28800" y="1800360"/>
            <a:ext cx="7777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Jelikož rovnoběžník je tvořen dvěma dvojicemi protilehlých stran, existují i dvě různé výšky rovnoběžníku v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a v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84200" y="2397240"/>
            <a:ext cx="6283440" cy="3881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384200" y="2397240"/>
            <a:ext cx="6283440" cy="3881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384200" y="2397240"/>
            <a:ext cx="6283440" cy="3881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384200" y="2397240"/>
            <a:ext cx="6283440" cy="3881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1384200" y="2397240"/>
            <a:ext cx="6283440" cy="3881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1384200" y="2397240"/>
            <a:ext cx="6283440" cy="38811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1384200" y="2397240"/>
            <a:ext cx="6283440" cy="3881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H="1">
            <a:off x="3492000" y="2205000"/>
            <a:ext cx="3095640" cy="2232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858920" y="2205000"/>
            <a:ext cx="2233800" cy="1871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14400" y="126828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Dokonce i mimo rovnoběžník. V takovém případě je ovšem potřeba strany rovnoběžníku nejdříve patřičně protáhn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noběžník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– výšky rovnoběžníku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83664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Výška je kolmá vzdálenost stran. Není tedy nijak vázána na vrcholy rovnoběžníku, a tudíž může být kdekoliv, kde splňuje podmínku kolmosti na protilehlé strany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384200" y="2397240"/>
            <a:ext cx="6283440" cy="3881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84200" y="2397240"/>
            <a:ext cx="6283440" cy="38811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84200" y="2397240"/>
            <a:ext cx="6283440" cy="3881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84200" y="2397240"/>
            <a:ext cx="6283440" cy="3881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84200" y="2397240"/>
            <a:ext cx="6283440" cy="3881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84200" y="2397240"/>
            <a:ext cx="6283440" cy="3881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14400" y="170028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Jelikož výška je kolmá vzdálenost dvou protilehlých stran, tak i její označení může být dvojí. V našem případě je to kolmá vzdálenost stran 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 a c, tudíž 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v</a:t>
            </a:r>
            <a:r>
              <a:rPr b="1" i="1" lang="cs-CZ" sz="1400" spc="-1" strike="noStrike" baseline="-25000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 nebo 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v</a:t>
            </a:r>
            <a:r>
              <a:rPr b="1" i="1" lang="cs-CZ" sz="1400" spc="-1" strike="noStrike" baseline="-25000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04000" y="2205000"/>
            <a:ext cx="289080" cy="216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42920" y="1989000"/>
            <a:ext cx="7058160" cy="446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317680" y="2013120"/>
            <a:ext cx="4918320" cy="4348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14400" y="1557360"/>
            <a:ext cx="77770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Podobně jako při konstrukcích trojúhelníku s výškou v zadání, tak i zde nám při konstrukci pomůže, když ve vzdálenosti výšky sestrojíme rovnoběžku s danou příslušnou stranou </a:t>
            </a:r>
            <a:r>
              <a:rPr b="1" i="1" lang="en-US" sz="14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 nyní již přikročíme ke konstrukci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87948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Sestrojte rovnoběžník ABCD, ve kterém a = 3 cm, </a:t>
            </a:r>
            <a:br>
              <a:rPr sz="2200"/>
            </a:b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b = 4,5 cm, v</a:t>
            </a:r>
            <a:r>
              <a:rPr b="1" lang="cs-CZ" sz="2200" spc="-1" strike="noStrike" baseline="-25000">
                <a:solidFill>
                  <a:srgbClr val="284c6a"/>
                </a:solidFill>
                <a:latin typeface="Trebuchet MS"/>
              </a:rPr>
              <a:t>a 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= 4 cm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317680" y="2013120"/>
            <a:ext cx="4918320" cy="4348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2317680" y="2013120"/>
            <a:ext cx="4918320" cy="4348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2317680" y="2013120"/>
            <a:ext cx="4918320" cy="4348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2317680" y="2013120"/>
            <a:ext cx="4918320" cy="4348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7"/>
          <a:stretch/>
        </p:blipFill>
        <p:spPr>
          <a:xfrm>
            <a:off x="2317680" y="2013120"/>
            <a:ext cx="4918320" cy="4348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2317680" y="2013120"/>
            <a:ext cx="4918320" cy="4348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09960" y="5734080"/>
            <a:ext cx="217008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10040" y="5705640"/>
            <a:ext cx="2872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92000" y="1916280"/>
            <a:ext cx="1800360" cy="865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42920" y="1974960"/>
            <a:ext cx="6985080" cy="44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959200" y="2274840"/>
            <a:ext cx="4535280" cy="40100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00000" y="1109520"/>
            <a:ext cx="7920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Začneme stranou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, pokračovat budeme výškou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v</a:t>
            </a:r>
            <a:r>
              <a:rPr b="1" i="1" lang="cs-CZ" sz="1600" spc="-1" strike="noStrike" baseline="-25000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(dostaneme rovnoběžku s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) a jako poslední ze zadání využijeme stranu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(dostaneme kružnici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črt a rozbo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55736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ásleduje sestrojení bodu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D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pomocí známé vzdálenosti od bodu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(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=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1341360"/>
            <a:ext cx="1942920" cy="4319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24720" y="1341360"/>
            <a:ext cx="0" cy="15829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516360" y="1542960"/>
            <a:ext cx="446040" cy="11653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87280" y="572292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86680" y="5588280"/>
            <a:ext cx="10080" cy="32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603040" y="5618160"/>
            <a:ext cx="50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494480" y="562608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9360" y="3016080"/>
            <a:ext cx="5492880" cy="549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5" y="412"/>
                </a:moveTo>
                <a:arcTo wR="10800" hR="10800" stAng="-6352752" swAng="2419059"/>
                <a:lnTo>
                  <a:pt x="10800" y="10800"/>
                </a:lnTo>
                <a:close/>
              </a:path>
              <a:path fill="none" w="21600" h="21600">
                <a:moveTo>
                  <a:pt x="7845" y="412"/>
                </a:moveTo>
                <a:arcTo wR="10800" hR="10800" stAng="-6352752" swAng="241905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301140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16000" y="2637000"/>
            <a:ext cx="3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36000" y="3141720"/>
            <a:ext cx="3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59244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542680" y="2676600"/>
            <a:ext cx="6147360" cy="614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99" y="2576"/>
                </a:moveTo>
                <a:arcTo wR="10800" hR="10800" stAng="-7824538" swAng="4686142"/>
                <a:lnTo>
                  <a:pt x="10800" y="10800"/>
                </a:lnTo>
                <a:close/>
              </a:path>
              <a:path fill="none" w="21600" h="21600">
                <a:moveTo>
                  <a:pt x="3799" y="2576"/>
                </a:moveTo>
                <a:arcTo wR="10800" hR="10800" stAng="-7824538" swAng="468614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88000" y="2060640"/>
            <a:ext cx="3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65120" y="957600"/>
            <a:ext cx="4082760" cy="408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465" y="5981"/>
                </a:moveTo>
                <a:arcTo wR="10800" hR="10800" stAng="-1590079" swAng="3902867"/>
                <a:lnTo>
                  <a:pt x="10800" y="10800"/>
                </a:lnTo>
                <a:close/>
              </a:path>
              <a:path fill="none" w="21600" h="21600">
                <a:moveTo>
                  <a:pt x="20465" y="5981"/>
                </a:moveTo>
                <a:arcTo wR="10800" hR="10800" stAng="-1590079" swAng="390286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79640" y="2060640"/>
            <a:ext cx="3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156760" y="957600"/>
            <a:ext cx="4082760" cy="408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465" y="5981"/>
                </a:moveTo>
                <a:arcTo wR="10800" hR="10800" stAng="-1590079" swAng="3902867"/>
                <a:lnTo>
                  <a:pt x="10800" y="10800"/>
                </a:lnTo>
                <a:close/>
              </a:path>
              <a:path fill="none" w="21600" h="21600">
                <a:moveTo>
                  <a:pt x="20465" y="5981"/>
                </a:moveTo>
                <a:arcTo wR="10800" hR="10800" stAng="-1590079" swAng="390286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599080" y="3009600"/>
            <a:ext cx="1415880" cy="2712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4197240" y="3007440"/>
            <a:ext cx="1409760" cy="27154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2154240" y="2999520"/>
            <a:ext cx="1409760" cy="27154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92440" y="5719680"/>
            <a:ext cx="20163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68720" y="3011400"/>
            <a:ext cx="2051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583080" y="3009600"/>
            <a:ext cx="1415880" cy="2712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1800" y="1109520"/>
            <a:ext cx="7920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le pozor! Jistě jste si všimli, že kružnice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l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protíná přímku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p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ve dvou bode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00000" y="1427040"/>
            <a:ext cx="7920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To znamená, že příklad bude mít dvě řešení v dané polorovině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8640" y="2722680"/>
            <a:ext cx="431640" cy="43164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2722680"/>
            <a:ext cx="432000" cy="43164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11560" y="2665440"/>
            <a:ext cx="4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C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38400" y="3011400"/>
            <a:ext cx="20509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35280" y="266544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D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076360" y="1916280"/>
            <a:ext cx="2374920" cy="649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5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7000"/>
                            </p:stCondLst>
                            <p:childTnLst>
                              <p:par>
                                <p:cTn id="50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4" dur="1000" autoRev="1" fill="hold"/>
                                        <p:tgtEl>
                                          <p:spTgt spid="1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7" dur="1000" autoRev="1" fill="hold"/>
                                        <p:tgtEl>
                                          <p:spTgt spid="1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9000"/>
                            </p:stCondLst>
                            <p:childTnLst>
                              <p:par>
                                <p:cTn id="50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1" dur="1000" autoRev="1" fill="hold"/>
                                        <p:tgtEl>
                                          <p:spTgt spid="1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4" dur="1000" autoRev="1" fill="hold"/>
                                        <p:tgtEl>
                                          <p:spTgt spid="1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8" dur="1000" autoRev="1" fill="hold"/>
                                        <p:tgtEl>
                                          <p:spTgt spid="1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1" dur="1000" autoRev="1" fill="hold"/>
                                        <p:tgtEl>
                                          <p:spTgt spid="1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042920" y="1916280"/>
            <a:ext cx="698508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95640" y="64296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. AB;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a= 3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3640" y="258840"/>
            <a:ext cx="8135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ápis a konstrukce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5" name=""/>
          <p:cNvSpPr/>
          <p:nvPr/>
        </p:nvSpPr>
        <p:spPr>
          <a:xfrm>
            <a:off x="2195640" y="1112760"/>
            <a:ext cx="2881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3. l; l(B; b= 4,5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95640" y="1362240"/>
            <a:ext cx="2881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4. C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, C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2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; C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, C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2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p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05000" y="160344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5. m; m(C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; a=c= 3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48360" y="65088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6. D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; D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p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48360" y="89388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7. n; n(C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2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; a=c= 3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87280" y="572292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58240" y="5588280"/>
            <a:ext cx="9720" cy="32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603040" y="5618160"/>
            <a:ext cx="50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33600" y="570852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67400" y="565776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95640" y="880920"/>
            <a:ext cx="43210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2. p; p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B;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|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,AB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|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v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 4 c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19360" y="3016080"/>
            <a:ext cx="5492880" cy="549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5" y="412"/>
                </a:moveTo>
                <a:arcTo wR="10800" hR="10800" stAng="-6352752" swAng="2419059"/>
                <a:lnTo>
                  <a:pt x="10800" y="10800"/>
                </a:lnTo>
                <a:close/>
              </a:path>
              <a:path fill="none" w="21600" h="21600">
                <a:moveTo>
                  <a:pt x="7845" y="412"/>
                </a:moveTo>
                <a:arcTo wR="10800" hR="10800" stAng="-6352752" swAng="241905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87280" y="301140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2637000"/>
            <a:ext cx="3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91480" y="265104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6000" y="3141720"/>
            <a:ext cx="3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56400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542680" y="2662200"/>
            <a:ext cx="6147360" cy="614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99" y="2576"/>
                </a:moveTo>
                <a:arcTo wR="10800" hR="10800" stAng="-7824538" swAng="4686142"/>
                <a:lnTo>
                  <a:pt x="10800" y="10800"/>
                </a:lnTo>
                <a:close/>
              </a:path>
              <a:path fill="none" w="21600" h="21600">
                <a:moveTo>
                  <a:pt x="3799" y="2576"/>
                </a:moveTo>
                <a:arcTo wR="10800" hR="10800" stAng="-7824538" swAng="468614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65400" y="2622600"/>
            <a:ext cx="3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88000" y="2060640"/>
            <a:ext cx="3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965120" y="957600"/>
            <a:ext cx="4082760" cy="408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465" y="5981"/>
                </a:moveTo>
                <a:arcTo wR="10800" hR="10800" stAng="-1590079" swAng="3902867"/>
                <a:lnTo>
                  <a:pt x="10800" y="10800"/>
                </a:lnTo>
                <a:close/>
              </a:path>
              <a:path fill="none" w="21600" h="21600">
                <a:moveTo>
                  <a:pt x="20465" y="5981"/>
                </a:moveTo>
                <a:arcTo wR="10800" hR="10800" stAng="-1590079" swAng="390286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32360" y="265284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79640" y="2060640"/>
            <a:ext cx="3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156760" y="957600"/>
            <a:ext cx="4082760" cy="408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465" y="5981"/>
                </a:moveTo>
                <a:arcTo wR="10800" hR="10800" stAng="-1590079" swAng="3902867"/>
                <a:lnTo>
                  <a:pt x="10800" y="10800"/>
                </a:lnTo>
                <a:close/>
              </a:path>
              <a:path fill="none" w="21600" h="21600">
                <a:moveTo>
                  <a:pt x="20465" y="5981"/>
                </a:moveTo>
                <a:arcTo wR="10800" hR="10800" stAng="-1590079" swAng="390286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48360" y="1357200"/>
            <a:ext cx="35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9. Rovnoběžníky ABC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D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,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BC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2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D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2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48360" y="1125360"/>
            <a:ext cx="2519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8. D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2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; D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2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p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08160" y="2651040"/>
            <a:ext cx="50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613480" y="3009600"/>
            <a:ext cx="1415880" cy="271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554640" y="3009600"/>
            <a:ext cx="1415880" cy="271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4197240" y="3007440"/>
            <a:ext cx="1409760" cy="271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2154240" y="2999520"/>
            <a:ext cx="1409760" cy="271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40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0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9-26T11:53:24Z</dcterms:modified>
  <cp:revision>115</cp:revision>
  <dc:subject/>
  <dc:title>Konstrukce rovnoběžníku 6</dc:title>
</cp:coreProperties>
</file>