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528-C6C9-4174-A1B2-71B576C2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CF9-41D9-4EBF-AC83-D3F82613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293-8BE1-4BF8-89E5-FFADEBBE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417-8D1C-4CCA-B7D6-1C73CDE0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9EBD-99AE-4673-9C8E-C19106F2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533F-CC63-44CF-8C23-9F19BD09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B07E-042F-4182-BFA3-6893DD05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2689-6354-486B-BA3A-B639B6BB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CE7A-E18A-4C60-A615-493977D2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CD51-247C-4553-947A-273DA9F9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CF36-5800-4AEF-A02F-DE85B6F2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2AE-2424-4B4E-BD79-F1DD38B3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CA2D-E949-4314-B495-941620DA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02E3-8DEF-4A30-9EB9-7E159643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3A5A-D133-4E90-A967-6AC5750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B0DE-5958-417F-821F-F4A3BCCE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744E-FED7-4EE6-A3F3-90C950B8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B8E-1E96-4643-B9D3-FCC3C066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7F2-91D0-45A5-9CCF-ED8C1E8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C37-8D00-4757-BF3F-295BD604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736-BC2E-46F2-A0FA-57E0BDA5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8F6-EDCE-4952-801C-91375FB5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5BA-9549-4871-9C9C-9FB9C33E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5EC-9F86-4715-A83F-01F33A44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642F-0897-4C91-9577-709EADAE48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E3E1-2477-4DE9-B999-2AEFDDC8ADF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1.png"/><Relationship Id="rId13" Type="http://schemas.openxmlformats.org/officeDocument/2006/relationships/image" Target="../media/image72.png"/><Relationship Id="rId14" Type="http://schemas.openxmlformats.org/officeDocument/2006/relationships/image" Target="../media/image73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rovn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jednu stranu, úhel k ní přilehlý a výšku k ní příslušn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rovn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2" name=""/>
          <p:cNvSpPr/>
          <p:nvPr/>
        </p:nvSpPr>
        <p:spPr>
          <a:xfrm>
            <a:off x="927000" y="765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body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57240" y="1368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1989000"/>
            <a:ext cx="698508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9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3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4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5"/>
          <a:stretch/>
        </p:blipFill>
        <p:spPr>
          <a:xfrm>
            <a:off x="1271520" y="2092320"/>
            <a:ext cx="661356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příklad č. 1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1773360"/>
            <a:ext cx="698508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71440" y="1413000"/>
            <a:ext cx="4264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= 3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40°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5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1398600"/>
            <a:ext cx="345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Rada: Pozor na jednotk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4"/>
          <a:stretch/>
        </p:blipFill>
        <p:spPr>
          <a:xfrm>
            <a:off x="1271520" y="1825560"/>
            <a:ext cx="6540480" cy="4462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52960" y="5186520"/>
            <a:ext cx="3933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zor na to, kde bude bod C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779640" y="2637000"/>
            <a:ext cx="3816360" cy="25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308360" y="2708280"/>
            <a:ext cx="287640" cy="2449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48440" y="4406760"/>
            <a:ext cx="476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40360" y="5589720"/>
            <a:ext cx="39337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zde musíme dodržet směr popisu vrcholů!</a:t>
            </a:r>
            <a:br>
              <a:rPr sz="2000"/>
            </a:b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(proti směru pohybu hodinových ručič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příklad č. 2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71440" y="1413000"/>
            <a:ext cx="4264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) b = 5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60°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6720" y="1398600"/>
            <a:ext cx="345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Rada: Pootočte si rovnoběžník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7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8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0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1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2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3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4"/>
          <a:stretch/>
        </p:blipFill>
        <p:spPr>
          <a:xfrm>
            <a:off x="1208160" y="1803240"/>
            <a:ext cx="6676920" cy="447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příklad č. 3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1700280"/>
            <a:ext cx="6985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71440" y="1413000"/>
            <a:ext cx="4264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) b = 7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30°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1413000"/>
            <a:ext cx="3456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Rada: 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d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0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1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2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3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4"/>
          <a:stretch/>
        </p:blipFill>
        <p:spPr>
          <a:xfrm>
            <a:off x="1116000" y="2112840"/>
            <a:ext cx="6840720" cy="383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042920" y="1989000"/>
            <a:ext cx="6985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Vám mnoho přesnosti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 rot="662400">
            <a:off x="4284360" y="2276280"/>
            <a:ext cx="3367080" cy="3717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389240" y="4498920"/>
            <a:ext cx="5343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08720" y="162864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95760" y="1630440"/>
            <a:ext cx="23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BC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tran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Rovnoběžník (kosodélník) je čtyřúhelník, který má rovnoběžné protilehlé str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03640" y="1630440"/>
            <a:ext cx="2868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62680" y="162864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tran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strany rovnoběžníku mají stejnou délku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08360" y="1630440"/>
            <a:ext cx="416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3800" y="162864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vnitřní úhl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úhly rovnoběžníku mají stejnou velikost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050560" y="2205000"/>
            <a:ext cx="446580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205000"/>
            <a:ext cx="21600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08000" y="2205000"/>
            <a:ext cx="280836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651280" y="2205000"/>
            <a:ext cx="86508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výšk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1224000"/>
            <a:ext cx="7777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ýška rovnoběžníku je kolmá vzdálenost protilehlých rovnoběžných stran.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8800" y="1800360"/>
            <a:ext cx="777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elikož rovnoběžník je tvořen dvěma dvojicemi protilehlých stran, existují i dvě různé výšky rovnoběžníku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velikosti)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3492000" y="2205000"/>
            <a:ext cx="3095640" cy="223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58920" y="2205000"/>
            <a:ext cx="2233800" cy="187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1268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konce i mimo rovnoběžník. V takovém případě je ovšem potřeba strany rovnoběžníku nejdříve patřičně protáhn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výšky rovnoběž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83664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ýška je kolmá vzdálenost stran. Není tedy nijak vázána na vrcholy rovnoběžníku a tudíž může být kdekoliv, kde splňuje podmínku kolmosti na protilehlé stran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84200" y="2397240"/>
            <a:ext cx="6283440" cy="3881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440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Jelikož výška je kolmá vzdálenost dvou protilehlých stran, tak i její označení může být dvojí. V našem případě je to kolmá vzdálenost stran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a c, tudíž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nebo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2205000"/>
            <a:ext cx="289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989000"/>
            <a:ext cx="705816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557360"/>
            <a:ext cx="7777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Podobně jako při konstrukcích trojúhelníku s výškou v zadání, tak i zde nám při konstrukci pomůže, když ve vzdálenosti výšky sestrojíme rovnoběžku s danou příslušnou strano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8794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Sestrojte rovnoběžník ABCD, ve kterém a = 6 cm, </a:t>
            </a:r>
            <a:br>
              <a:rPr sz="2200"/>
            </a:b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120°, v</a:t>
            </a:r>
            <a:r>
              <a:rPr b="1" lang="cs-CZ" sz="22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= 4,5 c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14280" y="2030400"/>
            <a:ext cx="6670800" cy="434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216080" y="2038320"/>
            <a:ext cx="667080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216080" y="2030400"/>
            <a:ext cx="6670800" cy="4343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216080" y="2038320"/>
            <a:ext cx="6670800" cy="4343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06480" y="5762520"/>
            <a:ext cx="3745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5705640"/>
            <a:ext cx="2872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01600" y="4869000"/>
            <a:ext cx="1726920" cy="172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43" y="1311"/>
                </a:moveTo>
                <a:arcTo wR="10800" hR="10800" stAng="-7111511" swAng="7111511"/>
                <a:lnTo>
                  <a:pt x="10800" y="10800"/>
                </a:lnTo>
                <a:close/>
              </a:path>
              <a:path fill="none" w="21600" h="21600">
                <a:moveTo>
                  <a:pt x="5643" y="1311"/>
                </a:moveTo>
                <a:arcTo wR="10800" hR="10800" stAng="-7111511" swAng="7111511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5229360"/>
            <a:ext cx="1008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=120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19280" y="1916280"/>
            <a:ext cx="3673440" cy="1008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42920" y="1989000"/>
            <a:ext cx="698508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55680" y="2082960"/>
            <a:ext cx="6600960" cy="429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00000" y="110952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ačneme stran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pokračovat budeme úhlem </a:t>
            </a:r>
            <a:r>
              <a:rPr b="1" i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(dostaneme polopřímku)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jako poslední ze zadání využijeme výšk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(dostaneme rovnoběžku s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55736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sleduje sestrojení bod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omocí známé vzdálenosti od bod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(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44600" y="5762520"/>
            <a:ext cx="4956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51840" y="5588280"/>
            <a:ext cx="9720" cy="32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534640" y="5618160"/>
            <a:ext cx="50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537160" y="2031480"/>
            <a:ext cx="215892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64440" y="2521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92800" y="21906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894240" y="3016080"/>
            <a:ext cx="5491800" cy="549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5" y="412"/>
                </a:moveTo>
                <a:arcTo wR="10800" hR="10800" stAng="-6352752" swAng="2419059"/>
                <a:lnTo>
                  <a:pt x="10800" y="10800"/>
                </a:lnTo>
                <a:close/>
              </a:path>
              <a:path fill="none" w="21600" h="21600">
                <a:moveTo>
                  <a:pt x="7845" y="412"/>
                </a:moveTo>
                <a:arcTo wR="10800" hR="10800" stAng="-6352752" swAng="24190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301140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263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47360" y="-850680"/>
            <a:ext cx="8930520" cy="77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13" y="8326"/>
                </a:moveTo>
                <a:arcTo wR="10800" hR="10800" stAng="-794505" swAng="2433861"/>
                <a:lnTo>
                  <a:pt x="10800" y="10800"/>
                </a:lnTo>
                <a:close/>
              </a:path>
              <a:path fill="none" w="21600" h="21600">
                <a:moveTo>
                  <a:pt x="21313" y="8326"/>
                </a:moveTo>
                <a:arcTo wR="10800" hR="10800" stAng="-794505" swAng="243386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4920" y="19890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4932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849320" y="3011400"/>
            <a:ext cx="1602000" cy="27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1341360"/>
            <a:ext cx="934920" cy="439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435280" y="1339920"/>
            <a:ext cx="158760" cy="38178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42800" y="5187960"/>
            <a:ext cx="1155960" cy="115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41" y="1423"/>
                </a:moveTo>
                <a:arcTo wR="10800" hR="10800" stAng="-7184831" swAng="7184831"/>
                <a:lnTo>
                  <a:pt x="10800" y="10800"/>
                </a:lnTo>
                <a:close/>
              </a:path>
              <a:path fill="none" w="21600" h="21600">
                <a:moveTo>
                  <a:pt x="5441" y="1423"/>
                </a:moveTo>
                <a:arcTo wR="10800" hR="10800" stAng="-7184831" swAng="7184831"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1341360"/>
            <a:ext cx="0" cy="935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86040" y="1542960"/>
            <a:ext cx="4176720" cy="14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3720" y="5776920"/>
            <a:ext cx="3670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512680" y="3011400"/>
            <a:ext cx="1633320" cy="2779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1320" y="3011400"/>
            <a:ext cx="36702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824840" y="3011400"/>
            <a:ext cx="1633320" cy="2779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195640" y="6937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a= 6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1989000"/>
            <a:ext cx="698508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1239840"/>
            <a:ext cx="3384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p; p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;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, A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4,5 c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155736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BY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4840" y="6937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l; l(C; a=c=6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84840" y="9810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D;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84840" y="12826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Rovnoběžník AB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71520" y="5762520"/>
            <a:ext cx="4956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51840" y="5588280"/>
            <a:ext cx="9720" cy="32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534640" y="5618160"/>
            <a:ext cx="50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573408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6920" y="573408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95640" y="981000"/>
            <a:ext cx="4321080" cy="303120"/>
            <a:chOff x="2195640" y="981000"/>
            <a:chExt cx="4321080" cy="303120"/>
          </a:xfrm>
        </p:grpSpPr>
        <p:sp>
          <p:nvSpPr>
            <p:cNvPr id="196" name=""/>
            <p:cNvSpPr/>
            <p:nvPr/>
          </p:nvSpPr>
          <p:spPr>
            <a:xfrm>
              <a:off x="2195640" y="981000"/>
              <a:ext cx="432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2.     ABY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ABY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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120°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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B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2570040" y="105408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3405240" y="1054080"/>
              <a:ext cx="17316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 flipV="1">
            <a:off x="5537160" y="2031480"/>
            <a:ext cx="215892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64440" y="2521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92800" y="21906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894240" y="3016080"/>
            <a:ext cx="5491800" cy="549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5" y="412"/>
                </a:moveTo>
                <a:arcTo wR="10800" hR="10800" stAng="-6352752" swAng="2419059"/>
                <a:lnTo>
                  <a:pt x="10800" y="10800"/>
                </a:lnTo>
                <a:close/>
              </a:path>
              <a:path fill="none" w="21600" h="21600">
                <a:moveTo>
                  <a:pt x="7845" y="412"/>
                </a:moveTo>
                <a:arcTo wR="10800" hR="10800" stAng="-6352752" swAng="241905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301140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263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32520" y="263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432960" y="-850680"/>
            <a:ext cx="8931240" cy="774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13" y="8326"/>
                </a:moveTo>
                <a:arcTo wR="10800" hR="10800" stAng="-794505" swAng="2433861"/>
                <a:lnTo>
                  <a:pt x="10800" y="10800"/>
                </a:lnTo>
                <a:close/>
              </a:path>
              <a:path fill="none" w="21600" h="21600">
                <a:moveTo>
                  <a:pt x="21313" y="8326"/>
                </a:moveTo>
                <a:arcTo wR="10800" hR="10800" stAng="-794505" swAng="243386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74840" y="263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19890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84932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49320" y="3011400"/>
            <a:ext cx="1602000" cy="27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29T11:53:19Z</dcterms:modified>
  <cp:revision>108</cp:revision>
  <dc:subject/>
  <dc:title>Konstrukce rovnoběžníku 5</dc:title>
</cp:coreProperties>
</file>