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AE2-C878-4D58-9E71-43CD8FB9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ACF-EBA2-480D-BFCF-B86FDCFB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67-CFDD-46AC-B16D-287EE7DF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850-83E5-48B1-AE42-FFCB806A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6C06-6831-4A5D-86C0-104B6543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9C16-3C21-4E8D-B3C6-0F129749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8EB4-DE51-4413-8453-8298E70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EA53-F044-4957-846D-C5645C3C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5B6-D36F-4B8D-8770-346208A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DB60-6942-48E5-9CF2-0D871A4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9D6-C3C0-4243-8AC1-CB32F24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1F4-5DBE-4142-9E97-E8CAA1A9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14EB-31DF-45E6-B2FB-91FEAC8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F9E6-EA77-4E37-A269-252507C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0B53-076A-4613-9093-52484A1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CA69-2E7F-4993-BC56-71EA1A8F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4631-F881-4799-BEBE-4D9555FF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6CB-5D04-4FEC-9082-8CA71B22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4EB-D375-4438-B3F6-2FFD6097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5DB-A95E-4E2F-804D-5AA03A3C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915-3392-4879-AA18-0FC06FD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189-3AF1-459F-8C5B-5C5A936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0F3-10C8-43DE-8B4B-EE818976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EA8-4A9B-4E84-A905-613B404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62A2-4E27-437C-983C-D63625D850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9F1-3E7D-4652-8E2A-D1749528084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jednu stranu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dvě úhlopří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27000" y="765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průsečíkem úhlopříček 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7240" y="1368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1706400" y="2082960"/>
            <a:ext cx="55296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71440" y="1413000"/>
            <a:ext cx="426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a = 6 cm, u = 9 cm, v 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700280"/>
            <a:ext cx="417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b = 4 cm, u = 8 cm, v = 6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1989000"/>
            <a:ext cx="403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c = 5 cm, u = 1 dm, v = 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1989000"/>
            <a:ext cx="34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700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9440" y="165744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27000" y="108252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sousedních úhlů je 18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0920" y="2205000"/>
            <a:ext cx="93672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2205000"/>
            <a:ext cx="18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8720" y="2205000"/>
            <a:ext cx="144000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5080" y="2205000"/>
            <a:ext cx="215892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8800" y="148608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vše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79640" y="2133720"/>
            <a:ext cx="3240000" cy="3311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24000" y="2205000"/>
            <a:ext cx="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08000" y="2133720"/>
            <a:ext cx="302436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57960" y="2190600"/>
            <a:ext cx="71928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1120" y="2233440"/>
            <a:ext cx="1857240" cy="6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162160"/>
            <a:ext cx="190044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08000" y="2190600"/>
            <a:ext cx="2390760" cy="8780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2190600"/>
            <a:ext cx="4695840" cy="32544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ůsečík úhlopříček je středem souměrnosti rovnoběžní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920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0640" y="16444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Úhlopříčky se navzájem půl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413000"/>
            <a:ext cx="1512720" cy="30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1413000"/>
            <a:ext cx="2879640" cy="31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844640"/>
            <a:ext cx="50472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19280" y="4350960"/>
            <a:ext cx="2881440" cy="13683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71920" y="2924280"/>
            <a:ext cx="2879640" cy="144144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2560" y="1432080"/>
            <a:ext cx="36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56440" y="163980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1427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4365720"/>
            <a:ext cx="1209600" cy="133992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0880" y="2981160"/>
            <a:ext cx="1239840" cy="13845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42920" y="1989000"/>
            <a:ext cx="705816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2025720"/>
            <a:ext cx="5688000" cy="439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14400" y="151272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při této konstrukci bude konstrukce trojúhelníku podle věty sss. Vycházet při ní budeme z vlastnosti půlení se úhlopříče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8794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 = 7 cm,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u = 10 cm, v = 8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33440" y="5762520"/>
            <a:ext cx="37926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944440" y="2736360"/>
            <a:ext cx="3081240" cy="3024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38480" y="2722680"/>
            <a:ext cx="4494240" cy="303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24440" y="566100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321300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3284640"/>
            <a:ext cx="287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38480" y="5762520"/>
            <a:ext cx="3792600" cy="18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85960" y="4251240"/>
            <a:ext cx="1539720" cy="15112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239920" y="4241880"/>
            <a:ext cx="2246400" cy="15192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25880" y="566100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4524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u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450864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sss, čímž získáme body A, B a S (průsečík úhlopříček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ů C a D pomocí středové souměrnosti se středem 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20880" y="2201760"/>
            <a:ext cx="5472000" cy="4222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87280" y="58053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71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94480" y="56894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79080" y="3184200"/>
            <a:ext cx="52668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85" y="1069"/>
                </a:moveTo>
                <a:arcTo wR="10800" hR="10800" stAng="-3857480" swAng="3310079"/>
                <a:lnTo>
                  <a:pt x="10800" y="10800"/>
                </a:lnTo>
                <a:close/>
              </a:path>
              <a:path fill="none" w="21600" h="21600">
                <a:moveTo>
                  <a:pt x="15485" y="1069"/>
                </a:moveTo>
                <a:arcTo wR="10800" hR="10800" stAng="-3857480" swAng="33100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35733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 rot="4824000">
            <a:off x="3835440" y="3726000"/>
            <a:ext cx="4168440" cy="416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88" y="1170"/>
                </a:moveTo>
                <a:arcTo wR="10800" hR="10800" stAng="-3785251" swAng="3785251"/>
                <a:lnTo>
                  <a:pt x="10800" y="10800"/>
                </a:lnTo>
                <a:close/>
              </a:path>
              <a:path fill="none" w="21600" h="21600">
                <a:moveTo>
                  <a:pt x="15688" y="1170"/>
                </a:moveTo>
                <a:arcTo wR="10800" hR="10800" stAng="-3785251" swAng="3785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6162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54320" y="2363760"/>
            <a:ext cx="511164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27560" y="39322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813320" y="1726200"/>
            <a:ext cx="5203800" cy="520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5" y="3617"/>
                </a:moveTo>
                <a:arcTo wR="10800" hR="10800" stAng="-2501377" swAng="6137164"/>
                <a:lnTo>
                  <a:pt x="10800" y="10800"/>
                </a:lnTo>
                <a:close/>
              </a:path>
              <a:path fill="none" w="21600" h="21600">
                <a:moveTo>
                  <a:pt x="18865" y="3617"/>
                </a:moveTo>
                <a:arcTo wR="10800" hR="10800" stAng="-2501377" swAng="61371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 rot="9660000">
            <a:off x="1805400" y="1725120"/>
            <a:ext cx="5254560" cy="525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5" y="3617"/>
                </a:moveTo>
                <a:arcTo wR="10800" hR="10800" stAng="-2501377" swAng="2456535"/>
                <a:lnTo>
                  <a:pt x="10800" y="10800"/>
                </a:lnTo>
                <a:close/>
              </a:path>
              <a:path fill="none" w="21600" h="21600">
                <a:moveTo>
                  <a:pt x="18865" y="3617"/>
                </a:moveTo>
                <a:arcTo wR="10800" hR="10800" stAng="-2501377" swAng="24565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 rot="12795600">
            <a:off x="2350080" y="2274480"/>
            <a:ext cx="4166640" cy="416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" y="12597"/>
                </a:moveTo>
                <a:arcTo wR="10800" hR="10800" stAng="10225312" swAng="13301279"/>
                <a:lnTo>
                  <a:pt x="10800" y="10800"/>
                </a:lnTo>
                <a:close/>
              </a:path>
              <a:path fill="none" w="21600" h="21600">
                <a:moveTo>
                  <a:pt x="151" y="12597"/>
                </a:moveTo>
                <a:arcTo wR="10800" hR="10800" stAng="10225312" swAng="133012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123640" y="2075040"/>
            <a:ext cx="381636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97160" y="5805360"/>
            <a:ext cx="36352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52960" y="2881440"/>
            <a:ext cx="641520" cy="292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57400" y="2881440"/>
            <a:ext cx="363564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309760" y="2881440"/>
            <a:ext cx="641520" cy="292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95640" y="6937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1989000"/>
            <a:ext cx="698508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12826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l; l(B; v/2=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15573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S; S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84840" y="6937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S(S): A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84840" y="9810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D; S(S): B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84840" y="12826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98100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k; k(A; u/2=5 cm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58341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259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94480" y="568944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09960" y="587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81600" y="587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-379080" y="3184200"/>
            <a:ext cx="5266800" cy="52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85" y="1069"/>
                </a:moveTo>
                <a:arcTo wR="10800" hR="10800" stAng="-3857480" swAng="3310079"/>
                <a:lnTo>
                  <a:pt x="10800" y="10800"/>
                </a:lnTo>
                <a:close/>
              </a:path>
              <a:path fill="none" w="21600" h="21600">
                <a:moveTo>
                  <a:pt x="15485" y="1069"/>
                </a:moveTo>
                <a:arcTo wR="10800" hR="10800" stAng="-3857480" swAng="33100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35733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 rot="4824000">
            <a:off x="3835440" y="3726000"/>
            <a:ext cx="4168440" cy="416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88" y="1170"/>
                </a:moveTo>
                <a:arcTo wR="10800" hR="10800" stAng="-3785251" swAng="3785251"/>
                <a:lnTo>
                  <a:pt x="10800" y="10800"/>
                </a:lnTo>
                <a:close/>
              </a:path>
              <a:path fill="none" w="21600" h="21600">
                <a:moveTo>
                  <a:pt x="15688" y="1170"/>
                </a:moveTo>
                <a:arcTo wR="10800" hR="10800" stAng="-3785251" swAng="3785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361620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54320" y="2363760"/>
            <a:ext cx="511164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27560" y="39322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799280" y="1722960"/>
            <a:ext cx="5254200" cy="525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5" y="3617"/>
                </a:moveTo>
                <a:arcTo wR="10800" hR="10800" stAng="-2501377" swAng="6137164"/>
                <a:lnTo>
                  <a:pt x="10800" y="10800"/>
                </a:lnTo>
                <a:close/>
              </a:path>
              <a:path fill="none" w="21600" h="21600">
                <a:moveTo>
                  <a:pt x="18865" y="3617"/>
                </a:moveTo>
                <a:arcTo wR="10800" hR="10800" stAng="-2501377" swAng="61371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 rot="9660000">
            <a:off x="1805400" y="1725120"/>
            <a:ext cx="5254560" cy="525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5" y="3617"/>
                </a:moveTo>
                <a:arcTo wR="10800" hR="10800" stAng="-2501377" swAng="2456535"/>
                <a:lnTo>
                  <a:pt x="10800" y="10800"/>
                </a:lnTo>
                <a:close/>
              </a:path>
              <a:path fill="none" w="21600" h="21600">
                <a:moveTo>
                  <a:pt x="18865" y="3617"/>
                </a:moveTo>
                <a:arcTo wR="10800" hR="10800" stAng="-2501377" swAng="245653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16720" y="249228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 rot="12795600">
            <a:off x="2319840" y="2246040"/>
            <a:ext cx="4209480" cy="42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" y="12597"/>
                </a:moveTo>
                <a:arcTo wR="10800" hR="10800" stAng="10225312" swAng="13301279"/>
                <a:lnTo>
                  <a:pt x="10800" y="10800"/>
                </a:lnTo>
                <a:close/>
              </a:path>
              <a:path fill="none" w="21600" h="21600">
                <a:moveTo>
                  <a:pt x="151" y="12597"/>
                </a:moveTo>
                <a:arcTo wR="10800" hR="10800" stAng="10225312" swAng="1330127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86040" y="249228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123640" y="2075040"/>
            <a:ext cx="381636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68360" y="581976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29200" y="2858400"/>
            <a:ext cx="698760" cy="29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28960" y="2881440"/>
            <a:ext cx="36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257200" y="2858400"/>
            <a:ext cx="698760" cy="29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5T13:21:38Z</dcterms:modified>
  <cp:revision>96</cp:revision>
  <dc:subject/>
  <dc:title>Konstrukce rovnoběžníku 4</dc:title>
</cp:coreProperties>
</file>