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D80-2F33-4061-9495-B29B1CD0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C39-522A-4E4F-B84C-3F8161E3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9797-539A-40BE-A0F7-ABBCB0C0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C984-8316-4524-ACF7-1FDA58AE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7437-5E48-40BE-929A-15AACE28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1919-AECA-4F4B-ACFD-446D828D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C984-2208-4938-AA02-6586A5D5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67E0-2F83-42C5-B641-3A9555AF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720D-8C20-4311-A38C-B81FB612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53D9-C839-4BB1-8BDF-56E0F904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8806-55F9-465B-8994-256E6AD0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FEB0-78F2-44FF-AA8A-8F7136D7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9841-DEAA-43C7-94F8-72E3F275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043D-3165-4103-9FE6-2C45E4B3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A116-8A57-4347-A601-B919D023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B663-8B29-43E4-BAE0-A3468912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0366-4791-4E1A-80CC-F0B49B7D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E9D2-E4E2-4627-A793-516041B2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DF79-B745-42C7-A3B0-720D5376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5903-EE93-4CB4-86CD-34934825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2F15-042C-42FE-8DAA-87A7D999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4B6E-0225-4437-B6EF-73CB6A56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57AB-D8FF-4B8B-B434-25262CE9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EEE-A98F-42EA-8F5D-CA813671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E297-AA9B-4323-ACFE-EDB7C6F2458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377F-054C-4645-80A5-48F44CBFA4CE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br>
              <a:rPr sz="4800"/>
            </a:b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rovnoběžníku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Známe-li dvě strany</a:t>
            </a:r>
            <a:br>
              <a:rPr sz="4000"/>
            </a:b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a úhlopříč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sledný rovnoběžník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9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27000" y="1096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Úloha má jedno řešení.</a:t>
            </a:r>
            <a:br>
              <a:rPr sz="2000"/>
            </a:b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(v polorovině určené úsečkou AB a bodem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57240" y="1700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onstrukci proměříme, zda odpovídá zadání a trojúhelník vytáhneme silněji. A takto vypadá výsled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684440" y="2421000"/>
            <a:ext cx="5551560" cy="38386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1684440" y="2421000"/>
            <a:ext cx="5551560" cy="3838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684440" y="2421000"/>
            <a:ext cx="5551560" cy="3838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1684440" y="2421000"/>
            <a:ext cx="5551560" cy="3838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1684440" y="2421000"/>
            <a:ext cx="5551560" cy="38386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1684440" y="2421000"/>
            <a:ext cx="5551560" cy="38386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1684440" y="2421000"/>
            <a:ext cx="5551560" cy="3838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9"/>
          <a:stretch/>
        </p:blipFill>
        <p:spPr>
          <a:xfrm>
            <a:off x="1684440" y="2421000"/>
            <a:ext cx="5551560" cy="383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0"/>
          <a:stretch/>
        </p:blipFill>
        <p:spPr>
          <a:xfrm>
            <a:off x="1684440" y="2421000"/>
            <a:ext cx="5551560" cy="3838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1"/>
          <a:stretch/>
        </p:blipFill>
        <p:spPr>
          <a:xfrm>
            <a:off x="1684440" y="2421000"/>
            <a:ext cx="5551560" cy="3838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2"/>
          <a:stretch/>
        </p:blipFill>
        <p:spPr>
          <a:xfrm>
            <a:off x="1684440" y="2421000"/>
            <a:ext cx="5551560" cy="38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4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rovnoběžník ABCD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71440" y="1413000"/>
            <a:ext cx="4624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.) a = 5 cm, u = 7,5 cm, b = 3,5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87280" y="1700280"/>
            <a:ext cx="4248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.) c = 7 cm, v = 5 cm, d = 4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87280" y="1989000"/>
            <a:ext cx="4248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.) a = 6 cm, d = 65 mm, v = 5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08720" y="1700280"/>
            <a:ext cx="2158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Rada: c = 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1989000"/>
            <a:ext cx="30607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Rada: pozor na jednotky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42920" y="1989000"/>
            <a:ext cx="6985080" cy="43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36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eji Vám mnoho přesnosti při rýsování!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 rot="662400">
            <a:off x="4284360" y="2276280"/>
            <a:ext cx="3367080" cy="37177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1389240" y="4498920"/>
            <a:ext cx="534348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508720" y="1628640"/>
            <a:ext cx="23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AB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95760" y="1630440"/>
            <a:ext cx="23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BC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Rovnoběžník (kosodélník) je čtyřúhelník, který má rovnoběžné protilehlé str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564000" y="2205000"/>
            <a:ext cx="2952720" cy="345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08720" y="2205000"/>
            <a:ext cx="100800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627280" y="2205000"/>
            <a:ext cx="3889440" cy="19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443280" y="2205000"/>
            <a:ext cx="73080" cy="216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003640" y="1630440"/>
            <a:ext cx="2868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C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A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62680" y="1628640"/>
            <a:ext cx="27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AB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 </a:t>
            </a:r>
            <a:r>
              <a:rPr b="1" lang="cs-CZ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D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27000" y="1225440"/>
            <a:ext cx="7777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rotější strany rovnoběžníku mají stejnou délku.</a:t>
            </a: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64000" y="2205000"/>
            <a:ext cx="2952720" cy="345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508720" y="2205000"/>
            <a:ext cx="100800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627280" y="2205000"/>
            <a:ext cx="3889440" cy="19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43280" y="2205000"/>
            <a:ext cx="73080" cy="216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708360" y="1630440"/>
            <a:ext cx="416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ABC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DA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63800" y="1628640"/>
            <a:ext cx="439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AB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 </a:t>
            </a:r>
            <a:r>
              <a:rPr b="1" lang="cs-CZ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CD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27000" y="1225440"/>
            <a:ext cx="7777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rotější úhly rovnoběžníku mají stejnou velikost.</a:t>
            </a: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050560" y="2205000"/>
            <a:ext cx="4465800" cy="32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2205000"/>
            <a:ext cx="216000" cy="79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708000" y="2205000"/>
            <a:ext cx="2808360" cy="863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651280" y="2205000"/>
            <a:ext cx="865080" cy="2879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43280" y="1700280"/>
            <a:ext cx="51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59440" y="1657440"/>
            <a:ext cx="3155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3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27000" y="1082520"/>
            <a:ext cx="7777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oučet velikostí sousedních úhlů je 180 stupň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050920" y="2205000"/>
            <a:ext cx="936720" cy="32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64000" y="2205000"/>
            <a:ext cx="1871640" cy="2879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68720" y="2205000"/>
            <a:ext cx="1440000" cy="2879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5080" y="2205000"/>
            <a:ext cx="2158920" cy="79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8800" y="1486080"/>
            <a:ext cx="7777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oučet velikostí všech úhlů je 360 stupň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79640" y="2133720"/>
            <a:ext cx="3240000" cy="3311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724000" y="2205000"/>
            <a:ext cx="71640" cy="2879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708000" y="2133720"/>
            <a:ext cx="3024360" cy="934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57960" y="2190600"/>
            <a:ext cx="71928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91120" y="2233440"/>
            <a:ext cx="1857240" cy="6908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708000" y="2162160"/>
            <a:ext cx="1900440" cy="8352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708000" y="2190600"/>
            <a:ext cx="2390760" cy="8780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979640" y="2190600"/>
            <a:ext cx="4695840" cy="32544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1628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růsečík úhlopříček je středem souměrnosti rovnoběžníku.</a:t>
            </a: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99200" y="164304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AS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00640" y="164448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S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00000" y="9810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Úhlopříčky se navzájem půlí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1413000"/>
            <a:ext cx="1512720" cy="309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79640" y="1413000"/>
            <a:ext cx="2879640" cy="3168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572000" y="1844640"/>
            <a:ext cx="504720" cy="216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619280" y="4350960"/>
            <a:ext cx="2881440" cy="136836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471920" y="2924280"/>
            <a:ext cx="2879640" cy="144144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02560" y="1432080"/>
            <a:ext cx="36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56440" y="163980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SC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4360" y="164304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SD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04000" y="14270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4365720"/>
            <a:ext cx="1209600" cy="133992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60880" y="2981160"/>
            <a:ext cx="1239840" cy="138456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18446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Základem při této konstrukci bude konstrukce trojúhelníku podle věty s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10810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Sestrojte rovnoběžník ABCD, ve kterém a = 6 cm, </a:t>
            </a:r>
            <a:br>
              <a:rPr sz="2200"/>
            </a:b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b = 4 cm, u = 8 cm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761080" cy="3905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50920" y="5719680"/>
            <a:ext cx="4033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084720" y="2909520"/>
            <a:ext cx="792360" cy="2809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050920" y="2909520"/>
            <a:ext cx="4826160" cy="2809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38760" y="5646600"/>
            <a:ext cx="287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73880" y="4149720"/>
            <a:ext cx="287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83200" y="3990960"/>
            <a:ext cx="287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00000" y="110952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Základem je tedy, jak již bylo řečeno, konstrukce trojúhelníku podle věty sss, čímž získáme body A, B a 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16286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ásleduje sestrojení bodu 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922400" y="2665440"/>
            <a:ext cx="5040360" cy="348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258920" y="5675400"/>
            <a:ext cx="66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1156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5324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24720" y="558972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 rot="12627000">
            <a:off x="3493440" y="3300480"/>
            <a:ext cx="4715280" cy="471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68" y="326"/>
                </a:moveTo>
                <a:arcTo wR="10800" hR="10800" stAng="-6246444" swAng="5096129"/>
                <a:lnTo>
                  <a:pt x="10800" y="10800"/>
                </a:lnTo>
                <a:close/>
              </a:path>
              <a:path fill="none" w="21600" h="21600">
                <a:moveTo>
                  <a:pt x="8168" y="326"/>
                </a:moveTo>
                <a:arcTo wR="10800" hR="10800" stAng="-6246444" swAng="509612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08720" y="354492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2414520" y="941400"/>
            <a:ext cx="9451800" cy="944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60" y="3611"/>
                </a:moveTo>
                <a:arcTo wR="10800" hR="10800" stAng="-2503793" swAng="2155074"/>
                <a:lnTo>
                  <a:pt x="10800" y="10800"/>
                </a:lnTo>
                <a:close/>
              </a:path>
              <a:path fill="none" w="21600" h="21600">
                <a:moveTo>
                  <a:pt x="18860" y="3611"/>
                </a:moveTo>
                <a:arcTo wR="10800" hR="10800" stAng="-2503793" swAng="215507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40360" y="2421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rot="19411200">
            <a:off x="2898000" y="-133920"/>
            <a:ext cx="7025760" cy="702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500" y="2330"/>
                </a:moveTo>
                <a:arcTo wR="10800" hR="10800" stAng="-3099327" swAng="2275950"/>
                <a:lnTo>
                  <a:pt x="10800" y="10800"/>
                </a:lnTo>
                <a:close/>
              </a:path>
              <a:path fill="none" w="21600" h="21600">
                <a:moveTo>
                  <a:pt x="17500" y="2330"/>
                </a:moveTo>
                <a:arcTo wR="10800" hR="10800" stAng="-3099327" swAng="227595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73240" y="2492280"/>
            <a:ext cx="37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4270400">
            <a:off x="-59400" y="3293640"/>
            <a:ext cx="4715280" cy="471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68" y="326"/>
                </a:moveTo>
                <a:arcTo wR="10800" hR="10800" stAng="-6246444" swAng="5096129"/>
                <a:lnTo>
                  <a:pt x="10800" y="10800"/>
                </a:lnTo>
                <a:close/>
              </a:path>
              <a:path fill="none" w="21600" h="21600">
                <a:moveTo>
                  <a:pt x="8168" y="326"/>
                </a:moveTo>
                <a:arcTo wR="10800" hR="10800" stAng="-6246444" swAng="509612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63640" y="3011400"/>
            <a:ext cx="37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25600" y="5675400"/>
            <a:ext cx="35276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847120" y="3362760"/>
            <a:ext cx="616680" cy="2293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6360" y="3371760"/>
            <a:ext cx="3527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305440" y="3362760"/>
            <a:ext cx="616680" cy="2293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3328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59120" y="3328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000"/>
                            </p:stCondLst>
                            <p:childTnLst>
                              <p:par>
                                <p:cTn id="5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4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4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500"/>
                            </p:stCondLst>
                            <p:childTnLst>
                              <p:par>
                                <p:cTn id="5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50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19564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a=6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a konstrukc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95640" y="162720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3. l; l(A; u=8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95640" y="19018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. C; C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k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8484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5. m; m(C; c=a=6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84840" y="132552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6. n; n(A; d=b=4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84840" y="162720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7. D; D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m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84840" y="19018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8. Rovnoběžník ABC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95640" y="1325520"/>
            <a:ext cx="4321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. k; k(B; b=4 cm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5661000"/>
            <a:ext cx="66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1156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5324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24720" y="558972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66840" y="57340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24360" y="573408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 rot="12627000">
            <a:off x="3493440" y="3300480"/>
            <a:ext cx="4715280" cy="471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68" y="326"/>
                </a:moveTo>
                <a:arcTo wR="10800" hR="10800" stAng="-6246444" swAng="5096129"/>
                <a:lnTo>
                  <a:pt x="10800" y="10800"/>
                </a:lnTo>
                <a:close/>
              </a:path>
              <a:path fill="none" w="21600" h="21600">
                <a:moveTo>
                  <a:pt x="8168" y="326"/>
                </a:moveTo>
                <a:arcTo wR="10800" hR="10800" stAng="-6246444" swAng="509612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08720" y="354492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2414520" y="941400"/>
            <a:ext cx="9451800" cy="944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60" y="3611"/>
                </a:moveTo>
                <a:arcTo wR="10800" hR="10800" stAng="-2503793" swAng="2155074"/>
                <a:lnTo>
                  <a:pt x="10800" y="10800"/>
                </a:lnTo>
                <a:close/>
              </a:path>
              <a:path fill="none" w="21600" h="21600">
                <a:moveTo>
                  <a:pt x="18860" y="3611"/>
                </a:moveTo>
                <a:arcTo wR="10800" hR="10800" stAng="-2503793" swAng="215507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0360" y="2421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2240" y="308304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rot="19411200">
            <a:off x="2898000" y="-133920"/>
            <a:ext cx="7025760" cy="702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500" y="2330"/>
                </a:moveTo>
                <a:arcTo wR="10800" hR="10800" stAng="-3099327" swAng="2275950"/>
                <a:lnTo>
                  <a:pt x="10800" y="10800"/>
                </a:lnTo>
                <a:close/>
              </a:path>
              <a:path fill="none" w="21600" h="21600">
                <a:moveTo>
                  <a:pt x="17500" y="2330"/>
                </a:moveTo>
                <a:arcTo wR="10800" hR="10800" stAng="-3099327" swAng="227595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73240" y="2492280"/>
            <a:ext cx="37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 rot="14270400">
            <a:off x="-59400" y="3293640"/>
            <a:ext cx="4715280" cy="471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68" y="326"/>
                </a:moveTo>
                <a:arcTo wR="10800" hR="10800" stAng="-6246444" swAng="5096129"/>
                <a:lnTo>
                  <a:pt x="10800" y="10800"/>
                </a:lnTo>
                <a:close/>
              </a:path>
              <a:path fill="none" w="21600" h="21600">
                <a:moveTo>
                  <a:pt x="8168" y="326"/>
                </a:moveTo>
                <a:arcTo wR="10800" hR="10800" stAng="-6246444" swAng="509612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3011400"/>
            <a:ext cx="374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73520" y="306864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25600" y="5661000"/>
            <a:ext cx="35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833080" y="3362760"/>
            <a:ext cx="616320" cy="229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16360" y="3371760"/>
            <a:ext cx="352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305440" y="3362760"/>
            <a:ext cx="616680" cy="229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4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3000"/>
                            </p:stCondLst>
                            <p:childTnLst>
                              <p:par>
                                <p:cTn id="7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8-15T12:59:57Z</dcterms:modified>
  <cp:revision>90</cp:revision>
  <dc:subject/>
  <dc:title>Konstrukce rovnoběžníku 3</dc:title>
</cp:coreProperties>
</file>