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6CB6-4F10-494E-9D3C-97EAD82EF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231C-83B1-4E70-9A2E-76C8A8E0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52F0-47BD-4709-80D8-D9D8FDFAB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2AA2-CBE5-4F6D-A89E-71504B594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29E2-F4F9-4379-A1F1-9C19310A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3023-1C16-4841-95FB-D8C658D2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5E93-5213-464C-8B38-7DD72D13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BA1E-549B-42C6-AA9A-8A7AAC9B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DAE7-A568-41F5-9AE0-5F6FE573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5667-E7EE-4BB3-A2A0-89B35331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FDCA-8BA7-4D9B-BD53-DB285B0F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E701-624F-4657-B512-F8EB59C7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60D8-50E8-4BA5-B3BC-ECCF3367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2CB1-7955-40C9-9D7F-9251FCEB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61FC-3CDC-48F4-980C-E4BB5796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ACA0-2681-423D-A4C3-7AF0F64D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DF94-75E2-4664-997A-A9DF43A18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B978-974E-4409-8A83-3D31F69F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2129-07EB-438C-88F0-0D5FD507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009B-A232-4885-B838-37343730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3071-183C-4E39-80D6-773FAEA0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34D9-3ACA-4FA2-9724-C4002F3B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6ED5-246A-4B74-A187-8B71B368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2E6E-7F36-49ED-BC88-B8488594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D974-8A32-4678-A9AC-AF011D24590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6241-45C1-4BC9-BA8F-C2451380A724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Konstrukce </a:t>
            </a:r>
            <a:br>
              <a:rPr sz="4800"/>
            </a:b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rovnoběžníku</a:t>
            </a:r>
            <a:endParaRPr b="0" lang="en-US" sz="4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3789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Známe-li jednu stranu</a:t>
            </a:r>
            <a:br>
              <a:rPr sz="4000"/>
            </a:b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a dva úhly k ní přilehlé </a:t>
            </a:r>
            <a:br>
              <a:rPr sz="4000"/>
            </a:b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(jeden s další stranou a jeden s úhlopříčko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Výsledný rovnoběžník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3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27000" y="109692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Úloha má jedno řešení.</a:t>
            </a:r>
            <a:br>
              <a:rPr sz="2000"/>
            </a:b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(v polorovině určené úsečkou AB a bodem 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57240" y="170028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onstrukci proměříme, zda odpovídá zadání a trojúhelník vytáhneme silněji. A takto vypadá výsled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1908000" y="2363760"/>
            <a:ext cx="5400720" cy="393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8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27000" y="1096920"/>
            <a:ext cx="7777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rovnoběžník ABCD, jestliž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71440" y="1325520"/>
            <a:ext cx="6280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1.) a = 5 cm, </a:t>
            </a:r>
            <a:r>
              <a:rPr b="1" lang="cs-CZ" sz="2000" spc="-1" strike="noStrike">
                <a:solidFill>
                  <a:srgbClr val="284c6a"/>
                </a:solidFill>
                <a:latin typeface="Symbol"/>
                <a:ea typeface="Symbol"/>
              </a:rPr>
              <a:t>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CAB</a:t>
            </a:r>
            <a:r>
              <a:rPr b="1" lang="cs-CZ" sz="20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= 38°, </a:t>
            </a:r>
            <a:r>
              <a:rPr b="1" lang="cs-CZ" sz="2000" spc="-1" strike="noStrike">
                <a:solidFill>
                  <a:srgbClr val="284c6a"/>
                </a:solidFill>
                <a:latin typeface="Symbol"/>
                <a:ea typeface="Symbol"/>
              </a:rPr>
              <a:t>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= 1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87280" y="1643040"/>
            <a:ext cx="5329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2.) b = 4 cm, </a:t>
            </a:r>
            <a:r>
              <a:rPr b="1" lang="cs-CZ" sz="2000" spc="-1" strike="noStrike">
                <a:solidFill>
                  <a:srgbClr val="284c6a"/>
                </a:solidFill>
                <a:latin typeface="Symbol"/>
                <a:ea typeface="Symbol"/>
              </a:rPr>
              <a:t>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ABC</a:t>
            </a:r>
            <a:r>
              <a:rPr b="1" lang="cs-CZ" sz="20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= 120°, </a:t>
            </a:r>
            <a:r>
              <a:rPr b="1" lang="cs-CZ" sz="2000" spc="-1" strike="noStrike">
                <a:solidFill>
                  <a:srgbClr val="284c6a"/>
                </a:solidFill>
                <a:latin typeface="Symbol"/>
                <a:ea typeface="Symbol"/>
              </a:rPr>
              <a:t>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BCA</a:t>
            </a:r>
            <a:r>
              <a:rPr b="1" lang="cs-CZ" sz="20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= 3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87280" y="1989000"/>
            <a:ext cx="64090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3.) d = 3 cm, </a:t>
            </a:r>
            <a:r>
              <a:rPr b="1" lang="cs-CZ" sz="2000" spc="-1" strike="noStrike">
                <a:solidFill>
                  <a:srgbClr val="284c6a"/>
                </a:solidFill>
                <a:latin typeface="Symbol"/>
                <a:ea typeface="Symbol"/>
              </a:rPr>
              <a:t>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= 100°, </a:t>
            </a:r>
            <a:r>
              <a:rPr b="1" lang="cs-CZ" sz="2000" spc="-1" strike="noStrike">
                <a:solidFill>
                  <a:srgbClr val="284c6a"/>
                </a:solidFill>
                <a:latin typeface="Symbol"/>
                <a:ea typeface="Symbol"/>
              </a:rPr>
              <a:t>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DAC</a:t>
            </a:r>
            <a:r>
              <a:rPr b="1" lang="cs-CZ" sz="20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= 45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508720" y="1628640"/>
            <a:ext cx="23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a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AB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95760" y="1630440"/>
            <a:ext cx="23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b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d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BC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ovn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30480" y="2416320"/>
            <a:ext cx="6624360" cy="3917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27000" y="14256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Rovnoběžník (kosodélník) je čtyřúhelník, který má rovnoběžné protilehlé str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564000" y="2205000"/>
            <a:ext cx="2952720" cy="3456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08720" y="2205000"/>
            <a:ext cx="1008000" cy="719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627280" y="2205000"/>
            <a:ext cx="3889440" cy="1944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443280" y="2205000"/>
            <a:ext cx="73080" cy="2160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8920" y="808200"/>
            <a:ext cx="77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Zopakujeme si základní vlastnosti, které nám často pomohou při pozdějších konstrukcí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003640" y="1630440"/>
            <a:ext cx="2868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b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d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BC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DA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62680" y="1628640"/>
            <a:ext cx="273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a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AB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 </a:t>
            </a:r>
            <a:r>
              <a:rPr b="1" lang="cs-CZ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CD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ovn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230480" y="2416320"/>
            <a:ext cx="6624360" cy="3917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27000" y="1225440"/>
            <a:ext cx="7777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rotější strany rovnoběžníku mají stejnou délku.</a:t>
            </a: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64000" y="2205000"/>
            <a:ext cx="2952720" cy="3456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508720" y="2205000"/>
            <a:ext cx="1008000" cy="719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627280" y="2205000"/>
            <a:ext cx="3889440" cy="1944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43280" y="2205000"/>
            <a:ext cx="73080" cy="2160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708360" y="1630440"/>
            <a:ext cx="4164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ABC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CDA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63800" y="1628640"/>
            <a:ext cx="439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DAB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 </a:t>
            </a:r>
            <a:r>
              <a:rPr b="1" lang="cs-CZ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BCD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ovn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0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230480" y="2416320"/>
            <a:ext cx="6624360" cy="3917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27000" y="1225440"/>
            <a:ext cx="7777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rotější úhly rovnoběžníku mají stejnou velikost.</a:t>
            </a: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050560" y="2205000"/>
            <a:ext cx="4465800" cy="3240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16720" y="2205000"/>
            <a:ext cx="216000" cy="792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708000" y="2205000"/>
            <a:ext cx="2808360" cy="863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651280" y="2205000"/>
            <a:ext cx="865080" cy="2879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843280" y="1700280"/>
            <a:ext cx="511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=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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=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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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=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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= 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59440" y="1657440"/>
            <a:ext cx="31557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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3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ovn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230480" y="2416320"/>
            <a:ext cx="6624360" cy="3917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27000" y="1082520"/>
            <a:ext cx="7777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Součet velikostí sousedních úhlů je 180 stupň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050920" y="2205000"/>
            <a:ext cx="936720" cy="3240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64000" y="2205000"/>
            <a:ext cx="1871640" cy="2879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68720" y="2205000"/>
            <a:ext cx="1440000" cy="2879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5080" y="2205000"/>
            <a:ext cx="2158920" cy="792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8800" y="1486080"/>
            <a:ext cx="7777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Součet velikostí všech úhlů je 360 stupň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979640" y="2133720"/>
            <a:ext cx="3240000" cy="3311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724000" y="2205000"/>
            <a:ext cx="71640" cy="2879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708000" y="2133720"/>
            <a:ext cx="3024360" cy="9349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57960" y="2190600"/>
            <a:ext cx="719280" cy="719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91120" y="2233440"/>
            <a:ext cx="1857240" cy="6908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708000" y="2162160"/>
            <a:ext cx="1900440" cy="8352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708000" y="2190600"/>
            <a:ext cx="2390760" cy="8780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979640" y="2190600"/>
            <a:ext cx="4695840" cy="32544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14400" y="16286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růsečík úhlopříček je středem souměrnosti rovnoběžníku</a:t>
            </a: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99200" y="1643040"/>
            <a:ext cx="16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AS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00640" y="1644480"/>
            <a:ext cx="16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BS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ovn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0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230480" y="2416320"/>
            <a:ext cx="6624360" cy="3917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900000" y="9810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Úhlopříčky se navzájem půlí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9640" y="1413000"/>
            <a:ext cx="1512720" cy="3095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79640" y="1413000"/>
            <a:ext cx="2879640" cy="3168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572000" y="1844640"/>
            <a:ext cx="504720" cy="2160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619280" y="4350960"/>
            <a:ext cx="2881440" cy="136836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471920" y="2924280"/>
            <a:ext cx="2879640" cy="144144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02560" y="1432080"/>
            <a:ext cx="36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56440" y="1639800"/>
            <a:ext cx="16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SC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64360" y="1643040"/>
            <a:ext cx="16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SD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04000" y="142704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00720" y="4365720"/>
            <a:ext cx="1209600" cy="133992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60880" y="2981160"/>
            <a:ext cx="1239840" cy="138456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14400" y="184464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Základem této konstrukce bude konstrukce trojúhelníku podle věty us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A nyní již přikročíme ke konstrukci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6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108108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Sestrojte rovnoběžník ABCD, ve kterém a = 6 cm, </a:t>
            </a:r>
            <a:br>
              <a:rPr sz="2200"/>
            </a:br>
            <a:r>
              <a:rPr b="1" lang="cs-CZ" sz="22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 = 75°, </a:t>
            </a:r>
            <a:r>
              <a:rPr b="1" lang="cs-CZ" sz="2200" spc="-1" strike="noStrike">
                <a:solidFill>
                  <a:srgbClr val="284c6a"/>
                </a:solidFill>
                <a:latin typeface="Symbol"/>
                <a:ea typeface="Symbol"/>
              </a:rPr>
              <a:t></a:t>
            </a: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DAB</a:t>
            </a:r>
            <a:r>
              <a:rPr b="1" lang="cs-CZ" sz="22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 = 41°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5761080" cy="3905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036880" y="5705640"/>
            <a:ext cx="40338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89760" y="4941720"/>
            <a:ext cx="1297440" cy="143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309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3098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050920" y="2909520"/>
            <a:ext cx="720720" cy="2809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71640" y="2895480"/>
            <a:ext cx="3313080" cy="28101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24000" y="5214960"/>
            <a:ext cx="100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7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4088600">
            <a:off x="5119920" y="4710600"/>
            <a:ext cx="1864800" cy="1913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908" y="1893"/>
                </a:moveTo>
                <a:arcTo wR="10800" hR="10800" stAng="-3333403" swAng="2472916"/>
                <a:lnTo>
                  <a:pt x="10800" y="10800"/>
                </a:lnTo>
                <a:close/>
              </a:path>
              <a:path fill="none" w="21600" h="21600">
                <a:moveTo>
                  <a:pt x="16908" y="1893"/>
                </a:moveTo>
                <a:arcTo wR="10800" hR="10800" stAng="-3333403" swAng="2472916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91120" y="5214960"/>
            <a:ext cx="100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41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00000" y="1109520"/>
            <a:ext cx="7777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Základem je tedy, jak již bylo řečeno, konstrukce trojúhelníku podle věty usu, čímž získáme body A, B a 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Náčrt a rozbor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8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5761080" cy="39052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036880" y="5705640"/>
            <a:ext cx="40338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89760" y="4941720"/>
            <a:ext cx="1297440" cy="143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309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3098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036880" y="2909520"/>
            <a:ext cx="720720" cy="2809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52800" y="5229360"/>
            <a:ext cx="100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7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162864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Následuje sestrojení bodu 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01600" y="571968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035080" y="2381040"/>
            <a:ext cx="86544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54720" y="2501280"/>
            <a:ext cx="207360" cy="5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" bIns="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01960" y="24066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64360" y="57340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9924200">
            <a:off x="3205800" y="2684160"/>
            <a:ext cx="5651640" cy="605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53" y="411"/>
                </a:moveTo>
                <a:arcTo wR="10800" hR="10800" stAng="-4448064" swAng="3016013"/>
                <a:lnTo>
                  <a:pt x="10800" y="10800"/>
                </a:lnTo>
                <a:close/>
              </a:path>
              <a:path fill="none" w="21600" h="21600">
                <a:moveTo>
                  <a:pt x="13753" y="411"/>
                </a:moveTo>
                <a:arcTo wR="10800" hR="10800" stAng="-4448064" swAng="301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269800" y="2468160"/>
            <a:ext cx="3816360" cy="324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96000" y="24494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684200">
            <a:off x="-1343160" y="-1252440"/>
            <a:ext cx="8162640" cy="837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711" y="4698"/>
                </a:moveTo>
                <a:arcTo wR="10800" hR="10800" stAng="-2064169" swAng="1478860"/>
                <a:lnTo>
                  <a:pt x="10800" y="10800"/>
                </a:lnTo>
                <a:close/>
              </a:path>
              <a:path fill="none" w="21600" h="21600">
                <a:moveTo>
                  <a:pt x="19711" y="4698"/>
                </a:moveTo>
                <a:arcTo wR="10800" hR="10800" stAng="-2064169" swAng="147886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04000" y="234936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48760" y="5597280"/>
            <a:ext cx="3960" cy="22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87960" y="5598720"/>
            <a:ext cx="3600" cy="22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6073200" y="2903400"/>
            <a:ext cx="769680" cy="27968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86040" y="2909880"/>
            <a:ext cx="40338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4088600">
            <a:off x="5119920" y="4710600"/>
            <a:ext cx="1864800" cy="1913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908" y="1893"/>
                </a:moveTo>
                <a:arcTo wR="10800" hR="10800" stAng="-3333403" swAng="2472916"/>
                <a:lnTo>
                  <a:pt x="10800" y="10800"/>
                </a:lnTo>
                <a:close/>
              </a:path>
              <a:path fill="none" w="21600" h="21600">
                <a:moveTo>
                  <a:pt x="16908" y="1893"/>
                </a:moveTo>
                <a:arcTo wR="10800" hR="10800" stAng="-3333403" swAng="2472916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91120" y="5214960"/>
            <a:ext cx="100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41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313000" y="2484720"/>
            <a:ext cx="131760" cy="15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076480" y="25480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14760" y="2867040"/>
            <a:ext cx="10764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195640" y="103824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1. AB;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= a = 6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Zápis a konstrukce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6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01600" y="571968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049480" y="2395080"/>
            <a:ext cx="86508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54720" y="2501280"/>
            <a:ext cx="207360" cy="5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" bIns="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01960" y="24066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64360" y="57340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9924200">
            <a:off x="3205800" y="2684160"/>
            <a:ext cx="5651640" cy="605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53" y="411"/>
                </a:moveTo>
                <a:arcTo wR="10800" hR="10800" stAng="-4448064" swAng="3016013"/>
                <a:lnTo>
                  <a:pt x="10800" y="10800"/>
                </a:lnTo>
                <a:close/>
              </a:path>
              <a:path fill="none" w="21600" h="21600">
                <a:moveTo>
                  <a:pt x="13753" y="411"/>
                </a:moveTo>
                <a:arcTo wR="10800" hR="10800" stAng="-4448064" swAng="301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96000" y="24494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684200">
            <a:off x="-1343160" y="-1252440"/>
            <a:ext cx="8162640" cy="837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711" y="4698"/>
                </a:moveTo>
                <a:arcTo wR="10800" hR="10800" stAng="-2064169" swAng="1478860"/>
                <a:lnTo>
                  <a:pt x="10800" y="10800"/>
                </a:lnTo>
                <a:close/>
              </a:path>
              <a:path fill="none" w="21600" h="21600">
                <a:moveTo>
                  <a:pt x="19711" y="4698"/>
                </a:moveTo>
                <a:arcTo wR="10800" hR="10800" stAng="-2064169" swAng="147886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04000" y="234936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48760" y="5597280"/>
            <a:ext cx="3960" cy="22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01640" y="5599080"/>
            <a:ext cx="3960" cy="22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08000" y="5805360"/>
            <a:ext cx="2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40360" y="58053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95640" y="190188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4. D; D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AE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B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71840" y="25304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784840" y="103824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5. l; l(B;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D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84840" y="132552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6. m; m(D;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84840" y="162720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7. C; C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l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34240" y="26654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84840" y="190188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8. Rovnoběžník ABC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113520" y="2909520"/>
            <a:ext cx="718920" cy="280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86040" y="2909880"/>
            <a:ext cx="403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89760" y="4970520"/>
            <a:ext cx="1297440" cy="143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309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309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195640" y="1325520"/>
            <a:ext cx="4321080" cy="303120"/>
            <a:chOff x="2195640" y="1325520"/>
            <a:chExt cx="4321080" cy="303120"/>
          </a:xfrm>
        </p:grpSpPr>
        <p:sp>
          <p:nvSpPr>
            <p:cNvPr id="221" name=""/>
            <p:cNvSpPr/>
            <p:nvPr/>
          </p:nvSpPr>
          <p:spPr>
            <a:xfrm>
              <a:off x="2195640" y="1325520"/>
              <a:ext cx="43210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284c6a"/>
                  </a:solidFill>
                  <a:latin typeface="Trebuchet MS"/>
                </a:rPr>
                <a:t>2.     BAE; </a:t>
              </a:r>
              <a:r>
                <a:rPr b="1" lang="cs-CZ" sz="1600" spc="-1" strike="noStrike">
                  <a:solidFill>
                    <a:srgbClr val="284c6a"/>
                  </a:solidFill>
                  <a:latin typeface="Symbol"/>
                  <a:ea typeface="Symbol"/>
                </a:rPr>
                <a:t></a:t>
              </a:r>
              <a:r>
                <a:rPr b="1" lang="cs-CZ" sz="1600" spc="-1" strike="noStrike">
                  <a:solidFill>
                    <a:srgbClr val="284c6a"/>
                  </a:solidFill>
                  <a:latin typeface="Trebuchet MS"/>
                </a:rPr>
                <a:t>    BAE</a:t>
              </a:r>
              <a:r>
                <a:rPr b="1" lang="cs-CZ" sz="1600" spc="-1" strike="noStrike">
                  <a:solidFill>
                    <a:srgbClr val="284c6a"/>
                  </a:solidFill>
                  <a:latin typeface="Symbol"/>
                  <a:ea typeface="Symbol"/>
                </a:rPr>
                <a:t></a:t>
              </a:r>
              <a:r>
                <a:rPr b="1" lang="en-US" sz="1600" spc="-1" strike="noStrike">
                  <a:solidFill>
                    <a:srgbClr val="284c6a"/>
                  </a:solidFill>
                  <a:latin typeface="Trebuchet MS"/>
                </a:rPr>
                <a:t> </a:t>
              </a:r>
              <a:r>
                <a:rPr b="1" lang="cs-CZ" sz="1600" spc="-1" strike="noStrike">
                  <a:solidFill>
                    <a:srgbClr val="284c6a"/>
                  </a:solidFill>
                  <a:latin typeface="Trebuchet MS"/>
                </a:rPr>
                <a:t>= </a:t>
              </a:r>
              <a:r>
                <a:rPr b="1" lang="cs-CZ" sz="1600" spc="-1" strike="noStrike">
                  <a:solidFill>
                    <a:srgbClr val="284c6a"/>
                  </a:solidFill>
                  <a:latin typeface="Symbol"/>
                  <a:ea typeface="Symbol"/>
                </a:rPr>
                <a:t></a:t>
              </a:r>
              <a:r>
                <a:rPr b="1" lang="cs-CZ" sz="1600" spc="-1" strike="noStrike">
                  <a:solidFill>
                    <a:srgbClr val="284c6a"/>
                  </a:solidFill>
                  <a:latin typeface="Trebuchet MS"/>
                </a:rPr>
                <a:t> = 75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2"/>
            <a:stretch/>
          </p:blipFill>
          <p:spPr>
            <a:xfrm>
              <a:off x="2570040" y="1398600"/>
              <a:ext cx="17316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3"/>
            <a:stretch/>
          </p:blipFill>
          <p:spPr>
            <a:xfrm>
              <a:off x="3405240" y="1398600"/>
              <a:ext cx="173160" cy="17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" name=""/>
          <p:cNvSpPr/>
          <p:nvPr/>
        </p:nvSpPr>
        <p:spPr>
          <a:xfrm flipH="1" flipV="1">
            <a:off x="2312640" y="2496600"/>
            <a:ext cx="3816360" cy="324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4088600">
            <a:off x="5163120" y="4738320"/>
            <a:ext cx="1864080" cy="1913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908" y="1893"/>
                </a:moveTo>
                <a:arcTo wR="10800" hR="10800" stAng="-3333403" swAng="2472916"/>
                <a:lnTo>
                  <a:pt x="10800" y="10800"/>
                </a:lnTo>
                <a:close/>
              </a:path>
              <a:path fill="none" w="21600" h="21600">
                <a:moveTo>
                  <a:pt x="16908" y="1893"/>
                </a:moveTo>
                <a:arcTo wR="10800" hR="10800" stAng="-3333403" swAng="2472916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355840" y="2513160"/>
            <a:ext cx="131760" cy="15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119320" y="25765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195640" y="1627200"/>
            <a:ext cx="3097080" cy="289080"/>
            <a:chOff x="2195640" y="1627200"/>
            <a:chExt cx="3097080" cy="289080"/>
          </a:xfrm>
        </p:grpSpPr>
        <p:sp>
          <p:nvSpPr>
            <p:cNvPr id="229" name=""/>
            <p:cNvSpPr/>
            <p:nvPr/>
          </p:nvSpPr>
          <p:spPr>
            <a:xfrm>
              <a:off x="2195640" y="1627200"/>
              <a:ext cx="30970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284c6a"/>
                  </a:solidFill>
                  <a:latin typeface="Trebuchet MS"/>
                </a:rPr>
                <a:t>3.     ABF; </a:t>
              </a:r>
              <a:r>
                <a:rPr b="1" lang="cs-CZ" sz="1600" spc="-1" strike="noStrike">
                  <a:solidFill>
                    <a:srgbClr val="284c6a"/>
                  </a:solidFill>
                  <a:latin typeface="Symbol"/>
                  <a:ea typeface="Symbol"/>
                </a:rPr>
                <a:t></a:t>
              </a:r>
              <a:r>
                <a:rPr b="1" lang="cs-CZ" sz="1600" spc="-1" strike="noStrike">
                  <a:solidFill>
                    <a:srgbClr val="284c6a"/>
                  </a:solidFill>
                  <a:latin typeface="Trebuchet MS"/>
                </a:rPr>
                <a:t>    ABF</a:t>
              </a:r>
              <a:r>
                <a:rPr b="1" lang="cs-CZ" sz="1600" spc="-1" strike="noStrike">
                  <a:solidFill>
                    <a:srgbClr val="284c6a"/>
                  </a:solidFill>
                  <a:latin typeface="Symbol"/>
                  <a:ea typeface="Symbol"/>
                </a:rPr>
                <a:t></a:t>
              </a:r>
              <a:r>
                <a:rPr b="1" lang="en-US" sz="1600" spc="-1" strike="noStrike">
                  <a:solidFill>
                    <a:srgbClr val="284c6a"/>
                  </a:solidFill>
                  <a:latin typeface="Trebuchet MS"/>
                </a:rPr>
                <a:t> </a:t>
              </a:r>
              <a:r>
                <a:rPr b="1" lang="cs-CZ" sz="1600" spc="-1" strike="noStrike">
                  <a:solidFill>
                    <a:srgbClr val="284c6a"/>
                  </a:solidFill>
                  <a:latin typeface="Trebuchet MS"/>
                </a:rPr>
                <a:t>= 41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4"/>
            <a:stretch/>
          </p:blipFill>
          <p:spPr>
            <a:xfrm>
              <a:off x="2581200" y="1700280"/>
              <a:ext cx="173160" cy="17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5"/>
            <a:stretch/>
          </p:blipFill>
          <p:spPr>
            <a:xfrm>
              <a:off x="3406680" y="1700280"/>
              <a:ext cx="173160" cy="172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50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4000"/>
                            </p:stCondLst>
                            <p:childTnLst>
                              <p:par>
                                <p:cTn id="6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4500"/>
                            </p:stCondLst>
                            <p:childTnLst>
                              <p:par>
                                <p:cTn id="6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5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2500"/>
                            </p:stCondLst>
                            <p:childTnLst>
                              <p:par>
                                <p:cTn id="6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45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5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2500"/>
                            </p:stCondLst>
                            <p:childTnLst>
                              <p:par>
                                <p:cTn id="6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4500"/>
                            </p:stCondLst>
                            <p:childTnLst>
                              <p:par>
                                <p:cTn id="6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500"/>
                            </p:stCondLst>
                            <p:childTnLst>
                              <p:par>
                                <p:cTn id="6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2500"/>
                            </p:stCondLst>
                            <p:childTnLst>
                              <p:par>
                                <p:cTn id="7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500"/>
                            </p:stCondLst>
                            <p:childTnLst>
                              <p:par>
                                <p:cTn id="7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2500"/>
                            </p:stCondLst>
                            <p:childTnLst>
                              <p:par>
                                <p:cTn id="7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8-07-18T11:02:34Z</dcterms:modified>
  <cp:revision>88</cp:revision>
  <dc:subject/>
  <dc:title>Konstrukce rovnoběžníku 2</dc:title>
</cp:coreProperties>
</file>