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4C4-21DE-4268-98F1-E47DB248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B56-FC84-4B32-8C99-59EBCA49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CC3-6123-4A40-A5B5-FEF11C25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581-0B18-4C62-9718-A34BEF10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74EE-A5E0-4042-BE28-05B39F1D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83B1-8FB4-4A4B-A573-4F2F934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B540-4859-46FC-AF18-3CB5D48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6F03-ADA3-4020-892B-629B928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5439-4314-47BF-978D-C751175F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3611-C32D-4D23-A48C-8DF7289D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119-A8A2-4340-B49A-329F02C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7C7-EDA6-4AFA-B0FC-F47E701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4F08-C87C-40C4-8CFD-A166769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20A-D8EB-42A0-914E-1C69C0B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8489-1674-4B99-9E3D-F42F4640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9E54-0C1E-4C8A-B9FA-97507929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62B5-E134-484E-801C-065C05D4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7DC-BE76-46AE-B75C-9B5052B2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A4E-5081-4495-BACA-6A41D1B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6A6-1C86-41BC-AAE6-989D80D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D52-3576-4A34-8D27-61CE190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246-C8CA-4888-8B47-6983C62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F38-CAF4-4E9D-BDC5-E969C97E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08E-D2DB-4E20-A0FE-5632831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2F3-902F-4908-8277-A3F3A24D15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6639-F5AB-4296-B49B-9D1BA5794B0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rovnoběž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dvě strany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úhel jimi sevřen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rovnoběž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805040" y="2386080"/>
            <a:ext cx="5359320" cy="392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rovnoběžník ABCD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71440" y="1413000"/>
            <a:ext cx="383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a=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60°, b= 3,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1700280"/>
            <a:ext cx="396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c=7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45°, d= 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1989000"/>
            <a:ext cx="374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a=6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120°, d=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1700280"/>
            <a:ext cx="215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c = a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1989000"/>
            <a:ext cx="215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Rada: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d =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508720" y="162864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AB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95760" y="1630440"/>
            <a:ext cx="23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BC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Rovnoběžník (kosodélník) je čtyřúhelník, který má rovnoběžné protilehl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03640" y="1630440"/>
            <a:ext cx="286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62680" y="1628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strany rovnoběžníku mají stejnou délku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64000" y="2205000"/>
            <a:ext cx="2952720" cy="345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08720" y="2205000"/>
            <a:ext cx="1008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27280" y="2205000"/>
            <a:ext cx="388944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43280" y="2205000"/>
            <a:ext cx="73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1630440"/>
            <a:ext cx="416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63800" y="1628640"/>
            <a:ext cx="43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; 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27000" y="122544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ější úhly rovnoběžníku mají stejnou velikost.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050560" y="2205000"/>
            <a:ext cx="446580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2205000"/>
            <a:ext cx="21600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000" y="2205000"/>
            <a:ext cx="280836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651280" y="2205000"/>
            <a:ext cx="86508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700280"/>
            <a:ext cx="51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9440" y="1657440"/>
            <a:ext cx="3155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+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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27000" y="1082520"/>
            <a:ext cx="7777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sousedních úhlů je 18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0920" y="2205000"/>
            <a:ext cx="936720" cy="32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2205000"/>
            <a:ext cx="18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68720" y="2205000"/>
            <a:ext cx="144000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5080" y="2205000"/>
            <a:ext cx="215892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8800" y="1486080"/>
            <a:ext cx="777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elikostí všech úhlů je 360 stupň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79640" y="2133720"/>
            <a:ext cx="3240000" cy="3311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724000" y="2205000"/>
            <a:ext cx="71640" cy="28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08000" y="2133720"/>
            <a:ext cx="3024360" cy="93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57960" y="2190600"/>
            <a:ext cx="71928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91120" y="2233440"/>
            <a:ext cx="1857240" cy="690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708000" y="2162160"/>
            <a:ext cx="1900440" cy="8352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08000" y="2190600"/>
            <a:ext cx="2390760" cy="8780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79640" y="2190600"/>
            <a:ext cx="4695840" cy="32544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ůsečík úhlopříček je středem souměrnosti rovnoběžníku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9920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0640" y="16444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S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noběž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30480" y="2416320"/>
            <a:ext cx="6624360" cy="3917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Úhlopříčky se navzájem půlí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1413000"/>
            <a:ext cx="1512720" cy="30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79640" y="1413000"/>
            <a:ext cx="2879640" cy="31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572000" y="1844640"/>
            <a:ext cx="50472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19280" y="4350960"/>
            <a:ext cx="2881440" cy="13683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471920" y="2924280"/>
            <a:ext cx="2879640" cy="144144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02560" y="1432080"/>
            <a:ext cx="36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56440" y="163980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C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164304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SD</a:t>
            </a:r>
            <a:r>
              <a:rPr b="1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1427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4365720"/>
            <a:ext cx="1209600" cy="133992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60880" y="2981160"/>
            <a:ext cx="1239840" cy="138456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při této konstrukci bude konstrukce trojúhelníku podle věty s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rovnoběžník ABCD, ve kterém a=6 cm, b=4 cm,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=75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761080" cy="390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36880" y="570564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89760" y="4941720"/>
            <a:ext cx="1297440" cy="14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050920" y="2909520"/>
            <a:ext cx="72072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350028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b =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2895480"/>
            <a:ext cx="3313080" cy="2810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52800" y="5113440"/>
            <a:ext cx="10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11095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kladem je tedy, jak již bylo řečeno, konstrukce trojúhelníku podle věty sus, čímž získáme body A, B a 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761080" cy="390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036880" y="570564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89760" y="4941720"/>
            <a:ext cx="1297440" cy="14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0920" y="2909520"/>
            <a:ext cx="720720" cy="2809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52800" y="5113440"/>
            <a:ext cx="10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628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sestrojení bodu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1600" y="57196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035080" y="2381040"/>
            <a:ext cx="86544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54720" y="250128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01960" y="2406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9924200">
            <a:off x="-820080" y="2740680"/>
            <a:ext cx="5646240" cy="587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03" y="455"/>
                </a:moveTo>
                <a:arcTo wR="10800" hR="10800" stAng="-4398273" swAng="2959544"/>
                <a:lnTo>
                  <a:pt x="10800" y="10800"/>
                </a:lnTo>
                <a:close/>
              </a:path>
              <a:path fill="none" w="21600" h="21600">
                <a:moveTo>
                  <a:pt x="13903" y="455"/>
                </a:moveTo>
                <a:arcTo wR="10800" hR="10800" stAng="-4398273" swAng="29595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25225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573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9924200">
            <a:off x="3205800" y="2684160"/>
            <a:ext cx="5651640" cy="605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3" y="411"/>
                </a:moveTo>
                <a:arcTo wR="10800" hR="10800" stAng="-4448064" swAng="3016013"/>
                <a:lnTo>
                  <a:pt x="10800" y="10800"/>
                </a:lnTo>
                <a:close/>
              </a:path>
              <a:path fill="none" w="21600" h="21600">
                <a:moveTo>
                  <a:pt x="13753" y="411"/>
                </a:moveTo>
                <a:arcTo wR="10800" hR="10800" stAng="-4448064" swAng="301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449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84200">
            <a:off x="-1343160" y="-1252440"/>
            <a:ext cx="8162640" cy="83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11" y="4698"/>
                </a:moveTo>
                <a:arcTo wR="10800" hR="10800" stAng="-2064169" swAng="1478860"/>
                <a:lnTo>
                  <a:pt x="10800" y="10800"/>
                </a:lnTo>
                <a:close/>
              </a:path>
              <a:path fill="none" w="21600" h="21600">
                <a:moveTo>
                  <a:pt x="19711" y="4698"/>
                </a:moveTo>
                <a:arcTo wR="10800" hR="10800" stAng="-2064169" swAng="147886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34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48760" y="55972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87960" y="5598720"/>
            <a:ext cx="3600" cy="2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073200" y="2903400"/>
            <a:ext cx="769680" cy="2796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86040" y="2909880"/>
            <a:ext cx="4033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1956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a=6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01600" y="57196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49480" y="2395080"/>
            <a:ext cx="86508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54720" y="2501280"/>
            <a:ext cx="207360" cy="5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01960" y="2406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924200">
            <a:off x="-820080" y="2740680"/>
            <a:ext cx="5646240" cy="587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03" y="455"/>
                </a:moveTo>
                <a:arcTo wR="10800" hR="10800" stAng="-4398273" swAng="2959544"/>
                <a:lnTo>
                  <a:pt x="10800" y="10800"/>
                </a:lnTo>
                <a:close/>
              </a:path>
              <a:path fill="none" w="21600" h="21600">
                <a:moveTo>
                  <a:pt x="13903" y="455"/>
                </a:moveTo>
                <a:arcTo wR="10800" hR="10800" stAng="-4398273" swAng="295954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25225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4360" y="57340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9924200">
            <a:off x="3205800" y="2684160"/>
            <a:ext cx="5651640" cy="605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3" y="411"/>
                </a:moveTo>
                <a:arcTo wR="10800" hR="10800" stAng="-4448064" swAng="3016013"/>
                <a:lnTo>
                  <a:pt x="10800" y="10800"/>
                </a:lnTo>
                <a:close/>
              </a:path>
              <a:path fill="none" w="21600" h="21600">
                <a:moveTo>
                  <a:pt x="13753" y="411"/>
                </a:moveTo>
                <a:arcTo wR="10800" hR="10800" stAng="-4448064" swAng="3016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2449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84200">
            <a:off x="-1343160" y="-1252440"/>
            <a:ext cx="8162640" cy="83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11" y="4698"/>
                </a:moveTo>
                <a:arcTo wR="10800" hR="10800" stAng="-2064169" swAng="1478860"/>
                <a:lnTo>
                  <a:pt x="10800" y="10800"/>
                </a:lnTo>
                <a:close/>
              </a:path>
              <a:path fill="none" w="21600" h="21600">
                <a:moveTo>
                  <a:pt x="19711" y="4698"/>
                </a:moveTo>
                <a:arcTo wR="10800" hR="10800" stAng="-2064169" swAng="147886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234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48760" y="55972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1640" y="5599080"/>
            <a:ext cx="3960" cy="2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580536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580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A; d=b=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D; D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E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71840" y="26082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l; l(B; b=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m; m(D; c=a=6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84840" y="1627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34240" y="26654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1901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Rovnoběžník AB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13520" y="2909520"/>
            <a:ext cx="718920" cy="28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86040" y="290988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89760" y="4970520"/>
            <a:ext cx="1297440" cy="14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630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630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195640" y="1325520"/>
            <a:ext cx="4321080" cy="303120"/>
            <a:chOff x="2195640" y="1325520"/>
            <a:chExt cx="4321080" cy="303120"/>
          </a:xfrm>
        </p:grpSpPr>
        <p:sp>
          <p:nvSpPr>
            <p:cNvPr id="219" name=""/>
            <p:cNvSpPr/>
            <p:nvPr/>
          </p:nvSpPr>
          <p:spPr>
            <a:xfrm>
              <a:off x="2195640" y="132552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BAE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BAE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en-US" sz="16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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75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5700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3405240" y="139860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6-27T07:59:37Z</dcterms:modified>
  <cp:revision>81</cp:revision>
  <dc:subject/>
  <dc:title>Konstrukce rovnoběžníku 1</dc:title>
</cp:coreProperties>
</file>