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19C-FA10-492E-AF48-87AE6A47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D03-FA2A-403A-A946-DEFCAA0B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90D-09AE-4F37-9306-91F3AF64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E04-007C-485E-BDCD-C86D35D6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A2B7-71D1-4E99-B123-3742D7D1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13E2-0894-4D2F-8C8E-0901D4EF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95E7-5AA4-477C-85B5-3821E230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B083-EAEA-4F8F-B5E2-279FEFA7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00F-E60E-4049-AC4B-6A863372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2F69-FBBB-4AED-9ED8-EADFE2CF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372-1129-4803-88D2-5297F7EB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C05-FA4A-4FF2-BC5E-43BB117E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4ED6-15B2-4D05-829E-2933CD3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5A27-81A1-4B42-B394-7D58D38B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9270-02EF-459D-B274-DC9B31BF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1364-34DC-4ACD-A506-C3109786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6DF-5F81-43A0-9A6A-2E62EE8F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698-8968-478C-8DC4-36586CF8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6E4-9E0D-4FE3-AA07-017D89C7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B78-0DFB-4CB1-9731-4A04C6E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E3A-145B-4248-9352-6AEDF009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741-7B12-4E61-AF56-12FC76B8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139-07FB-40BD-B1D6-37BA25B6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0CE-C0D8-4329-AAA9-613D214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94C4-D669-454F-A5E9-253FD09E7E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1656-AFEC-4F05-9C93-DCDB30C1E48D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lich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dvě základny, jednu úhlopříčku a úhel, který svírá základna s úhlopříčk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42920" y="1989000"/>
            <a:ext cx="691380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1095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je tedy, jak již bylo řečeno, konstrukce trojúhelníku podle věty sus, čímž získáme body A, B a 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55736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sestrojení bodu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420920" y="2219400"/>
            <a:ext cx="5916600" cy="3979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73160" y="5751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946240" y="2281320"/>
            <a:ext cx="345600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03280" y="2541600"/>
            <a:ext cx="14184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16160" y="23065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9924200">
            <a:off x="2673000" y="2069280"/>
            <a:ext cx="7419240" cy="735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74" y="1404"/>
                </a:moveTo>
                <a:arcTo wR="10800" hR="10800" stAng="-7172769" swAng="1925318"/>
                <a:lnTo>
                  <a:pt x="10800" y="10800"/>
                </a:lnTo>
                <a:close/>
              </a:path>
              <a:path fill="none" w="21600" h="21600">
                <a:moveTo>
                  <a:pt x="5474" y="1404"/>
                </a:moveTo>
                <a:arcTo wR="10800" hR="10800" stAng="-7172769" swAng="192531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14960" y="23194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79920" y="234936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897000">
            <a:off x="389160" y="709920"/>
            <a:ext cx="5260680" cy="451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86" y="5457"/>
                </a:moveTo>
                <a:arcTo wR="10800" hR="10800" stAng="-1779079" swAng="2135800"/>
                <a:lnTo>
                  <a:pt x="10800" y="10800"/>
                </a:lnTo>
                <a:close/>
              </a:path>
              <a:path fill="none" w="21600" h="21600">
                <a:moveTo>
                  <a:pt x="20186" y="5457"/>
                </a:moveTo>
                <a:arcTo wR="10800" hR="10800" stAng="-1779079" swAng="21358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38960" y="2852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14280" y="566064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160" y="56512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7520" y="31528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5665680" y="4986360"/>
            <a:ext cx="1422360" cy="15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88096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88096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109960" y="235260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153880" y="3144960"/>
            <a:ext cx="16556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24000" y="5762520"/>
            <a:ext cx="4248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793680" y="3141360"/>
            <a:ext cx="2592360" cy="259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138400" y="3155760"/>
            <a:ext cx="1655640" cy="259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440" y="3141720"/>
            <a:ext cx="181764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14560" y="3148200"/>
            <a:ext cx="766080" cy="2579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8728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a= 7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589104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132000" y="2421000"/>
            <a:ext cx="345600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389040" y="2681280"/>
            <a:ext cx="14184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01920" y="24462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9924200">
            <a:off x="2887200" y="2223360"/>
            <a:ext cx="7419240" cy="735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74" y="1404"/>
                </a:moveTo>
                <a:arcTo wR="10800" hR="10800" stAng="-7172769" swAng="1925318"/>
                <a:lnTo>
                  <a:pt x="10800" y="10800"/>
                </a:lnTo>
                <a:close/>
              </a:path>
              <a:path fill="none" w="21600" h="21600">
                <a:moveTo>
                  <a:pt x="5474" y="1404"/>
                </a:moveTo>
                <a:arcTo wR="10800" hR="10800" stAng="-7172769" swAng="192531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00720" y="24591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65680" y="24890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897000">
            <a:off x="561240" y="849600"/>
            <a:ext cx="5259960" cy="451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86" y="5457"/>
                </a:moveTo>
                <a:arcTo wR="10800" hR="10800" stAng="-1779079" swAng="2135800"/>
                <a:lnTo>
                  <a:pt x="10800" y="10800"/>
                </a:lnTo>
                <a:close/>
              </a:path>
              <a:path fill="none" w="21600" h="21600">
                <a:moveTo>
                  <a:pt x="20186" y="5457"/>
                </a:moveTo>
                <a:arcTo wR="10800" hR="10800" stAng="-1779079" swAng="21358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29923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14440" y="571932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92680" y="576216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76480" y="58611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6720" y="58611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956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k; k(B; f= 6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D;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BY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68560" y="30114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p; p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,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l; l(D; c= 3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848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59280" y="300528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848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Lichoběžník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32925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849640" y="5160600"/>
            <a:ext cx="136224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88096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8809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5640" y="1325520"/>
            <a:ext cx="4321080" cy="303120"/>
            <a:chOff x="2195640" y="1325520"/>
            <a:chExt cx="4321080" cy="303120"/>
          </a:xfrm>
        </p:grpSpPr>
        <p:sp>
          <p:nvSpPr>
            <p:cNvPr id="225" name=""/>
            <p:cNvSpPr/>
            <p:nvPr/>
          </p:nvSpPr>
          <p:spPr>
            <a:xfrm>
              <a:off x="2195640" y="1325520"/>
              <a:ext cx="432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2.     ABY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ABY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= 45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25700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4052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"/>
          <p:cNvSpPr/>
          <p:nvPr/>
        </p:nvSpPr>
        <p:spPr>
          <a:xfrm flipV="1">
            <a:off x="2311560" y="2492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796000" y="3284280"/>
            <a:ext cx="79200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339640" y="3284640"/>
            <a:ext cx="165564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rovn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1960560"/>
            <a:ext cx="705816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27000" y="1052640"/>
            <a:ext cx="7777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(v polorovině určené úsečkou AB a bodem 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57240" y="1454040"/>
            <a:ext cx="777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lichoběžník vytáhneme silněji.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akto vypadá výsled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1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2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3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4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5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6"/>
          <a:stretch/>
        </p:blipFill>
        <p:spPr>
          <a:xfrm>
            <a:off x="1320840" y="2008080"/>
            <a:ext cx="6491160" cy="43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D), jestliže a = 5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3 cm, u = 7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141300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Pokud si nebudeš vědět rady, klikni, a já tě pove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D), jestliže a = 5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3 cm, u = 7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0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1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2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3"/>
          <a:stretch/>
        </p:blipFill>
        <p:spPr>
          <a:xfrm>
            <a:off x="1476360" y="1789200"/>
            <a:ext cx="6120000" cy="44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A), jestliže b = 8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 = 2 cm, f = 7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10200" y="1413000"/>
            <a:ext cx="403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Pokud si nebudeš vědět rady, klikni, a já tě pove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lichoběžník ABCD (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A), jestliže b = 8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 = 2 cm, f = 7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1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2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3"/>
          <a:stretch/>
        </p:blipFill>
        <p:spPr>
          <a:xfrm>
            <a:off x="1046160" y="1846440"/>
            <a:ext cx="6838920" cy="41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339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Lichoběžník je čtyřúhelník, který má jen jednu dvojici protilehlých stran rovnoběž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terý čtyřúhelník má obě dvojice protilehlých stran rovnoběžné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0920" y="595008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vnoběž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09692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ovnoběžným stranám říkáme základny lichoběžník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připomíná vám to označení něc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5950080"/>
            <a:ext cx="352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vnoramenný trojúhelní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46988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oběžným ramena lichoběž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45240" y="1557360"/>
            <a:ext cx="2448000" cy="576000"/>
            <a:chOff x="6645240" y="1557360"/>
            <a:chExt cx="2448000" cy="576000"/>
          </a:xfrm>
        </p:grpSpPr>
        <p:sp>
          <p:nvSpPr>
            <p:cNvPr id="108" name=""/>
            <p:cNvSpPr/>
            <p:nvPr/>
          </p:nvSpPr>
          <p:spPr>
            <a:xfrm>
              <a:off x="6645240" y="1557360"/>
              <a:ext cx="24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b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d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; BC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 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94692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2808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>
            <a:off x="5795640" y="2060640"/>
            <a:ext cx="1081080" cy="18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55640" y="2060640"/>
            <a:ext cx="432108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64000" y="1484280"/>
            <a:ext cx="36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1082520"/>
            <a:ext cx="8037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et velikostí úhlů při jednom rameni je vždy 18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1989000"/>
            <a:ext cx="36036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57320" y="1974960"/>
            <a:ext cx="223380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800" y="1441440"/>
            <a:ext cx="60195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8800" y="1442880"/>
            <a:ext cx="60195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3640" y="1989000"/>
            <a:ext cx="316872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339640" y="1974960"/>
            <a:ext cx="4551480" cy="33987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59440" y="161460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928800" y="1268280"/>
            <a:ext cx="7777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et velikostí všech vnitřních úhlů je 36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50920" y="2133720"/>
            <a:ext cx="3168720" cy="3382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2133720"/>
            <a:ext cx="100800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27640" y="2133720"/>
            <a:ext cx="1728720" cy="1150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16360" y="2133720"/>
            <a:ext cx="3743280" cy="107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1152360"/>
            <a:ext cx="77770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Úhlopříčka lichoběžníku je úsečka spojující dva protější vrcholy (vzdálenost protilehlých vrchol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2233440"/>
            <a:ext cx="767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hlopříčky lichoběžníku značíme většinou písmeny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e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f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nebo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u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844640"/>
            <a:ext cx="7964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ak je vidět na obrázku, lichoběžník má stejně jako ostatní známé čtyřúhelníky dvě úhlopříč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897200" y="2728800"/>
            <a:ext cx="5338800" cy="3548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897200" y="2728800"/>
            <a:ext cx="5338800" cy="3548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897200" y="2728800"/>
            <a:ext cx="5338800" cy="35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82224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zatím jsme vše opakovali na lichoběžníku, kterému se říká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obecn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2333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bjevila se tady však už i zmínka o podobnosti s rovnoramenným trojúhelníkem, co se označení stran týká. Podobnost však může být ještě větš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400" y="1550880"/>
            <a:ext cx="4530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Jakému trojúhelníku říkáme rovnoramenn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33760" y="1643040"/>
            <a:ext cx="4098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Takovému, který má dvě strany stejně dlouhé, který má shodná rame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1477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ento případ může nastat i u lichoběžníku. Pak mu říkáme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rovnoramenn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91080" y="4465800"/>
            <a:ext cx="17445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rebuchet MS"/>
              </a:rPr>
              <a:t>b =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2666880"/>
            <a:ext cx="60436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535040" y="2703600"/>
            <a:ext cx="5975280" cy="3592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Rovnoramenný lichoběžník má nejen shodná ramena, ale i dvě dvojice úhlů při obou základn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198900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takovém případě mu také říkáme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ravoúhl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413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A když už jsme u úhlů vzpomeňme si ještě na další typ trojúhelníku. Trojúhelník s jedním pravým vnitřním úhlem, kterému říkáme pravoúhl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75896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I lichoběžník může mít některý z vnitřních úhlů prav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606680" y="2746440"/>
            <a:ext cx="5918040" cy="355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11280" y="223344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jak je vidět na obrázku, pravoúhlý lichoběžník má pravé úhly dokonce d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609560" y="2440080"/>
            <a:ext cx="5770800" cy="3835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14400" y="17874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při této konstrukci bude konstrukce trojúhelníku podle věty s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Sestrojte lichoběžník ABCD (AB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CD), je-li : a = 7 cm, 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c = 3 cm, f = 6 dm,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ABD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= 45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268360" y="5862600"/>
            <a:ext cx="4189680" cy="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069200">
            <a:off x="5804280" y="5080320"/>
            <a:ext cx="1364040" cy="15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7824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782492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3343320"/>
            <a:ext cx="2547720" cy="2517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95920" y="5402160"/>
            <a:ext cx="10396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268360" y="3357720"/>
            <a:ext cx="1656000" cy="2519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10-09T12:04:38Z</dcterms:modified>
  <cp:revision>111</cp:revision>
  <dc:subject/>
  <dc:title>Konstrukce lichoběžníku 3</dc:title>
</cp:coreProperties>
</file>