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925-ADEA-4B51-99A0-83F4F15E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652-617C-4B59-957B-C826DF47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B64-0BFD-4D5A-86A0-972DC2C1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5EE-2433-424B-A741-7E4923A0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FF42-FCBC-4DD6-A7E2-99808B56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27B9-EF62-47B1-BD5C-9E8E1913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9376-2B4B-4B94-BB9C-025FDC68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A590-C6A1-4892-BCCC-86EDB87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711F-7E34-49FF-9551-52B94FD5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38EA-06D2-4D86-B2C9-1C44A681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C12D-53B5-4553-B794-00474D82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347-453A-440A-BC2D-D9869739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93D2-98F0-4861-A448-27A72A6A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E0D0-BCAD-4294-9B3E-80326226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3050-1133-49D6-95BB-68F5A6DF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51E6-3B4A-4816-B9C8-1BE759F2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C642-6FB4-447D-AD9F-0F317C45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FB1-E7F7-4FB4-9B2B-8E7C947D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36F-B6FA-45BA-BB37-97E9CC36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0ED2-DB2C-4773-81B7-B0952BF7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39F-0597-4FCC-A5B8-FDA294B8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A99-B108-448E-A16A-9D0A8F4E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805-B210-4EBA-A954-BB2C9EB1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4BA-5007-4C6A-9AA6-8B49CF7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1848-D708-4D9F-8508-655D2A95C5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E22C-656C-439C-81A3-566A846AB82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image" Target="../media/image52.png"/><Relationship Id="rId11" Type="http://schemas.openxmlformats.org/officeDocument/2006/relationships/image" Target="../media/image5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lichoběž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tři strany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a jeden úh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42920" y="1989000"/>
            <a:ext cx="691380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60440" y="2193840"/>
            <a:ext cx="5977080" cy="4008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00000" y="110952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ákladem je tedy, jak již bylo řečeno, konstrukce trojúhelníku podle věty sus, čímž získáme body A, B a 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3" name=""/>
          <p:cNvSpPr/>
          <p:nvPr/>
        </p:nvSpPr>
        <p:spPr>
          <a:xfrm>
            <a:off x="1101600" y="57340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36880" y="5719680"/>
            <a:ext cx="4622760" cy="28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89760" y="4941720"/>
            <a:ext cx="1297440" cy="143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35080" y="2381040"/>
            <a:ext cx="86544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36520" y="5596920"/>
            <a:ext cx="3600" cy="22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050920" y="2909520"/>
            <a:ext cx="720720" cy="2809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5113440"/>
            <a:ext cx="100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55736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sleduje sestrojení bodu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4720" y="2501280"/>
            <a:ext cx="207360" cy="5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01960" y="2406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9924200">
            <a:off x="-820080" y="2754720"/>
            <a:ext cx="5646240" cy="587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03" y="455"/>
                </a:moveTo>
                <a:arcTo wR="10800" hR="10800" stAng="-4398273" swAng="2959544"/>
                <a:lnTo>
                  <a:pt x="10800" y="10800"/>
                </a:lnTo>
                <a:close/>
              </a:path>
              <a:path fill="none" w="21600" h="21600">
                <a:moveTo>
                  <a:pt x="13903" y="455"/>
                </a:moveTo>
                <a:arcTo wR="10800" hR="10800" stAng="-4398273" swAng="29595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25225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18040" y="2205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21400" y="28656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73680" y="5598720"/>
            <a:ext cx="3600" cy="22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75280" y="2908440"/>
            <a:ext cx="1581120" cy="2814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89160" y="29192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86040" y="2909880"/>
            <a:ext cx="2290680" cy="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897000">
            <a:off x="-161640" y="280440"/>
            <a:ext cx="5260680" cy="523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86" y="5457"/>
                </a:moveTo>
                <a:arcTo wR="10800" hR="10800" stAng="-1779079" swAng="2135800"/>
                <a:lnTo>
                  <a:pt x="10800" y="10800"/>
                </a:lnTo>
                <a:close/>
              </a:path>
              <a:path fill="none" w="21600" h="21600">
                <a:moveTo>
                  <a:pt x="20186" y="5457"/>
                </a:moveTo>
                <a:arcTo wR="10800" hR="10800" stAng="-1779079" swAng="21358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6629040" y="2316600"/>
            <a:ext cx="64080" cy="36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728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a= 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58341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265480" y="2491920"/>
            <a:ext cx="8650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11760" y="2552040"/>
            <a:ext cx="207360" cy="5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4240" y="2560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9924200">
            <a:off x="-668520" y="2990880"/>
            <a:ext cx="5837760" cy="587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03" y="455"/>
                </a:moveTo>
                <a:arcTo wR="10800" hR="10800" stAng="-4398273" swAng="2959544"/>
                <a:lnTo>
                  <a:pt x="10800" y="10800"/>
                </a:lnTo>
                <a:close/>
              </a:path>
              <a:path fill="none" w="21600" h="21600">
                <a:moveTo>
                  <a:pt x="13903" y="455"/>
                </a:moveTo>
                <a:arcTo wR="10800" hR="10800" stAng="-4398273" swAng="29595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6720" y="27385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24494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897000">
            <a:off x="-47520" y="456480"/>
            <a:ext cx="5260680" cy="523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86" y="5457"/>
                </a:moveTo>
                <a:arcTo wR="10800" hR="10800" stAng="-1779079" swAng="2135800"/>
                <a:lnTo>
                  <a:pt x="10800" y="10800"/>
                </a:lnTo>
                <a:close/>
              </a:path>
              <a:path fill="none" w="21600" h="21600">
                <a:moveTo>
                  <a:pt x="20186" y="5457"/>
                </a:moveTo>
                <a:arcTo wR="10800" hR="10800" stAng="-1779079" swAng="21358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24720" y="2781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5040" y="571968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7440" y="569916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38320" y="580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46760" y="580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k; k(A; d= 5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D; D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Y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57600" y="27939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p; p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, D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84840" y="13255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l; l(D; c= 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848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76800" y="28224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848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. Rovnoběžník AB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209200" y="3080880"/>
            <a:ext cx="1576800" cy="275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03280" y="308124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5040" y="5067360"/>
            <a:ext cx="1298160" cy="143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195640" y="1325520"/>
            <a:ext cx="4321080" cy="303120"/>
            <a:chOff x="2195640" y="1325520"/>
            <a:chExt cx="4321080" cy="303120"/>
          </a:xfrm>
        </p:grpSpPr>
        <p:sp>
          <p:nvSpPr>
            <p:cNvPr id="231" name=""/>
            <p:cNvSpPr/>
            <p:nvPr/>
          </p:nvSpPr>
          <p:spPr>
            <a:xfrm>
              <a:off x="2195640" y="1325520"/>
              <a:ext cx="4321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2.     BAY;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   BAY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en-US" sz="1600" spc="-1" strike="noStrike">
                  <a:solidFill>
                    <a:srgbClr val="284c6a"/>
                  </a:solidFill>
                  <a:latin typeface="Trebuchet MS"/>
                </a:rPr>
                <a:t> 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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= 75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2570040" y="1398600"/>
              <a:ext cx="173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3405240" y="1398600"/>
              <a:ext cx="173160" cy="1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 flipV="1">
            <a:off x="6789600" y="249228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lichoběž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6" name=""/>
          <p:cNvSpPr/>
          <p:nvPr/>
        </p:nvSpPr>
        <p:spPr>
          <a:xfrm>
            <a:off x="1042920" y="1960560"/>
            <a:ext cx="7058160" cy="443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27000" y="1052640"/>
            <a:ext cx="7777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(v polorovině určené úsečkou AB a bodem 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57240" y="1454040"/>
            <a:ext cx="777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lichoběžník vytáhneme silněji.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takto vypadá výsled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0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1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4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5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6"/>
          <a:stretch/>
        </p:blipFill>
        <p:spPr>
          <a:xfrm>
            <a:off x="1671480" y="2060640"/>
            <a:ext cx="58010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D), jestliže a = 5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 = 6 cm, c = 2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1413000"/>
            <a:ext cx="400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Pokud si nebudeš vědět rady, klikni, a já tě poved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D), jestliže a = 5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 = 6 cm, c = 2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084320" y="1709640"/>
            <a:ext cx="6872400" cy="45770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084320" y="1709640"/>
            <a:ext cx="6872400" cy="4577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084320" y="1709640"/>
            <a:ext cx="6872400" cy="4577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1084320" y="1709640"/>
            <a:ext cx="6872400" cy="4577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1084320" y="1709640"/>
            <a:ext cx="6872400" cy="4577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084320" y="1709640"/>
            <a:ext cx="6872400" cy="4577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1084320" y="1709640"/>
            <a:ext cx="6872400" cy="45770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1084320" y="1709640"/>
            <a:ext cx="6872400" cy="45770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1084320" y="1709640"/>
            <a:ext cx="6872400" cy="4577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1084320" y="1709640"/>
            <a:ext cx="6872400" cy="457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2" name=""/>
          <p:cNvSpPr/>
          <p:nvPr/>
        </p:nvSpPr>
        <p:spPr>
          <a:xfrm>
            <a:off x="1042920" y="1700280"/>
            <a:ext cx="6985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BC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A), jestliže a = 3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 = 4 cm, d = 7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10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1413000"/>
            <a:ext cx="400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Pokud si nebudeš vědět rady, klikni, a já tě poved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1700280"/>
            <a:ext cx="6985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BC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A), jestliže a = 3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 = 4 cm, d = 7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10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106640" y="2036880"/>
            <a:ext cx="6850080" cy="3779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1106640" y="2036880"/>
            <a:ext cx="6850080" cy="37796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1106640" y="2036880"/>
            <a:ext cx="6850080" cy="3779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1106640" y="2036880"/>
            <a:ext cx="6850080" cy="3779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1106640" y="2036880"/>
            <a:ext cx="6850080" cy="3779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1106640" y="2036880"/>
            <a:ext cx="6850080" cy="37796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1106640" y="2036880"/>
            <a:ext cx="6850080" cy="3779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106640" y="2036880"/>
            <a:ext cx="6850080" cy="3779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1106640" y="2036880"/>
            <a:ext cx="6850080" cy="3779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1"/>
          <a:stretch/>
        </p:blipFill>
        <p:spPr>
          <a:xfrm>
            <a:off x="1106640" y="2036880"/>
            <a:ext cx="685008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339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Lichoběžník je čtyřúhelník, který má jen jednu dvojici protilehlých stran rovnoběž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terý čtyřúhelník má obě dvojice protilehlých stran rovnoběžné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0920" y="5950080"/>
            <a:ext cx="1586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Rovnoběžní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1096920"/>
            <a:ext cx="79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ovnoběžným stranám říkáme základny lichoběžník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epřipomíná vám to označení něc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5950080"/>
            <a:ext cx="352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Rovnoramenný trojúhelní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469880"/>
            <a:ext cx="79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rovnoběžným ramena lichoběž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645240" y="1557360"/>
            <a:ext cx="2448000" cy="576000"/>
            <a:chOff x="6645240" y="1557360"/>
            <a:chExt cx="2448000" cy="576000"/>
          </a:xfrm>
        </p:grpSpPr>
        <p:sp>
          <p:nvSpPr>
            <p:cNvPr id="108" name=""/>
            <p:cNvSpPr/>
            <p:nvPr/>
          </p:nvSpPr>
          <p:spPr>
            <a:xfrm>
              <a:off x="6645240" y="1557360"/>
              <a:ext cx="244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b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d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; BC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 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94692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2808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H="1">
            <a:off x="5795640" y="2060640"/>
            <a:ext cx="1081080" cy="18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55640" y="2060640"/>
            <a:ext cx="432108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64000" y="1484280"/>
            <a:ext cx="36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1082520"/>
            <a:ext cx="8037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čet velikostí úhlů při jednom rameni je vždy 18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1989000"/>
            <a:ext cx="360360" cy="338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57320" y="1974960"/>
            <a:ext cx="2233800" cy="122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8800" y="1441440"/>
            <a:ext cx="60195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8800" y="1442880"/>
            <a:ext cx="60195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d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3640" y="1989000"/>
            <a:ext cx="316872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339640" y="1974960"/>
            <a:ext cx="4551480" cy="33987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59440" y="1614600"/>
            <a:ext cx="3155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928800" y="1268280"/>
            <a:ext cx="77770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čet velikostí všech vnitřních úhlů je 36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50920" y="2133720"/>
            <a:ext cx="3168720" cy="3382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2133720"/>
            <a:ext cx="100800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27640" y="2133720"/>
            <a:ext cx="1728720" cy="1150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16360" y="2133720"/>
            <a:ext cx="3743280" cy="107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4560" y="2349360"/>
            <a:ext cx="6913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7" name=""/>
          <p:cNvSpPr/>
          <p:nvPr/>
        </p:nvSpPr>
        <p:spPr>
          <a:xfrm>
            <a:off x="942840" y="1109520"/>
            <a:ext cx="7777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ýška lichoběžníku je kolmá vzdálenost rovnoběžných str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28800" y="1700280"/>
            <a:ext cx="51559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šku lichoběžníku značíme ji písmenem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28800" y="1944720"/>
            <a:ext cx="8215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šek můžeme sestrojit nekonečně mnoho, ale všechny budou mít stejnou velik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82224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zatím jsme vše opakovali na lichoběžníku, kterému se říká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obecn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123336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bjevila se tady však už i zmínka o podobnosti s rovnoramenným trojúhelníkem, co se označení stran týká. Podobnost však může být ještě větš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7400" y="1550880"/>
            <a:ext cx="4530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Jakému trojúhelníku říkáme rovnoramenný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33760" y="1643040"/>
            <a:ext cx="4098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Takovému, který má dvě strany stejně dlouhé, který má shodná rame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214776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tento případ může nastat i u lichoběžníku. Pak mu říkáme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rovnoramenn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691080" y="4465800"/>
            <a:ext cx="17445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rebuchet MS"/>
              </a:rPr>
              <a:t>b =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547640" y="2666880"/>
            <a:ext cx="604368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535040" y="2703600"/>
            <a:ext cx="5975280" cy="3592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981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Rovnoramenný lichoběžník má nejen shodná ramena, ale i dvě dvojice úhlů při obou základn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198900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 takovém případě mu také říkáme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ravoúhl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413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A když už jsme u úhlů vzpomeňme si ještě na další typ trojúhelníku. Trojúhelník s jedním pravým vnitřním úhlem, kterému říkáme pravoúhl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175896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I lichoběžník může mít některý z vnitřních úhlů prav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606680" y="2746440"/>
            <a:ext cx="5918040" cy="3557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1280" y="223344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jak je vidět na obrázku, pravoúhlý lichoběžník má pravé úhly dokonce d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258920" y="2408400"/>
            <a:ext cx="5770440" cy="3868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14400" y="17874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ákladem při této konstrukci bude konstrukce trojúhelníku podle věty s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197000"/>
            <a:ext cx="80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Sestrojte lichoběžník ABCD (AB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CD), je-li: a = 8 cm, </a:t>
            </a:r>
            <a:br>
              <a:rPr sz="2200"/>
            </a:b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c = 4 cm, d = 5 dm,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 = 75°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08000" y="5805360"/>
            <a:ext cx="4464360" cy="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4920" y="5052960"/>
            <a:ext cx="1298160" cy="143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922400" y="3117600"/>
            <a:ext cx="684360" cy="268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14680" y="3129120"/>
            <a:ext cx="3744720" cy="2663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23920" y="5227560"/>
            <a:ext cx="10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10-09T08:39:05Z</dcterms:modified>
  <cp:revision>109</cp:revision>
  <dc:subject/>
  <dc:title>Konstrukce lichoběžníku 2</dc:title>
</cp:coreProperties>
</file>