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3AA-A2EC-4148-BC50-78185642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706-391F-4639-B6BB-41B6E61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AAA-9B5F-44C6-9E29-3C921B8A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DA4-328F-48D5-90F1-13775A7D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978-59E1-42E2-93E3-EA0F4128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9065-2855-4E9C-99C0-9AC9B91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4636-ADF7-4EC1-B6B6-2BAC4DF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FAA4-83F3-4840-8399-0958CFC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5F6-E27A-4F4D-898E-5067119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D57-A4AA-4CB5-89F1-1EC91F04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0865-74E5-4A66-8B1E-0772BA9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AA5-FA4A-448E-AB27-8262A584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99DD-28C7-4C07-BDA6-A59D399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04C-5071-41FC-A98C-2193B7BB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D536-4066-4100-A7D1-46D6C4C5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A549-4536-49E3-8FD1-E3C57FA1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52DC-00AA-4CB3-8FAE-347A13E3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713-F3D5-4A22-B026-53E07BCA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17B-17C1-4879-8E8B-9088742B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596-39E0-4245-87F9-3A71874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998-EDF3-4912-B7C9-B1248B7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6D8-C346-495A-91C9-E25F4FF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542-1DEE-46D1-BAF8-837D5635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3B5-E228-44BA-A309-EAE6565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006-9900-4350-BA56-0D9EF28D13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8139-5058-4089-9362-151F30F08E8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ch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Známe-li dvě základny, </a:t>
            </a:r>
            <a:br>
              <a:rPr sz="3600"/>
            </a:b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úhel přilehlý k jedné z nich </a:t>
            </a:r>
            <a:br>
              <a:rPr sz="3600"/>
            </a:b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a výšku lichoběžník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2060640"/>
            <a:ext cx="6913800" cy="429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836720" y="2112840"/>
            <a:ext cx="5313240" cy="4195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1101600" y="5921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22680" y="5902200"/>
            <a:ext cx="352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5480" y="5138640"/>
            <a:ext cx="129816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12960" y="2133720"/>
            <a:ext cx="995400" cy="37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3240" y="580500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28800" y="3371760"/>
            <a:ext cx="647640" cy="2519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16480" y="243000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9640" y="21668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9959000">
            <a:off x="3845520" y="3366360"/>
            <a:ext cx="4857840" cy="50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21" y="5"/>
                </a:moveTo>
                <a:arcTo wR="10800" hR="10800" stAng="-5297706" swAng="2876398"/>
                <a:lnTo>
                  <a:pt x="10800" y="10800"/>
                </a:lnTo>
                <a:close/>
              </a:path>
              <a:path fill="none" w="21600" h="21600">
                <a:moveTo>
                  <a:pt x="11121" y="5"/>
                </a:moveTo>
                <a:arcTo wR="10800" hR="10800" stAng="-5297706" swAng="28763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2637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21400" y="3095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78400" y="580500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917960" y="3357360"/>
            <a:ext cx="1338480" cy="2533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89160" y="33782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05240" y="3357720"/>
            <a:ext cx="1498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897000">
            <a:off x="1968840" y="1878840"/>
            <a:ext cx="2952360" cy="294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60" y="3842"/>
                </a:moveTo>
                <a:arcTo wR="10800" hR="10800" stAng="-2406526" swAng="3068331"/>
                <a:lnTo>
                  <a:pt x="10800" y="10800"/>
                </a:lnTo>
                <a:close/>
              </a:path>
              <a:path fill="none" w="21600" h="21600">
                <a:moveTo>
                  <a:pt x="19060" y="3842"/>
                </a:moveTo>
                <a:arcTo wR="10800" hR="10800" stAng="-2406526" swAng="306833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208560" y="2316600"/>
            <a:ext cx="64080" cy="36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708120"/>
            <a:ext cx="7777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2970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ásleduje použití zadané výšky – jak již víme z předchozích snímků, sestrojíme rovnoběžku se stra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ve vzdálenosti dané velikostí výšky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 Získáme bod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9525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ako další použijeme ze zadání úhel </a:t>
            </a:r>
            <a:r>
              <a:rPr b="1" lang="cs-CZ" sz="14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1657440"/>
            <a:ext cx="82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Na závěr sestrojíme bod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pomocí kružnice se středem v bodě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poloměrem velikosti strany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653000"/>
            <a:ext cx="6480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zjistili bychom, že protíná přímku p ne v jednom, ale ve dvou bodech. Jen jeden z nich však vzhledem ke směru popisu vrcholů lichoběžníku (popisujeme proti směru pohybu hodinových ručiček) může být řešení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897000">
            <a:off x="1790640" y="1781640"/>
            <a:ext cx="3121920" cy="312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47" y="4070"/>
                </a:moveTo>
                <a:arcTo wR="10800" hR="10800" stAng="-2312612" swAng="13839323"/>
                <a:lnTo>
                  <a:pt x="10800" y="10800"/>
                </a:lnTo>
                <a:close/>
              </a:path>
              <a:path fill="none" w="21600" h="21600">
                <a:moveTo>
                  <a:pt x="19247" y="4070"/>
                </a:moveTo>
                <a:arcTo wR="10800" hR="10800" stAng="-2312612" swAng="1383932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486900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Pozor: Kdybychom narýsovali závěrečnou kružnici celo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32000" y="3573000"/>
            <a:ext cx="144360" cy="158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835280" y="3429000"/>
            <a:ext cx="3241440" cy="1728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87280" y="2276640"/>
            <a:ext cx="69138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5948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51200" y="2425320"/>
            <a:ext cx="977760" cy="37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4720" y="266652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46360" y="2421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9924200">
            <a:off x="3888720" y="3533400"/>
            <a:ext cx="4728600" cy="47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55" y="113"/>
                </a:moveTo>
                <a:arcTo wR="10800" hR="10800" stAng="-4903369" swAng="2322139"/>
                <a:lnTo>
                  <a:pt x="10800" y="10800"/>
                </a:lnTo>
                <a:close/>
              </a:path>
              <a:path fill="none" w="21600" h="21600">
                <a:moveTo>
                  <a:pt x="12355" y="113"/>
                </a:moveTo>
                <a:arcTo wR="10800" hR="10800" stAng="-4903369" swAng="23221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75040" y="262908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50600">
            <a:off x="-652680" y="1140120"/>
            <a:ext cx="5689080" cy="392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86" y="5457"/>
                </a:moveTo>
                <a:arcTo wR="10800" hR="10800" stAng="-1779079" swAng="2135800"/>
                <a:lnTo>
                  <a:pt x="10800" y="10800"/>
                </a:lnTo>
                <a:close/>
              </a:path>
              <a:path fill="none" w="21600" h="21600">
                <a:moveTo>
                  <a:pt x="20186" y="5457"/>
                </a:moveTo>
                <a:arcTo wR="10800" hR="10800" stAng="-1779079" swAng="21358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09840" y="34718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04840" y="581940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9240" y="58276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24040" y="59072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13600" y="59198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p; p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,A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5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Y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19560" y="32828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l; l(D; c=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97440" y="3281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968720" y="3546360"/>
            <a:ext cx="1270080" cy="241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354492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62400" y="5195880"/>
            <a:ext cx="129816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95640" y="1325520"/>
            <a:ext cx="4321080" cy="303120"/>
            <a:chOff x="2195640" y="1325520"/>
            <a:chExt cx="4321080" cy="303120"/>
          </a:xfrm>
        </p:grpSpPr>
        <p:sp>
          <p:nvSpPr>
            <p:cNvPr id="241" name=""/>
            <p:cNvSpPr/>
            <p:nvPr/>
          </p:nvSpPr>
          <p:spPr>
            <a:xfrm>
              <a:off x="2195640" y="132552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BA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BA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en-US" sz="16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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75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25700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34052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 flipV="1">
            <a:off x="6242040" y="260676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lich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960560"/>
            <a:ext cx="7058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27000" y="1052640"/>
            <a:ext cx="7777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57240" y="1454040"/>
            <a:ext cx="777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lichoběžník vytáhneme silněji.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akto vypadá výsled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4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5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6"/>
          <a:stretch/>
        </p:blipFill>
        <p:spPr>
          <a:xfrm>
            <a:off x="1936800" y="2016000"/>
            <a:ext cx="5443560" cy="429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6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5 mm, v = 45 m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4130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6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5 mm, v = 45 m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0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1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2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3"/>
          <a:stretch/>
        </p:blipFill>
        <p:spPr>
          <a:xfrm>
            <a:off x="1486080" y="1725480"/>
            <a:ext cx="6110280" cy="45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4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b = 8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3 cm, v = 4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6360" y="14130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b = 8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3 cm, v = 4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25360" y="193356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9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0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1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2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3"/>
          <a:stretch/>
        </p:blipFill>
        <p:spPr>
          <a:xfrm>
            <a:off x="1125360" y="1936800"/>
            <a:ext cx="6759720" cy="41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595008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běž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09692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95008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ramenný trojúhelní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6988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08" name="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1082520"/>
            <a:ext cx="8037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144144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44288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928800" y="1268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4560" y="2349360"/>
            <a:ext cx="6913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942840" y="1109520"/>
            <a:ext cx="7777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ška lichoběžníku je kolmá vzdálenost rovnoběžných st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28800" y="1700280"/>
            <a:ext cx="5155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ku lichoběžníku značíme písmenem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28800" y="1944720"/>
            <a:ext cx="8215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ek můžeme sestrojit nekonečně mnoho, ale všechny budou mít stejnou velik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2333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7400" y="1550880"/>
            <a:ext cx="4530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3376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Pak mu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při obou základ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takovém případě mu také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když už jsme u úhlů, vzpomeňme si ještě na další typ trojúhelníku. Trojúhelník s jedním pravým vnitřním úhlem, kterému říkáme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dokonce pravé úhly d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2205000"/>
            <a:ext cx="69138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081160" y="2303640"/>
            <a:ext cx="4981680" cy="393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14400" y="1571760"/>
            <a:ext cx="777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o u konstrukcí trojúhelníku, ve vzdálenosti výšky sestrojíme rovnoběž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052640"/>
            <a:ext cx="806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D), je-li: a = 7 cm,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 = 3 cm, 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75°, v = 5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5862600"/>
            <a:ext cx="3311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67080" y="5095800"/>
            <a:ext cx="129816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2040" y="3486240"/>
            <a:ext cx="0" cy="23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0480" y="52704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9800" y="43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549600" y="3486240"/>
            <a:ext cx="14032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45280" y="579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3360" y="318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80180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62040" y="1801800"/>
            <a:ext cx="6755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tože výška je vzdálenost rovnoběžných str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348624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16360" y="2349000"/>
            <a:ext cx="93492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0-09T08:00:24Z</dcterms:modified>
  <cp:revision>117</cp:revision>
  <dc:subject/>
  <dc:title>Konstrukce lichoběžníku 1</dc:title>
</cp:coreProperties>
</file>